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1B0-BBB5-4FD2-8D43-FE098F17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CC4-F71D-4842-861E-BA4BC96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A17-FC1D-4083-AAD2-5CCD83C2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82D-2EC1-4E0A-B674-1850604D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ECC-0631-407D-AD0F-6C4BBBD7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889-FAC4-41A5-B611-7FA15015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0FB-C46D-486D-ACCA-D9C954DC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E61-5355-4F86-B8AA-4F05EBD5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C48-19AD-4AF2-982A-A9BE8AC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A1E-9806-42E6-978B-B59C9C70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291-2D5C-49F2-A138-CD622B7B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10C-AC95-4B3D-B215-82FABF5A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934D-B8E0-4A67-AA9C-8398081DF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8610480" cy="22885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ffffff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В гостях у бабушки с дедушкой»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ртикуляционная гимнастика-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93160" y="4572000"/>
            <a:ext cx="4274280" cy="16185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99ff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БДОУ д/с № 17 «Одуванч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о. Балаши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лубина Анфиса Александ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8862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762440" cy="276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3947400"/>
            <a:ext cx="76960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БУШКА ШИЛА, А БАРСИК С КАТУШКОЙ БЕГАЛ, КАК БУДТО С ЖИВОЮ ЗВЕРЮШК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ончик языка зацепляем за нижние гу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вигаем язык вперёд-наза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345744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4709880"/>
            <a:ext cx="83818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БУШКЕ НАШЕЙ ВСЕГДА ПОМОГАЕ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ТКИ В ИГОЛКИ МЫ ЕЙ ПРОДЕВ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узкий язык вытянут вперё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610000" cy="2857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40363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БУШКА ШВЫ НА МАШИНКЕ СТРОЧ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зкий язык двигается вперёд-назад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НА ЗИГЗАГ ЕЁ ПЕРЕКЛЮЧ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зкий язык двигается влево-впра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391200" cy="3038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67080" y="838080"/>
            <a:ext cx="1905120" cy="1704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1905120" cy="1733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4036320"/>
            <a:ext cx="83055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ЕТЛИ ИГОЛКОЙ ОНА ОБМЕ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кончик языка описывает круг за губами), 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УГОВКИ КРУГЛЫЕ ПОПРИШИВ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кончик языка упирается то в одну, то в другую щё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 палец пытается втолкнуть его в ро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1024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3490920"/>
            <a:ext cx="8632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ДУШКА СДЕЛАЛ ДЛЯ ВНУКОВ КАЧ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широкий язык ставится попе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то за верхние, то за нижние зубы), 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Е МЫ НА НИХ ПОКАЧАТЬСЯ УСПЕЛИ. 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СЛЕ КАЧЕЛЕЙ МЫ В ПРЯТКИ ИГР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широкий язык убирается под верхнюю губу), 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ЯТАЛИСЬ НА ЧЕРДАКЕ И В ПОДВА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широкий язык - под нижнюю губ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886200" cy="3263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37324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ДУШКА СКАЧЕТ НА ЛОШАДИ ЛОВ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щёлкаем языком),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6486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ОНКИЕ ВЯЗНУТ НА ГЛИНЕ ПОДК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цоканье на верхней губе)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Т ЗАМЕДЛЯЕТ ЛОШАДКА ШАЖОЧ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едленное цоканье с натягиванием подъязычной связки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2543040" cy="2857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68720" y="4341960"/>
            <a:ext cx="662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ОТ НА ОПУШКЕ МЫ ВИДИМ ГРИ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присасываем язык к нёбу и открываем ро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52680" y="685800"/>
            <a:ext cx="2581560" cy="285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38829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ОТ ИЗ САРАЯ ИНДЮШКА ПРИШЛА, ВАЖНО СКАЗАЛА: «БЛ-БЛ-БЛ-Л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широкий язык ходит вперёд-назад по верхней губе; упражнение делаем с голосом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УШЛА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9960" y="2437920"/>
            <a:ext cx="780984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от и закончился день, пора спать. 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Завтра опять будем много гу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096240" cy="481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22040" y="5715000"/>
            <a:ext cx="3849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ли-были дедушка и бабу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3800" y="4343400"/>
            <a:ext cx="7395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НИМ ТОЛСТЫЕ ВНУКИ ПРИЕХАЛИ В ГОСТИ (надуваем щёк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18288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4160" y="5333400"/>
            <a:ext cx="72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НИМИ ХУДЫЕ — ЛИШЬ КОЖА ДА КОСТИ (втягиваем щёки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857680" cy="174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6520" y="1324440"/>
            <a:ext cx="50619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БАБУШКА С ДЕДУШ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ВСЕМ УЛЫБ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(губы в широкой улыб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видны верхние и нижние зубы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1905120" cy="187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79200" y="4037040"/>
            <a:ext cx="6363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ПОЦЕЛОВАТЬ ОНИ ВСЕХ ПОТЯНУ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(губы тянутся вперё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2819520" cy="2008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251280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ТРОМ ПРОСНУЛИСЬ — В УЛЫБОЧКУ ГУБ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нова широкая улыбка).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ИСТИЛИ МЫ СВОИ ВЕРХНИЕ ЗУБ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широкий язык за верхними зубами)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ПРАВО И ВЛЕВО, ВНУТРИ И СНАРУЖ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оответствующие движения широким языком).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НИЖНИМИ ЗУБКАМИ ТОЖЕ МЫ ДРУЖ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повторение этих движений языком в положении за нижними зубами).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УБЫ СОЖМЁМ МЫ, И РОТ ПРОПОЛОЩ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поочерёдное надувание щёк — губы не пропускают воздух),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АМОВАРОМ ПЫХТИМ, ЧТО ЕСТЬ МО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дновременное надувание обеих щёк с последующим выпусканием воздуха через губ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371680" cy="3333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2934000" cy="260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6880" y="4494240"/>
            <a:ext cx="7631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ЮДЦА ПОСТАВИМ — ПОЛОЖАТ БЛИНЫ Н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широкий язык лежит на нижней губ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762440" cy="2933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3704400"/>
            <a:ext cx="7677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ЕМ НА БЛИНЧИК — НЕ В ЩЁКИ, НЕ МИМ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одуть на широкий язык)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ИНЧИК ЖУЁМ, ЗАВЕРНЁМ И ПРИКУ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жуём распластанный язык, потом прикусываем его, завернув за нижние зубы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353280" cy="4076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798800"/>
            <a:ext cx="82296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ИНЧИК С ВАРЕНЬЕМ МАЛИНОВЫМ ВКУС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близываем широким языком верхнюю губу спереди наза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2857320" cy="2543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3197160"/>
            <a:ext cx="784872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ШКИ ПОСТАВИМ, ЧТОБ ЧАЮ НАЛ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широкий язык загибаем кверху чашечкой)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НОС ПОДУЛИ — МЫ ЧАЙ ОСТУД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одуть с «чашечки» вверх)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Ю ПОПИЛИ — НИКТО НЕ ОБИЖ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«чашечка» двигается вперёд-назад)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УСНЫЙ БЫЛ ЗАВТРАК - МЫ ГУБКИ ОБЛИЖ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ончик языка облизывает губы по круг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4:41:18Z</dcterms:created>
  <dc:creator>Администратор</dc:creator>
  <dc:description/>
  <dc:language>en-US</dc:language>
  <cp:lastModifiedBy>Голубина</cp:lastModifiedBy>
  <dcterms:modified xsi:type="dcterms:W3CDTF">2015-08-12T11:26:3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