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4670-B56B-471E-A91F-B98157E8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09AE-E129-4AA1-886B-EE29BF8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EB26-0A80-417E-B0EB-1B88B230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2C32-A9B7-4FB3-BDFD-6797F4F1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D24D-D1FA-45A9-A695-3C5F5995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7433-97B3-4AB3-85A5-AA59F200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02B6-7C26-4FF5-B028-08B2BD2F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6281-D1A3-45F0-868F-9A52A55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711A-0A3A-4300-B43A-7707DCE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A272-60A1-490F-872F-B9DB0292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FA6C-D067-4090-9C8E-15C8F49F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2FC7B-7287-4ED4-89A1-59079C99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3121-38C9-48F2-9D27-00664035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D1C1-54F8-4F25-A937-8F2D0A4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879B-B831-4560-9076-251837E0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9883-1A54-42F6-BD85-629C9F8C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27E1-6B51-4856-8CF7-A91FAC9A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9052-3882-40C3-9617-F82B0E8F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8CF7-2AE0-4FB2-A45E-F36BEB2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B255-5965-467A-A9E0-994FE5C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539B-1CAF-4A8D-854A-528F0C83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B2EB-24B3-4D45-A3B5-7C7AC55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B502-6504-4584-9E26-F9A05D7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72CE-612D-4217-8142-2E8ACC8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74E-22EC-4EA1-964D-AADCB1502C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CEAF-F52D-47BF-B353-02A568E199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74798%5B1%5D.wav" TargetMode="External"/><Relationship Id="rId2" Type="http://schemas.microsoft.com/office/2007/relationships/media" Target="file:///tmp/home/.config/libreoffice/4/user/gallery/MS900074798%5B1%5D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MS900069593%5B1%5D.wav" TargetMode="External"/><Relationship Id="rId5" Type="http://schemas.microsoft.com/office/2007/relationships/media" Target="file:///tmp/home/.config/libreoffice/4/user/gallery/MS900069593%5B1%5D.wav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MS900074994%5B1%5D.wav" TargetMode="External"/><Relationship Id="rId3" Type="http://schemas.microsoft.com/office/2007/relationships/media" Target="file:///tmp/home/.config/libreoffice/4/user/gallery/MS900074994%5B1%5D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CHOO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8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up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192720" cy="360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878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28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19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62440" y="2128680"/>
            <a:ext cx="3219120" cy="2600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878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c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264360" cy="45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878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878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866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8280360" cy="403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878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878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156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u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832360" cy="33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878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878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5699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832720" cy="439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878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878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7893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e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328000" cy="345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878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878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7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teac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553440" cy="367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878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878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996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lack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272360" cy="3817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878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878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97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40:08Z</dcterms:created>
  <dc:creator>Маргарита</dc:creator>
  <dc:description/>
  <dc:language>en-US</dc:language>
  <cp:lastModifiedBy>Маргарита</cp:lastModifiedBy>
  <dcterms:modified xsi:type="dcterms:W3CDTF">2010-10-11T16:53:45Z</dcterms:modified>
  <cp:revision>3</cp:revision>
  <dc:subject/>
  <dc:title>SCHOOL</dc:title>
</cp:coreProperties>
</file>