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571EEA-110E-4890-BEDD-2163A710B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F5618B-9D81-4CB6-8A31-CE65358B3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D63C52-452D-496D-AAED-893260D9F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A57692-6504-4434-BCCA-31FA3F321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DC196-DCEE-4890-B568-554287222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176E7-D74F-4094-9F93-00AB2654D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A6EA3-3D2B-4DD1-96DE-0B8B0DF6A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17578-3753-4B48-9E1A-5B16A8988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1B252-8C32-4C41-A043-8B23D8024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38386-EF4A-460E-B944-EB3ED3F98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0AEA7-BCB2-4A93-B8F6-15CD5DF9D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942F7F-9FE0-4BE1-82D8-88B95A5FC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0CA6D-4AFD-46D8-A427-4B8802EC4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53AAF-EA45-45BA-9E19-7478DBE2C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5C388-F5C8-442B-93FE-DF9617BEE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AD52A-6421-4D10-A6CC-5BEBC9281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B6CC6-A12A-4340-9F82-E3E36751F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017165-A6CE-4335-B155-BB895CE27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4177C7-2CF4-4860-A98E-376316BF2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D0226A-0173-42F7-8786-A7769EAFE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29C5DB-FAC7-4465-B15B-EFFE7D170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C90ECE-43ED-4162-A544-8438847E2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807378-F74D-44FC-923A-86A827262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93FDB7-38BD-4DCA-AAB2-33DD53F3D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2E2D1-F5C8-42EA-8100-58C30F9505A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22371-88A2-4E3E-BF55-507B2B5CB9B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MS900074798%5B1%5D.wav" TargetMode="External"/><Relationship Id="rId2" Type="http://schemas.microsoft.com/office/2007/relationships/media" Target="file:///tmp/home/.config/libreoffice/4/user/gallery/MS900074798%5B1%5D.wav" TargetMode="External"/><Relationship Id="rId3" Type="http://schemas.openxmlformats.org/officeDocument/2006/relationships/image" Target="../media/image1.png"/><Relationship Id="rId4" Type="http://schemas.openxmlformats.org/officeDocument/2006/relationships/audio" Target="file:///tmp/home/.config/libreoffice/4/user/gallery/MS900069593%5B1%5D.wav" TargetMode="External"/><Relationship Id="rId5" Type="http://schemas.microsoft.com/office/2007/relationships/media" Target="file:///tmp/home/.config/libreoffice/4/user/gallery/MS900069593%5B1%5D.wav" TargetMode="External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file:///tmp/home/.config/libreoffice/4/user/gallery/MS900074994%5B1%5D.wav" TargetMode="External"/><Relationship Id="rId3" Type="http://schemas.microsoft.com/office/2007/relationships/media" Target="file:///tmp/home/.config/libreoffice/4/user/gallery/MS900074994%5B1%5D.wav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SCHOO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chool lif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2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>
            <a:hlinkClick r:id="" action="ppaction://media"/>
          </p:cNvPr>
          <p:cNvPicPr/>
          <p:nvPr>
            <a:audioFile r:link="rId4"/>
            <p:extLst>
              <p:ext uri="{DAA4B4D4-6D71-4841-9C94-3DE7FCFB9230}">
                <p14:media r:link="rId5"/>
              </p:ext>
            </p:extLst>
          </p:nvPr>
        </p:nvPicPr>
        <p:blipFill>
          <a:blip r:embed="rId6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9481" fill="hold"/>
                                        <p:tgtEl>
                                          <p:spTgt spid="1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102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4745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02"/>
                </p:tgtEl>
              </p:cMediaNode>
            </p:audio>
            <p:audio isNarration="0">
              <p:cMediaNode showWhenStopped="1">
                <p:cTn/>
                <p:tgtEl>
                  <p:spTgt spid="103"/>
                </p:tgtEl>
              </p:cMediaNode>
            </p:audio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 …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 pupi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692360" y="2492280"/>
            <a:ext cx="6192720" cy="360072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9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9" dur="38780" fill="hold"/>
                                        <p:tgtEl>
                                          <p:spTgt spid="1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9280"/>
                            </p:stCondLst>
                            <p:childTnLst>
                              <p:par>
                                <p:cTn id="10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2" dur="4192" fill="hold"/>
                                        <p:tgtEl>
                                          <p:spTgt spid="1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 …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 p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2962440" y="2128680"/>
            <a:ext cx="3219120" cy="260064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38780" fill="hold"/>
                                        <p:tgtEl>
                                          <p:spTgt spid="1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07"/>
                </p:tgtEl>
              </p:cMediaNode>
            </p:audio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 …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 penci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411280" y="1628640"/>
            <a:ext cx="6264360" cy="45370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38780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38780"/>
                            </p:stCondLst>
                            <p:childTnLst>
                              <p:par>
                                <p:cTn id="2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" dur="8664" fill="hold"/>
                                        <p:tgtEl>
                                          <p:spTgt spid="1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 …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 boo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684360" y="2060640"/>
            <a:ext cx="8280360" cy="403236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" dur="38780" fill="hold"/>
                                        <p:tgtEl>
                                          <p:spTgt spid="1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38780"/>
                            </p:stCondLst>
                            <p:childTnLst>
                              <p:par>
                                <p:cTn id="3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" dur="31561" fill="hold"/>
                                        <p:tgtEl>
                                          <p:spTgt spid="1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 …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 rul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619280" y="2276640"/>
            <a:ext cx="5832360" cy="338436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" dur="38780" fill="hold"/>
                                        <p:tgtEl>
                                          <p:spTgt spid="1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38780"/>
                            </p:stCondLst>
                            <p:childTnLst>
                              <p:par>
                                <p:cTn id="4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" dur="56997" fill="hold"/>
                                        <p:tgtEl>
                                          <p:spTgt spid="1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 …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 ba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2268360" y="1700280"/>
            <a:ext cx="5832720" cy="43927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0" dur="38780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38780"/>
                            </p:stCondLst>
                            <p:childTnLst>
                              <p:par>
                                <p:cTn id="5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3" dur="7893" fill="hold"/>
                                        <p:tgtEl>
                                          <p:spTgt spid="1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 …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 des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908000" y="2205000"/>
            <a:ext cx="5328000" cy="3456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9" dur="38780" fill="hold"/>
                                        <p:tgtEl>
                                          <p:spTgt spid="1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38780"/>
                            </p:stCondLst>
                            <p:childTnLst>
                              <p:par>
                                <p:cTn id="6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2" dur="8074" fill="hold"/>
                                        <p:tgtEl>
                                          <p:spTgt spid="1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 …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 teach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1403280" y="2276640"/>
            <a:ext cx="6553440" cy="367164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8" dur="38780" fill="hold"/>
                                        <p:tgtEl>
                                          <p:spTgt spid="1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38780"/>
                            </p:stCondLst>
                            <p:childTnLst>
                              <p:par>
                                <p:cTn id="7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1" dur="29968" fill="hold"/>
                                        <p:tgtEl>
                                          <p:spTgt spid="1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 …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 blackboar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900000" y="2276640"/>
            <a:ext cx="7272360" cy="381780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7" dur="38780" fill="hold"/>
                                        <p:tgtEl>
                                          <p:spTgt spid="1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38780"/>
                            </p:stCondLst>
                            <p:childTnLst>
                              <p:par>
                                <p:cTn id="7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0" dur="4970" fill="hold"/>
                                        <p:tgtEl>
                                          <p:spTgt spid="1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1T15:40:08Z</dcterms:created>
  <dc:creator>Маргарита</dc:creator>
  <dc:description/>
  <dc:language>en-US</dc:language>
  <cp:lastModifiedBy>Маргарита</cp:lastModifiedBy>
  <dcterms:modified xsi:type="dcterms:W3CDTF">2010-10-11T16:53:45Z</dcterms:modified>
  <cp:revision>3</cp:revision>
  <dc:subject/>
  <dc:title>SCHOOL</dc:title>
</cp:coreProperties>
</file>