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548F-7207-4C97-88CD-8474DA1F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104A-CB1F-4DEA-A474-C600194D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772-7B6D-481D-9C78-06C0043A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3031-7985-4940-B182-40630497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F158-2950-4C65-8699-023011AE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BDA3-5BC2-46E8-B5CB-5F25718A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B493-6640-4D26-8D6F-3B18FAAF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D13B-124E-481E-9964-97113425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9488-0718-4FA0-A894-3E08DAFE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B448-F553-4EC1-AC68-AD9086C8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5915-6EA6-4C94-8DCF-A48C2A62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C44-8EF3-446C-901A-25F560AD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83FF-EA5B-4FF9-BAED-DB5F8D71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DCCF-73C8-4B77-A497-3736364A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E938-CCC4-4172-ABC4-7AE5A8FE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2F35-4732-41A9-90CA-3E6407EA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32C9-173C-4CDF-AD98-734A2634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55AF-3F33-4191-9FBB-60D46F5C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45E7-6B0B-488A-93A1-CF47F4D8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961-3963-40D4-ABAB-3611A26B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D841-5832-41A7-BF46-2D35B2F0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7A6-496F-4053-98F5-3B0E92B8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B9EC-2D96-4596-96F3-5EE3766E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1A7-9B28-4A45-82D7-887B50D3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A793-4912-4B99-BBB7-11E36FD6B5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8984-F9E7-4571-B92F-E1728082AF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MS900074828%5B1%5D.wav" TargetMode="External"/><Relationship Id="rId3" Type="http://schemas.microsoft.com/office/2007/relationships/media" Target="file:///tmp/home/.config/libreoffice/4/user/gallery/MS900074828%5B1%5D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audio" Target="file:///tmp/home/.config/libreoffice/4/user/gallery/j0214098.wav" TargetMode="External"/><Relationship Id="rId7" Type="http://schemas.microsoft.com/office/2007/relationships/media" Target="file:///tmp/home/.config/libreoffice/4/user/gallery/j0214098.wav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4360" y="333360"/>
            <a:ext cx="72738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chool. School Subjec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4753080" cy="23047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12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878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1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360" y="765000"/>
            <a:ext cx="2232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Russian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227640" y="620640"/>
            <a:ext cx="1873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istor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627280" y="2852640"/>
            <a:ext cx="21589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Mathematic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1280" y="5300640"/>
            <a:ext cx="194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nglish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156360" y="5157720"/>
            <a:ext cx="180036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iolog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1657440" cy="2367000"/>
          </a:xfrm>
          <a:prstGeom prst="rect">
            <a:avLst/>
          </a:prstGeom>
          <a:ln w="38160">
            <a:solidFill>
              <a:srgbClr val="b76a03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948360" y="3068640"/>
            <a:ext cx="1511280" cy="1944720"/>
          </a:xfrm>
          <a:prstGeom prst="rect">
            <a:avLst/>
          </a:prstGeom>
          <a:ln w="38160">
            <a:solidFill>
              <a:srgbClr val="b76a03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932360" y="1413000"/>
            <a:ext cx="1871640" cy="2808000"/>
          </a:xfrm>
          <a:prstGeom prst="rect">
            <a:avLst/>
          </a:prstGeom>
          <a:ln w="38160">
            <a:solidFill>
              <a:srgbClr val="b76a03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2916360" y="476280"/>
            <a:ext cx="1563480" cy="2160720"/>
          </a:xfrm>
          <a:prstGeom prst="rect">
            <a:avLst/>
          </a:prstGeom>
          <a:ln w="38160">
            <a:solidFill>
              <a:srgbClr val="b76a03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2916360" y="3573360"/>
            <a:ext cx="1749240" cy="2662200"/>
          </a:xfrm>
          <a:prstGeom prst="rect">
            <a:avLst/>
          </a:prstGeom>
          <a:ln w="38160">
            <a:solidFill>
              <a:srgbClr val="b76a03"/>
            </a:solidFill>
            <a:miter/>
          </a:ln>
        </p:spPr>
      </p:pic>
      <p:pic>
        <p:nvPicPr>
          <p:cNvPr id="132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381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flipV="1" rot="10800000">
            <a:off x="682560" y="50112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rt, Music, Handicraft, Geography, Literature, Information Technology( Computing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1438560" cy="19447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580000" y="4581360"/>
            <a:ext cx="1470240" cy="1944720"/>
          </a:xfrm>
          <a:prstGeom prst="rect">
            <a:avLst/>
          </a:prstGeom>
          <a:ln w="38160">
            <a:solidFill>
              <a:srgbClr val="b76a03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771640" y="4724280"/>
            <a:ext cx="1289160" cy="1873440"/>
          </a:xfrm>
          <a:prstGeom prst="rect">
            <a:avLst/>
          </a:prstGeom>
          <a:ln w="38160">
            <a:solidFill>
              <a:srgbClr val="b76a03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940360" y="2060640"/>
            <a:ext cx="2879640" cy="1992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3132000" y="227664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9382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79640" y="692280"/>
            <a:ext cx="1584360" cy="863640"/>
          </a:xfrm>
          <a:prstGeom prst="wedgeEllipseCallout">
            <a:avLst>
              <a:gd name="adj1" fmla="val -57416"/>
              <a:gd name="adj2" fmla="val 5331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79640" y="1916280"/>
            <a:ext cx="1942920" cy="792000"/>
          </a:xfrm>
          <a:prstGeom prst="wedgeEllipseCallout">
            <a:avLst>
              <a:gd name="adj1" fmla="val -50898"/>
              <a:gd name="adj2" fmla="val 6723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19280" y="3573360"/>
            <a:ext cx="2521080" cy="792360"/>
          </a:xfrm>
          <a:prstGeom prst="wedgeEllipseCallout">
            <a:avLst>
              <a:gd name="adj1" fmla="val -44837"/>
              <a:gd name="adj2" fmla="val 700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5157720"/>
            <a:ext cx="2448000" cy="792360"/>
          </a:xfrm>
          <a:prstGeom prst="wedgeEllipseCallout">
            <a:avLst>
              <a:gd name="adj1" fmla="val -44680"/>
              <a:gd name="adj2" fmla="val 700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ce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56000" y="907920"/>
            <a:ext cx="2160720" cy="720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3280" y="2276640"/>
            <a:ext cx="215928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2360" y="3500280"/>
            <a:ext cx="2305080" cy="792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76720" y="5084640"/>
            <a:ext cx="2232000" cy="648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vou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2862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716360" y="3716280"/>
            <a:ext cx="3743280" cy="243216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900000" y="26377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lish is my favourite school subject BECAUSE we learn much interesting at our less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3816360" cy="2346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3708360" y="981000"/>
            <a:ext cx="611280" cy="115272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1152720"/>
              <a:gd name="textAreaBottom" fmla="*/ 1113120 h 1152720"/>
            </a:gdLst>
            <a:ahLst/>
            <a:rect l="textAreaLeft" t="textAreaTop" r="textAreaRight" b="textAreaBottom"/>
            <a:pathLst>
              <a:path w="21600" h="40721">
                <a:moveTo>
                  <a:pt x="0" y="0"/>
                </a:moveTo>
                <a:lnTo>
                  <a:pt x="21600" y="0"/>
                </a:lnTo>
                <a:lnTo>
                  <a:pt x="21600" y="40721"/>
                </a:lnTo>
                <a:lnTo>
                  <a:pt x="0" y="40721"/>
                </a:lnTo>
                <a:close/>
              </a:path>
              <a:path fill="lightenLess" w="21600" h="407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0721">
                <a:moveTo>
                  <a:pt x="21600" y="0"/>
                </a:moveTo>
                <a:lnTo>
                  <a:pt x="21600" y="40721"/>
                </a:lnTo>
                <a:lnTo>
                  <a:pt x="20200" y="39321"/>
                </a:lnTo>
                <a:lnTo>
                  <a:pt x="20200" y="1400"/>
                </a:lnTo>
                <a:close/>
              </a:path>
              <a:path fill="darkenLess" w="21600" h="40721">
                <a:moveTo>
                  <a:pt x="21600" y="40721"/>
                </a:moveTo>
                <a:lnTo>
                  <a:pt x="0" y="40721"/>
                </a:lnTo>
                <a:lnTo>
                  <a:pt x="1400" y="39321"/>
                </a:lnTo>
                <a:lnTo>
                  <a:pt x="20200" y="39321"/>
                </a:lnTo>
                <a:close/>
              </a:path>
              <a:path fill="lighten" w="21600" h="40721">
                <a:moveTo>
                  <a:pt x="0" y="40721"/>
                </a:moveTo>
                <a:lnTo>
                  <a:pt x="0" y="0"/>
                </a:lnTo>
                <a:lnTo>
                  <a:pt x="1400" y="1400"/>
                </a:lnTo>
                <a:lnTo>
                  <a:pt x="1400" y="39321"/>
                </a:lnTo>
                <a:close/>
              </a:path>
              <a:path fill="darken" w="21600" h="40721">
                <a:moveTo>
                  <a:pt x="10800" y="243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40721">
                <a:moveTo>
                  <a:pt x="11905" y="23842"/>
                </a:moveTo>
                <a:lnTo>
                  <a:pt x="11905" y="21884"/>
                </a:lnTo>
                <a:cubicBezTo>
                  <a:pt x="11905" y="21057"/>
                  <a:pt x="12236" y="20360"/>
                  <a:pt x="12837" y="20360"/>
                </a:cubicBezTo>
                <a:cubicBezTo>
                  <a:pt x="13968" y="20360"/>
                  <a:pt x="14865" y="18994"/>
                  <a:pt x="14865" y="17410"/>
                </a:cubicBezTo>
                <a:cubicBezTo>
                  <a:pt x="14865" y="15095"/>
                  <a:pt x="13011" y="13354"/>
                  <a:pt x="10800" y="13354"/>
                </a:cubicBezTo>
                <a:cubicBezTo>
                  <a:pt x="8589" y="13354"/>
                  <a:pt x="6918" y="15095"/>
                  <a:pt x="6918" y="17410"/>
                </a:cubicBezTo>
                <a:lnTo>
                  <a:pt x="8772" y="17410"/>
                </a:lnTo>
                <a:cubicBezTo>
                  <a:pt x="8772" y="16270"/>
                  <a:pt x="9695" y="15382"/>
                  <a:pt x="10800" y="15382"/>
                </a:cubicBezTo>
                <a:cubicBezTo>
                  <a:pt x="11905" y="15382"/>
                  <a:pt x="12837" y="16270"/>
                  <a:pt x="12837" y="17410"/>
                </a:cubicBezTo>
                <a:cubicBezTo>
                  <a:pt x="12837" y="18150"/>
                  <a:pt x="12367" y="18881"/>
                  <a:pt x="11905" y="18881"/>
                </a:cubicBezTo>
                <a:cubicBezTo>
                  <a:pt x="10800" y="18881"/>
                  <a:pt x="9695" y="20360"/>
                  <a:pt x="9695" y="21884"/>
                </a:cubicBezTo>
                <a:lnTo>
                  <a:pt x="9695" y="2384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476280"/>
            <a:ext cx="151308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ffic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1125360"/>
            <a:ext cx="158436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e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1916280"/>
            <a:ext cx="187164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476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64000" y="476280"/>
            <a:ext cx="1944720" cy="360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vour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3640" y="1268280"/>
            <a:ext cx="223236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ces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76720" y="1989000"/>
            <a:ext cx="223200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6862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908000" y="1916280"/>
            <a:ext cx="4969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hank you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for the work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4745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7:00:39Z</dcterms:created>
  <dc:creator>User</dc:creator>
  <dc:description/>
  <dc:language>en-US</dc:language>
  <cp:lastModifiedBy>Маргарита</cp:lastModifiedBy>
  <dcterms:modified xsi:type="dcterms:W3CDTF">2010-10-11T17:04:17Z</dcterms:modified>
  <cp:revision>14</cp:revision>
  <dc:subject/>
  <dc:title>Слайд 1</dc:title>
</cp:coreProperties>
</file>