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CFBE-F28E-486F-B68B-08BD0C611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68A8-1C3C-4349-B751-28276233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951F-8966-43D0-813E-C7E76BA74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220C-7DD4-4585-91FF-FCBE119BB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E2C70-AD38-425A-9601-FAE055032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C6578-3114-4660-8580-F6AB84E8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678D-C009-40B8-8ABD-D67D821E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C47A-3CB0-4F5F-8B1C-014E9B2D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2A43-CA91-4040-B93D-CF586973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CFEF-D798-49B6-B95B-1CE9856F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F66C-FE92-4ECB-96E2-50DE0FC9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0C00-79BC-4A24-99AC-DB2AFB2B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916E-EDB5-4F87-B8DA-C181ED5B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88FD-A1E9-4E67-BCDC-738DC174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68AE8-1F7E-49DF-A657-8DDD23D1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7958-1864-48C1-802E-6762D6BAE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B865-7B1E-4D51-94FB-8C065D8EB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910C-0095-44DC-A3CB-0CF1C741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B89F-F805-4AE7-ACE9-39251943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949A-06AD-44FF-A4D7-B25D4AB3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01FC-5DFF-454F-A5FC-DF3B20DB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6ADD-BCB7-45E0-BE9C-F6DAFD46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9B60-E118-45E9-8A2D-DCD3381E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45DC-1F8E-4261-AE9C-5D850CF0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46A6-0A03-43A8-B584-7CCB6A7E29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9D9A-D404-443F-A086-B081B55A08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MS900074828%5B1%5D.wav" TargetMode="External"/><Relationship Id="rId3" Type="http://schemas.microsoft.com/office/2007/relationships/media" Target="file:///tmp/home/.config/libreoffice/4/user/gallery/MS900074828%5B1%5D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audio" Target="file:///tmp/home/.config/libreoffice/4/user/gallery/j0214098.wav" TargetMode="External"/><Relationship Id="rId7" Type="http://schemas.microsoft.com/office/2007/relationships/media" Target="file:///tmp/home/.config/libreoffice/4/user/gallery/j0214098.wav" TargetMode="Externa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4360" y="333360"/>
            <a:ext cx="727380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chool. School Subject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55640" y="2637000"/>
            <a:ext cx="4753080" cy="230472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12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38780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1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84360" y="765000"/>
            <a:ext cx="22320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Russian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227640" y="620640"/>
            <a:ext cx="1873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Histor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627280" y="2852640"/>
            <a:ext cx="21589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Mathematic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11280" y="5300640"/>
            <a:ext cx="194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English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156360" y="5157720"/>
            <a:ext cx="180036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Biolog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1657440" cy="2367000"/>
          </a:xfrm>
          <a:prstGeom prst="rect">
            <a:avLst/>
          </a:prstGeom>
          <a:ln w="38160">
            <a:solidFill>
              <a:srgbClr val="b76a03"/>
            </a:solidFill>
            <a:miter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948360" y="3068640"/>
            <a:ext cx="1511280" cy="1944720"/>
          </a:xfrm>
          <a:prstGeom prst="rect">
            <a:avLst/>
          </a:prstGeom>
          <a:ln w="38160">
            <a:solidFill>
              <a:srgbClr val="b76a03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932360" y="1413000"/>
            <a:ext cx="1871640" cy="2808000"/>
          </a:xfrm>
          <a:prstGeom prst="rect">
            <a:avLst/>
          </a:prstGeom>
          <a:ln w="38160">
            <a:solidFill>
              <a:srgbClr val="b76a03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2916360" y="476280"/>
            <a:ext cx="1563480" cy="2160720"/>
          </a:xfrm>
          <a:prstGeom prst="rect">
            <a:avLst/>
          </a:prstGeom>
          <a:ln w="38160">
            <a:solidFill>
              <a:srgbClr val="b76a03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2916360" y="3573360"/>
            <a:ext cx="1749240" cy="2662200"/>
          </a:xfrm>
          <a:prstGeom prst="rect">
            <a:avLst/>
          </a:prstGeom>
          <a:ln w="38160">
            <a:solidFill>
              <a:srgbClr val="b76a03"/>
            </a:solidFill>
            <a:miter/>
          </a:ln>
        </p:spPr>
      </p:pic>
      <p:pic>
        <p:nvPicPr>
          <p:cNvPr id="132" name="" descr="">
            <a:hlinkClick r:id="" action="ppaction://media"/>
          </p:cNvPr>
          <p:cNvPicPr/>
          <p:nvPr>
            <a:audi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381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2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 flipV="1" rot="10800000">
            <a:off x="682560" y="501120"/>
            <a:ext cx="77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rt, Music, Handicraft, Geography, Literature, Information Technology( Computing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1438560" cy="19447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580000" y="4581360"/>
            <a:ext cx="1470240" cy="1944720"/>
          </a:xfrm>
          <a:prstGeom prst="rect">
            <a:avLst/>
          </a:prstGeom>
          <a:ln w="38160">
            <a:solidFill>
              <a:srgbClr val="b76a03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2771640" y="4724280"/>
            <a:ext cx="1289160" cy="1873440"/>
          </a:xfrm>
          <a:prstGeom prst="rect">
            <a:avLst/>
          </a:prstGeom>
          <a:ln w="38160">
            <a:solidFill>
              <a:srgbClr val="b76a03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5940360" y="2060640"/>
            <a:ext cx="2879640" cy="19922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3132000" y="227664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59382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79640" y="692280"/>
            <a:ext cx="1584360" cy="863640"/>
          </a:xfrm>
          <a:prstGeom prst="wedgeEllipseCallout">
            <a:avLst>
              <a:gd name="adj1" fmla="val -57416"/>
              <a:gd name="adj2" fmla="val 5331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79640" y="1916280"/>
            <a:ext cx="1942920" cy="792000"/>
          </a:xfrm>
          <a:prstGeom prst="wedgeEllipseCallout">
            <a:avLst>
              <a:gd name="adj1" fmla="val -50898"/>
              <a:gd name="adj2" fmla="val 67236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ic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19280" y="3573360"/>
            <a:ext cx="2521080" cy="792360"/>
          </a:xfrm>
          <a:prstGeom prst="wedgeEllipseCallout">
            <a:avLst>
              <a:gd name="adj1" fmla="val -44837"/>
              <a:gd name="adj2" fmla="val 70041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08000" y="5157720"/>
            <a:ext cx="2448000" cy="792360"/>
          </a:xfrm>
          <a:prstGeom prst="wedgeEllipseCallout">
            <a:avLst>
              <a:gd name="adj1" fmla="val -44680"/>
              <a:gd name="adj2" fmla="val 70041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cess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56000" y="907920"/>
            <a:ext cx="2160720" cy="7207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fu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43280" y="2276640"/>
            <a:ext cx="2159280" cy="647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ort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932360" y="3500280"/>
            <a:ext cx="2305080" cy="7923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76720" y="5084640"/>
            <a:ext cx="2232000" cy="648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vour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2862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716360" y="3716280"/>
            <a:ext cx="3743280" cy="243216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sp>
        <p:nvSpPr>
          <p:cNvPr id="150" name=""/>
          <p:cNvSpPr/>
          <p:nvPr/>
        </p:nvSpPr>
        <p:spPr>
          <a:xfrm>
            <a:off x="900000" y="26377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glish is my favourite school subject BECAUSE we learn much interesting at our less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55640" y="3789360"/>
            <a:ext cx="3816360" cy="23464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3708360" y="981000"/>
            <a:ext cx="611280" cy="115272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1152720"/>
              <a:gd name="textAreaBottom" fmla="*/ 1113120 h 1152720"/>
            </a:gdLst>
            <a:ahLst/>
            <a:rect l="textAreaLeft" t="textAreaTop" r="textAreaRight" b="textAreaBottom"/>
            <a:pathLst>
              <a:path w="21600" h="40721">
                <a:moveTo>
                  <a:pt x="0" y="0"/>
                </a:moveTo>
                <a:lnTo>
                  <a:pt x="21600" y="0"/>
                </a:lnTo>
                <a:lnTo>
                  <a:pt x="21600" y="40721"/>
                </a:lnTo>
                <a:lnTo>
                  <a:pt x="0" y="40721"/>
                </a:lnTo>
                <a:close/>
              </a:path>
              <a:path fill="lightenLess" w="21600" h="407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0721">
                <a:moveTo>
                  <a:pt x="21600" y="0"/>
                </a:moveTo>
                <a:lnTo>
                  <a:pt x="21600" y="40721"/>
                </a:lnTo>
                <a:lnTo>
                  <a:pt x="20200" y="39321"/>
                </a:lnTo>
                <a:lnTo>
                  <a:pt x="20200" y="1400"/>
                </a:lnTo>
                <a:close/>
              </a:path>
              <a:path fill="darkenLess" w="21600" h="40721">
                <a:moveTo>
                  <a:pt x="21600" y="40721"/>
                </a:moveTo>
                <a:lnTo>
                  <a:pt x="0" y="40721"/>
                </a:lnTo>
                <a:lnTo>
                  <a:pt x="1400" y="39321"/>
                </a:lnTo>
                <a:lnTo>
                  <a:pt x="20200" y="39321"/>
                </a:lnTo>
                <a:close/>
              </a:path>
              <a:path fill="lighten" w="21600" h="40721">
                <a:moveTo>
                  <a:pt x="0" y="40721"/>
                </a:moveTo>
                <a:lnTo>
                  <a:pt x="0" y="0"/>
                </a:lnTo>
                <a:lnTo>
                  <a:pt x="1400" y="1400"/>
                </a:lnTo>
                <a:lnTo>
                  <a:pt x="1400" y="39321"/>
                </a:lnTo>
                <a:close/>
              </a:path>
              <a:path fill="darken" w="21600" h="40721">
                <a:moveTo>
                  <a:pt x="10800" y="2436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40721">
                <a:moveTo>
                  <a:pt x="11905" y="23842"/>
                </a:moveTo>
                <a:lnTo>
                  <a:pt x="11905" y="21884"/>
                </a:lnTo>
                <a:cubicBezTo>
                  <a:pt x="11905" y="21057"/>
                  <a:pt x="12236" y="20360"/>
                  <a:pt x="12837" y="20360"/>
                </a:cubicBezTo>
                <a:cubicBezTo>
                  <a:pt x="13968" y="20360"/>
                  <a:pt x="14865" y="18994"/>
                  <a:pt x="14865" y="17410"/>
                </a:cubicBezTo>
                <a:cubicBezTo>
                  <a:pt x="14865" y="15095"/>
                  <a:pt x="13011" y="13354"/>
                  <a:pt x="10800" y="13354"/>
                </a:cubicBezTo>
                <a:cubicBezTo>
                  <a:pt x="8589" y="13354"/>
                  <a:pt x="6918" y="15095"/>
                  <a:pt x="6918" y="17410"/>
                </a:cubicBezTo>
                <a:lnTo>
                  <a:pt x="8772" y="17410"/>
                </a:lnTo>
                <a:cubicBezTo>
                  <a:pt x="8772" y="16270"/>
                  <a:pt x="9695" y="15382"/>
                  <a:pt x="10800" y="15382"/>
                </a:cubicBezTo>
                <a:cubicBezTo>
                  <a:pt x="11905" y="15382"/>
                  <a:pt x="12837" y="16270"/>
                  <a:pt x="12837" y="17410"/>
                </a:cubicBezTo>
                <a:cubicBezTo>
                  <a:pt x="12837" y="18150"/>
                  <a:pt x="12367" y="18881"/>
                  <a:pt x="11905" y="18881"/>
                </a:cubicBezTo>
                <a:cubicBezTo>
                  <a:pt x="10800" y="18881"/>
                  <a:pt x="9695" y="20360"/>
                  <a:pt x="9695" y="21884"/>
                </a:cubicBezTo>
                <a:lnTo>
                  <a:pt x="9695" y="2384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42920" y="476280"/>
            <a:ext cx="1513080" cy="431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ffic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0" y="1125360"/>
            <a:ext cx="1584360" cy="432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res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00000" y="1916280"/>
            <a:ext cx="1871640" cy="431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35280" y="4762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64000" y="476280"/>
            <a:ext cx="1944720" cy="360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vour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03640" y="1268280"/>
            <a:ext cx="2232360" cy="432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cess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76720" y="1989000"/>
            <a:ext cx="2232000" cy="432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6862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908000" y="1916280"/>
            <a:ext cx="49690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Thank you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for the work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4745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7:00:39Z</dcterms:created>
  <dc:creator>User</dc:creator>
  <dc:description/>
  <dc:language>en-US</dc:language>
  <cp:lastModifiedBy>Маргарита</cp:lastModifiedBy>
  <dcterms:modified xsi:type="dcterms:W3CDTF">2010-10-11T17:04:17Z</dcterms:modified>
  <cp:revision>14</cp:revision>
  <dc:subject/>
  <dc:title>Слайд 1</dc:title>
</cp:coreProperties>
</file>