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png" ContentType="image/png"/>
  <Override PartName="/ppt/media/image23.gif" ContentType="image/gif"/>
  <Override PartName="/ppt/media/image16.png" ContentType="image/png"/>
  <Override PartName="/ppt/media/image20.gif" ContentType="image/gif"/>
  <Override PartName="/ppt/media/image13.png" ContentType="image/png"/>
  <Override PartName="/ppt/media/image21.gif" ContentType="image/gif"/>
  <Override PartName="/ppt/media/image14.png" ContentType="image/png"/>
  <Override PartName="/ppt/media/image19.gif" ContentType="image/gif"/>
  <Override PartName="/ppt/media/image18.png" ContentType="image/png"/>
  <Override PartName="/ppt/media/image25.gif" ContentType="image/gif"/>
  <Override PartName="/ppt/media/image17.png" ContentType="image/png"/>
  <Override PartName="/ppt/media/image24.gif" ContentType="image/gif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2.gif" ContentType="image/gif"/>
  <Override PartName="/ppt/media/image15.png" ContentType="image/png"/>
  <Override PartName="/ppt/media/image41.png" ContentType="image/png"/>
  <Override PartName="/ppt/media/image31.gif" ContentType="image/gif"/>
  <Override PartName="/ppt/media/image29.gif" ContentType="image/gif"/>
  <Override PartName="/ppt/media/image39.png" ContentType="image/png"/>
  <Override PartName="/ppt/media/image9.png" ContentType="image/png"/>
  <Override PartName="/ppt/media/image46.gif" ContentType="image/gif"/>
  <Override PartName="/ppt/media/image33.png" ContentType="image/png"/>
  <Override PartName="/ppt/media/image30.wmf" ContentType="image/x-wmf"/>
  <Override PartName="/ppt/media/image42.png" ContentType="image/png"/>
  <Override PartName="/ppt/media/image43.png" ContentType="image/png"/>
  <Override PartName="/ppt/media/image50.gif" ContentType="image/gif"/>
  <Override PartName="/ppt/media/image44.png" ContentType="image/png"/>
  <Override PartName="/ppt/media/image40.png" ContentType="image/png"/>
  <Override PartName="/ppt/media/image49.gif" ContentType="image/gif"/>
  <Override PartName="/ppt/media/image8.png" ContentType="image/png"/>
  <Override PartName="/ppt/media/image38.png" ContentType="image/png"/>
  <Override PartName="/ppt/media/image45.gif" ContentType="image/gif"/>
  <Override PartName="/ppt/media/image12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.jpeg" ContentType="image/jpe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65F2-C33C-41E7-81AA-A634DE5AB0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8F29-B3F9-41B0-80B4-155B0585621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C90F-16DD-423F-8C21-BB9E507D4BD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AAD-5815-4164-A686-FBA8FE25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6B1-BA84-4310-A753-E4CEAAE1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87A-EDB2-4692-B4AF-CC5AC42C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598F-4567-4449-8967-F9E30811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4657-E5D5-4B0E-8377-DBA864AD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B221-A9A0-4E26-A97C-B93B62F4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72CB-5846-4953-8DCD-6137C321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EF85-A2FD-4951-90C0-71B43B27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29DF-91B8-4A71-BAD1-E228DC13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F1B3-CA82-47FF-B0D3-E7397D35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FCE5-1E84-4584-9D4B-600BF6DF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C43-F069-4ACA-8A9A-65FC0616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E81F-DFF9-4D02-A912-08910012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6317-EF74-4850-A2C4-A5F27A34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5D45-8A11-4DC5-B718-1EE96F08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775C-9F51-40FE-AC45-41A840E0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C0CC-F374-4AF9-A42B-300CFFE7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C272-0A0E-4691-A098-2A037E7D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4D02-D634-4FB6-9C66-46F5F65E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88EA-B850-46DC-ACDF-95B811BD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BB8-AFBB-47F4-81AF-1AE385A8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AD81-F105-4C24-8EE4-6DDCE209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76D-2207-485F-8A77-76478FF9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95F-ACE0-43DC-B232-7C3ADE9F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0C9C-8D63-415F-B482-5671D3420D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3497-B78C-4154-90E7-1D7BA1EC96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gif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gif"/><Relationship Id="rId6" Type="http://schemas.openxmlformats.org/officeDocument/2006/relationships/image" Target="../media/image50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image" Target="../media/image25.gif"/><Relationship Id="rId12" Type="http://schemas.openxmlformats.org/officeDocument/2006/relationships/image" Target="../media/image25.gif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«Тот, кто учится самостоятельно, преуспевает в семь раз больше, чем тот, которому все объяснили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(Артур Гитерман,           немецкий поэт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Группа 46"/>
          <p:cNvGrpSpPr/>
          <p:nvPr/>
        </p:nvGrpSpPr>
        <p:grpSpPr>
          <a:xfrm>
            <a:off x="3286080" y="2286000"/>
            <a:ext cx="2071800" cy="1071720"/>
            <a:chOff x="3286080" y="2286000"/>
            <a:chExt cx="2071800" cy="1071720"/>
          </a:xfrm>
        </p:grpSpPr>
        <p:pic>
          <p:nvPicPr>
            <p:cNvPr id="176" name="Picture 9" descr="C:\Documents and Settings\Admin\Мои документы\Мои рисунки\91.gif"/>
            <p:cNvPicPr/>
            <p:nvPr/>
          </p:nvPicPr>
          <p:blipFill>
            <a:blip r:embed="rId2"/>
            <a:stretch/>
          </p:blipFill>
          <p:spPr>
            <a:xfrm>
              <a:off x="3286080" y="2357280"/>
              <a:ext cx="1000080" cy="10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0" descr="C:\Documents and Settings\Admin\Мои документы\Мои рисунки\91.gif"/>
            <p:cNvPicPr/>
            <p:nvPr/>
          </p:nvPicPr>
          <p:blipFill>
            <a:blip r:embed="rId3"/>
            <a:stretch/>
          </p:blipFill>
          <p:spPr>
            <a:xfrm>
              <a:off x="4357800" y="2286000"/>
              <a:ext cx="1000080" cy="100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Группа 45"/>
          <p:cNvGrpSpPr/>
          <p:nvPr/>
        </p:nvGrpSpPr>
        <p:grpSpPr>
          <a:xfrm>
            <a:off x="4429080" y="3857760"/>
            <a:ext cx="2089080" cy="1214280"/>
            <a:chOff x="4429080" y="3857760"/>
            <a:chExt cx="2089080" cy="1214280"/>
          </a:xfrm>
        </p:grpSpPr>
        <p:pic>
          <p:nvPicPr>
            <p:cNvPr id="179" name="Picture 11" descr="C:\Documents and Settings\Admin\Мои документы\Мои рисунки\91.gif"/>
            <p:cNvPicPr/>
            <p:nvPr/>
          </p:nvPicPr>
          <p:blipFill>
            <a:blip r:embed="rId4"/>
            <a:stretch/>
          </p:blipFill>
          <p:spPr>
            <a:xfrm>
              <a:off x="4429080" y="3857760"/>
              <a:ext cx="1066680" cy="9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2" descr="C:\Documents and Settings\Admin\Мои документы\Мои рисунки\91.gif"/>
            <p:cNvPicPr/>
            <p:nvPr/>
          </p:nvPicPr>
          <p:blipFill>
            <a:blip r:embed="rId5"/>
            <a:stretch/>
          </p:blipFill>
          <p:spPr>
            <a:xfrm>
              <a:off x="5429160" y="4143240"/>
              <a:ext cx="108900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Группа 43"/>
          <p:cNvGrpSpPr/>
          <p:nvPr/>
        </p:nvGrpSpPr>
        <p:grpSpPr>
          <a:xfrm>
            <a:off x="5715000" y="2500200"/>
            <a:ext cx="1857240" cy="1071720"/>
            <a:chOff x="5715000" y="2500200"/>
            <a:chExt cx="1857240" cy="1071720"/>
          </a:xfrm>
        </p:grpSpPr>
        <p:pic>
          <p:nvPicPr>
            <p:cNvPr id="182" name="Picture 13" descr="C:\Documents and Settings\Admin\Мои документы\Мои рисунки\91.gif"/>
            <p:cNvPicPr/>
            <p:nvPr/>
          </p:nvPicPr>
          <p:blipFill>
            <a:blip r:embed="rId6"/>
            <a:stretch/>
          </p:blipFill>
          <p:spPr>
            <a:xfrm>
              <a:off x="5715000" y="2500200"/>
              <a:ext cx="9288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5" descr="C:\Documents and Settings\Admin\Мои документы\Мои рисунки\91.gif"/>
            <p:cNvPicPr/>
            <p:nvPr/>
          </p:nvPicPr>
          <p:blipFill>
            <a:blip r:embed="rId7"/>
            <a:stretch/>
          </p:blipFill>
          <p:spPr>
            <a:xfrm>
              <a:off x="6715080" y="2571480"/>
              <a:ext cx="857160" cy="100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Группа 44"/>
          <p:cNvGrpSpPr/>
          <p:nvPr/>
        </p:nvGrpSpPr>
        <p:grpSpPr>
          <a:xfrm>
            <a:off x="5572080" y="928800"/>
            <a:ext cx="1957320" cy="1143000"/>
            <a:chOff x="5572080" y="928800"/>
            <a:chExt cx="1957320" cy="1143000"/>
          </a:xfrm>
        </p:grpSpPr>
        <p:pic>
          <p:nvPicPr>
            <p:cNvPr id="185" name="Picture 14" descr="C:\Documents and Settings\Admin\Мои документы\Мои рисунки\91.gif"/>
            <p:cNvPicPr/>
            <p:nvPr/>
          </p:nvPicPr>
          <p:blipFill>
            <a:blip r:embed="rId8"/>
            <a:stretch/>
          </p:blipFill>
          <p:spPr>
            <a:xfrm>
              <a:off x="5572080" y="1000080"/>
              <a:ext cx="93312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6" descr="C:\Documents and Settings\Admin\Мои документы\Мои рисунки\91.gif"/>
            <p:cNvPicPr/>
            <p:nvPr/>
          </p:nvPicPr>
          <p:blipFill>
            <a:blip r:embed="rId9"/>
            <a:stretch/>
          </p:blipFill>
          <p:spPr>
            <a:xfrm>
              <a:off x="6643440" y="928800"/>
              <a:ext cx="885960" cy="106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1168560" y="4786200"/>
            <a:ext cx="2949480" cy="1320840"/>
          </a:xfrm>
          <a:prstGeom prst="rect">
            <a:avLst/>
          </a:prstGeom>
          <a:ln w="0">
            <a:noFill/>
          </a:ln>
        </p:spPr>
      </p:pic>
      <p:sp>
        <p:nvSpPr>
          <p:cNvPr id="188" name="Нижний колонтитул 4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Д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26"/>
          <p:cNvSpPr/>
          <p:nvPr/>
        </p:nvSpPr>
        <p:spPr>
          <a:xfrm>
            <a:off x="3786120" y="5000760"/>
            <a:ext cx="35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92 -0.01619 L 0.13577 -0.01619 E">
                                      <p:cBhvr>
                                        <p:cTn id="435" dur="3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-0.07724 L -0.01198 0.13252 E">
                                      <p:cBhvr>
                                        <p:cTn id="437" dur="3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8575E-006 L -0.00781 -0.09181 E">
                                      <p:cBhvr>
                                        <p:cTn id="439" dur="3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86 -0.00578 L -0.11424 -0.00578 E">
                                      <p:cBhvr>
                                        <p:cTn id="441" dur="3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Д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C:\Documents and Settings\Admin\Мои документы\Мои рисунки\h020.gif"/>
          <p:cNvPicPr/>
          <p:nvPr/>
        </p:nvPicPr>
        <p:blipFill>
          <a:blip r:embed="rId2"/>
          <a:stretch/>
        </p:blipFill>
        <p:spPr>
          <a:xfrm>
            <a:off x="7500960" y="35712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92" name="Группа 19"/>
          <p:cNvGrpSpPr/>
          <p:nvPr/>
        </p:nvGrpSpPr>
        <p:grpSpPr>
          <a:xfrm>
            <a:off x="928440" y="1999440"/>
            <a:ext cx="7358400" cy="2160"/>
            <a:chOff x="928440" y="1999440"/>
            <a:chExt cx="7358400" cy="2160"/>
          </a:xfrm>
        </p:grpSpPr>
        <p:cxnSp>
          <p:nvCxnSpPr>
            <p:cNvPr id="193" name="Прямая со стрелкой 4"/>
            <p:cNvCxnSpPr/>
            <p:nvPr/>
          </p:nvCxnSpPr>
          <p:spPr>
            <a:xfrm flipH="1" flipV="1">
              <a:off x="700056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194" name="Прямая со стрелкой 14"/>
            <p:cNvCxnSpPr/>
            <p:nvPr/>
          </p:nvCxnSpPr>
          <p:spPr>
            <a:xfrm flipH="1" flipV="1">
              <a:off x="221436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195" name="Прямая со стрелкой 15"/>
            <p:cNvCxnSpPr/>
            <p:nvPr/>
          </p:nvCxnSpPr>
          <p:spPr>
            <a:xfrm flipH="1" flipV="1">
              <a:off x="342864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196" name="Прямая со стрелкой 16"/>
            <p:cNvCxnSpPr/>
            <p:nvPr/>
          </p:nvCxnSpPr>
          <p:spPr>
            <a:xfrm flipH="1" flipV="1">
              <a:off x="457164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197" name="Прямая со стрелкой 17"/>
            <p:cNvCxnSpPr/>
            <p:nvPr/>
          </p:nvCxnSpPr>
          <p:spPr>
            <a:xfrm flipH="1" flipV="1">
              <a:off x="578628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198" name="Прямая со стрелкой 18"/>
            <p:cNvCxnSpPr/>
            <p:nvPr/>
          </p:nvCxnSpPr>
          <p:spPr>
            <a:xfrm flipH="1" flipV="1">
              <a:off x="92844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</p:grpSp>
      <p:cxnSp>
        <p:nvCxnSpPr>
          <p:cNvPr id="199" name="Прямая со стрелкой 29"/>
          <p:cNvCxnSpPr/>
          <p:nvPr/>
        </p:nvCxnSpPr>
        <p:spPr>
          <a:xfrm flipH="1" flipV="1">
            <a:off x="928080" y="1999440"/>
            <a:ext cx="7430040" cy="2520"/>
          </a:xfrm>
          <a:prstGeom prst="straightConnector1">
            <a:avLst/>
          </a:prstGeom>
          <a:ln w="28440">
            <a:solidFill>
              <a:srgbClr val="28a0be"/>
            </a:solidFill>
            <a:miter/>
            <a:tailEnd len="med" type="arrow" w="med"/>
          </a:ln>
        </p:spPr>
      </p:cxnSp>
      <p:sp>
        <p:nvSpPr>
          <p:cNvPr id="200" name="Левая фигурная скобка 34"/>
          <p:cNvSpPr/>
          <p:nvPr/>
        </p:nvSpPr>
        <p:spPr>
          <a:xfrm flipV="1" rot="16200000">
            <a:off x="4142880" y="-1214280"/>
            <a:ext cx="1000080" cy="7429320"/>
          </a:xfrm>
          <a:custGeom>
            <a:avLst/>
            <a:gdLst>
              <a:gd name="textAreaLeft" fmla="*/ 639000 w 1000080"/>
              <a:gd name="textAreaRight" fmla="*/ 1000440 w 1000080"/>
              <a:gd name="textAreaTop" fmla="*/ 25920 h 7429320"/>
              <a:gd name="textAreaBottom" fmla="*/ 7403400 h 742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1"/>
                  <a:pt x="10800" y="242"/>
                </a:cubicBezTo>
                <a:lnTo>
                  <a:pt x="10800" y="10558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1"/>
                  <a:pt x="10800" y="11042"/>
                </a:cubicBezTo>
                <a:lnTo>
                  <a:pt x="10800" y="21358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d31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Прямоугольник 35" descr=""/>
          <p:cNvPicPr/>
          <p:nvPr/>
        </p:nvPicPr>
        <p:blipFill>
          <a:blip r:embed="rId3"/>
          <a:stretch/>
        </p:blipFill>
        <p:spPr>
          <a:xfrm>
            <a:off x="4067280" y="2924280"/>
            <a:ext cx="1054080" cy="523800"/>
          </a:xfrm>
          <a:prstGeom prst="rect">
            <a:avLst/>
          </a:prstGeom>
          <a:ln w="0">
            <a:noFill/>
          </a:ln>
        </p:spPr>
      </p:pic>
      <p:grpSp>
        <p:nvGrpSpPr>
          <p:cNvPr id="202" name="Группа 45"/>
          <p:cNvGrpSpPr/>
          <p:nvPr/>
        </p:nvGrpSpPr>
        <p:grpSpPr>
          <a:xfrm>
            <a:off x="826920" y="3789360"/>
            <a:ext cx="7742520" cy="952560"/>
            <a:chOff x="826920" y="3789360"/>
            <a:chExt cx="7742520" cy="952560"/>
          </a:xfrm>
        </p:grpSpPr>
        <p:pic>
          <p:nvPicPr>
            <p:cNvPr id="203" name="Прямоугольник 36" descr=""/>
            <p:cNvPicPr/>
            <p:nvPr/>
          </p:nvPicPr>
          <p:blipFill>
            <a:blip r:embed="rId4"/>
            <a:stretch/>
          </p:blipFill>
          <p:spPr>
            <a:xfrm>
              <a:off x="826920" y="3933360"/>
              <a:ext cx="774252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" name="Группа 44"/>
            <p:cNvGrpSpPr/>
            <p:nvPr/>
          </p:nvGrpSpPr>
          <p:grpSpPr>
            <a:xfrm>
              <a:off x="6614640" y="3789360"/>
              <a:ext cx="359640" cy="952560"/>
              <a:chOff x="6614640" y="3789360"/>
              <a:chExt cx="359640" cy="952560"/>
            </a:xfrm>
          </p:grpSpPr>
          <p:pic>
            <p:nvPicPr>
              <p:cNvPr id="205" name="Прямоугольник 37" descr=""/>
              <p:cNvPicPr/>
              <p:nvPr/>
            </p:nvPicPr>
            <p:blipFill>
              <a:blip r:embed="rId5"/>
              <a:stretch/>
            </p:blipFill>
            <p:spPr>
              <a:xfrm>
                <a:off x="6614640" y="3789360"/>
                <a:ext cx="359640" cy="51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Прямоугольник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6614640" y="4222800"/>
                <a:ext cx="359640" cy="51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Прямая соединительная линия 41"/>
              <p:cNvSpPr/>
              <p:nvPr/>
            </p:nvSpPr>
            <p:spPr>
              <a:xfrm flipH="1">
                <a:off x="6687720" y="4278240"/>
                <a:ext cx="208800" cy="0"/>
              </a:xfrm>
              <a:prstGeom prst="line">
                <a:avLst/>
              </a:prstGeom>
              <a:ln w="25560">
                <a:solidFill>
                  <a:srgbClr val="7d3c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8" name="Группа 27"/>
          <p:cNvGrpSpPr/>
          <p:nvPr/>
        </p:nvGrpSpPr>
        <p:grpSpPr>
          <a:xfrm>
            <a:off x="2142720" y="1999440"/>
            <a:ext cx="6144120" cy="2160"/>
            <a:chOff x="2142720" y="1999440"/>
            <a:chExt cx="6144120" cy="2160"/>
          </a:xfrm>
        </p:grpSpPr>
        <p:cxnSp>
          <p:nvCxnSpPr>
            <p:cNvPr id="209" name="Прямая со стрелкой 22"/>
            <p:cNvCxnSpPr/>
            <p:nvPr/>
          </p:nvCxnSpPr>
          <p:spPr>
            <a:xfrm flipH="1" flipV="1">
              <a:off x="3428640" y="1999440"/>
              <a:ext cx="1286640" cy="2520"/>
            </a:xfrm>
            <a:prstGeom prst="straightConnector1">
              <a:avLst/>
            </a:prstGeom>
            <a:ln w="38160">
              <a:solidFill>
                <a:srgbClr val="a3171e"/>
              </a:solidFill>
              <a:miter/>
              <a:tailEnd len="med" type="triangle" w="med"/>
            </a:ln>
          </p:spPr>
        </p:cxnSp>
        <p:cxnSp>
          <p:nvCxnSpPr>
            <p:cNvPr id="210" name="Прямая со стрелкой 23"/>
            <p:cNvCxnSpPr/>
            <p:nvPr/>
          </p:nvCxnSpPr>
          <p:spPr>
            <a:xfrm flipH="1" flipV="1">
              <a:off x="4642920" y="1999440"/>
              <a:ext cx="1286640" cy="2520"/>
            </a:xfrm>
            <a:prstGeom prst="straightConnector1">
              <a:avLst/>
            </a:prstGeom>
            <a:ln w="38160">
              <a:solidFill>
                <a:srgbClr val="a3171e"/>
              </a:solidFill>
              <a:miter/>
              <a:tailEnd len="med" type="triangle" w="med"/>
            </a:ln>
          </p:spPr>
        </p:cxnSp>
        <p:cxnSp>
          <p:nvCxnSpPr>
            <p:cNvPr id="211" name="Прямая со стрелкой 24"/>
            <p:cNvCxnSpPr/>
            <p:nvPr/>
          </p:nvCxnSpPr>
          <p:spPr>
            <a:xfrm flipH="1" flipV="1">
              <a:off x="5786280" y="1999440"/>
              <a:ext cx="1286640" cy="2520"/>
            </a:xfrm>
            <a:prstGeom prst="straightConnector1">
              <a:avLst/>
            </a:prstGeom>
            <a:ln w="38160">
              <a:solidFill>
                <a:srgbClr val="a3171e"/>
              </a:solidFill>
              <a:miter/>
              <a:tailEnd len="med" type="triangle" w="med"/>
            </a:ln>
          </p:spPr>
        </p:cxnSp>
        <p:cxnSp>
          <p:nvCxnSpPr>
            <p:cNvPr id="212" name="Прямая со стрелкой 25"/>
            <p:cNvCxnSpPr/>
            <p:nvPr/>
          </p:nvCxnSpPr>
          <p:spPr>
            <a:xfrm flipH="1" flipV="1">
              <a:off x="7000560" y="1999440"/>
              <a:ext cx="1286640" cy="2520"/>
            </a:xfrm>
            <a:prstGeom prst="straightConnector1">
              <a:avLst/>
            </a:prstGeom>
            <a:ln w="38160">
              <a:solidFill>
                <a:srgbClr val="a3171e"/>
              </a:solidFill>
              <a:miter/>
              <a:tailEnd len="med" type="triangle" w="med"/>
            </a:ln>
          </p:spPr>
        </p:cxnSp>
        <p:cxnSp>
          <p:nvCxnSpPr>
            <p:cNvPr id="213" name="Прямая со стрелкой 26"/>
            <p:cNvCxnSpPr/>
            <p:nvPr/>
          </p:nvCxnSpPr>
          <p:spPr>
            <a:xfrm flipH="1" flipV="1">
              <a:off x="2142720" y="1999440"/>
              <a:ext cx="1286640" cy="2520"/>
            </a:xfrm>
            <a:prstGeom prst="straightConnector1">
              <a:avLst/>
            </a:prstGeom>
            <a:ln w="38160">
              <a:solidFill>
                <a:srgbClr val="a3171e"/>
              </a:solidFill>
              <a:miter/>
              <a:tailEnd len="med" type="triangle" w="med"/>
            </a:ln>
          </p:spPr>
        </p:cxnSp>
      </p:grpSp>
      <p:pic>
        <p:nvPicPr>
          <p:cNvPr id="214" name="Прямоугольник 50" descr=""/>
          <p:cNvPicPr/>
          <p:nvPr/>
        </p:nvPicPr>
        <p:blipFill>
          <a:blip r:embed="rId7"/>
          <a:stretch/>
        </p:blipFill>
        <p:spPr>
          <a:xfrm>
            <a:off x="2992320" y="4705200"/>
            <a:ext cx="513000" cy="5367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51" descr=""/>
          <p:cNvPicPr/>
          <p:nvPr/>
        </p:nvPicPr>
        <p:blipFill>
          <a:blip r:embed="rId8"/>
          <a:stretch/>
        </p:blipFill>
        <p:spPr>
          <a:xfrm>
            <a:off x="3706920" y="4900680"/>
            <a:ext cx="2797200" cy="109836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31" descr=""/>
          <p:cNvPicPr/>
          <p:nvPr/>
        </p:nvPicPr>
        <p:blipFill>
          <a:blip r:embed="rId9"/>
          <a:stretch/>
        </p:blipFill>
        <p:spPr>
          <a:xfrm>
            <a:off x="420840" y="4370400"/>
            <a:ext cx="2157120" cy="58572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32" descr=""/>
          <p:cNvPicPr/>
          <p:nvPr/>
        </p:nvPicPr>
        <p:blipFill>
          <a:blip r:embed="rId10"/>
          <a:stretch/>
        </p:blipFill>
        <p:spPr>
          <a:xfrm>
            <a:off x="963720" y="4900680"/>
            <a:ext cx="1724040" cy="109836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33" descr=""/>
          <p:cNvPicPr/>
          <p:nvPr/>
        </p:nvPicPr>
        <p:blipFill>
          <a:blip r:embed="rId11"/>
          <a:stretch/>
        </p:blipFill>
        <p:spPr>
          <a:xfrm>
            <a:off x="1957320" y="4900680"/>
            <a:ext cx="1187640" cy="109836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39" descr=""/>
          <p:cNvPicPr/>
          <p:nvPr/>
        </p:nvPicPr>
        <p:blipFill>
          <a:blip r:embed="rId12"/>
          <a:stretch/>
        </p:blipFill>
        <p:spPr>
          <a:xfrm>
            <a:off x="2438280" y="4754520"/>
            <a:ext cx="1024200" cy="110340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40" descr=""/>
          <p:cNvPicPr/>
          <p:nvPr/>
        </p:nvPicPr>
        <p:blipFill>
          <a:blip r:embed="rId13"/>
          <a:stretch/>
        </p:blipFill>
        <p:spPr>
          <a:xfrm>
            <a:off x="2771640" y="4869000"/>
            <a:ext cx="1189080" cy="109836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42" descr=""/>
          <p:cNvPicPr/>
          <p:nvPr/>
        </p:nvPicPr>
        <p:blipFill>
          <a:blip r:embed="rId14"/>
          <a:stretch/>
        </p:blipFill>
        <p:spPr>
          <a:xfrm>
            <a:off x="3170160" y="4900680"/>
            <a:ext cx="1182600" cy="109836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43" descr=""/>
          <p:cNvPicPr/>
          <p:nvPr/>
        </p:nvPicPr>
        <p:blipFill>
          <a:blip r:embed="rId15"/>
          <a:stretch/>
        </p:blipFill>
        <p:spPr>
          <a:xfrm>
            <a:off x="4438800" y="5919840"/>
            <a:ext cx="271116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03 0.01064 L -0.97344 0.01804 E">
                                      <p:cBhvr>
                                        <p:cTn id="465" dur="5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864 -0.15403 C 0.3868 -0.24792 0.34496 -0.34158 0.28489 -0.3661 C 0.22482 -0.39061 0.11545 -0.3617 0.06805 -0.30042 C 0.02066 -0.23913 0.01041 -0.11887 0.00034 0.00162 E">
                                      <p:cBhvr>
                                        <p:cTn id="503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961 -0.25093 C 0.33246 -0.39107 0.29531 -0.53099 0.23489 -0.49214 C 0.17448 -0.45328 0.03611 -0.12488 0.00729 -0.01781 C -0.02153 0.09019 0.03802 0.15333 0.06232 0.15264 C 0.08663 0.15194 0.15173 0.01041 0.15364 -0.02128 C 0.15555 -0.0525 0.09948 -0.04001 0.07395 -0.03654 C 0.04843 -0.03307 0.02413 -0.01688 3.61111E-006 4.90287E-007 E">
                                      <p:cBhvr>
                                        <p:cTn id="517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357440" y="1428840"/>
            <a:ext cx="3971880" cy="40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днажды, прогуливаясь  осенним утром, ежик прошел  600 м, причем 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0 своего пути, он  прошел  уже после того, как  туман рассеялся. Какое расстояние  прошел еж  в туман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Содержимое 4" descr="avatar283.gif"/>
          <p:cNvPicPr/>
          <p:nvPr/>
        </p:nvPicPr>
        <p:blipFill>
          <a:blip r:embed="rId2"/>
          <a:stretch/>
        </p:blipFill>
        <p:spPr>
          <a:xfrm>
            <a:off x="642960" y="2021040"/>
            <a:ext cx="2786040" cy="35067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адача: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Выбери себе настроение, которое было у тебя на урок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1676520" cy="1509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114800" y="1828800"/>
            <a:ext cx="1571760" cy="1752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6553080" y="1828800"/>
            <a:ext cx="1800360" cy="1620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62120" y="4000680"/>
            <a:ext cx="1904760" cy="1600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3962520" y="4433760"/>
            <a:ext cx="16761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И снова 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Вкусное задание: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озьми мандарин или апельси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Раздели его на дольки, посчитайте, сколько всего долек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Угости своих родных и не забудь записать, какую часть фрукта получил каждый, и какая часть досталась теб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оставь 4 неравенства и задач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480" y="457200"/>
            <a:ext cx="746784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ем, всем -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Внимание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2708280"/>
            <a:ext cx="1792080" cy="1441440"/>
          </a:xfrm>
          <a:prstGeom prst="rightArrow">
            <a:avLst>
              <a:gd name="adj1" fmla="val 50000"/>
              <a:gd name="adj2" fmla="val 31081"/>
            </a:avLst>
          </a:prstGeom>
          <a:solidFill>
            <a:srgbClr val="2936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2421000"/>
            <a:ext cx="1656000" cy="1655640"/>
          </a:xfrm>
          <a:prstGeom prst="smileyFace">
            <a:avLst>
              <a:gd name="adj" fmla="val 9282"/>
            </a:avLst>
          </a:prstGeom>
          <a:solidFill>
            <a:srgbClr val="63c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000" y="2637000"/>
            <a:ext cx="1656000" cy="1584000"/>
          </a:xfrm>
          <a:prstGeom prst="donut">
            <a:avLst>
              <a:gd name="adj" fmla="val 25000"/>
            </a:avLst>
          </a:prstGeom>
          <a:solidFill>
            <a:srgbClr val="43b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2349360"/>
            <a:ext cx="1368360" cy="2087640"/>
          </a:xfrm>
          <a:prstGeom prst="flowChartCollate">
            <a:avLst/>
          </a:prstGeom>
          <a:solidFill>
            <a:srgbClr val="e4223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852640"/>
            <a:ext cx="1863720" cy="1297080"/>
          </a:xfrm>
          <a:prstGeom prst="rightArrow">
            <a:avLst>
              <a:gd name="adj1" fmla="val 50000"/>
              <a:gd name="adj2" fmla="val 35921"/>
            </a:avLst>
          </a:prstGeom>
          <a:solidFill>
            <a:srgbClr val="2936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2781360"/>
            <a:ext cx="1655640" cy="1582560"/>
          </a:xfrm>
          <a:prstGeom prst="smileyFace">
            <a:avLst>
              <a:gd name="adj" fmla="val 9282"/>
            </a:avLst>
          </a:prstGeom>
          <a:solidFill>
            <a:srgbClr val="63c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88000" y="2781360"/>
            <a:ext cx="1729080" cy="1584360"/>
          </a:xfrm>
          <a:prstGeom prst="donut">
            <a:avLst>
              <a:gd name="adj" fmla="val 25000"/>
            </a:avLst>
          </a:prstGeom>
          <a:solidFill>
            <a:srgbClr val="43b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88000" y="2565360"/>
            <a:ext cx="1368360" cy="2087640"/>
          </a:xfrm>
          <a:prstGeom prst="flowChartCollate">
            <a:avLst/>
          </a:prstGeom>
          <a:solidFill>
            <a:srgbClr val="e4223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Д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" descr="C:\Documents and Settings\Admin\Мои документы\Мои рисунки\apels31.jpg"/>
          <p:cNvPicPr/>
          <p:nvPr/>
        </p:nvPicPr>
        <p:blipFill>
          <a:blip r:embed="rId2"/>
          <a:stretch/>
        </p:blipFill>
        <p:spPr>
          <a:xfrm>
            <a:off x="539640" y="549360"/>
            <a:ext cx="3022560" cy="2519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780000" y="2349360"/>
            <a:ext cx="43923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роб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одумай и отве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ая часть фигуры закраше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1695600" cy="1314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2467080" cy="111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4"/>
          <a:stretch/>
        </p:blipFill>
        <p:spPr>
          <a:xfrm>
            <a:off x="6012000" y="1557360"/>
            <a:ext cx="172404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5"/>
          <a:stretch/>
        </p:blipFill>
        <p:spPr>
          <a:xfrm>
            <a:off x="3059280" y="3357720"/>
            <a:ext cx="1676160" cy="1361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6"/>
          <a:stretch/>
        </p:blipFill>
        <p:spPr>
          <a:xfrm>
            <a:off x="6012000" y="3500280"/>
            <a:ext cx="2095200" cy="1209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7"/>
          <a:stretch/>
        </p:blipFill>
        <p:spPr>
          <a:xfrm>
            <a:off x="539640" y="3429000"/>
            <a:ext cx="1371600" cy="1238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"/>
          <p:cNvPicPr/>
          <p:nvPr/>
        </p:nvPicPr>
        <p:blipFill>
          <a:blip r:embed="rId8"/>
          <a:stretch/>
        </p:blipFill>
        <p:spPr>
          <a:xfrm>
            <a:off x="5292720" y="1916280"/>
            <a:ext cx="428760" cy="93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"/>
          <p:cNvPicPr/>
          <p:nvPr/>
        </p:nvPicPr>
        <p:blipFill>
          <a:blip r:embed="rId9"/>
          <a:stretch/>
        </p:blipFill>
        <p:spPr>
          <a:xfrm>
            <a:off x="7740720" y="2276640"/>
            <a:ext cx="523800" cy="914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"/>
          <p:cNvPicPr/>
          <p:nvPr/>
        </p:nvPicPr>
        <p:blipFill>
          <a:blip r:embed="rId10"/>
          <a:stretch/>
        </p:blipFill>
        <p:spPr>
          <a:xfrm>
            <a:off x="1979640" y="3716280"/>
            <a:ext cx="342720" cy="8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"/>
          <p:cNvPicPr/>
          <p:nvPr/>
        </p:nvPicPr>
        <p:blipFill>
          <a:blip r:embed="rId11"/>
          <a:stretch/>
        </p:blipFill>
        <p:spPr>
          <a:xfrm>
            <a:off x="4788000" y="3716280"/>
            <a:ext cx="40932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"/>
          <p:cNvPicPr/>
          <p:nvPr/>
        </p:nvPicPr>
        <p:blipFill>
          <a:blip r:embed="rId12"/>
          <a:stretch/>
        </p:blipFill>
        <p:spPr>
          <a:xfrm>
            <a:off x="8172360" y="3716280"/>
            <a:ext cx="371520" cy="90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"/>
          <p:cNvPicPr/>
          <p:nvPr/>
        </p:nvPicPr>
        <p:blipFill>
          <a:blip r:embed="rId13"/>
          <a:stretch/>
        </p:blipFill>
        <p:spPr>
          <a:xfrm>
            <a:off x="2195640" y="2133720"/>
            <a:ext cx="360360" cy="847440"/>
          </a:xfrm>
          <a:prstGeom prst="rect">
            <a:avLst/>
          </a:prstGeom>
          <a:ln w="0">
            <a:noFill/>
          </a:ln>
        </p:spPr>
      </p:pic>
      <p:pic>
        <p:nvPicPr>
          <p:cNvPr id="116" name="img2" descr="Рис. 2"/>
          <p:cNvPicPr/>
          <p:nvPr/>
        </p:nvPicPr>
        <p:blipFill>
          <a:blip r:embed="rId14"/>
          <a:stretch/>
        </p:blipFill>
        <p:spPr>
          <a:xfrm>
            <a:off x="2916360" y="5229360"/>
            <a:ext cx="1800000" cy="1398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4360" y="549360"/>
            <a:ext cx="770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сположите дроб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вочки                                                          Мальч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рядке возрастания               в порядке убывания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24000" y="2637000"/>
                <a:ext cx="8496000" cy="18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476360" y="4653000"/>
            <a:ext cx="1008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0d1a0"/>
              </a:gs>
              <a:gs pos="100000">
                <a:srgbClr val="008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340000" y="5229360"/>
            <a:ext cx="46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Проверь себя!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4653000"/>
            <a:ext cx="1008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0d1a0"/>
              </a:gs>
              <a:gs pos="100000">
                <a:srgbClr val="008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740720" y="5877000"/>
            <a:ext cx="934920" cy="36036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05" h="21600">
                <a:moveTo>
                  <a:pt x="0" y="0"/>
                </a:moveTo>
                <a:lnTo>
                  <a:pt x="56005" y="0"/>
                </a:lnTo>
                <a:lnTo>
                  <a:pt x="56005" y="21600"/>
                </a:lnTo>
                <a:lnTo>
                  <a:pt x="0" y="21600"/>
                </a:lnTo>
                <a:close/>
              </a:path>
              <a:path fill="lightenLess" w="56005" h="21600">
                <a:moveTo>
                  <a:pt x="0" y="0"/>
                </a:moveTo>
                <a:lnTo>
                  <a:pt x="56005" y="0"/>
                </a:lnTo>
                <a:lnTo>
                  <a:pt x="54605" y="1400"/>
                </a:lnTo>
                <a:lnTo>
                  <a:pt x="1400" y="1400"/>
                </a:lnTo>
                <a:close/>
              </a:path>
              <a:path fill="darken" w="56005" h="21600">
                <a:moveTo>
                  <a:pt x="56005" y="0"/>
                </a:moveTo>
                <a:lnTo>
                  <a:pt x="56005" y="21600"/>
                </a:lnTo>
                <a:lnTo>
                  <a:pt x="54605" y="20200"/>
                </a:lnTo>
                <a:lnTo>
                  <a:pt x="54605" y="1400"/>
                </a:lnTo>
                <a:close/>
              </a:path>
              <a:path fill="darkenLess" w="56005" h="21600">
                <a:moveTo>
                  <a:pt x="5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05" y="20200"/>
                </a:lnTo>
                <a:close/>
              </a:path>
              <a:path fill="lighten" w="5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05" h="21600">
                <a:moveTo>
                  <a:pt x="20996" y="3794"/>
                </a:moveTo>
                <a:lnTo>
                  <a:pt x="35009" y="10800"/>
                </a:lnTo>
                <a:lnTo>
                  <a:pt x="2099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826920" y="5950080"/>
            <a:ext cx="936720" cy="3585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6394" h="21600">
                <a:moveTo>
                  <a:pt x="0" y="0"/>
                </a:moveTo>
                <a:lnTo>
                  <a:pt x="56394" y="0"/>
                </a:lnTo>
                <a:lnTo>
                  <a:pt x="56394" y="21600"/>
                </a:lnTo>
                <a:lnTo>
                  <a:pt x="0" y="21600"/>
                </a:lnTo>
                <a:close/>
              </a:path>
              <a:path fill="lightenLess" w="56394" h="21600">
                <a:moveTo>
                  <a:pt x="0" y="0"/>
                </a:moveTo>
                <a:lnTo>
                  <a:pt x="56394" y="0"/>
                </a:lnTo>
                <a:lnTo>
                  <a:pt x="54994" y="1400"/>
                </a:lnTo>
                <a:lnTo>
                  <a:pt x="1400" y="1400"/>
                </a:lnTo>
                <a:close/>
              </a:path>
              <a:path fill="darken" w="56394" h="21600">
                <a:moveTo>
                  <a:pt x="56394" y="0"/>
                </a:moveTo>
                <a:lnTo>
                  <a:pt x="56394" y="21600"/>
                </a:lnTo>
                <a:lnTo>
                  <a:pt x="54994" y="20200"/>
                </a:lnTo>
                <a:lnTo>
                  <a:pt x="54994" y="1400"/>
                </a:lnTo>
                <a:close/>
              </a:path>
              <a:path fill="darkenLess" w="56394" h="21600">
                <a:moveTo>
                  <a:pt x="5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994" y="20200"/>
                </a:lnTo>
                <a:close/>
              </a:path>
              <a:path fill="lighten" w="5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394" h="21600">
                <a:moveTo>
                  <a:pt x="21191" y="10800"/>
                </a:moveTo>
                <a:lnTo>
                  <a:pt x="35203" y="3794"/>
                </a:lnTo>
                <a:lnTo>
                  <a:pt x="3520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 порядке возраст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900000" y="1413000"/>
                <a:ext cx="7128000" cy="15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11280" y="335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 порядке убы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71640" y="4626000"/>
                <a:ext cx="712944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936720" cy="3585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6394" h="21600">
                <a:moveTo>
                  <a:pt x="0" y="0"/>
                </a:moveTo>
                <a:lnTo>
                  <a:pt x="56394" y="0"/>
                </a:lnTo>
                <a:lnTo>
                  <a:pt x="56394" y="21600"/>
                </a:lnTo>
                <a:lnTo>
                  <a:pt x="0" y="21600"/>
                </a:lnTo>
                <a:close/>
              </a:path>
              <a:path fill="lightenLess" w="56394" h="21600">
                <a:moveTo>
                  <a:pt x="0" y="0"/>
                </a:moveTo>
                <a:lnTo>
                  <a:pt x="56394" y="0"/>
                </a:lnTo>
                <a:lnTo>
                  <a:pt x="54994" y="1400"/>
                </a:lnTo>
                <a:lnTo>
                  <a:pt x="1400" y="1400"/>
                </a:lnTo>
                <a:close/>
              </a:path>
              <a:path fill="darken" w="56394" h="21600">
                <a:moveTo>
                  <a:pt x="56394" y="0"/>
                </a:moveTo>
                <a:lnTo>
                  <a:pt x="56394" y="21600"/>
                </a:lnTo>
                <a:lnTo>
                  <a:pt x="54994" y="20200"/>
                </a:lnTo>
                <a:lnTo>
                  <a:pt x="54994" y="1400"/>
                </a:lnTo>
                <a:close/>
              </a:path>
              <a:path fill="darkenLess" w="56394" h="21600">
                <a:moveTo>
                  <a:pt x="5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994" y="20200"/>
                </a:lnTo>
                <a:close/>
              </a:path>
              <a:path fill="lighten" w="5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394" h="21600">
                <a:moveTo>
                  <a:pt x="21191" y="10800"/>
                </a:moveTo>
                <a:lnTo>
                  <a:pt x="35203" y="3794"/>
                </a:lnTo>
                <a:lnTo>
                  <a:pt x="3520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934920" cy="36036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05" h="21600">
                <a:moveTo>
                  <a:pt x="0" y="0"/>
                </a:moveTo>
                <a:lnTo>
                  <a:pt x="56005" y="0"/>
                </a:lnTo>
                <a:lnTo>
                  <a:pt x="56005" y="21600"/>
                </a:lnTo>
                <a:lnTo>
                  <a:pt x="0" y="21600"/>
                </a:lnTo>
                <a:close/>
              </a:path>
              <a:path fill="lightenLess" w="56005" h="21600">
                <a:moveTo>
                  <a:pt x="0" y="0"/>
                </a:moveTo>
                <a:lnTo>
                  <a:pt x="56005" y="0"/>
                </a:lnTo>
                <a:lnTo>
                  <a:pt x="54605" y="1400"/>
                </a:lnTo>
                <a:lnTo>
                  <a:pt x="1400" y="1400"/>
                </a:lnTo>
                <a:close/>
              </a:path>
              <a:path fill="darken" w="56005" h="21600">
                <a:moveTo>
                  <a:pt x="56005" y="0"/>
                </a:moveTo>
                <a:lnTo>
                  <a:pt x="56005" y="21600"/>
                </a:lnTo>
                <a:lnTo>
                  <a:pt x="54605" y="20200"/>
                </a:lnTo>
                <a:lnTo>
                  <a:pt x="54605" y="1400"/>
                </a:lnTo>
                <a:close/>
              </a:path>
              <a:path fill="darkenLess" w="56005" h="21600">
                <a:moveTo>
                  <a:pt x="5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05" y="20200"/>
                </a:lnTo>
                <a:close/>
              </a:path>
              <a:path fill="lighten" w="5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05" h="21600">
                <a:moveTo>
                  <a:pt x="20996" y="3794"/>
                </a:moveTo>
                <a:lnTo>
                  <a:pt x="35009" y="10800"/>
                </a:lnTo>
                <a:lnTo>
                  <a:pt x="2099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37"/>
          <p:cNvSpPr/>
          <p:nvPr/>
        </p:nvSpPr>
        <p:spPr>
          <a:xfrm>
            <a:off x="-36360" y="4869000"/>
            <a:ext cx="9196200" cy="2287440"/>
          </a:xfrm>
          <a:custGeom>
            <a:avLst/>
            <a:gdLst>
              <a:gd name="textAreaLeft" fmla="*/ 0 w 9196200"/>
              <a:gd name="textAreaRight" fmla="*/ 9196560 w 9196200"/>
              <a:gd name="textAreaTop" fmla="*/ 0 h 2287440"/>
              <a:gd name="textAreaBottom" fmla="*/ 2287440 h 228744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ddd0fc32575ct"/>
          <p:cNvPicPr/>
          <p:nvPr/>
        </p:nvPicPr>
        <p:blipFill>
          <a:blip r:embed="rId3"/>
          <a:stretch/>
        </p:blipFill>
        <p:spPr>
          <a:xfrm>
            <a:off x="279396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99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99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009999"/>
              </a:gs>
            </a:gsLst>
            <a:lin ang="4848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009999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2b5481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2b5481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2b5481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2b5481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6" descr="arg-blue-left-tr"/>
          <p:cNvPicPr/>
          <p:nvPr/>
        </p:nvPicPr>
        <p:blipFill>
          <a:blip r:embed="rId4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ani-bird_red"/>
          <p:cNvPicPr/>
          <p:nvPr/>
        </p:nvPicPr>
        <p:blipFill>
          <a:blip r:embed="rId5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b13"/>
          <p:cNvPicPr/>
          <p:nvPr/>
        </p:nvPicPr>
        <p:blipFill>
          <a:blip r:embed="rId6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3" descr="b13"/>
          <p:cNvPicPr/>
          <p:nvPr/>
        </p:nvPicPr>
        <p:blipFill>
          <a:blip r:embed="rId7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28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2" descr="B_Fly31"/>
          <p:cNvPicPr/>
          <p:nvPr/>
        </p:nvPicPr>
        <p:blipFill>
          <a:blip r:embed="rId8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3" descr="B_Fly21"/>
          <p:cNvPicPr/>
          <p:nvPr/>
        </p:nvPicPr>
        <p:blipFill>
          <a:blip r:embed="rId9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4" descr="B_Fly14"/>
          <p:cNvPicPr/>
          <p:nvPr/>
        </p:nvPicPr>
        <p:blipFill>
          <a:blip r:embed="rId10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5" descr="b11"/>
          <p:cNvPicPr/>
          <p:nvPr/>
        </p:nvPicPr>
        <p:blipFill>
          <a:blip r:embed="rId11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6" descr="b11"/>
          <p:cNvPicPr/>
          <p:nvPr/>
        </p:nvPicPr>
        <p:blipFill>
          <a:blip r:embed="rId12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38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2b5481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0" descr=""/>
          <p:cNvPicPr/>
          <p:nvPr/>
        </p:nvPicPr>
        <p:blipFill>
          <a:blip r:embed="rId1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Управляющая кнопка: далее 29"/>
          <p:cNvSpPr/>
          <p:nvPr/>
        </p:nvSpPr>
        <p:spPr>
          <a:xfrm>
            <a:off x="8101080" y="6093000"/>
            <a:ext cx="718920" cy="53964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8771" h="21600">
                <a:moveTo>
                  <a:pt x="0" y="0"/>
                </a:moveTo>
                <a:lnTo>
                  <a:pt x="28771" y="0"/>
                </a:lnTo>
                <a:lnTo>
                  <a:pt x="28771" y="21600"/>
                </a:lnTo>
                <a:lnTo>
                  <a:pt x="0" y="21600"/>
                </a:lnTo>
                <a:close/>
              </a:path>
              <a:path fill="lightenLess" w="28771" h="21600">
                <a:moveTo>
                  <a:pt x="0" y="0"/>
                </a:moveTo>
                <a:lnTo>
                  <a:pt x="28771" y="0"/>
                </a:lnTo>
                <a:lnTo>
                  <a:pt x="27371" y="1400"/>
                </a:lnTo>
                <a:lnTo>
                  <a:pt x="1400" y="1400"/>
                </a:lnTo>
                <a:close/>
              </a:path>
              <a:path fill="darken" w="28771" h="21600">
                <a:moveTo>
                  <a:pt x="28771" y="0"/>
                </a:moveTo>
                <a:lnTo>
                  <a:pt x="28771" y="21600"/>
                </a:lnTo>
                <a:lnTo>
                  <a:pt x="27371" y="20200"/>
                </a:lnTo>
                <a:lnTo>
                  <a:pt x="27371" y="1400"/>
                </a:lnTo>
                <a:close/>
              </a:path>
              <a:path fill="darkenLess" w="28771" h="21600">
                <a:moveTo>
                  <a:pt x="28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1" y="20200"/>
                </a:lnTo>
                <a:close/>
              </a:path>
              <a:path fill="lighten" w="28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1" h="21600">
                <a:moveTo>
                  <a:pt x="7379" y="3794"/>
                </a:moveTo>
                <a:lnTo>
                  <a:pt x="21392" y="10800"/>
                </a:lnTo>
                <a:lnTo>
                  <a:pt x="7379" y="17806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3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0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321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3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30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0"/>
                            </p:stCondLst>
                            <p:childTnLst>
                              <p:par>
                                <p:cTn id="331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9000"/>
                            </p:stCondLst>
                            <p:childTnLst>
                              <p:par>
                                <p:cTn id="33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1000"/>
                            </p:stCondLst>
                            <p:childTnLst>
                              <p:par>
                                <p:cTn id="3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3000"/>
                            </p:stCondLst>
                            <p:childTnLst>
                              <p:par>
                                <p:cTn id="345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5000"/>
                            </p:stCondLst>
                            <p:childTnLst>
                              <p:par>
                                <p:cTn id="35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7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8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9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1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4000"/>
                            </p:stCondLst>
                            <p:childTnLst>
                              <p:par>
                                <p:cTn id="3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5000"/>
                            </p:stCondLst>
                            <p:childTnLst>
                              <p:par>
                                <p:cTn id="3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7000"/>
                            </p:stCondLst>
                            <p:childTnLst>
                              <p:par>
                                <p:cTn id="39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39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1000"/>
                            </p:stCondLst>
                            <p:childTnLst>
                              <p:par>
                                <p:cTn id="3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3000"/>
                            </p:stCondLst>
                            <p:childTnLst>
                              <p:par>
                                <p:cTn id="398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399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70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57880" y="2786040"/>
            <a:ext cx="2539800" cy="1071720"/>
          </a:xfrm>
          <a:prstGeom prst="rect">
            <a:avLst/>
          </a:prstGeom>
          <a:ln w="0">
            <a:noFill/>
          </a:ln>
        </p:spPr>
      </p:pic>
      <p:sp>
        <p:nvSpPr>
          <p:cNvPr id="15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Д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C:\Documents and Settings\Admin\Мои документы\Мои рисунки\kolokol07.jpg"/>
          <p:cNvPicPr/>
          <p:nvPr/>
        </p:nvPicPr>
        <p:blipFill>
          <a:blip r:embed="rId3"/>
          <a:stretch/>
        </p:blipFill>
        <p:spPr>
          <a:xfrm>
            <a:off x="1785960" y="2643120"/>
            <a:ext cx="100800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Admin\Мои документы\Мои рисунки\kolokol07.jpg"/>
          <p:cNvPicPr/>
          <p:nvPr/>
        </p:nvPicPr>
        <p:blipFill>
          <a:blip r:embed="rId4"/>
          <a:stretch/>
        </p:blipFill>
        <p:spPr>
          <a:xfrm>
            <a:off x="1000080" y="3286080"/>
            <a:ext cx="1008000" cy="1143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Documents and Settings\Admin\Мои документы\Мои рисунки\kolokol07.jpg"/>
          <p:cNvPicPr/>
          <p:nvPr/>
        </p:nvPicPr>
        <p:blipFill>
          <a:blip r:embed="rId5"/>
          <a:stretch/>
        </p:blipFill>
        <p:spPr>
          <a:xfrm>
            <a:off x="2500200" y="3214800"/>
            <a:ext cx="100800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Admin\Мои документы\Мои рисунки\kolokol07.jpg"/>
          <p:cNvPicPr/>
          <p:nvPr/>
        </p:nvPicPr>
        <p:blipFill>
          <a:blip r:embed="rId6"/>
          <a:stretch/>
        </p:blipFill>
        <p:spPr>
          <a:xfrm>
            <a:off x="285840" y="2500200"/>
            <a:ext cx="1008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" name="Группа 30"/>
          <p:cNvGrpSpPr/>
          <p:nvPr/>
        </p:nvGrpSpPr>
        <p:grpSpPr>
          <a:xfrm>
            <a:off x="714240" y="357120"/>
            <a:ext cx="3436920" cy="2286000"/>
            <a:chOff x="714240" y="357120"/>
            <a:chExt cx="3436920" cy="2286000"/>
          </a:xfrm>
        </p:grpSpPr>
        <p:pic>
          <p:nvPicPr>
            <p:cNvPr id="165" name="Picture 4" descr="C:\Documents and Settings\Admin\Мои документы\Мои рисунки\kolokol07.jpg"/>
            <p:cNvPicPr/>
            <p:nvPr/>
          </p:nvPicPr>
          <p:blipFill>
            <a:blip r:embed="rId7"/>
            <a:stretch/>
          </p:blipFill>
          <p:spPr>
            <a:xfrm>
              <a:off x="714240" y="135720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" descr="C:\Documents and Settings\Admin\Мои документы\Мои рисунки\kolokol07.jpg"/>
            <p:cNvPicPr/>
            <p:nvPr/>
          </p:nvPicPr>
          <p:blipFill>
            <a:blip r:embed="rId8"/>
            <a:stretch/>
          </p:blipFill>
          <p:spPr>
            <a:xfrm>
              <a:off x="1642680" y="35712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4" descr="C:\Documents and Settings\Admin\Мои документы\Мои рисунки\kolokol07.jpg"/>
            <p:cNvPicPr/>
            <p:nvPr/>
          </p:nvPicPr>
          <p:blipFill>
            <a:blip r:embed="rId9"/>
            <a:stretch/>
          </p:blipFill>
          <p:spPr>
            <a:xfrm>
              <a:off x="3143160" y="78552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4" descr="C:\Documents and Settings\Admin\Мои документы\Мои рисунки\kolokol07.jpg"/>
            <p:cNvPicPr/>
            <p:nvPr/>
          </p:nvPicPr>
          <p:blipFill>
            <a:blip r:embed="rId10"/>
            <a:stretch/>
          </p:blipFill>
          <p:spPr>
            <a:xfrm>
              <a:off x="2000160" y="1500120"/>
              <a:ext cx="1008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Группа 29"/>
          <p:cNvGrpSpPr/>
          <p:nvPr/>
        </p:nvGrpSpPr>
        <p:grpSpPr>
          <a:xfrm>
            <a:off x="785880" y="4500720"/>
            <a:ext cx="4079880" cy="1928520"/>
            <a:chOff x="785880" y="4500720"/>
            <a:chExt cx="4079880" cy="1928520"/>
          </a:xfrm>
        </p:grpSpPr>
        <p:pic>
          <p:nvPicPr>
            <p:cNvPr id="170" name="Picture 4" descr="C:\Documents and Settings\Admin\Мои документы\Мои рисунки\kolokol07.jpg"/>
            <p:cNvPicPr/>
            <p:nvPr/>
          </p:nvPicPr>
          <p:blipFill>
            <a:blip r:embed="rId11"/>
            <a:stretch/>
          </p:blipFill>
          <p:spPr>
            <a:xfrm>
              <a:off x="785880" y="457200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4" descr="C:\Documents and Settings\Admin\Мои документы\Мои рисунки\kolokol07.jpg"/>
            <p:cNvPicPr/>
            <p:nvPr/>
          </p:nvPicPr>
          <p:blipFill>
            <a:blip r:embed="rId12"/>
            <a:stretch/>
          </p:blipFill>
          <p:spPr>
            <a:xfrm>
              <a:off x="2500200" y="450072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" descr="C:\Documents and Settings\Admin\Мои документы\Мои рисунки\kolokol07.jpg"/>
            <p:cNvPicPr/>
            <p:nvPr/>
          </p:nvPicPr>
          <p:blipFill>
            <a:blip r:embed="rId13"/>
            <a:stretch/>
          </p:blipFill>
          <p:spPr>
            <a:xfrm>
              <a:off x="3857760" y="457200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4" descr="C:\Documents and Settings\Admin\Мои документы\Мои рисунки\kolokol07.jpg"/>
            <p:cNvPicPr/>
            <p:nvPr/>
          </p:nvPicPr>
          <p:blipFill>
            <a:blip r:embed="rId14"/>
            <a:stretch/>
          </p:blipFill>
          <p:spPr>
            <a:xfrm>
              <a:off x="1714320" y="5286240"/>
              <a:ext cx="1008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TextBox 38"/>
          <p:cNvSpPr/>
          <p:nvPr/>
        </p:nvSpPr>
        <p:spPr>
          <a:xfrm>
            <a:off x="7786800" y="285768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09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7:23:23Z</dcterms:created>
  <dc:creator>Admin</dc:creator>
  <dc:description/>
  <dc:language>en-US</dc:language>
  <cp:lastModifiedBy>Admin</cp:lastModifiedBy>
  <dcterms:modified xsi:type="dcterms:W3CDTF">2012-04-20T09:16:53Z</dcterms:modified>
  <cp:revision>38</cp:revision>
  <dc:subject/>
  <dc:title>Слайд 1</dc:title>
</cp:coreProperties>
</file>