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gif" ContentType="image/gif"/>
  <Override PartName="/ppt/media/image16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2.gif" ContentType="image/gif"/>
  <Override PartName="/ppt/media/image15.png" ContentType="image/png"/>
  <Override PartName="/ppt/media/image41.png" ContentType="image/png"/>
  <Override PartName="/ppt/media/image31.gif" ContentType="image/gif"/>
  <Override PartName="/ppt/media/image29.gif" ContentType="image/gif"/>
  <Override PartName="/ppt/media/image39.png" ContentType="image/png"/>
  <Override PartName="/ppt/media/image9.png" ContentType="image/png"/>
  <Override PartName="/ppt/media/image46.gif" ContentType="image/gif"/>
  <Override PartName="/ppt/media/image33.png" ContentType="image/png"/>
  <Override PartName="/ppt/media/image30.wmf" ContentType="image/x-wmf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0.png" ContentType="image/png"/>
  <Override PartName="/ppt/media/image49.gif" ContentType="image/gif"/>
  <Override PartName="/ppt/media/image8.png" ContentType="image/png"/>
  <Override PartName="/ppt/media/image38.png" ContentType="image/png"/>
  <Override PartName="/ppt/media/image45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B5A-76CB-4ED1-85E8-47A044AB2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B41-6BA2-4DE4-BDA4-4AD467975F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F3BF-6687-41FF-9E37-AEB0F1185F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318-B8AA-4410-A9EB-61444726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DED-9975-40D9-8BA9-83253F29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58C-6CB4-4BA9-A9CB-1601934C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F8C-9D68-49A9-A479-010A94DD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F308-6B19-49D6-A387-AC8A9D85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986-7FC2-4150-A7DD-F0A1E8C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F390-A067-48B9-B874-54D69D5E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08AD-37BE-4600-ABC3-0C3DA150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0460-60D8-48BF-89F3-4A7CBE1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68E3-6063-43A6-AB1F-4CDB576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FD9-0473-41FF-9A0D-C40E84C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B6F-841D-4C2D-B712-2E8F6A6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B170-E7E6-470C-9D2E-DEBBD6F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263-AB38-4F8C-AD2C-31D5882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2AC0-3A19-472A-899B-22C8E45D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1AD-9EC3-4EDA-B56C-3F7B06D8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3DC-DFBE-44AC-8378-45AACFD0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B51-B5F7-4713-B802-5F2C80C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6EA-6B9E-437C-9569-6AC8E91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570-62C2-44DD-83C1-23562975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12A-19B8-44F2-BB09-B0DD517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FCD-1738-4669-996B-FEBF58A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953-4E66-4E78-BFDA-841E712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43E-E7E7-4C83-AC5C-D64D0C8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07B-624B-49E0-A75F-7A623E495D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EA8-47D1-457C-8255-290973408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«Тот, кто учится самостоятельно, преуспевает в семь раз больше, чем тот, которому все объяснил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(Артур Гитерман,           немецкий поэ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Группа 46"/>
          <p:cNvGrpSpPr/>
          <p:nvPr/>
        </p:nvGrpSpPr>
        <p:grpSpPr>
          <a:xfrm>
            <a:off x="3286080" y="2286000"/>
            <a:ext cx="2071800" cy="1071720"/>
            <a:chOff x="3286080" y="2286000"/>
            <a:chExt cx="2071800" cy="1071720"/>
          </a:xfrm>
        </p:grpSpPr>
        <p:pic>
          <p:nvPicPr>
            <p:cNvPr id="176" name="Picture 9" descr="C:\Documents and Settings\Admin\Мои документы\Мои рисунки\91.gif"/>
            <p:cNvPicPr/>
            <p:nvPr/>
          </p:nvPicPr>
          <p:blipFill>
            <a:blip r:embed="rId2"/>
            <a:stretch/>
          </p:blipFill>
          <p:spPr>
            <a:xfrm>
              <a:off x="3286080" y="2357280"/>
              <a:ext cx="100008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Documents and Settings\Admin\Мои документы\Мои рисунки\91.gif"/>
            <p:cNvPicPr/>
            <p:nvPr/>
          </p:nvPicPr>
          <p:blipFill>
            <a:blip r:embed="rId3"/>
            <a:stretch/>
          </p:blipFill>
          <p:spPr>
            <a:xfrm>
              <a:off x="4357800" y="2286000"/>
              <a:ext cx="100008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45"/>
          <p:cNvGrpSpPr/>
          <p:nvPr/>
        </p:nvGrpSpPr>
        <p:grpSpPr>
          <a:xfrm>
            <a:off x="4429080" y="3857760"/>
            <a:ext cx="2089080" cy="1214280"/>
            <a:chOff x="4429080" y="3857760"/>
            <a:chExt cx="2089080" cy="1214280"/>
          </a:xfrm>
        </p:grpSpPr>
        <p:pic>
          <p:nvPicPr>
            <p:cNvPr id="179" name="Picture 11" descr="C:\Documents and Settings\Admin\Мои документы\Мои рисунки\91.gif"/>
            <p:cNvPicPr/>
            <p:nvPr/>
          </p:nvPicPr>
          <p:blipFill>
            <a:blip r:embed="rId4"/>
            <a:stretch/>
          </p:blipFill>
          <p:spPr>
            <a:xfrm>
              <a:off x="4429080" y="3857760"/>
              <a:ext cx="106668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Documents and Settings\Admin\Мои документы\Мои рисунки\91.gif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0890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43"/>
          <p:cNvGrpSpPr/>
          <p:nvPr/>
        </p:nvGrpSpPr>
        <p:grpSpPr>
          <a:xfrm>
            <a:off x="5715000" y="2500200"/>
            <a:ext cx="1857240" cy="1071720"/>
            <a:chOff x="5715000" y="2500200"/>
            <a:chExt cx="1857240" cy="1071720"/>
          </a:xfrm>
        </p:grpSpPr>
        <p:pic>
          <p:nvPicPr>
            <p:cNvPr id="182" name="Picture 13" descr="C:\Documents and Settings\Admin\Мои документы\Мои рисунки\91.gif"/>
            <p:cNvPicPr/>
            <p:nvPr/>
          </p:nvPicPr>
          <p:blipFill>
            <a:blip r:embed="rId6"/>
            <a:stretch/>
          </p:blipFill>
          <p:spPr>
            <a:xfrm>
              <a:off x="5715000" y="2500200"/>
              <a:ext cx="928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C:\Documents and Settings\Admin\Мои документы\Мои рисунки\91.gif"/>
            <p:cNvPicPr/>
            <p:nvPr/>
          </p:nvPicPr>
          <p:blipFill>
            <a:blip r:embed="rId7"/>
            <a:stretch/>
          </p:blipFill>
          <p:spPr>
            <a:xfrm>
              <a:off x="6715080" y="2571480"/>
              <a:ext cx="85716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44"/>
          <p:cNvGrpSpPr/>
          <p:nvPr/>
        </p:nvGrpSpPr>
        <p:grpSpPr>
          <a:xfrm>
            <a:off x="5572080" y="928800"/>
            <a:ext cx="1957320" cy="1143000"/>
            <a:chOff x="5572080" y="928800"/>
            <a:chExt cx="1957320" cy="1143000"/>
          </a:xfrm>
        </p:grpSpPr>
        <p:pic>
          <p:nvPicPr>
            <p:cNvPr id="185" name="Picture 14" descr="C:\Documents and Settings\Admin\Мои документы\Мои рисунки\91.gif"/>
            <p:cNvPicPr/>
            <p:nvPr/>
          </p:nvPicPr>
          <p:blipFill>
            <a:blip r:embed="rId8"/>
            <a:stretch/>
          </p:blipFill>
          <p:spPr>
            <a:xfrm>
              <a:off x="5572080" y="1000080"/>
              <a:ext cx="933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C:\Documents and Settings\Admin\Мои документы\Мои рисунки\91.gif"/>
            <p:cNvPicPr/>
            <p:nvPr/>
          </p:nvPicPr>
          <p:blipFill>
            <a:blip r:embed="rId9"/>
            <a:stretch/>
          </p:blipFill>
          <p:spPr>
            <a:xfrm>
              <a:off x="6643440" y="928800"/>
              <a:ext cx="885960" cy="106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168560" y="4786200"/>
            <a:ext cx="2949480" cy="132084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786120" y="500076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2 -0.01619 L 0.13577 -0.01619 E">
                                      <p:cBhvr>
                                        <p:cTn id="435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7724 L -0.01198 0.13252 E">
                                      <p:cBhvr>
                                        <p:cTn id="437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8575E-006 L -0.00781 -0.09181 E">
                                      <p:cBhvr>
                                        <p:cTn id="439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0578 L -0.11424 -0.00578 E">
                                      <p:cBhvr>
                                        <p:cTn id="441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Admin\Мои документы\Мои рисунки\h020.gif"/>
          <p:cNvPicPr/>
          <p:nvPr/>
        </p:nvPicPr>
        <p:blipFill>
          <a:blip r:embed="rId2"/>
          <a:stretch/>
        </p:blipFill>
        <p:spPr>
          <a:xfrm>
            <a:off x="7500960" y="3571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92" name="Группа 19"/>
          <p:cNvGrpSpPr/>
          <p:nvPr/>
        </p:nvGrpSpPr>
        <p:grpSpPr>
          <a:xfrm>
            <a:off x="928440" y="1999440"/>
            <a:ext cx="7358400" cy="2160"/>
            <a:chOff x="928440" y="1999440"/>
            <a:chExt cx="7358400" cy="2160"/>
          </a:xfrm>
        </p:grpSpPr>
        <p:cxnSp>
          <p:nvCxnSpPr>
            <p:cNvPr id="193" name="Прямая со стрелкой 4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4" name="Прямая со стрелкой 14"/>
            <p:cNvCxnSpPr/>
            <p:nvPr/>
          </p:nvCxnSpPr>
          <p:spPr>
            <a:xfrm flipH="1" flipV="1">
              <a:off x="22143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5" name="Прямая со стрелкой 15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6" name="Прямая со стрелкой 16"/>
            <p:cNvCxnSpPr/>
            <p:nvPr/>
          </p:nvCxnSpPr>
          <p:spPr>
            <a:xfrm flipH="1" flipV="1">
              <a:off x="4571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7" name="Прямая со стрелкой 17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8" name="Прямая со стрелкой 18"/>
            <p:cNvCxnSpPr/>
            <p:nvPr/>
          </p:nvCxnSpPr>
          <p:spPr>
            <a:xfrm flipH="1" flipV="1">
              <a:off x="9284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</p:grpSp>
      <p:cxnSp>
        <p:nvCxnSpPr>
          <p:cNvPr id="199" name="Прямая со стрелкой 29"/>
          <p:cNvCxnSpPr/>
          <p:nvPr/>
        </p:nvCxnSpPr>
        <p:spPr>
          <a:xfrm flipH="1" flipV="1">
            <a:off x="928080" y="1999440"/>
            <a:ext cx="7430040" cy="2520"/>
          </a:xfrm>
          <a:prstGeom prst="straightConnector1">
            <a:avLst/>
          </a:prstGeom>
          <a:ln w="28440">
            <a:solidFill>
              <a:srgbClr val="28a0be"/>
            </a:solidFill>
            <a:miter/>
            <a:tailEnd len="med" type="arrow" w="med"/>
          </a:ln>
        </p:spPr>
      </p:cxnSp>
      <p:sp>
        <p:nvSpPr>
          <p:cNvPr id="200" name="Левая фигурная скобка 34"/>
          <p:cNvSpPr/>
          <p:nvPr/>
        </p:nvSpPr>
        <p:spPr>
          <a:xfrm flipV="1" rot="16200000">
            <a:off x="4142880" y="-1214280"/>
            <a:ext cx="1000080" cy="74293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7429320"/>
              <a:gd name="textAreaBottom" fmla="*/ 7403400 h 74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3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35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054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202" name="Группа 45"/>
          <p:cNvGrpSpPr/>
          <p:nvPr/>
        </p:nvGrpSpPr>
        <p:grpSpPr>
          <a:xfrm>
            <a:off x="826920" y="3789360"/>
            <a:ext cx="7742520" cy="952560"/>
            <a:chOff x="826920" y="3789360"/>
            <a:chExt cx="7742520" cy="952560"/>
          </a:xfrm>
        </p:grpSpPr>
        <p:pic>
          <p:nvPicPr>
            <p:cNvPr id="203" name="Прямоугольник 36" descr=""/>
            <p:cNvPicPr/>
            <p:nvPr/>
          </p:nvPicPr>
          <p:blipFill>
            <a:blip r:embed="rId4"/>
            <a:stretch/>
          </p:blipFill>
          <p:spPr>
            <a:xfrm>
              <a:off x="826920" y="3933360"/>
              <a:ext cx="774252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Группа 44"/>
            <p:cNvGrpSpPr/>
            <p:nvPr/>
          </p:nvGrpSpPr>
          <p:grpSpPr>
            <a:xfrm>
              <a:off x="6614640" y="3789360"/>
              <a:ext cx="359640" cy="952560"/>
              <a:chOff x="6614640" y="3789360"/>
              <a:chExt cx="359640" cy="952560"/>
            </a:xfrm>
          </p:grpSpPr>
          <p:pic>
            <p:nvPicPr>
              <p:cNvPr id="205" name="Прямоугольник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4640" y="3789360"/>
                <a:ext cx="35964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Прямоугольник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14640" y="4222800"/>
                <a:ext cx="35964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Прямая соединительная линия 41"/>
              <p:cNvSpPr/>
              <p:nvPr/>
            </p:nvSpPr>
            <p:spPr>
              <a:xfrm flipH="1">
                <a:off x="6687720" y="4278240"/>
                <a:ext cx="208800" cy="0"/>
              </a:xfrm>
              <a:prstGeom prst="line">
                <a:avLst/>
              </a:prstGeom>
              <a:ln w="25560">
                <a:solidFill>
                  <a:srgbClr val="7d3c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Группа 27"/>
          <p:cNvGrpSpPr/>
          <p:nvPr/>
        </p:nvGrpSpPr>
        <p:grpSpPr>
          <a:xfrm>
            <a:off x="2142720" y="1999440"/>
            <a:ext cx="6144120" cy="2160"/>
            <a:chOff x="2142720" y="1999440"/>
            <a:chExt cx="6144120" cy="2160"/>
          </a:xfrm>
        </p:grpSpPr>
        <p:cxnSp>
          <p:nvCxnSpPr>
            <p:cNvPr id="209" name="Прямая со стрелкой 22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23"/>
            <p:cNvCxnSpPr/>
            <p:nvPr/>
          </p:nvCxnSpPr>
          <p:spPr>
            <a:xfrm flipH="1" flipV="1">
              <a:off x="46429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24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2" name="Прямая со стрелкой 25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3" name="Прямая со стрелкой 26"/>
            <p:cNvCxnSpPr/>
            <p:nvPr/>
          </p:nvCxnSpPr>
          <p:spPr>
            <a:xfrm flipH="1" flipV="1">
              <a:off x="21427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</p:grpSp>
      <p:pic>
        <p:nvPicPr>
          <p:cNvPr id="214" name="Прямоугольник 50" descr=""/>
          <p:cNvPicPr/>
          <p:nvPr/>
        </p:nvPicPr>
        <p:blipFill>
          <a:blip r:embed="rId7"/>
          <a:stretch/>
        </p:blipFill>
        <p:spPr>
          <a:xfrm>
            <a:off x="2992320" y="4705200"/>
            <a:ext cx="513000" cy="536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1" descr=""/>
          <p:cNvPicPr/>
          <p:nvPr/>
        </p:nvPicPr>
        <p:blipFill>
          <a:blip r:embed="rId8"/>
          <a:stretch/>
        </p:blipFill>
        <p:spPr>
          <a:xfrm>
            <a:off x="3706920" y="4900680"/>
            <a:ext cx="2797200" cy="1098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1" descr=""/>
          <p:cNvPicPr/>
          <p:nvPr/>
        </p:nvPicPr>
        <p:blipFill>
          <a:blip r:embed="rId9"/>
          <a:stretch/>
        </p:blipFill>
        <p:spPr>
          <a:xfrm>
            <a:off x="420840" y="4370400"/>
            <a:ext cx="2157120" cy="585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2" descr=""/>
          <p:cNvPicPr/>
          <p:nvPr/>
        </p:nvPicPr>
        <p:blipFill>
          <a:blip r:embed="rId10"/>
          <a:stretch/>
        </p:blipFill>
        <p:spPr>
          <a:xfrm>
            <a:off x="963720" y="4900680"/>
            <a:ext cx="1724040" cy="1098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3" descr=""/>
          <p:cNvPicPr/>
          <p:nvPr/>
        </p:nvPicPr>
        <p:blipFill>
          <a:blip r:embed="rId11"/>
          <a:stretch/>
        </p:blipFill>
        <p:spPr>
          <a:xfrm>
            <a:off x="1957320" y="4900680"/>
            <a:ext cx="1187640" cy="1098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9" descr=""/>
          <p:cNvPicPr/>
          <p:nvPr/>
        </p:nvPicPr>
        <p:blipFill>
          <a:blip r:embed="rId12"/>
          <a:stretch/>
        </p:blipFill>
        <p:spPr>
          <a:xfrm>
            <a:off x="2438280" y="4754520"/>
            <a:ext cx="102420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40" descr=""/>
          <p:cNvPicPr/>
          <p:nvPr/>
        </p:nvPicPr>
        <p:blipFill>
          <a:blip r:embed="rId13"/>
          <a:stretch/>
        </p:blipFill>
        <p:spPr>
          <a:xfrm>
            <a:off x="2771640" y="4869000"/>
            <a:ext cx="1189080" cy="1098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42" descr=""/>
          <p:cNvPicPr/>
          <p:nvPr/>
        </p:nvPicPr>
        <p:blipFill>
          <a:blip r:embed="rId14"/>
          <a:stretch/>
        </p:blipFill>
        <p:spPr>
          <a:xfrm>
            <a:off x="3170160" y="4900680"/>
            <a:ext cx="1182600" cy="1098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3" descr=""/>
          <p:cNvPicPr/>
          <p:nvPr/>
        </p:nvPicPr>
        <p:blipFill>
          <a:blip r:embed="rId15"/>
          <a:stretch/>
        </p:blipFill>
        <p:spPr>
          <a:xfrm>
            <a:off x="4438800" y="5919840"/>
            <a:ext cx="27111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0.01064 L -0.97344 0.01804 E">
                                      <p:cBhvr>
                                        <p:cTn id="465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64 -0.15403 C 0.3868 -0.24792 0.34496 -0.34158 0.28489 -0.3661 C 0.22482 -0.39061 0.11545 -0.3617 0.06805 -0.30042 C 0.02066 -0.23913 0.01041 -0.11887 0.00034 0.00162 E">
                                      <p:cBhvr>
                                        <p:cTn id="50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61 -0.25093 C 0.33246 -0.39107 0.29531 -0.53099 0.23489 -0.49214 C 0.17448 -0.45328 0.03611 -0.12488 0.00729 -0.01781 C -0.02153 0.09019 0.03802 0.15333 0.06232 0.15264 C 0.08663 0.15194 0.15173 0.01041 0.15364 -0.02128 C 0.15555 -0.0525 0.09948 -0.04001 0.07395 -0.03654 C 0.04843 -0.03307 0.02413 -0.01688 3.61111E-006 4.90287E-007 E">
                                      <p:cBhvr>
                                        <p:cTn id="51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357440" y="1428840"/>
            <a:ext cx="397188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жды, прогуливаясь  осенним утром, ежик прошел  600 м, причем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 своего пути, он  прошел  уже после того, как  туман рассеялся. Какое расстояние  прошел еж  в тума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Содержимое 4" descr="avatar283.gif"/>
          <p:cNvPicPr/>
          <p:nvPr/>
        </p:nvPicPr>
        <p:blipFill>
          <a:blip r:embed="rId2"/>
          <a:stretch/>
        </p:blipFill>
        <p:spPr>
          <a:xfrm>
            <a:off x="642960" y="2021040"/>
            <a:ext cx="2786040" cy="3506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ыбери себе настроение, которое было у тебя на уро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1676520" cy="15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1828800"/>
            <a:ext cx="157176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120" y="40006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62520" y="4433760"/>
            <a:ext cx="1676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 снова 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Вкусно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озьми мандарин или апельс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Раздели его на дольки, посчитайте, сколько всего долек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гости своих родных и не забудь записать, какую часть фрукта получил каждый, и какая часть досталась теб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оставь 4 неравенства и зада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4572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, всем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Внимание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708280"/>
            <a:ext cx="1792080" cy="1441440"/>
          </a:xfrm>
          <a:prstGeom prst="rightArrow">
            <a:avLst>
              <a:gd name="adj1" fmla="val 50000"/>
              <a:gd name="adj2" fmla="val 3108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21000"/>
            <a:ext cx="1656000" cy="165564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2637000"/>
            <a:ext cx="1656000" cy="158400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349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852640"/>
            <a:ext cx="1863720" cy="1297080"/>
          </a:xfrm>
          <a:prstGeom prst="rightArrow">
            <a:avLst>
              <a:gd name="adj1" fmla="val 50000"/>
              <a:gd name="adj2" fmla="val 3592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781360"/>
            <a:ext cx="1655640" cy="158256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781360"/>
            <a:ext cx="1729080" cy="158436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2565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" descr="C:\Documents and Settings\Admin\Мои документы\Мои рисунки\apels31.jpg"/>
          <p:cNvPicPr/>
          <p:nvPr/>
        </p:nvPicPr>
        <p:blipFill>
          <a:blip r:embed="rId2"/>
          <a:stretch/>
        </p:blipFill>
        <p:spPr>
          <a:xfrm>
            <a:off x="539640" y="54936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780000" y="2349360"/>
            <a:ext cx="4392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об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думай и отве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2467080" cy="11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1676160" cy="136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95200" cy="120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8"/>
          <a:stretch/>
        </p:blipFill>
        <p:spPr>
          <a:xfrm>
            <a:off x="5292720" y="1916280"/>
            <a:ext cx="428760" cy="93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9"/>
          <a:stretch/>
        </p:blipFill>
        <p:spPr>
          <a:xfrm>
            <a:off x="7740720" y="227664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10"/>
          <a:stretch/>
        </p:blipFill>
        <p:spPr>
          <a:xfrm>
            <a:off x="1979640" y="3716280"/>
            <a:ext cx="342720" cy="8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4788000" y="3716280"/>
            <a:ext cx="4093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2"/>
          <a:stretch/>
        </p:blipFill>
        <p:spPr>
          <a:xfrm>
            <a:off x="8172360" y="3716280"/>
            <a:ext cx="371520" cy="90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"/>
          <p:cNvPicPr/>
          <p:nvPr/>
        </p:nvPicPr>
        <p:blipFill>
          <a:blip r:embed="rId13"/>
          <a:stretch/>
        </p:blipFill>
        <p:spPr>
          <a:xfrm>
            <a:off x="2195640" y="2133720"/>
            <a:ext cx="36036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img2" descr="Рис. 2"/>
          <p:cNvPicPr/>
          <p:nvPr/>
        </p:nvPicPr>
        <p:blipFill>
          <a:blip r:embed="rId14"/>
          <a:stretch/>
        </p:blipFill>
        <p:spPr>
          <a:xfrm>
            <a:off x="2916360" y="5229360"/>
            <a:ext cx="1800000" cy="13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54936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ите 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вочки                                                          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рядке возрастания               в порядке убывания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4000" y="2637000"/>
                <a:ext cx="8496000" cy="18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47636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522936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ерь себя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26920" y="595008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возраст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00000" y="1413000"/>
                <a:ext cx="7128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1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убы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71640" y="4626000"/>
                <a:ext cx="71294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09999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999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алее 29"/>
          <p:cNvSpPr/>
          <p:nvPr/>
        </p:nvSpPr>
        <p:spPr>
          <a:xfrm>
            <a:off x="8101080" y="609300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3794"/>
                </a:moveTo>
                <a:lnTo>
                  <a:pt x="21392" y="10800"/>
                </a:lnTo>
                <a:lnTo>
                  <a:pt x="7379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32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9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57880" y="2786040"/>
            <a:ext cx="2539800" cy="107172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Admin\Мои документы\Мои рисунки\kolokol07.jpg"/>
          <p:cNvPicPr/>
          <p:nvPr/>
        </p:nvPicPr>
        <p:blipFill>
          <a:blip r:embed="rId3"/>
          <a:stretch/>
        </p:blipFill>
        <p:spPr>
          <a:xfrm>
            <a:off x="1785960" y="264312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рисунки\kolokol07.jpg"/>
          <p:cNvPicPr/>
          <p:nvPr/>
        </p:nvPicPr>
        <p:blipFill>
          <a:blip r:embed="rId4"/>
          <a:stretch/>
        </p:blipFill>
        <p:spPr>
          <a:xfrm>
            <a:off x="1000080" y="328608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\Мои документы\Мои рисунки\kolokol07.jpg"/>
          <p:cNvPicPr/>
          <p:nvPr/>
        </p:nvPicPr>
        <p:blipFill>
          <a:blip r:embed="rId5"/>
          <a:stretch/>
        </p:blipFill>
        <p:spPr>
          <a:xfrm>
            <a:off x="2500200" y="321480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Мои документы\Мои рисунки\kolokol07.jpg"/>
          <p:cNvPicPr/>
          <p:nvPr/>
        </p:nvPicPr>
        <p:blipFill>
          <a:blip r:embed="rId6"/>
          <a:stretch/>
        </p:blipFill>
        <p:spPr>
          <a:xfrm>
            <a:off x="285840" y="2500200"/>
            <a:ext cx="1008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30"/>
          <p:cNvGrpSpPr/>
          <p:nvPr/>
        </p:nvGrpSpPr>
        <p:grpSpPr>
          <a:xfrm>
            <a:off x="714240" y="357120"/>
            <a:ext cx="3436920" cy="2286000"/>
            <a:chOff x="714240" y="357120"/>
            <a:chExt cx="3436920" cy="2286000"/>
          </a:xfrm>
        </p:grpSpPr>
        <p:pic>
          <p:nvPicPr>
            <p:cNvPr id="165" name="Picture 4" descr="C:\Documents and Settings\Admin\Мои документы\Мои рисунки\kolokol07.jpg"/>
            <p:cNvPicPr/>
            <p:nvPr/>
          </p:nvPicPr>
          <p:blipFill>
            <a:blip r:embed="rId7"/>
            <a:stretch/>
          </p:blipFill>
          <p:spPr>
            <a:xfrm>
              <a:off x="714240" y="13572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Мои документы\Мои рисунки\kolokol07.jpg"/>
            <p:cNvPicPr/>
            <p:nvPr/>
          </p:nvPicPr>
          <p:blipFill>
            <a:blip r:embed="rId8"/>
            <a:stretch/>
          </p:blipFill>
          <p:spPr>
            <a:xfrm>
              <a:off x="1642680" y="357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" descr="C:\Documents and Settings\Admin\Мои документы\Мои рисунки\kolokol07.jpg"/>
            <p:cNvPicPr/>
            <p:nvPr/>
          </p:nvPicPr>
          <p:blipFill>
            <a:blip r:embed="rId9"/>
            <a:stretch/>
          </p:blipFill>
          <p:spPr>
            <a:xfrm>
              <a:off x="3143160" y="7855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C:\Documents and Settings\Admin\Мои документы\Мои рисунки\kolokol07.jpg"/>
            <p:cNvPicPr/>
            <p:nvPr/>
          </p:nvPicPr>
          <p:blipFill>
            <a:blip r:embed="rId10"/>
            <a:stretch/>
          </p:blipFill>
          <p:spPr>
            <a:xfrm>
              <a:off x="2000160" y="1500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29"/>
          <p:cNvGrpSpPr/>
          <p:nvPr/>
        </p:nvGrpSpPr>
        <p:grpSpPr>
          <a:xfrm>
            <a:off x="785880" y="4500720"/>
            <a:ext cx="4079880" cy="1928520"/>
            <a:chOff x="785880" y="4500720"/>
            <a:chExt cx="4079880" cy="1928520"/>
          </a:xfrm>
        </p:grpSpPr>
        <p:pic>
          <p:nvPicPr>
            <p:cNvPr id="170" name="Picture 4" descr="C:\Documents and Settings\Admin\Мои документы\Мои рисунки\kolokol07.jpg"/>
            <p:cNvPicPr/>
            <p:nvPr/>
          </p:nvPicPr>
          <p:blipFill>
            <a:blip r:embed="rId11"/>
            <a:stretch/>
          </p:blipFill>
          <p:spPr>
            <a:xfrm>
              <a:off x="78588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C:\Documents and Settings\Admin\Мои документы\Мои рисунки\kolokol07.jpg"/>
            <p:cNvPicPr/>
            <p:nvPr/>
          </p:nvPicPr>
          <p:blipFill>
            <a:blip r:embed="rId12"/>
            <a:stretch/>
          </p:blipFill>
          <p:spPr>
            <a:xfrm>
              <a:off x="2500200" y="45007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Documents and Settings\Admin\Мои документы\Мои рисунки\kolokol07.jpg"/>
            <p:cNvPicPr/>
            <p:nvPr/>
          </p:nvPicPr>
          <p:blipFill>
            <a:blip r:embed="rId13"/>
            <a:stretch/>
          </p:blipFill>
          <p:spPr>
            <a:xfrm>
              <a:off x="385776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C:\Documents and Settings\Admin\Мои документы\Мои рисунки\kolokol07.jpg"/>
            <p:cNvPicPr/>
            <p:nvPr/>
          </p:nvPicPr>
          <p:blipFill>
            <a:blip r:embed="rId14"/>
            <a:stretch/>
          </p:blipFill>
          <p:spPr>
            <a:xfrm>
              <a:off x="1714320" y="528624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38"/>
          <p:cNvSpPr/>
          <p:nvPr/>
        </p:nvSpPr>
        <p:spPr>
          <a:xfrm>
            <a:off x="7786800" y="28576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23:23Z</dcterms:created>
  <dc:creator>Admin</dc:creator>
  <dc:description/>
  <dc:language>en-US</dc:language>
  <cp:lastModifiedBy>Admin</cp:lastModifiedBy>
  <dcterms:modified xsi:type="dcterms:W3CDTF">2012-04-20T09:16:53Z</dcterms:modified>
  <cp:revision>38</cp:revision>
  <dc:subject/>
  <dc:title>Слайд 1</dc:title>
</cp:coreProperties>
</file>