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gif" ContentType="image/gif"/>
  <Override PartName="/ppt/media/image16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2.gif" ContentType="image/gif"/>
  <Override PartName="/ppt/media/image15.png" ContentType="image/png"/>
  <Override PartName="/ppt/media/image41.png" ContentType="image/png"/>
  <Override PartName="/ppt/media/image31.gif" ContentType="image/gif"/>
  <Override PartName="/ppt/media/image29.gif" ContentType="image/gif"/>
  <Override PartName="/ppt/media/image39.png" ContentType="image/png"/>
  <Override PartName="/ppt/media/image9.png" ContentType="image/png"/>
  <Override PartName="/ppt/media/image46.gif" ContentType="image/gif"/>
  <Override PartName="/ppt/media/image33.png" ContentType="image/png"/>
  <Override PartName="/ppt/media/image30.wmf" ContentType="image/x-wmf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0.png" ContentType="image/png"/>
  <Override PartName="/ppt/media/image49.gif" ContentType="image/gif"/>
  <Override PartName="/ppt/media/image8.png" ContentType="image/png"/>
  <Override PartName="/ppt/media/image38.png" ContentType="image/png"/>
  <Override PartName="/ppt/media/image45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12E-2271-4A60-AFDC-902F93A72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67D-9143-45F6-B2F9-48788D8B92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B114-100B-4F6F-B633-AFE2B27185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092-F804-49AF-87B7-0BB68C95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F42-07C2-4EF3-B45E-081893A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1FC-67B1-4D86-A5FC-A6ED3B4F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4A9-CDBC-451F-9FD9-CCF685C7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036-71C1-4EBB-A283-98712D4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96D9-0054-4193-817D-50DD12D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CC06-7310-4A86-A6DE-121B9DBA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9FF8-0B30-4A9F-B583-59465A5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2485-7020-430F-8A2C-007D81A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D90B-B97C-429F-84DB-331DE10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9CA-CC57-4DE1-8E7E-E46CFB7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53B-1E84-4AB0-94F1-F9712F4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41E-63B3-4CEF-8114-2490EFE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80D-572B-4989-8462-2DD83C7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4F3B-4039-46A2-8DD3-D7F0A35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F358-D3F1-4F3A-9895-D14E9638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F2C3-FEE3-4D13-8D58-0EC43D95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0D6-F9DD-4932-9C8C-188CD51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5A3-5E59-498E-9F86-D77618F8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F12-6DD6-4076-B2E5-5B0AB6F9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62A-CFFD-4AAA-942D-A5DBC65F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898-E234-4BD3-87CD-0E58F96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D03-DFD4-4DC9-9A42-91EA2A6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0F-AB91-4C7D-9391-4E50F9E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2BA-61B6-4EF7-8096-C9C1F06DD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9382-1E0A-4638-8AE4-709DD31DC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«Тот, кто учится самостоятельно, преуспевает в семь раз больше, чем тот, которому все объяснил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(Артур Гитерман,           немецкий поэ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Группа 46"/>
          <p:cNvGrpSpPr/>
          <p:nvPr/>
        </p:nvGrpSpPr>
        <p:grpSpPr>
          <a:xfrm>
            <a:off x="3286080" y="2286000"/>
            <a:ext cx="2071800" cy="1071720"/>
            <a:chOff x="3286080" y="2286000"/>
            <a:chExt cx="2071800" cy="1071720"/>
          </a:xfrm>
        </p:grpSpPr>
        <p:pic>
          <p:nvPicPr>
            <p:cNvPr id="176" name="Picture 9" descr="C:\Documents and Settings\Admin\Мои документы\Мои рисунки\91.gif"/>
            <p:cNvPicPr/>
            <p:nvPr/>
          </p:nvPicPr>
          <p:blipFill>
            <a:blip r:embed="rId2"/>
            <a:stretch/>
          </p:blipFill>
          <p:spPr>
            <a:xfrm>
              <a:off x="3286080" y="2357280"/>
              <a:ext cx="100008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Documents and Settings\Admin\Мои документы\Мои рисунки\91.gif"/>
            <p:cNvPicPr/>
            <p:nvPr/>
          </p:nvPicPr>
          <p:blipFill>
            <a:blip r:embed="rId3"/>
            <a:stretch/>
          </p:blipFill>
          <p:spPr>
            <a:xfrm>
              <a:off x="4357800" y="2286000"/>
              <a:ext cx="100008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45"/>
          <p:cNvGrpSpPr/>
          <p:nvPr/>
        </p:nvGrpSpPr>
        <p:grpSpPr>
          <a:xfrm>
            <a:off x="4429080" y="3857760"/>
            <a:ext cx="2089080" cy="1214280"/>
            <a:chOff x="4429080" y="3857760"/>
            <a:chExt cx="2089080" cy="1214280"/>
          </a:xfrm>
        </p:grpSpPr>
        <p:pic>
          <p:nvPicPr>
            <p:cNvPr id="179" name="Picture 11" descr="C:\Documents and Settings\Admin\Мои документы\Мои рисунки\91.gif"/>
            <p:cNvPicPr/>
            <p:nvPr/>
          </p:nvPicPr>
          <p:blipFill>
            <a:blip r:embed="rId4"/>
            <a:stretch/>
          </p:blipFill>
          <p:spPr>
            <a:xfrm>
              <a:off x="4429080" y="3857760"/>
              <a:ext cx="106668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Documents and Settings\Admin\Мои документы\Мои рисунки\91.gif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0890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43"/>
          <p:cNvGrpSpPr/>
          <p:nvPr/>
        </p:nvGrpSpPr>
        <p:grpSpPr>
          <a:xfrm>
            <a:off x="5715000" y="2500200"/>
            <a:ext cx="1857240" cy="1071720"/>
            <a:chOff x="5715000" y="2500200"/>
            <a:chExt cx="1857240" cy="1071720"/>
          </a:xfrm>
        </p:grpSpPr>
        <p:pic>
          <p:nvPicPr>
            <p:cNvPr id="182" name="Picture 13" descr="C:\Documents and Settings\Admin\Мои документы\Мои рисунки\91.gif"/>
            <p:cNvPicPr/>
            <p:nvPr/>
          </p:nvPicPr>
          <p:blipFill>
            <a:blip r:embed="rId6"/>
            <a:stretch/>
          </p:blipFill>
          <p:spPr>
            <a:xfrm>
              <a:off x="5715000" y="2500200"/>
              <a:ext cx="928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C:\Documents and Settings\Admin\Мои документы\Мои рисунки\91.gif"/>
            <p:cNvPicPr/>
            <p:nvPr/>
          </p:nvPicPr>
          <p:blipFill>
            <a:blip r:embed="rId7"/>
            <a:stretch/>
          </p:blipFill>
          <p:spPr>
            <a:xfrm>
              <a:off x="6715080" y="2571480"/>
              <a:ext cx="85716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44"/>
          <p:cNvGrpSpPr/>
          <p:nvPr/>
        </p:nvGrpSpPr>
        <p:grpSpPr>
          <a:xfrm>
            <a:off x="5572080" y="928800"/>
            <a:ext cx="1957320" cy="1143000"/>
            <a:chOff x="5572080" y="928800"/>
            <a:chExt cx="1957320" cy="1143000"/>
          </a:xfrm>
        </p:grpSpPr>
        <p:pic>
          <p:nvPicPr>
            <p:cNvPr id="185" name="Picture 14" descr="C:\Documents and Settings\Admin\Мои документы\Мои рисунки\91.gif"/>
            <p:cNvPicPr/>
            <p:nvPr/>
          </p:nvPicPr>
          <p:blipFill>
            <a:blip r:embed="rId8"/>
            <a:stretch/>
          </p:blipFill>
          <p:spPr>
            <a:xfrm>
              <a:off x="5572080" y="1000080"/>
              <a:ext cx="933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C:\Documents and Settings\Admin\Мои документы\Мои рисунки\91.gif"/>
            <p:cNvPicPr/>
            <p:nvPr/>
          </p:nvPicPr>
          <p:blipFill>
            <a:blip r:embed="rId9"/>
            <a:stretch/>
          </p:blipFill>
          <p:spPr>
            <a:xfrm>
              <a:off x="6643440" y="928800"/>
              <a:ext cx="885960" cy="106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168560" y="4786200"/>
            <a:ext cx="2949480" cy="132084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786120" y="500076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2 -0.01619 L 0.13577 -0.01619 E">
                                      <p:cBhvr>
                                        <p:cTn id="435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7724 L -0.01198 0.13252 E">
                                      <p:cBhvr>
                                        <p:cTn id="437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8575E-006 L -0.00781 -0.09181 E">
                                      <p:cBhvr>
                                        <p:cTn id="439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0578 L -0.11424 -0.00578 E">
                                      <p:cBhvr>
                                        <p:cTn id="441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Admin\Мои документы\Мои рисунки\h020.gif"/>
          <p:cNvPicPr/>
          <p:nvPr/>
        </p:nvPicPr>
        <p:blipFill>
          <a:blip r:embed="rId2"/>
          <a:stretch/>
        </p:blipFill>
        <p:spPr>
          <a:xfrm>
            <a:off x="7500960" y="3571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92" name="Группа 19"/>
          <p:cNvGrpSpPr/>
          <p:nvPr/>
        </p:nvGrpSpPr>
        <p:grpSpPr>
          <a:xfrm>
            <a:off x="928440" y="1999440"/>
            <a:ext cx="7358400" cy="2160"/>
            <a:chOff x="928440" y="1999440"/>
            <a:chExt cx="7358400" cy="2160"/>
          </a:xfrm>
        </p:grpSpPr>
        <p:cxnSp>
          <p:nvCxnSpPr>
            <p:cNvPr id="193" name="Прямая со стрелкой 4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4" name="Прямая со стрелкой 14"/>
            <p:cNvCxnSpPr/>
            <p:nvPr/>
          </p:nvCxnSpPr>
          <p:spPr>
            <a:xfrm flipH="1" flipV="1">
              <a:off x="221436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5" name="Прямая со стрелкой 15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6" name="Прямая со стрелкой 16"/>
            <p:cNvCxnSpPr/>
            <p:nvPr/>
          </p:nvCxnSpPr>
          <p:spPr>
            <a:xfrm flipH="1" flipV="1">
              <a:off x="45716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7" name="Прямая со стрелкой 17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  <p:cxnSp>
          <p:nvCxnSpPr>
            <p:cNvPr id="198" name="Прямая со стрелкой 18"/>
            <p:cNvCxnSpPr/>
            <p:nvPr/>
          </p:nvCxnSpPr>
          <p:spPr>
            <a:xfrm flipH="1" flipV="1">
              <a:off x="928440" y="1999440"/>
              <a:ext cx="1286640" cy="2520"/>
            </a:xfrm>
            <a:prstGeom prst="straightConnector1">
              <a:avLst/>
            </a:prstGeom>
            <a:ln w="28440">
              <a:solidFill>
                <a:srgbClr val="0d0d0d"/>
              </a:solidFill>
              <a:miter/>
              <a:tailEnd len="med" type="arrow" w="med"/>
            </a:ln>
          </p:spPr>
        </p:cxnSp>
      </p:grpSp>
      <p:cxnSp>
        <p:nvCxnSpPr>
          <p:cNvPr id="199" name="Прямая со стрелкой 29"/>
          <p:cNvCxnSpPr/>
          <p:nvPr/>
        </p:nvCxnSpPr>
        <p:spPr>
          <a:xfrm flipH="1" flipV="1">
            <a:off x="928080" y="1999440"/>
            <a:ext cx="7430040" cy="2520"/>
          </a:xfrm>
          <a:prstGeom prst="straightConnector1">
            <a:avLst/>
          </a:prstGeom>
          <a:ln w="28440">
            <a:solidFill>
              <a:srgbClr val="28a0be"/>
            </a:solidFill>
            <a:miter/>
            <a:tailEnd len="med" type="arrow" w="med"/>
          </a:ln>
        </p:spPr>
      </p:cxnSp>
      <p:sp>
        <p:nvSpPr>
          <p:cNvPr id="200" name="Левая фигурная скобка 34"/>
          <p:cNvSpPr/>
          <p:nvPr/>
        </p:nvSpPr>
        <p:spPr>
          <a:xfrm flipV="1" rot="16200000">
            <a:off x="4142880" y="-1214280"/>
            <a:ext cx="1000080" cy="74293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7429320"/>
              <a:gd name="textAreaBottom" fmla="*/ 7403400 h 74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3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35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054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202" name="Группа 45"/>
          <p:cNvGrpSpPr/>
          <p:nvPr/>
        </p:nvGrpSpPr>
        <p:grpSpPr>
          <a:xfrm>
            <a:off x="826920" y="3789360"/>
            <a:ext cx="7742520" cy="952560"/>
            <a:chOff x="826920" y="3789360"/>
            <a:chExt cx="7742520" cy="952560"/>
          </a:xfrm>
        </p:grpSpPr>
        <p:pic>
          <p:nvPicPr>
            <p:cNvPr id="203" name="Прямоугольник 36" descr=""/>
            <p:cNvPicPr/>
            <p:nvPr/>
          </p:nvPicPr>
          <p:blipFill>
            <a:blip r:embed="rId4"/>
            <a:stretch/>
          </p:blipFill>
          <p:spPr>
            <a:xfrm>
              <a:off x="826920" y="3933360"/>
              <a:ext cx="774252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Группа 44"/>
            <p:cNvGrpSpPr/>
            <p:nvPr/>
          </p:nvGrpSpPr>
          <p:grpSpPr>
            <a:xfrm>
              <a:off x="6614640" y="3789360"/>
              <a:ext cx="359640" cy="952560"/>
              <a:chOff x="6614640" y="3789360"/>
              <a:chExt cx="359640" cy="952560"/>
            </a:xfrm>
          </p:grpSpPr>
          <p:pic>
            <p:nvPicPr>
              <p:cNvPr id="205" name="Прямоугольник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4640" y="3789360"/>
                <a:ext cx="35964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Прямоугольник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14640" y="4222800"/>
                <a:ext cx="35964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Прямая соединительная линия 41"/>
              <p:cNvSpPr/>
              <p:nvPr/>
            </p:nvSpPr>
            <p:spPr>
              <a:xfrm flipH="1">
                <a:off x="6687720" y="4278240"/>
                <a:ext cx="208800" cy="0"/>
              </a:xfrm>
              <a:prstGeom prst="line">
                <a:avLst/>
              </a:prstGeom>
              <a:ln w="25560">
                <a:solidFill>
                  <a:srgbClr val="7d3c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Группа 27"/>
          <p:cNvGrpSpPr/>
          <p:nvPr/>
        </p:nvGrpSpPr>
        <p:grpSpPr>
          <a:xfrm>
            <a:off x="2142720" y="1999440"/>
            <a:ext cx="6144120" cy="2160"/>
            <a:chOff x="2142720" y="1999440"/>
            <a:chExt cx="6144120" cy="2160"/>
          </a:xfrm>
        </p:grpSpPr>
        <p:cxnSp>
          <p:nvCxnSpPr>
            <p:cNvPr id="209" name="Прямая со стрелкой 22"/>
            <p:cNvCxnSpPr/>
            <p:nvPr/>
          </p:nvCxnSpPr>
          <p:spPr>
            <a:xfrm flipH="1" flipV="1">
              <a:off x="342864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23"/>
            <p:cNvCxnSpPr/>
            <p:nvPr/>
          </p:nvCxnSpPr>
          <p:spPr>
            <a:xfrm flipH="1" flipV="1">
              <a:off x="46429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1" name="Прямая со стрелкой 24"/>
            <p:cNvCxnSpPr/>
            <p:nvPr/>
          </p:nvCxnSpPr>
          <p:spPr>
            <a:xfrm flipH="1" flipV="1">
              <a:off x="578628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2" name="Прямая со стрелкой 25"/>
            <p:cNvCxnSpPr/>
            <p:nvPr/>
          </p:nvCxnSpPr>
          <p:spPr>
            <a:xfrm flipH="1" flipV="1">
              <a:off x="700056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  <p:cxnSp>
          <p:nvCxnSpPr>
            <p:cNvPr id="213" name="Прямая со стрелкой 26"/>
            <p:cNvCxnSpPr/>
            <p:nvPr/>
          </p:nvCxnSpPr>
          <p:spPr>
            <a:xfrm flipH="1" flipV="1">
              <a:off x="2142720" y="1999440"/>
              <a:ext cx="1286640" cy="2520"/>
            </a:xfrm>
            <a:prstGeom prst="straightConnector1">
              <a:avLst/>
            </a:prstGeom>
            <a:ln w="38160">
              <a:solidFill>
                <a:srgbClr val="a3171e"/>
              </a:solidFill>
              <a:miter/>
              <a:tailEnd len="med" type="triangle" w="med"/>
            </a:ln>
          </p:spPr>
        </p:cxnSp>
      </p:grpSp>
      <p:pic>
        <p:nvPicPr>
          <p:cNvPr id="214" name="Прямоугольник 50" descr=""/>
          <p:cNvPicPr/>
          <p:nvPr/>
        </p:nvPicPr>
        <p:blipFill>
          <a:blip r:embed="rId7"/>
          <a:stretch/>
        </p:blipFill>
        <p:spPr>
          <a:xfrm>
            <a:off x="2992320" y="4705200"/>
            <a:ext cx="513000" cy="536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1" descr=""/>
          <p:cNvPicPr/>
          <p:nvPr/>
        </p:nvPicPr>
        <p:blipFill>
          <a:blip r:embed="rId8"/>
          <a:stretch/>
        </p:blipFill>
        <p:spPr>
          <a:xfrm>
            <a:off x="3706920" y="4900680"/>
            <a:ext cx="2797200" cy="1098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1" descr=""/>
          <p:cNvPicPr/>
          <p:nvPr/>
        </p:nvPicPr>
        <p:blipFill>
          <a:blip r:embed="rId9"/>
          <a:stretch/>
        </p:blipFill>
        <p:spPr>
          <a:xfrm>
            <a:off x="420840" y="4370400"/>
            <a:ext cx="2157120" cy="5857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2" descr=""/>
          <p:cNvPicPr/>
          <p:nvPr/>
        </p:nvPicPr>
        <p:blipFill>
          <a:blip r:embed="rId10"/>
          <a:stretch/>
        </p:blipFill>
        <p:spPr>
          <a:xfrm>
            <a:off x="963720" y="4900680"/>
            <a:ext cx="1724040" cy="1098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3" descr=""/>
          <p:cNvPicPr/>
          <p:nvPr/>
        </p:nvPicPr>
        <p:blipFill>
          <a:blip r:embed="rId11"/>
          <a:stretch/>
        </p:blipFill>
        <p:spPr>
          <a:xfrm>
            <a:off x="1957320" y="4900680"/>
            <a:ext cx="1187640" cy="1098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9" descr=""/>
          <p:cNvPicPr/>
          <p:nvPr/>
        </p:nvPicPr>
        <p:blipFill>
          <a:blip r:embed="rId12"/>
          <a:stretch/>
        </p:blipFill>
        <p:spPr>
          <a:xfrm>
            <a:off x="2438280" y="4754520"/>
            <a:ext cx="102420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40" descr=""/>
          <p:cNvPicPr/>
          <p:nvPr/>
        </p:nvPicPr>
        <p:blipFill>
          <a:blip r:embed="rId13"/>
          <a:stretch/>
        </p:blipFill>
        <p:spPr>
          <a:xfrm>
            <a:off x="2771640" y="4869000"/>
            <a:ext cx="1189080" cy="1098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42" descr=""/>
          <p:cNvPicPr/>
          <p:nvPr/>
        </p:nvPicPr>
        <p:blipFill>
          <a:blip r:embed="rId14"/>
          <a:stretch/>
        </p:blipFill>
        <p:spPr>
          <a:xfrm>
            <a:off x="3170160" y="4900680"/>
            <a:ext cx="1182600" cy="1098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3" descr=""/>
          <p:cNvPicPr/>
          <p:nvPr/>
        </p:nvPicPr>
        <p:blipFill>
          <a:blip r:embed="rId15"/>
          <a:stretch/>
        </p:blipFill>
        <p:spPr>
          <a:xfrm>
            <a:off x="4438800" y="5919840"/>
            <a:ext cx="27111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0.01064 L -0.97344 0.01804 E">
                                      <p:cBhvr>
                                        <p:cTn id="465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64 -0.15403 C 0.3868 -0.24792 0.34496 -0.34158 0.28489 -0.3661 C 0.22482 -0.39061 0.11545 -0.3617 0.06805 -0.30042 C 0.02066 -0.23913 0.01041 -0.11887 0.00034 0.00162 E">
                                      <p:cBhvr>
                                        <p:cTn id="50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61 -0.25093 C 0.33246 -0.39107 0.29531 -0.53099 0.23489 -0.49214 C 0.17448 -0.45328 0.03611 -0.12488 0.00729 -0.01781 C -0.02153 0.09019 0.03802 0.15333 0.06232 0.15264 C 0.08663 0.15194 0.15173 0.01041 0.15364 -0.02128 C 0.15555 -0.0525 0.09948 -0.04001 0.07395 -0.03654 C 0.04843 -0.03307 0.02413 -0.01688 3.61111E-006 4.90287E-007 E">
                                      <p:cBhvr>
                                        <p:cTn id="51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357440" y="1428840"/>
            <a:ext cx="397188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жды, прогуливаясь  осенним утром, ежик прошел  600 м, причем 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 своего пути, он  прошел  уже после того, как  туман рассеялся. Какое расстояние  прошел еж  в тума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Содержимое 4" descr="avatar283.gif"/>
          <p:cNvPicPr/>
          <p:nvPr/>
        </p:nvPicPr>
        <p:blipFill>
          <a:blip r:embed="rId2"/>
          <a:stretch/>
        </p:blipFill>
        <p:spPr>
          <a:xfrm>
            <a:off x="642960" y="2021040"/>
            <a:ext cx="2786040" cy="3506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ыбери себе настроение, которое было у тебя на уро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1676520" cy="15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1828800"/>
            <a:ext cx="157176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120" y="40006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62520" y="4433760"/>
            <a:ext cx="1676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 снова 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Вкусно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озьми мандарин или апельс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Раздели его на дольки, посчитайте, сколько всего долек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гости своих родных и не забудь записать, какую часть фрукта получил каждый, и какая часть досталась теб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оставь 4 неравенства и зада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457200"/>
            <a:ext cx="74678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, всем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Внимание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708280"/>
            <a:ext cx="1792080" cy="1441440"/>
          </a:xfrm>
          <a:prstGeom prst="rightArrow">
            <a:avLst>
              <a:gd name="adj1" fmla="val 50000"/>
              <a:gd name="adj2" fmla="val 3108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21000"/>
            <a:ext cx="1656000" cy="165564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2637000"/>
            <a:ext cx="1656000" cy="158400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349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852640"/>
            <a:ext cx="1863720" cy="1297080"/>
          </a:xfrm>
          <a:prstGeom prst="rightArrow">
            <a:avLst>
              <a:gd name="adj1" fmla="val 50000"/>
              <a:gd name="adj2" fmla="val 35921"/>
            </a:avLst>
          </a:prstGeom>
          <a:solidFill>
            <a:srgbClr val="2936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781360"/>
            <a:ext cx="1655640" cy="1582560"/>
          </a:xfrm>
          <a:prstGeom prst="smileyFace">
            <a:avLst>
              <a:gd name="adj" fmla="val 9282"/>
            </a:avLst>
          </a:prstGeom>
          <a:solidFill>
            <a:srgbClr val="63c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781360"/>
            <a:ext cx="1729080" cy="1584360"/>
          </a:xfrm>
          <a:prstGeom prst="donut">
            <a:avLst>
              <a:gd name="adj" fmla="val 25000"/>
            </a:avLst>
          </a:prstGeom>
          <a:solidFill>
            <a:srgbClr val="43b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2565360"/>
            <a:ext cx="1368360" cy="2087640"/>
          </a:xfrm>
          <a:prstGeom prst="flowChartCollate">
            <a:avLst/>
          </a:prstGeom>
          <a:solidFill>
            <a:srgbClr val="e422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" descr="C:\Documents and Settings\Admin\Мои документы\Мои рисунки\apels31.jpg"/>
          <p:cNvPicPr/>
          <p:nvPr/>
        </p:nvPicPr>
        <p:blipFill>
          <a:blip r:embed="rId2"/>
          <a:stretch/>
        </p:blipFill>
        <p:spPr>
          <a:xfrm>
            <a:off x="539640" y="54936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780000" y="2349360"/>
            <a:ext cx="4392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об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думай и отве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2467080" cy="11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1676160" cy="136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95200" cy="120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8"/>
          <a:stretch/>
        </p:blipFill>
        <p:spPr>
          <a:xfrm>
            <a:off x="5292720" y="1916280"/>
            <a:ext cx="428760" cy="93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9"/>
          <a:stretch/>
        </p:blipFill>
        <p:spPr>
          <a:xfrm>
            <a:off x="7740720" y="227664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10"/>
          <a:stretch/>
        </p:blipFill>
        <p:spPr>
          <a:xfrm>
            <a:off x="1979640" y="3716280"/>
            <a:ext cx="342720" cy="8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4788000" y="3716280"/>
            <a:ext cx="4093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2"/>
          <a:stretch/>
        </p:blipFill>
        <p:spPr>
          <a:xfrm>
            <a:off x="8172360" y="3716280"/>
            <a:ext cx="371520" cy="90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"/>
          <p:cNvPicPr/>
          <p:nvPr/>
        </p:nvPicPr>
        <p:blipFill>
          <a:blip r:embed="rId13"/>
          <a:stretch/>
        </p:blipFill>
        <p:spPr>
          <a:xfrm>
            <a:off x="2195640" y="2133720"/>
            <a:ext cx="36036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img2" descr="Рис. 2"/>
          <p:cNvPicPr/>
          <p:nvPr/>
        </p:nvPicPr>
        <p:blipFill>
          <a:blip r:embed="rId14"/>
          <a:stretch/>
        </p:blipFill>
        <p:spPr>
          <a:xfrm>
            <a:off x="2916360" y="5229360"/>
            <a:ext cx="1800000" cy="139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54936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ите др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вочки                                                          Маль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рядке возрастания               в порядке убывания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4000" y="2637000"/>
                <a:ext cx="8496000" cy="18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47636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522936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ерь себя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4653000"/>
            <a:ext cx="1008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0d1a0"/>
              </a:gs>
              <a:gs pos="100000">
                <a:srgbClr val="008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26920" y="595008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возраст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00000" y="1413000"/>
                <a:ext cx="7128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1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порядке убы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71640" y="4626000"/>
                <a:ext cx="71294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3794"/>
                </a:moveTo>
                <a:lnTo>
                  <a:pt x="35009" y="10800"/>
                </a:lnTo>
                <a:lnTo>
                  <a:pt x="209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009999"/>
              </a:gs>
            </a:gsLst>
            <a:lin ang="4848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999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2b5481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алее 29"/>
          <p:cNvSpPr/>
          <p:nvPr/>
        </p:nvSpPr>
        <p:spPr>
          <a:xfrm>
            <a:off x="8101080" y="6093000"/>
            <a:ext cx="718920" cy="539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8771" h="21600">
                <a:moveTo>
                  <a:pt x="0" y="0"/>
                </a:moveTo>
                <a:lnTo>
                  <a:pt x="28771" y="0"/>
                </a:lnTo>
                <a:lnTo>
                  <a:pt x="28771" y="21600"/>
                </a:lnTo>
                <a:lnTo>
                  <a:pt x="0" y="21600"/>
                </a:lnTo>
                <a:close/>
              </a:path>
              <a:path fill="lightenLess" w="28771" h="21600">
                <a:moveTo>
                  <a:pt x="0" y="0"/>
                </a:moveTo>
                <a:lnTo>
                  <a:pt x="28771" y="0"/>
                </a:lnTo>
                <a:lnTo>
                  <a:pt x="27371" y="1400"/>
                </a:lnTo>
                <a:lnTo>
                  <a:pt x="1400" y="1400"/>
                </a:lnTo>
                <a:close/>
              </a:path>
              <a:path fill="darken" w="28771" h="21600">
                <a:moveTo>
                  <a:pt x="28771" y="0"/>
                </a:moveTo>
                <a:lnTo>
                  <a:pt x="28771" y="21600"/>
                </a:lnTo>
                <a:lnTo>
                  <a:pt x="27371" y="20200"/>
                </a:lnTo>
                <a:lnTo>
                  <a:pt x="27371" y="1400"/>
                </a:lnTo>
                <a:close/>
              </a:path>
              <a:path fill="darkenLess" w="28771" h="21600">
                <a:moveTo>
                  <a:pt x="28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1" y="20200"/>
                </a:lnTo>
                <a:close/>
              </a:path>
              <a:path fill="lighten" w="28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1" h="21600">
                <a:moveTo>
                  <a:pt x="7379" y="3794"/>
                </a:moveTo>
                <a:lnTo>
                  <a:pt x="21392" y="10800"/>
                </a:lnTo>
                <a:lnTo>
                  <a:pt x="7379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32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9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57880" y="2786040"/>
            <a:ext cx="2539800" cy="107172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Д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Admin\Мои документы\Мои рисунки\kolokol07.jpg"/>
          <p:cNvPicPr/>
          <p:nvPr/>
        </p:nvPicPr>
        <p:blipFill>
          <a:blip r:embed="rId3"/>
          <a:stretch/>
        </p:blipFill>
        <p:spPr>
          <a:xfrm>
            <a:off x="1785960" y="264312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рисунки\kolokol07.jpg"/>
          <p:cNvPicPr/>
          <p:nvPr/>
        </p:nvPicPr>
        <p:blipFill>
          <a:blip r:embed="rId4"/>
          <a:stretch/>
        </p:blipFill>
        <p:spPr>
          <a:xfrm>
            <a:off x="1000080" y="328608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\Мои документы\Мои рисунки\kolokol07.jpg"/>
          <p:cNvPicPr/>
          <p:nvPr/>
        </p:nvPicPr>
        <p:blipFill>
          <a:blip r:embed="rId5"/>
          <a:stretch/>
        </p:blipFill>
        <p:spPr>
          <a:xfrm>
            <a:off x="2500200" y="321480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Мои документы\Мои рисунки\kolokol07.jpg"/>
          <p:cNvPicPr/>
          <p:nvPr/>
        </p:nvPicPr>
        <p:blipFill>
          <a:blip r:embed="rId6"/>
          <a:stretch/>
        </p:blipFill>
        <p:spPr>
          <a:xfrm>
            <a:off x="285840" y="2500200"/>
            <a:ext cx="1008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30"/>
          <p:cNvGrpSpPr/>
          <p:nvPr/>
        </p:nvGrpSpPr>
        <p:grpSpPr>
          <a:xfrm>
            <a:off x="714240" y="357120"/>
            <a:ext cx="3436920" cy="2286000"/>
            <a:chOff x="714240" y="357120"/>
            <a:chExt cx="3436920" cy="2286000"/>
          </a:xfrm>
        </p:grpSpPr>
        <p:pic>
          <p:nvPicPr>
            <p:cNvPr id="165" name="Picture 4" descr="C:\Documents and Settings\Admin\Мои документы\Мои рисунки\kolokol07.jpg"/>
            <p:cNvPicPr/>
            <p:nvPr/>
          </p:nvPicPr>
          <p:blipFill>
            <a:blip r:embed="rId7"/>
            <a:stretch/>
          </p:blipFill>
          <p:spPr>
            <a:xfrm>
              <a:off x="714240" y="13572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C:\Documents and Settings\Admin\Мои документы\Мои рисунки\kolokol07.jpg"/>
            <p:cNvPicPr/>
            <p:nvPr/>
          </p:nvPicPr>
          <p:blipFill>
            <a:blip r:embed="rId8"/>
            <a:stretch/>
          </p:blipFill>
          <p:spPr>
            <a:xfrm>
              <a:off x="1642680" y="357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" descr="C:\Documents and Settings\Admin\Мои документы\Мои рисунки\kolokol07.jpg"/>
            <p:cNvPicPr/>
            <p:nvPr/>
          </p:nvPicPr>
          <p:blipFill>
            <a:blip r:embed="rId9"/>
            <a:stretch/>
          </p:blipFill>
          <p:spPr>
            <a:xfrm>
              <a:off x="3143160" y="7855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C:\Documents and Settings\Admin\Мои документы\Мои рисунки\kolokol07.jpg"/>
            <p:cNvPicPr/>
            <p:nvPr/>
          </p:nvPicPr>
          <p:blipFill>
            <a:blip r:embed="rId10"/>
            <a:stretch/>
          </p:blipFill>
          <p:spPr>
            <a:xfrm>
              <a:off x="2000160" y="150012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29"/>
          <p:cNvGrpSpPr/>
          <p:nvPr/>
        </p:nvGrpSpPr>
        <p:grpSpPr>
          <a:xfrm>
            <a:off x="785880" y="4500720"/>
            <a:ext cx="4079880" cy="1928520"/>
            <a:chOff x="785880" y="4500720"/>
            <a:chExt cx="4079880" cy="1928520"/>
          </a:xfrm>
        </p:grpSpPr>
        <p:pic>
          <p:nvPicPr>
            <p:cNvPr id="170" name="Picture 4" descr="C:\Documents and Settings\Admin\Мои документы\Мои рисунки\kolokol07.jpg"/>
            <p:cNvPicPr/>
            <p:nvPr/>
          </p:nvPicPr>
          <p:blipFill>
            <a:blip r:embed="rId11"/>
            <a:stretch/>
          </p:blipFill>
          <p:spPr>
            <a:xfrm>
              <a:off x="78588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C:\Documents and Settings\Admin\Мои документы\Мои рисунки\kolokol07.jpg"/>
            <p:cNvPicPr/>
            <p:nvPr/>
          </p:nvPicPr>
          <p:blipFill>
            <a:blip r:embed="rId12"/>
            <a:stretch/>
          </p:blipFill>
          <p:spPr>
            <a:xfrm>
              <a:off x="2500200" y="450072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Documents and Settings\Admin\Мои документы\Мои рисунки\kolokol07.jpg"/>
            <p:cNvPicPr/>
            <p:nvPr/>
          </p:nvPicPr>
          <p:blipFill>
            <a:blip r:embed="rId13"/>
            <a:stretch/>
          </p:blipFill>
          <p:spPr>
            <a:xfrm>
              <a:off x="3857760" y="4572000"/>
              <a:ext cx="100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C:\Documents and Settings\Admin\Мои документы\Мои рисунки\kolokol07.jpg"/>
            <p:cNvPicPr/>
            <p:nvPr/>
          </p:nvPicPr>
          <p:blipFill>
            <a:blip r:embed="rId14"/>
            <a:stretch/>
          </p:blipFill>
          <p:spPr>
            <a:xfrm>
              <a:off x="1714320" y="5286240"/>
              <a:ext cx="100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38"/>
          <p:cNvSpPr/>
          <p:nvPr/>
        </p:nvSpPr>
        <p:spPr>
          <a:xfrm>
            <a:off x="7786800" y="28576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23:23Z</dcterms:created>
  <dc:creator>Admin</dc:creator>
  <dc:description/>
  <dc:language>en-US</dc:language>
  <cp:lastModifiedBy>Admin</cp:lastModifiedBy>
  <dcterms:modified xsi:type="dcterms:W3CDTF">2012-04-20T09:16:53Z</dcterms:modified>
  <cp:revision>38</cp:revision>
  <dc:subject/>
  <dc:title>Слайд 1</dc:title>
</cp:coreProperties>
</file>