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C9E-561E-4EA3-8D1D-E749D99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1AD-9235-46EB-816D-99BB9651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D4E-514F-43C5-B0AD-995E73E3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E58-45D7-45E6-9E09-11A2CFE4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3F41-F1DC-454F-ACF0-511515C6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3B2-4888-4050-BD58-A9D88E9C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E69-9A05-4817-970E-3F98AA9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782-861F-451D-A97D-6CC5EB4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194-4DB4-4BF8-B7F1-106EAD2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7F5B-B773-4F84-B60C-C8AFD005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F2D0-7516-4F90-A80E-FFE4187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9D4-7841-4638-80F6-A3AD71C2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D65B-495D-4C38-B86B-E45D8F7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5BE-3635-497B-8A84-79D14439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D8A1-0063-43EE-A848-B417FD92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5BC-11DC-47BA-B51E-62C5DBCC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7640-CBB7-487D-940B-A0FDB4A0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981-6A6D-46B0-AF7C-C5D9D3A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1CF-EA7B-4208-B916-CE9C1871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CC1-8957-451E-B627-E5ED38F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3CE-7D3F-4485-A2F9-666B864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050-4FC8-41F2-B3E6-4450195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076-CAD6-450D-981D-7D9C36D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8E7-D8B3-47EA-8B32-C24971C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8A08-EB97-4BA2-AC8B-C06F32858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3EE-2844-4E78-8535-A0712B4E46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3422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ОЕКТ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«Экология души»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809784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оспитатель высшей категории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амае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МБДОУ д/с «Теремок»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г. Ардатов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,Мордовия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Участники проекта: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дети старшей группы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ктуальность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0756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Чтобы избежать неблагоприятного влияния на окружающую среду, не создавать ситуаций опасных для здоровья и жизни современный  человек  должен обладать хотя бы элементарными экологическими знаниями. Опыт показывает, что людей с уже сложившимися взглядами трудно переубедить и перевоспитать. Сформировать человека с новым экологическим типом мышления можно только с раннего детства.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alatino Linotype"/>
              </a:rPr>
              <a:t>Дошкольный возраст является первым звеном в системе непрерывного экологического образования, так как  в этот период закладывается фундамент осознанного отношения  к окружающей действительности, накапливаются яркие , эмоциональные впечатления, которые надолго ( а порой на всю жизнь) остаются в памяти человека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Необходимо максимально использовать данный период времени, ориентированное на приобретение детьми навыков экологической культуры и повышение их экологической грамотности.   Потому что,  будущее нашей Земли зависит от наших поступков.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Цель :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формирование человека нового типа с новым экологическим мышлением, способного осознать последствия своих действий по отношению к окружающей среде и умеющего жить в относительной гармонии с природо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1200" y="1484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Основные  задачи  проек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сформировать представление 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растениях, животных, человеке как живых существ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показать взаимосвязь живых систем с окружающей сред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сформировать осознание того, что все живые существа на Земле связаны друг с другом сложной системой связе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(все друг другу нужны, все друг от друга зависят и исчезновение любого звена нарушает равновесие в природе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-убедить в жизненной необходимости разумного и бережного отношения человека к природе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Линии    развития  личности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физическое развитие  (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формирование здорового образа жизни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познавательное развитие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формирование системы экологических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знаний и представлений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развитие эстетических чувств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умение увидеть и прочувствовать красоту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рироды, восхищаться ею, желание сохранить её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нравственное развитие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воспитание гуманного отношения к природе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 трудовое воспитание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(участие детей в посильной для них деятельности по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уходу за растениями и животными, по охране и защите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рироды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ФОРМЫ И МЕТОДЫ :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Интеграция образовательных областей</a:t>
            </a:r>
            <a:r>
              <a:rPr b="1" i="1" lang="ru-RU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познание (природный мир), коммуникация, художественное творчество, труд, музы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наблюдения за животными и растениями на прогулке и в уголке природ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экскурсии и целевые прогулки по территории д/с (по экотропе) и в природе ( в парк, поле, луг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работа с календарями природ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сбор коллекций семян, камней, листьев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опыты, поисковая деятельность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создание проблемных ситуаций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экологические досуги, праздники, фольклорные вечер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беседы, рассказы, чтение  литературы на экологические тем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дидактические игр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игры с моделям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подвижные игр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диагностика экологической воспитанности детей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- консультативная работа с родителям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Ожидаемые  результаты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56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овышение экологической грамотности , развиваются умственные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способности детей, которые проявляются в умении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экспериментировать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у детей появляется  желание общаться с природой и отражать свои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впечатления через различные виды деятельности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формирование первоначальных основ экологической культуры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дошкольников на основе воспитания осознанного отношения дете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к   природе,  развитие личности неравнодушной, с эмоционально-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ценностным эстетическим отношением к миру, в котором сочетаются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качества нравственности, эстетического вкуса, коммуникативных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навыков, эмпатии, образного мышления, творческих способностей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приходит понимание необходимости  бережного, заботливого и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Palatino Linotype"/>
              </a:rPr>
              <a:t>созидательного  отношения к окружающему миру, предметам  созданным руками человека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08520" indent="-308520">
              <a:spcBef>
                <a:spcPts val="451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247320"/>
            <a:ext cx="79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атериально-техническое обеспечени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ОУ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4" descr="H:\DSCN4766.JPG"/>
          <p:cNvPicPr/>
          <p:nvPr/>
        </p:nvPicPr>
        <p:blipFill>
          <a:blip r:embed="rId1"/>
          <a:stretch/>
        </p:blipFill>
        <p:spPr>
          <a:xfrm>
            <a:off x="5008680" y="928800"/>
            <a:ext cx="1655640" cy="107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:\download (2).jpg"/>
          <p:cNvPicPr/>
          <p:nvPr/>
        </p:nvPicPr>
        <p:blipFill>
          <a:blip r:embed="rId2"/>
          <a:stretch/>
        </p:blipFill>
        <p:spPr>
          <a:xfrm>
            <a:off x="7202520" y="971640"/>
            <a:ext cx="1359000" cy="110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D:\мама\фот\100_6662.jpg"/>
          <p:cNvPicPr/>
          <p:nvPr/>
        </p:nvPicPr>
        <p:blipFill>
          <a:blip r:embed="rId3"/>
          <a:stretch/>
        </p:blipFill>
        <p:spPr>
          <a:xfrm>
            <a:off x="1103400" y="990720"/>
            <a:ext cx="1274760" cy="102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:\мама\фот\100_6655.jpg"/>
          <p:cNvPicPr/>
          <p:nvPr/>
        </p:nvPicPr>
        <p:blipFill>
          <a:blip r:embed="rId4"/>
          <a:stretch/>
        </p:blipFill>
        <p:spPr>
          <a:xfrm>
            <a:off x="3182760" y="928800"/>
            <a:ext cx="1389240" cy="10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6154560"/>
            <a:ext cx="3348000" cy="82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6"/>
          <a:stretch/>
        </p:blipFill>
        <p:spPr>
          <a:xfrm>
            <a:off x="1103400" y="4038480"/>
            <a:ext cx="153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7"/>
          <a:stretch/>
        </p:blipFill>
        <p:spPr>
          <a:xfrm>
            <a:off x="3645000" y="4038480"/>
            <a:ext cx="1477800" cy="1108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8"/>
          <a:stretch/>
        </p:blipFill>
        <p:spPr>
          <a:xfrm>
            <a:off x="6134040" y="3990960"/>
            <a:ext cx="1797120" cy="1155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2883960" y="32446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Методическое обеспечени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Работа по проект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02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определение темы, целей и задач, содержание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сбор необходимой информации и литературы, материала, средст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 реализации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ыявление интересных идей по модернизации дизайна территории детского сад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овлечение родителей в активное эколого-образовательное пространство  детского сад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одержания деятельности всех участников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сновной этап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детьми по перспективному плану проект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оформление выставок на разную тематику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создание развивающей среды на прогулочном участке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тского сада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дпроект : «Детский сад моей мечты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836640"/>
            <a:ext cx="7416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Palatino Linotype"/>
              </a:rPr>
              <a:t>создание нового культурного образа дошкольного учреждения через улучшение дизайна территории детского сада, создание развивающей среды из бросового материала (автопокрышек,пластиковых бутылок,брёвен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324000" y="2046240"/>
            <a:ext cx="1439640" cy="1187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2124000" y="204624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3"/>
          <a:stretch/>
        </p:blipFill>
        <p:spPr>
          <a:xfrm>
            <a:off x="4083120" y="2022480"/>
            <a:ext cx="1357200" cy="1198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tretch/>
        </p:blipFill>
        <p:spPr>
          <a:xfrm>
            <a:off x="5800680" y="2075040"/>
            <a:ext cx="1435320" cy="11444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5"/>
          <a:stretch/>
        </p:blipFill>
        <p:spPr>
          <a:xfrm>
            <a:off x="2252520" y="3516480"/>
            <a:ext cx="1490760" cy="1188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6"/>
          <a:stretch/>
        </p:blipFill>
        <p:spPr>
          <a:xfrm>
            <a:off x="4083120" y="3573360"/>
            <a:ext cx="15206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5:10:52Z</dcterms:created>
  <dc:creator>User</dc:creator>
  <dc:description/>
  <cp:keywords/>
  <dc:language>en-US</dc:language>
  <cp:lastModifiedBy>admin</cp:lastModifiedBy>
  <dcterms:modified xsi:type="dcterms:W3CDTF">2015-08-14T17:41:05Z</dcterms:modified>
  <cp:revision>118</cp:revision>
  <dc:subject/>
  <dc:title>Развитие речевого дыхания у детей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9</vt:lpwstr>
  </property>
</Properties>
</file>