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4A9-1981-49C4-AE4A-9ABEA514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620-2CEC-4E16-9E99-8DE776BC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8CA-6B43-45C6-9DA4-EA70006F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C78-E027-470A-B423-587BDB9C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5854-AACC-42B3-8E61-37EC3781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B917-4F2F-459B-AC4C-1C0F0803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841D-BC5E-4954-90BE-CD5C484F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C4FF-67AD-442E-94B4-823F6EBD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20B5-9C68-4258-B23D-1FA98573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B758-5BF0-4EE6-A32D-266DA59F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9DAB-67EA-410E-BB79-BDAF5EC3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286-43EB-440E-AB0E-AC457E82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CCA2-5CA7-40E0-A1B6-CFCA11F7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720D-6947-4850-8A1E-CABD762E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61FC-C63A-450A-8897-2505BDF2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D049-9119-4D52-BFC2-960AEBF6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2A29-F935-475D-9AF4-2042D606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6ED-1F93-4818-882A-0141522F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DCB-4C5F-49B8-9B45-2CFB0015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D55-7641-44F7-8971-F855EACB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D70-0126-424E-AD4E-A70EEAA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8DC-AEA7-49EA-A04F-0792332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CA7-CDBA-4467-A142-B3FCE3C8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06C-53E5-4D56-A61A-1FE4D3A4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9745-8B4D-4F3E-991E-4FDE6C62D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4FD6-C30F-4CB2-B3D4-30B3BE801E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73422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ОЕКТ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«Экология души»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920" y="2204640"/>
            <a:ext cx="809784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воспитатель высшей категории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Камаева Наталья Николаевн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МБДОУ д/с «Теремок»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г. Ардатов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,Мордовия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Участники проекта: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дети старшей группы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музыкальный руководитель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родители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ктуальность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90756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Чтобы избежать неблагоприятного влияния на окружающую среду, не создавать ситуаций опасных для здоровья и жизни современный  человек  должен обладать хотя бы элементарными экологическими знаниями. Опыт показывает, что людей с уже сложившимися взглядами трудно переубедить и перевоспитать. Сформировать человека с новым экологическим типом мышления можно только с раннего детства.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Palatino Linotype"/>
              </a:rPr>
              <a:t>Дошкольный возраст является первым звеном в системе непрерывного экологического образования, так как  в этот период закладывается фундамент осознанного отношения  к окружающей действительности, накапливаются яркие , эмоциональные впечатления, которые надолго ( а порой на всю жизнь) остаются в памяти человека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Необходимо максимально использовать данный период времени, ориентированное на приобретение детьми навыков экологической культуры и повышение их экологической грамотности.   Потому что,  будущее нашей Земли зависит от наших поступков.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Цель :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 формирование человека нового типа с новым экологическим мышлением, способного осознать последствия своих действий по отношению к окружающей среде и умеющего жить в относительной гармонии с природой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1200" y="148428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Основные  задачи  проек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-сформировать представление 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j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 растениях, животных, человеке как живых существа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-показать взаимосвязь живых систем с окружающей сред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-сформировать осознание того, что все живые существа на Земле связаны друг с другом сложной системой связе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(все друг другу нужны, все друг от друга зависят и исчезновение любого звена нарушает равновесие в природе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-убедить в жизненной необходимости разумного и бережного отношения человека к природе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Линии    развития  личности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физическое развитие  (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формирование здорового образа жизни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познавательное развитие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(формирование системы экологических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знаний и представлений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развитие эстетических чувств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(умение увидеть и прочувствовать красоту 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природы, восхищаться ею, желание сохранить её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нравственное развитие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(воспитание гуманного отношения к природе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трудовое воспитание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(участие детей в посильной для них деятельности по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уходу за растениями и животными, по охране и защите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природы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ФОРМЫ И МЕТОДЫ :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Интеграция образовательных областей</a:t>
            </a:r>
            <a:r>
              <a:rPr b="1" i="1" lang="ru-RU" sz="1800" spc="-1" strike="noStrike">
                <a:solidFill>
                  <a:srgbClr val="000000"/>
                </a:solidFill>
                <a:latin typeface="Palatino Linotype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 познание (природный мир), коммуникация, художественное творчество, труд, музык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наблюдения за животными и растениями на прогулке и в уголке природ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экскурсии и целевые прогулки по территории д/с (по экотропе) и в природе ( в парк, поле, луг)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работа с календарями природ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сбор коллекций семян, камней, листьев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опыты, поисковая деятельность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создание проблемных ситуаций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экологические досуги, праздники, фольклорные вечер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беседы, рассказы, чтение  литературы на экологические тем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дидактические игр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игры с моделями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подвижные игр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диагностика экологической воспитанности детей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консультативная работа с родителям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Ожидаемые  результаты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56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повышение экологической грамотности , развиваются умственные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способности детей, которые проявляются в умении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экспериментировать, анализировать, делать выводы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у детей появляется  желание общаться с природой и отражать свои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впечатления через различные виды деятельности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формирование первоначальных основ экологической культуры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дошкольников на основе воспитания осознанного отношения детей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к   природе,  развитие личности неравнодушной, с эмоционально-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ценностным эстетическим отношением к миру, в котором сочетаются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качества нравственности, эстетического вкуса, коммуникативных 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навыков, эмпатии, образного мышления, творческих способностей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приходит понимание необходимости  бережного, заботливого и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созидательного  отношения к окружающему миру, предметам  созданным руками человека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7880" y="247320"/>
            <a:ext cx="7920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атериально-техническое обеспечение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ДОУ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4" name="Picture 4" descr="H:\DSCN4766.JPG"/>
          <p:cNvPicPr/>
          <p:nvPr/>
        </p:nvPicPr>
        <p:blipFill>
          <a:blip r:embed="rId1"/>
          <a:stretch/>
        </p:blipFill>
        <p:spPr>
          <a:xfrm>
            <a:off x="5008680" y="928800"/>
            <a:ext cx="1655640" cy="107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H:\download (2).jpg"/>
          <p:cNvPicPr/>
          <p:nvPr/>
        </p:nvPicPr>
        <p:blipFill>
          <a:blip r:embed="rId2"/>
          <a:stretch/>
        </p:blipFill>
        <p:spPr>
          <a:xfrm>
            <a:off x="7202520" y="971640"/>
            <a:ext cx="1359000" cy="110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D:\мама\фот\100_6662.jpg"/>
          <p:cNvPicPr/>
          <p:nvPr/>
        </p:nvPicPr>
        <p:blipFill>
          <a:blip r:embed="rId3"/>
          <a:stretch/>
        </p:blipFill>
        <p:spPr>
          <a:xfrm>
            <a:off x="1103400" y="990720"/>
            <a:ext cx="1274760" cy="102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D:\мама\фот\100_6655.jpg"/>
          <p:cNvPicPr/>
          <p:nvPr/>
        </p:nvPicPr>
        <p:blipFill>
          <a:blip r:embed="rId4"/>
          <a:stretch/>
        </p:blipFill>
        <p:spPr>
          <a:xfrm>
            <a:off x="3182760" y="928800"/>
            <a:ext cx="1389240" cy="104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0" y="6154560"/>
            <a:ext cx="3348000" cy="82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6"/>
          <a:stretch/>
        </p:blipFill>
        <p:spPr>
          <a:xfrm>
            <a:off x="1103400" y="4038480"/>
            <a:ext cx="153036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"/>
          <p:cNvPicPr/>
          <p:nvPr/>
        </p:nvPicPr>
        <p:blipFill>
          <a:blip r:embed="rId7"/>
          <a:stretch/>
        </p:blipFill>
        <p:spPr>
          <a:xfrm>
            <a:off x="3645000" y="4038480"/>
            <a:ext cx="1477800" cy="1108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8"/>
          <a:stretch/>
        </p:blipFill>
        <p:spPr>
          <a:xfrm>
            <a:off x="6134040" y="3990960"/>
            <a:ext cx="1797120" cy="11556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2883960" y="324468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Методическое обеспечение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Работа по проекту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02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определение темы, целей и задач, содержание проект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сбор необходимой информации и литературы, материала, средств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 реализации проект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выявление интересных идей по модернизации дизайна территории детского сад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вовлечение родителей в активное эколого-образовательное пространство  детского сад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содержания деятельности всех участников проект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сновной этап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детьми по перспективному плану проект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оформление выставок на разную тематику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создание развивающей среды на прогулочном участке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тского сад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одпроект : «Детский сад моей мечты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640" y="836640"/>
            <a:ext cx="7416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Palatino Linotype"/>
              </a:rPr>
              <a:t>создание нового культурного образа дошкольного учреждения через улучшение дизайна территории детского сада, создание развивающей среды из бросового материала (автопокрышек,пластиковых бутылок,брёвен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324000" y="2046240"/>
            <a:ext cx="1439640" cy="1187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2124000" y="204624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3"/>
          <a:stretch/>
        </p:blipFill>
        <p:spPr>
          <a:xfrm>
            <a:off x="4083120" y="2022480"/>
            <a:ext cx="1357200" cy="11984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4"/>
          <a:stretch/>
        </p:blipFill>
        <p:spPr>
          <a:xfrm>
            <a:off x="5800680" y="2075040"/>
            <a:ext cx="1435320" cy="11444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5"/>
          <a:stretch/>
        </p:blipFill>
        <p:spPr>
          <a:xfrm>
            <a:off x="2252520" y="3516480"/>
            <a:ext cx="1490760" cy="1188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"/>
          <p:cNvPicPr/>
          <p:nvPr/>
        </p:nvPicPr>
        <p:blipFill>
          <a:blip r:embed="rId6"/>
          <a:stretch/>
        </p:blipFill>
        <p:spPr>
          <a:xfrm>
            <a:off x="4083120" y="3573360"/>
            <a:ext cx="152064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5:10:52Z</dcterms:created>
  <dc:creator>User</dc:creator>
  <dc:description/>
  <cp:keywords/>
  <dc:language>en-US</dc:language>
  <cp:lastModifiedBy>admin</cp:lastModifiedBy>
  <dcterms:modified xsi:type="dcterms:W3CDTF">2015-08-14T17:41:05Z</dcterms:modified>
  <cp:revision>118</cp:revision>
  <dc:subject/>
  <dc:title>Развитие речевого дыхания у детей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9</vt:lpwstr>
  </property>
</Properties>
</file>