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0B3-53C6-4E31-91AD-31A9FDE8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900-C1F6-425B-9BBA-D43EBF1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97B-65EC-4B6F-B137-08FC3985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F85-26DE-44B9-8F2C-793A85BA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F64C-65A3-4211-A902-543C3B3F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8FC2-04C7-4050-988D-EC91180D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A338-53EE-48B3-AE0F-18D3539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023-2F1F-4C5C-8215-2296243E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CF9-BF40-476D-8A36-350F768D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352-4DFD-4491-B2AF-41D13A0B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8BAF-EFF1-42EC-9562-A7DE88E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91A-0B2E-4C67-ABFA-B873008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711D-A221-4B86-804A-75A999D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03C2-609B-46D5-AC6A-E6BC2BA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D7B1-2215-4E35-8E43-8A6930F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3597-2A34-4A31-A0DF-3D701FA0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AF4-6674-4C20-B364-482FE84F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57B-B408-4A49-BC97-10FAF21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09C-11B2-4D54-8D98-E4A8E9E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2B6-BE91-4454-A0A4-E8D90D3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F26-7270-4781-8ECC-2C75BFB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601-F267-432D-9AB0-7DCA70D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847-1D79-4F52-87D7-3FAE4B0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9C4-4839-4725-96BF-0249CD1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110-B782-4FF7-B2E6-A9ECA905C13C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D8FA-783D-4844-A75D-544A97CC9AA8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ОДПРОЕКТ: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«Экологическая троп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Цель: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Обозначение и экскурсии по экологической тропе детского сада; расширять кругозор и коммуникативные качества детей. Закрепить знания о растениях и животных на участке детского сад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Picture 4" descr="H:\100_3951.jpg"/>
          <p:cNvPicPr/>
          <p:nvPr/>
        </p:nvPicPr>
        <p:blipFill>
          <a:blip r:embed="rId1"/>
          <a:stretch/>
        </p:blipFill>
        <p:spPr>
          <a:xfrm>
            <a:off x="5940360" y="1989000"/>
            <a:ext cx="174168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Беседы, консультации, собрания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Анкетирование «Экологическое образование в семье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Выставка на тему « Пасхальное яичко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Выставка на тему «Осень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Новогодняя акция «Умный взгляд на мусор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Развлечение « Пасха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Развлечение «Покровские посиделки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: «Мастерская природ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537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</a:t>
            </a: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: создание сувениров-подарков для пап, мам и бабушек,  используя природный материал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Художественное творчество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выставка  рисунков и поделок детей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8" name="Picture 2" descr="H:\100_3949.jpg"/>
          <p:cNvPicPr/>
          <p:nvPr/>
        </p:nvPicPr>
        <p:blipFill>
          <a:blip r:embed="rId1"/>
          <a:stretch/>
        </p:blipFill>
        <p:spPr>
          <a:xfrm>
            <a:off x="5964120" y="85896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1177920" y="2448000"/>
            <a:ext cx="7375680" cy="4392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3"/>
          <a:stretch/>
        </p:blipFill>
        <p:spPr>
          <a:xfrm>
            <a:off x="7359480" y="3889440"/>
            <a:ext cx="1328760" cy="950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4"/>
          <a:stretch/>
        </p:blipFill>
        <p:spPr>
          <a:xfrm>
            <a:off x="187200" y="3905280"/>
            <a:ext cx="1260720" cy="1077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5"/>
          <a:stretch/>
        </p:blipFill>
        <p:spPr>
          <a:xfrm>
            <a:off x="0" y="5560920"/>
            <a:ext cx="1006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ОДПРОЕКТ: «Огород на подоконнике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608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Цель:</a:t>
            </a:r>
            <a:r>
              <a:rPr b="1" i="1" lang="ru-RU" sz="1800" spc="-1" strike="noStrike">
                <a:solidFill>
                  <a:srgbClr val="000000"/>
                </a:solidFill>
                <a:latin typeface="Palatino Linotype"/>
              </a:rPr>
              <a:t> заинтересовать детей перспективой выращивания «зелёных витаминов», дать представление об условиях, необходимых для наиболее быстрого прорастания посевов, формировать навыки труда в природе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5" name="Picture 3" descr="H:\100_3947.jpg"/>
          <p:cNvPicPr/>
          <p:nvPr/>
        </p:nvPicPr>
        <p:blipFill>
          <a:blip r:embed="rId1"/>
          <a:stretch/>
        </p:blipFill>
        <p:spPr>
          <a:xfrm>
            <a:off x="5940360" y="1668600"/>
            <a:ext cx="197964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ОДПРОЕКТ: «Цветочная мозаи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245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закрепить знания детей о цветочных растениях, правилах посадки и ухода за ними, обучать правилам дизайна цветников, развивать творчество, фантазию дет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3" descr="File0140"/>
          <p:cNvPicPr/>
          <p:nvPr/>
        </p:nvPicPr>
        <p:blipFill>
          <a:blip r:embed="rId1"/>
          <a:stretch/>
        </p:blipFill>
        <p:spPr>
          <a:xfrm>
            <a:off x="5148360" y="1413000"/>
            <a:ext cx="2735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: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алендарные праздни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Покровские посиделки», «Пасха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0" name="Picture 2" descr="H:\DSC_0429.JPG"/>
          <p:cNvPicPr/>
          <p:nvPr/>
        </p:nvPicPr>
        <p:blipFill>
          <a:blip r:embed="rId1"/>
          <a:stretch/>
        </p:blipFill>
        <p:spPr>
          <a:xfrm>
            <a:off x="3186000" y="1268280"/>
            <a:ext cx="27720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Летний экологический праздник ко Дню охраны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:  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«Земля – наш общий дом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3327480" y="1417680"/>
            <a:ext cx="248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ДПРОЕКТ  с  участием  родителе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Выставка поделок из природного материала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Picture 2" descr="H:\100_3952.jpg"/>
          <p:cNvPicPr/>
          <p:nvPr/>
        </p:nvPicPr>
        <p:blipFill>
          <a:blip r:embed="rId1"/>
          <a:stretch/>
        </p:blipFill>
        <p:spPr>
          <a:xfrm>
            <a:off x="1116000" y="1700280"/>
            <a:ext cx="1800360" cy="127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H:\100_6643.jpg"/>
          <p:cNvPicPr/>
          <p:nvPr/>
        </p:nvPicPr>
        <p:blipFill>
          <a:blip r:embed="rId2"/>
          <a:stretch/>
        </p:blipFill>
        <p:spPr>
          <a:xfrm>
            <a:off x="5148360" y="414972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:\BKDC2800.JPG"/>
          <p:cNvPicPr/>
          <p:nvPr/>
        </p:nvPicPr>
        <p:blipFill>
          <a:blip r:embed="rId3"/>
          <a:stretch/>
        </p:blipFill>
        <p:spPr>
          <a:xfrm>
            <a:off x="1258920" y="4105440"/>
            <a:ext cx="1657440" cy="117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:\File0100.bmp"/>
          <p:cNvPicPr/>
          <p:nvPr/>
        </p:nvPicPr>
        <p:blipFill>
          <a:blip r:embed="rId4"/>
          <a:stretch/>
        </p:blipFill>
        <p:spPr>
          <a:xfrm>
            <a:off x="4859280" y="1844640"/>
            <a:ext cx="2160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Новогодняя акция  с  участием  родителе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«Умный взгляд на мусор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Цель: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расширить знания детей о зависимости мира природы и человека, формировать представления о целесообразности вторичного использования бытовых отходов в изготовлении новогодних украшений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2" descr="H:\100_3934.jpg"/>
          <p:cNvPicPr/>
          <p:nvPr/>
        </p:nvPicPr>
        <p:blipFill>
          <a:blip r:embed="rId1"/>
          <a:stretch/>
        </p:blipFill>
        <p:spPr>
          <a:xfrm>
            <a:off x="5724360" y="1487520"/>
            <a:ext cx="2016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3 этап. Заключительный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41000"/>
            <a:ext cx="6491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Анализ деятельности и  обобщение результатов работы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Презентация проекта (фото,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видеозаписи развлечений,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выставки рисунков и поделок детей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Удовлетворенность всех участников проект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5:10:52Z</dcterms:created>
  <dc:creator>User</dc:creator>
  <dc:description/>
  <cp:keywords/>
  <dc:language>en-US</dc:language>
  <cp:lastModifiedBy>admin</cp:lastModifiedBy>
  <dcterms:modified xsi:type="dcterms:W3CDTF">2015-08-14T17:43:03Z</dcterms:modified>
  <cp:revision>118</cp:revision>
  <dc:subject/>
  <dc:title>Развитие речевого дыхания у детей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9</vt:lpwstr>
  </property>
</Properties>
</file>