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D20-8F0E-44F9-BB9F-05494E0C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920-6F05-4165-AA60-5FE6065D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4D3-38AF-47E5-BCF7-C326109D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E79-FFBA-4D3B-9611-363D47B2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1D48-94A0-4176-A07B-199FF179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FD2B-4A8C-40D4-8272-88002256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5035-5185-4760-B9D5-93378033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F963-A503-42F1-8003-96FEA443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C3AF-E6B8-47D6-BA6E-73E56F83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729F-D9AA-44E5-8587-63571A56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864A-CF00-47F3-BBA3-35BA42E2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EC6-C88B-45A6-A38D-017E7FCE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6C15-49D5-4CD9-AD35-A101CAE6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8EFC-6B05-4CEE-A651-CD9F2E0D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AD24-1703-4139-9B58-703C81D5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C1B4-E77C-4752-96D9-1B660DCA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54D3-0E2A-48E0-929D-83781D8E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CB7-3E20-4C9B-8D29-8A4BE05A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043-82E4-4D55-BB71-0D547BDD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465-461C-4C35-9F08-C87DCEF1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F1D-DEE8-4CA0-9AF4-A033B507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591-63F0-46D0-840F-666B9A56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7F7-68B9-4CFB-999B-83C767C9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C79-18E0-4F40-8C2D-5911FE8C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B8F1-1418-4CF3-86B8-332E21E88CA7}" type="slidenum"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58BF-FDFC-4606-A86A-384A34D3F352}" type="slidenum"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ПОДПРОЕКТ: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«Экологическая тропа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Цель: 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Обозначение и экскурсии по экологической тропе детского сада; расширять кругозор и коммуникативные качества детей. Закрепить знания о растениях и животных на участке детского сада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5" name="Picture 4" descr="H:\100_3951.jpg"/>
          <p:cNvPicPr/>
          <p:nvPr/>
        </p:nvPicPr>
        <p:blipFill>
          <a:blip r:embed="rId1"/>
          <a:stretch/>
        </p:blipFill>
        <p:spPr>
          <a:xfrm>
            <a:off x="5940360" y="1989000"/>
            <a:ext cx="174168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Беседы, консультации, собрания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Анкетирование «Экологическое образование в семье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Выставка на тему « Пасхальное яичко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Выставка на тему «Осень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Новогодняя акция «Умный взгляд на мусор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Развлечение « Пасха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Развлечение «Покровские посиделки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ДПРОЕКТ: «Мастерская природы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4537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Цель</a:t>
            </a:r>
            <a:r>
              <a:rPr b="1" i="1" lang="ru-RU" sz="1600" spc="-1" strike="noStrike">
                <a:solidFill>
                  <a:srgbClr val="000000"/>
                </a:solidFill>
                <a:latin typeface="Palatino Linotype"/>
              </a:rPr>
              <a:t>: создание сувениров-подарков для пап, мам и бабушек,  используя природный материал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Художественное творчество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выставка  рисунков и поделок детей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8" name="Picture 2" descr="H:\100_3949.jpg"/>
          <p:cNvPicPr/>
          <p:nvPr/>
        </p:nvPicPr>
        <p:blipFill>
          <a:blip r:embed="rId1"/>
          <a:stretch/>
        </p:blipFill>
        <p:spPr>
          <a:xfrm>
            <a:off x="5964120" y="85896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1177920" y="2448000"/>
            <a:ext cx="7375680" cy="4392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3"/>
          <a:stretch/>
        </p:blipFill>
        <p:spPr>
          <a:xfrm>
            <a:off x="7359480" y="3889440"/>
            <a:ext cx="1328760" cy="9507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4"/>
          <a:stretch/>
        </p:blipFill>
        <p:spPr>
          <a:xfrm>
            <a:off x="187200" y="3905280"/>
            <a:ext cx="1260720" cy="1077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5"/>
          <a:stretch/>
        </p:blipFill>
        <p:spPr>
          <a:xfrm>
            <a:off x="0" y="5560920"/>
            <a:ext cx="10065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ПОДПРОЕКТ: «Огород на подоконнике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608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Цель:</a:t>
            </a:r>
            <a:r>
              <a:rPr b="1" i="1" lang="ru-RU" sz="1800" spc="-1" strike="noStrike">
                <a:solidFill>
                  <a:srgbClr val="000000"/>
                </a:solidFill>
                <a:latin typeface="Palatino Linotype"/>
              </a:rPr>
              <a:t> заинтересовать детей перспективой выращивания «зелёных витаминов», дать представление об условиях, необходимых для наиболее быстрого прорастания посевов, формировать навыки труда в природе</a:t>
            </a: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5" name="Picture 3" descr="H:\100_3947.jpg"/>
          <p:cNvPicPr/>
          <p:nvPr/>
        </p:nvPicPr>
        <p:blipFill>
          <a:blip r:embed="rId1"/>
          <a:stretch/>
        </p:blipFill>
        <p:spPr>
          <a:xfrm>
            <a:off x="5940360" y="1668600"/>
            <a:ext cx="197964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ПОДПРОЕКТ: «Цветочная мозаик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245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закрепить знания детей о цветочных растениях, правилах посадки и ухода за ними, обучать правилам дизайна цветников, развивать творчество, фантазию дет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Picture 3" descr="File0140"/>
          <p:cNvPicPr/>
          <p:nvPr/>
        </p:nvPicPr>
        <p:blipFill>
          <a:blip r:embed="rId1"/>
          <a:stretch/>
        </p:blipFill>
        <p:spPr>
          <a:xfrm>
            <a:off x="5148360" y="1413000"/>
            <a:ext cx="273528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ДПРОЕКТ: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Календарные праздник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«Покровские посиделки», «Пасха»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0" name="Picture 2" descr="H:\DSC_0429.JPG"/>
          <p:cNvPicPr/>
          <p:nvPr/>
        </p:nvPicPr>
        <p:blipFill>
          <a:blip r:embed="rId1"/>
          <a:stretch/>
        </p:blipFill>
        <p:spPr>
          <a:xfrm>
            <a:off x="3186000" y="1268280"/>
            <a:ext cx="27720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Летний экологический праздник ко Дню охраны окружающей среды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:  </a:t>
            </a: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«Земля – наш общий дом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3327480" y="1417680"/>
            <a:ext cx="24890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ДПРОЕКТ  с  участием  родителей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«Выставка поделок из природного материала»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4" name="Picture 2" descr="H:\100_3952.jpg"/>
          <p:cNvPicPr/>
          <p:nvPr/>
        </p:nvPicPr>
        <p:blipFill>
          <a:blip r:embed="rId1"/>
          <a:stretch/>
        </p:blipFill>
        <p:spPr>
          <a:xfrm>
            <a:off x="1116000" y="1700280"/>
            <a:ext cx="1800360" cy="127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H:\100_6643.jpg"/>
          <p:cNvPicPr/>
          <p:nvPr/>
        </p:nvPicPr>
        <p:blipFill>
          <a:blip r:embed="rId2"/>
          <a:stretch/>
        </p:blipFill>
        <p:spPr>
          <a:xfrm>
            <a:off x="5148360" y="4149720"/>
            <a:ext cx="1584360" cy="1060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:\BKDC2800.JPG"/>
          <p:cNvPicPr/>
          <p:nvPr/>
        </p:nvPicPr>
        <p:blipFill>
          <a:blip r:embed="rId3"/>
          <a:stretch/>
        </p:blipFill>
        <p:spPr>
          <a:xfrm>
            <a:off x="1258920" y="4105440"/>
            <a:ext cx="1657440" cy="117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:\File0100.bmp"/>
          <p:cNvPicPr/>
          <p:nvPr/>
        </p:nvPicPr>
        <p:blipFill>
          <a:blip r:embed="rId4"/>
          <a:stretch/>
        </p:blipFill>
        <p:spPr>
          <a:xfrm>
            <a:off x="4859280" y="1844640"/>
            <a:ext cx="21607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Новогодняя акция  с  участием  родителей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«Умный взгляд на мусор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Цель: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расширить знания детей о зависимости мира природы и человека, формировать представления о целесообразности вторичного использования бытовых отходов в изготовлении новогодних украшений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0" name="Picture 2" descr="H:\100_3934.jpg"/>
          <p:cNvPicPr/>
          <p:nvPr/>
        </p:nvPicPr>
        <p:blipFill>
          <a:blip r:embed="rId1"/>
          <a:stretch/>
        </p:blipFill>
        <p:spPr>
          <a:xfrm>
            <a:off x="5724360" y="1487520"/>
            <a:ext cx="20163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3 этап. Заключительный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41000"/>
            <a:ext cx="6491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Анализ деятельности и  обобщение результатов работы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Презентация проекта (фото,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видеозаписи развлечений,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выставки рисунков и поделок детей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Удовлетворенность всех участников проект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5:10:52Z</dcterms:created>
  <dc:creator>User</dc:creator>
  <dc:description/>
  <cp:keywords/>
  <dc:language>en-US</dc:language>
  <cp:lastModifiedBy>admin</cp:lastModifiedBy>
  <dcterms:modified xsi:type="dcterms:W3CDTF">2015-08-14T17:43:03Z</dcterms:modified>
  <cp:revision>118</cp:revision>
  <dc:subject/>
  <dc:title>Развитие речевого дыхания у детей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9</vt:lpwstr>
  </property>
</Properties>
</file>