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4.wmf" ContentType="image/x-wmf"/>
  <Override PartName="/ppt/media/image2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F52-2DE2-4319-BAA2-28B70CB4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B6D-E27B-49B4-B69E-947D61CA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292-5911-4B1C-87BD-657652CD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C11-916B-4E1C-886A-9E546A8A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E61-3B02-4A20-8E23-4BD0932B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8E5-D3EF-464D-ACD4-8222CFCF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C46-DADA-43AD-88E0-61FC953A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274-6654-4877-9DA2-EAC9F56F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EB3-975B-4F08-9410-9FBEC3EB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671-05BA-47C6-8E57-8D0FC3AC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EF4-2D2E-4D13-9A41-D0AE6EA4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DC3-095A-42CD-A02D-31978DF1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714F-3AFC-47A4-973B-3C5BA9142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5&amp;uinfo=ww-1349-wh-576-fw-1124-fh-448-pd-1&amp;p=5&amp;text=&#1074;&#1103;&#1079;&#1072;&#1085;&#1099;&#1077;%20&#1089;&#1091;&#1084;&#1082;&#1080;%20&#1082;&#1088;&#1102;&#1095;&#1082;&#1086;&#1084;&amp;noreask=1&amp;pos=160&amp;rpt=simage&amp;lr=213&amp;img_url=http%3A%2F%2Fkruchok1.my1.ru%2F_ph%2F3%2F1%2F869870394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28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«Средняя образовательная школа №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городского округа Балаши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Творческий проект по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Летняя су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ыполнила: Нурмахматова Рая, ученица 6 класса                                                                                                                Учитель: Кочнова Дина  Якуп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Балашиха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2057400"/>
            <a:ext cx="79246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99cc0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99cc0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Дизайн –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Вся представленная коллекция сочетает в себе изысканный стиль и соврем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Для своего проекта я выбрала последний   вариант со своими измен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52326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Крюч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Крючки вязальные изготавливают из различных материал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ст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дер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пластмасс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Удобнее всего пользоваться легкими и хорошо отполированными крюч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Крючки отличаются по номер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Длина обычного крючка 12-15 см. чем меньше номер крючка, тем тоньше должна быть пряжа для вяз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181480" y="1523880"/>
            <a:ext cx="3649680" cy="4876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76" name="Picture 7" descr="1d15636ff624c68480afdff374ecbda2"/>
          <p:cNvPicPr/>
          <p:nvPr/>
        </p:nvPicPr>
        <p:blipFill>
          <a:blip r:embed="rId2"/>
          <a:stretch/>
        </p:blipFill>
        <p:spPr>
          <a:xfrm>
            <a:off x="685800" y="228600"/>
            <a:ext cx="2133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Нитки для вяз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ХЛОПОК</a:t>
            </a:r>
            <a:br>
              <a:rPr sz="2800"/>
            </a:b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- ЛЕН</a:t>
            </a:r>
            <a:br>
              <a:rPr sz="2800"/>
            </a:b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- ШЕРСТЬ</a:t>
            </a:r>
            <a:br>
              <a:rPr sz="2800"/>
            </a:b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- ФАСОННАЯ ПРЯЖА</a:t>
            </a:r>
            <a:br>
              <a:rPr sz="2800"/>
            </a:b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- БЛЕСТЯЩАЯ ПРЯЖА</a:t>
            </a:r>
            <a:br>
              <a:rPr sz="2800"/>
            </a:b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- ФАНТАЗИЙНАЯ </a:t>
            </a:r>
            <a:br>
              <a:rPr sz="2800"/>
            </a:b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ПРЯ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6"/>
          <p:cNvPicPr/>
          <p:nvPr/>
        </p:nvPicPr>
        <p:blipFill>
          <a:blip r:embed="rId1"/>
          <a:stretch/>
        </p:blipFill>
        <p:spPr>
          <a:xfrm>
            <a:off x="3809880" y="1752480"/>
            <a:ext cx="207648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biser"/>
          <p:cNvPicPr/>
          <p:nvPr/>
        </p:nvPicPr>
        <p:blipFill>
          <a:blip r:embed="rId2"/>
          <a:stretch/>
        </p:blipFill>
        <p:spPr>
          <a:xfrm>
            <a:off x="4038480" y="4979880"/>
            <a:ext cx="1676520" cy="1317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1"/>
          <p:cNvPicPr/>
          <p:nvPr/>
        </p:nvPicPr>
        <p:blipFill>
          <a:blip r:embed="rId3"/>
          <a:stretch/>
        </p:blipFill>
        <p:spPr>
          <a:xfrm>
            <a:off x="6705720" y="1752480"/>
            <a:ext cx="2057400" cy="148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4"/>
          <p:cNvPicPr/>
          <p:nvPr/>
        </p:nvPicPr>
        <p:blipFill>
          <a:blip r:embed="rId4"/>
          <a:stretch/>
        </p:blipFill>
        <p:spPr>
          <a:xfrm>
            <a:off x="6553080" y="4876920"/>
            <a:ext cx="2057400" cy="1352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1d15636ff624c68480afdff374ecbda2"/>
          <p:cNvPicPr/>
          <p:nvPr/>
        </p:nvPicPr>
        <p:blipFill>
          <a:blip r:embed="rId5"/>
          <a:stretch/>
        </p:blipFill>
        <p:spPr>
          <a:xfrm>
            <a:off x="5410080" y="3505320"/>
            <a:ext cx="2133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050"/>
                </a:solidFill>
                <a:uFillTx/>
                <a:latin typeface="Arial"/>
              </a:rPr>
              <a:t>Технологическая последовательность изготовления изде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Так держат крюч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b050"/>
                </a:solidFill>
                <a:latin typeface="Arial"/>
              </a:rPr>
              <a:t>Как карандаш              Как но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2ec4597da0d481fa83"/>
          <p:cNvPicPr/>
          <p:nvPr/>
        </p:nvPicPr>
        <p:blipFill>
          <a:blip r:embed="rId1"/>
          <a:stretch/>
        </p:blipFill>
        <p:spPr>
          <a:xfrm>
            <a:off x="457200" y="1523880"/>
            <a:ext cx="3657600" cy="3353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3"/>
          <p:cNvPicPr/>
          <p:nvPr/>
        </p:nvPicPr>
        <p:blipFill>
          <a:blip r:embed="rId2"/>
          <a:stretch/>
        </p:blipFill>
        <p:spPr>
          <a:xfrm>
            <a:off x="4800600" y="1600200"/>
            <a:ext cx="38862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Arial"/>
              </a:rPr>
              <a:t>Обозначения на схемах вязания крюч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Схему вязания узора, представляющую собой совокупность элементов и мотивов, можно записать в виде текста. Однако использование такой записи, особенно если узор довольно сложный, может превратиться в большую проблему. Поэтому для записи узора удобнее применять специальные обозначения на схемах вязания крючком (символ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Arial"/>
              </a:rPr>
              <a:t>Символы для обозначения на схемах вязания крючк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ost-572-1260346690_thumb"/>
          <p:cNvPicPr/>
          <p:nvPr/>
        </p:nvPicPr>
        <p:blipFill>
          <a:blip r:embed="rId1"/>
          <a:stretch/>
        </p:blipFill>
        <p:spPr>
          <a:xfrm>
            <a:off x="2438280" y="1523880"/>
            <a:ext cx="486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Инструк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Приведенные ниже рисунки с описанием выполнения операций, помогу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выполн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Цепочку из воздушных пе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Столбики без нак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Столбики с наки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1d15636ff624c68480afdff374ecbda2"/>
          <p:cNvPicPr/>
          <p:nvPr/>
        </p:nvPicPr>
        <p:blipFill>
          <a:blip r:embed="rId1"/>
          <a:stretch/>
        </p:blipFill>
        <p:spPr>
          <a:xfrm>
            <a:off x="5638680" y="4495680"/>
            <a:ext cx="2895840" cy="159084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>
            <a:off x="54864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54100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525780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934320" y="3962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7315200" y="3962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7696080" y="3962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8153280" y="3962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Начало вяз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500" spc="-1" strike="noStrike">
                <a:solidFill>
                  <a:srgbClr val="00b050"/>
                </a:solidFill>
                <a:latin typeface="Arial"/>
              </a:rPr>
              <a:t>Сделайте скользящий узел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image070"/>
          <p:cNvPicPr/>
          <p:nvPr/>
        </p:nvPicPr>
        <p:blipFill>
          <a:blip r:embed="rId1"/>
          <a:stretch/>
        </p:blipFill>
        <p:spPr>
          <a:xfrm>
            <a:off x="1143000" y="2286000"/>
            <a:ext cx="28400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image072"/>
          <p:cNvPicPr/>
          <p:nvPr/>
        </p:nvPicPr>
        <p:blipFill>
          <a:blip r:embed="rId2"/>
          <a:stretch/>
        </p:blipFill>
        <p:spPr>
          <a:xfrm>
            <a:off x="5181480" y="2286000"/>
            <a:ext cx="2619360" cy="4038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d15636ff624c68480afdff374ecbda2"/>
          <p:cNvPicPr/>
          <p:nvPr/>
        </p:nvPicPr>
        <p:blipFill>
          <a:blip r:embed="rId3"/>
          <a:stretch/>
        </p:blipFill>
        <p:spPr>
          <a:xfrm>
            <a:off x="228600" y="228600"/>
            <a:ext cx="28954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Arial"/>
              </a:rPr>
              <a:t>Воздушная петл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0666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Проденьте крючок в получившуюся петлю справа налево, захватите рабочую нить. Протяните ее в узел. На крючке получилась новая петля. Потяните за рабочую нить и за конец нити, затягивая узел у основания пет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Держите крючок в правой руке, рабочую нить - в левой. Подцепите крючком рабочую нить в направлении на себя и протяните ее через петлю на крючке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1207784692_crochetchain"/>
          <p:cNvPicPr/>
          <p:nvPr/>
        </p:nvPicPr>
        <p:blipFill>
          <a:blip r:embed="rId1"/>
          <a:stretch/>
        </p:blipFill>
        <p:spPr>
          <a:xfrm>
            <a:off x="304920" y="1066680"/>
            <a:ext cx="4132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Arial"/>
              </a:rPr>
              <a:t>Творческий проект</a:t>
            </a:r>
            <a:br>
              <a:rPr sz="4800"/>
            </a:br>
            <a:r>
              <a:rPr b="0" lang="en-US" sz="4800" spc="-1" strike="noStrike">
                <a:solidFill>
                  <a:srgbClr val="00b050"/>
                </a:solidFill>
                <a:latin typeface="Arial"/>
              </a:rPr>
              <a:t>Тема: «Летняя сумка»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2" descr=""/>
          <p:cNvPicPr/>
          <p:nvPr/>
        </p:nvPicPr>
        <p:blipFill>
          <a:blip r:embed="rId1"/>
          <a:stretch/>
        </p:blipFill>
        <p:spPr>
          <a:xfrm>
            <a:off x="-6480" y="1901880"/>
            <a:ext cx="8790120" cy="423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1d15636ff624c68480afdff374ecbda2"/>
          <p:cNvPicPr/>
          <p:nvPr/>
        </p:nvPicPr>
        <p:blipFill>
          <a:blip r:embed="rId2"/>
          <a:stretch/>
        </p:blipFill>
        <p:spPr>
          <a:xfrm>
            <a:off x="3657600" y="3276720"/>
            <a:ext cx="457200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Arial"/>
              </a:rPr>
              <a:t>Цепочка из воздушных петель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Повторяйте, пока цепочка из воздушных петель не достигнет необходимой длины . Когда закончите, обрежьте рабочую нить, оставив небольшой хво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Протяните хвостик в последнюю петлю цепочки и затян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1207784755_crochetchain2"/>
          <p:cNvPicPr/>
          <p:nvPr/>
        </p:nvPicPr>
        <p:blipFill>
          <a:blip r:embed="rId1"/>
          <a:stretch/>
        </p:blipFill>
        <p:spPr>
          <a:xfrm>
            <a:off x="457200" y="1066680"/>
            <a:ext cx="3889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Столбик без накид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Введите крючок в петлю основания. Подцепите крючком рабочую нить и вытяните ее на себя, снова подцепите рабочую нить и протяните ее в петлю, образовавшуюся на крючке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207784772_singlecrochet"/>
          <p:cNvPicPr/>
          <p:nvPr/>
        </p:nvPicPr>
        <p:blipFill>
          <a:blip r:embed="rId1"/>
          <a:stretch/>
        </p:blipFill>
        <p:spPr>
          <a:xfrm>
            <a:off x="304920" y="1600200"/>
            <a:ext cx="41907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10552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Введите крючок под следующую петлю основы , подцепите рабочую нить и вытяните ее на себя. На крючке две пет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Снова подцепите рабочую нить и протяните ее сквозь обе петли. На крючке останется одна новая петл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207784799_singlecrochet2"/>
          <p:cNvPicPr/>
          <p:nvPr/>
        </p:nvPicPr>
        <p:blipFill>
          <a:blip r:embed="rId1"/>
          <a:stretch/>
        </p:blipFill>
        <p:spPr>
          <a:xfrm>
            <a:off x="609480" y="914400"/>
            <a:ext cx="3810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Повторяйте, пока не провяжете необходимое количество столб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Завершите работу в соответствии с описанием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1207784816_singlecrochet3"/>
          <p:cNvPicPr/>
          <p:nvPr/>
        </p:nvPicPr>
        <p:blipFill>
          <a:blip r:embed="rId1"/>
          <a:stretch/>
        </p:blipFill>
        <p:spPr>
          <a:xfrm>
            <a:off x="457200" y="1295280"/>
            <a:ext cx="4038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Столбик с накид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Введите крючок в петлю основания, подцепите рабочую нить и вытяните на себя. Еще раз подцепите рабочую нить и протяните ее в образовавшуюся пет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Накиньте рабочую нить на крючок, введите крючок под следующую петлю основания , подцепите рабочую нить и выведите ее на себя. На крючке в общей сложности 3 пет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Подцепите рабочую нить и протяните ее через первые две петли , снова подцепите рабочую нить и протяните через оставшиеся две пет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1207784868_doublecrochet"/>
          <p:cNvPicPr/>
          <p:nvPr/>
        </p:nvPicPr>
        <p:blipFill>
          <a:blip r:embed="rId1"/>
          <a:stretch/>
        </p:blipFill>
        <p:spPr>
          <a:xfrm>
            <a:off x="533520" y="806400"/>
            <a:ext cx="3429000" cy="3222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1207784908_doublecrochet3"/>
          <p:cNvPicPr/>
          <p:nvPr/>
        </p:nvPicPr>
        <p:blipFill>
          <a:blip r:embed="rId2"/>
          <a:stretch/>
        </p:blipFill>
        <p:spPr>
          <a:xfrm>
            <a:off x="5105520" y="838080"/>
            <a:ext cx="32004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Столбик с накидом готов, на крючке осталась одна пет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Накиньте рабочую нить на крючок, введите крючок под следующую петлю основания, подцепите рабочую нить и выведите ее на себя. На крючке 3 петли. Подцепите рабочую нить, протяните через первые две петли, снова подцепите рабочую нить и протяните через оставшиеся две петли. Второй столбик с накидом готов, на крючке одна петля.  И так дал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8" descr="1207784920_doublecrochet4"/>
          <p:cNvPicPr/>
          <p:nvPr/>
        </p:nvPicPr>
        <p:blipFill>
          <a:blip r:embed="rId1"/>
          <a:stretch/>
        </p:blipFill>
        <p:spPr>
          <a:xfrm>
            <a:off x="4876920" y="654120"/>
            <a:ext cx="3581280" cy="3031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1207784886_doublecrochet2"/>
          <p:cNvPicPr/>
          <p:nvPr/>
        </p:nvPicPr>
        <p:blipFill>
          <a:blip r:embed="rId2"/>
          <a:stretch/>
        </p:blipFill>
        <p:spPr>
          <a:xfrm>
            <a:off x="685800" y="609480"/>
            <a:ext cx="35812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Правила безопасной работы инструментам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С крючками необходимо обращаться очень осторожно, не подносить их к л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Крючки и другие приспособления должны быть хорошо отшлифованными, хранить их надо в специальных пеналах и коробк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Нельзя делать резких движений рукой с крючком в направлении рядом сидящего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Нельзя пользоваться ржавыми иглами и булавками. Следует хранить иглы и булавки в коробочке с кры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Ножницы должны лежать с сомкнутыми лезвиями, передавать их следует кольцами в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Влажно-тепловую обработку изделий проводить на гладильной доске или специально оборудованном столе исправным утю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Санитарно-гигиенические требования при вязан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Рабочее место должно быть хорошо освещено, свет должен падать на работу с левой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Сидеть следует прямо, касаясь корпусом спинки стула. Расстояние от глаз до работы должно быть не менее 35-40 см, чтобы не развивалась близорукость, в глаза не попадали частички волокон, из которых состоит пря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Перед началом и после работы следует вымыть руки, чтобы нитки и вязаное полотно не пачкались, а на руках не оставалось мелких волок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Незавершенное изделие лучше хранить, завернув в ткань или положив в пак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Себестоимость изде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971800"/>
            <a:ext cx="31240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4 мотка разноцветных ниток- 35 руб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Итого 140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53085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Экологическое обсле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Свою работу я выполнила из ткани и ниток из натуральных и синтетических волокон, которые не наносят вреда окружающей среде и здоровью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Цель и задач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Усовершенствовать свои возможности в области технологии изготовления творческого проекта, вызвать интерес к рукодельному  искусству, развить художественный вкус и творческое отношение к выполняем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606f3629b07b"/>
          <p:cNvPicPr/>
          <p:nvPr/>
        </p:nvPicPr>
        <p:blipFill>
          <a:blip r:embed="rId1"/>
          <a:stretch/>
        </p:blipFill>
        <p:spPr>
          <a:xfrm>
            <a:off x="5867280" y="4433760"/>
            <a:ext cx="3276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80920" y="272880"/>
            <a:ext cx="5257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Рекламный про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300816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Простую и незатейливую вязаную сумку можно украсить вязаными цветами и другим декором, сделав такое украшение основой уникального дизайна вязаной сум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Вяжите для души и с душой! Успехов и удачи!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Использованные ресурсы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.Д.Симоненко Технология:Учебник для 7 класса-М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ентана-Граф,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liveinternet.ru/users/3094246/post11063701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bsi63.ucoz.ru/publ/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klubochki.ru/album/all-patterns/165/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lace.klk.pp.ru/2006/07/01/print:page,1,vjazanie_krjuchkom_motivy_galereja_0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vyazanie.vsehobby.ru/kruchkom/uzori/uzorivyazaniya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kindermy.ru/forum/41-268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modnaya.ru/library/008/096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Обоснование проблемы и потре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Наверно в вашем гардеробе обязательно есть вязаные изделия, а дом украшают различные мелкие приятные вещицы – салфетки, игрушки, прихватк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Ручное вязание до сих пор не утратило своей популярности, а связанные вручную модные, художественно оформленные вещи пользуются постоянным успехом. Вязание было и остается популярным видом прикладного искусства благодаря неограниченной возможности создавать новые, модные, теплые вещи для детей и взрослых, для украшения своего дома и  гардер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План выполнения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. Из истории вя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2. Выбор мод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3. Дизайн – анал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4. Выбор ни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5. Выбор обору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8. Технологическая последовательность изготовления изделия.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9. Безопасность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0. Себестоимость изде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1. Экологическое обслед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2. Рекламный просп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3. Оценка качества и сложности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4. Итоги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Вид рукоде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яза́ние крючко́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— процесс ручного изготовления полотна или кружева из ниток с помощью вязального крю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Вязание крючк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проще, чем сп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отличается быстро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дает возможность  создавать не только плотные, рельефные узоры, но и тонкие, ажурные, напоминающие кружевное поло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применяют как для изготовления одежды целиком (например, свитер, шарф, платье и т. д.), так и отделочных элементов одежды (рукава, пуговицы, манжеты и т. д.) или украшений (салфетки, занавески и т. 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легко распустить и передел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при использовании старой и разноцветной пряжи можно достичь лучшего эф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1d15636ff624c68480afdff374ecbda2"/>
          <p:cNvPicPr/>
          <p:nvPr/>
        </p:nvPicPr>
        <p:blipFill>
          <a:blip r:embed="rId1"/>
          <a:stretch/>
        </p:blipFill>
        <p:spPr>
          <a:xfrm>
            <a:off x="6553080" y="5486400"/>
            <a:ext cx="2133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История вязания крюч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Когда и кто взял в руки небольшую палочку и сделал первую в мире петельку? Наверное, этого мы никогда не узнаем, слишком уж давно это было. Однако самые ранние вязаные изделия датируются археологами 3 столетием нашей эры. Изначально это было исключительно мужское ремесло,  но постепенно стало типично женским занят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В России вязание крючком получило распространение с конца XIX века и заниматься им стали женщины, которые собирались на посиделки. Мастерицы вязали преимущественно кружева, заимствуя для них узоры из народной вышивки крестом и тка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6" descr="MCj03380580000[1]"/>
          <p:cNvPicPr/>
          <p:nvPr/>
        </p:nvPicPr>
        <p:blipFill>
          <a:blip r:embed="rId1"/>
          <a:stretch/>
        </p:blipFill>
        <p:spPr>
          <a:xfrm>
            <a:off x="7613640" y="5018040"/>
            <a:ext cx="1530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Выбор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Вязаная сумка -  это не только стильный и яркий аксессуар, идеально подходящий к какому-либо предмету гардероба. Это прежде всего прекрасная возможность проявить весь свой творческий потенциал и своими руками создать, связать красивую и уникальную вязаную сумо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www.mambulus.ru/products_pictures/sumki/kruchok/sk018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523880"/>
            <a:ext cx="424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Выбор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img0.liveinternet.ru/images/attach/c/1/56/396/56396228_24.jpg"/>
          <p:cNvPicPr/>
          <p:nvPr/>
        </p:nvPicPr>
        <p:blipFill>
          <a:blip r:embed="rId2"/>
          <a:stretch/>
        </p:blipFill>
        <p:spPr>
          <a:xfrm>
            <a:off x="380880" y="1290600"/>
            <a:ext cx="3353040" cy="5261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495680" y="1371600"/>
            <a:ext cx="392436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3-12-12T05:49:1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