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FB8-7048-44F2-B2E4-B9DA9490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8C3-E784-4F48-BF3B-B8BBC4C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AA5-EDC6-4314-8B44-26B6BBCE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F1D-61CF-4E6A-8D95-D5CEB4A2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2BC-13D2-4549-99C1-8B1EFFF0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162-BB3C-4DC9-AF60-C7DB4FC4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2AE-67B3-4201-9E05-17F7A258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A63-8F7E-460B-A013-6D713CC0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914-68CA-490F-9271-92B6C04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952-0F4E-43F5-9BB7-966B8CC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807-D0DB-4DE3-882E-5135E56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280-4782-450D-BB6C-890B0A9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94EB-65EC-4B9D-A95C-3ADF403D4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цепи ДНК имеет следующую последовательность нуклеотидов: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-А-Ц-Ц-Ц-Т-Ц-А-Ц-Т-Т-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Определите последовательность нуклеотидов на  и-РНК, антикодоны соответствующих т-РНК и аминокислотную последовательность соответствующего фрагмента молекулы белка, используя таблицу генетического к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74680"/>
            <a:ext cx="876312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9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ое исследование показало, что 30 % общего числа нуклеотидов данной и- РНК приходится на урацил, 26 % -на цитозин, 24 %- на аденин. Что можно сказать о нуклеотидном составе соответствующего участка двух цепочечной ДНК, слепком с которого является и-РН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10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фрагменте молекулы ДНК: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-А-Г-Ц-Г-А-Т-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-Г-Ц-Т-А-Г-Ц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ошла генная мутация – восьмой нуклеотид переместился на первое место. Определите последовательность нуклеотидов в фрагменте молекулы ДНК, антикодоны т-РНК, виды и порядок аминокислот, которые кодируют фрагмент и-РНК. Используйте таблицу генетического к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предложенному фрагменту гена:     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-А-Ц-Г-Т-А-Т-Ц-Ц-Г-А-Т-Ц-Г-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и-РНК, антикодоны   т-РНК и состав аминокислот, закодированных данным отрезком г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иосинтезе полипептида участвовали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-РН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антикодон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УА, ГГЦ, ЦГЦ, АУУ, ЦГ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пределите нуклеотидную последовательность участка каждой цепи молекулы ДНК, который несет информацию о синтезируемом полипептиде,  число нуклеотидов, содержащих аденин, гуанин, тимин и цитозин в двуцепочечной молекуле ДН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а № 2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о, что все виды РНК синтезируются на ДНК-матрице. Фрагмент молекулы ДНК, на котором синтезируется участок центральной петли  т - РНК, имеет последовательность нуклеотидов: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-Г-Т-Т-Г-Г-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-Ц-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-Г-Г-Ц-Т-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становите нуклеотидную последовательность участка т-РНК, который синтезируется на данном фрагменте, и аминокислоту, которую будет переносить эта т-РНК в процессе биосинтеза белка, если 3-ий триплет соответствует антикодону т-РНК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ясн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3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овательности одной из цепе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А Г Ц А Г Г Т А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произошла мутация- это выпадение второго нуклеотида в третьем триплете. Используя таблицу генетического кода, определите исходную  аминокислотную последовательность. Изменится ли первичная структура исходного полипептида? Ответ поясните. К какому виду мутаций относится данное изменени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4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-РНК содержит 120 нуклеотидов. Определите число аминокислот, входящих в копируемый ею белок, число молекул Т-РНК, участвующих в процессе биосинтеза этого белка, число триплетов в участке гена, кодирующих первичную структуру этого белка. Объясните результа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5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асток молекулы ДНК, кодирующий последовательность аминокислот в белке, имеет следующий состав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 А Т Г А А 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 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Г Т Г Ц Т Т 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Объясните, к каким  последствиям может привести случайное добавление нуклеотида гуанина между 7 и 8 нуклеотидам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ок молекулы  одной из цепей молекулы ДНК содержит 400 нуклеотидов с Аденином, 200 нуклеотидов с Тимином, 50 нуклеотидов с гуанином, 250 нуклеотидов с цитозином. Какое число нуклеотидов с А, Т,Г, Ц содержится в двух цепях ДНК? Сколько аминокислот должен содержать белок, кодируемый этим участком молекулы ДНК? Объясните от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ок молекулы  одной из цепей молекулы ДНК содержит 400 нуклеотидов с Аденином, 200 нуклеотидов с Тимином, 50 нуклеотидов с гуанином, 250 нуклеотидов с цитозином. Какое число нуклеотидов с А, Т,Г, Ц содержится в двух цепях ДНК? Сколько аминокислот должен содержать белок, кодируемый этим участком молекулы ДНК? Объясните от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7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олекуле ДНК находится 1400 нуклеотидов с Тимином, что составляет 5 % от их общего числа. Определите количество нуклеотидов с гуанином? Цитозином? Аденином? Объясните полученные результат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8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оцессе гликолиза образовалось 42 молекулы ПВК. Какое количество глюкозы подверглось расщеплению и сколько молекул АТФ образовалось при полном окислен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4-05-05T05:54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