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4C4-8889-45CE-B735-2A8133C5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833-D3F4-4A9B-BC7C-46066C8D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E93-EF13-4FF0-AFC8-44C821D9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E26-0B2F-4A42-8422-A614D7A1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43A-EFFE-48BC-88DB-B5E42290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266-D282-4738-8729-6407950F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220-18F2-408B-80AB-F5543526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548-B61E-4539-AC32-B336EA47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754-343F-4CA5-B687-FAB03AB1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B4A-01F3-4BB9-AC22-58C49A1B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B10-1962-4F7D-B0DF-52CC2DB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967-2511-4DC7-81E9-EEE2819F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E626-5260-4312-B2D4-5230C58F8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1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цепи ДНК имеет следующую последовательность нуклеотидов: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-А-Ц-Ц-Ц-Т-Ц-А-Ц-Т-Т-Г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Определите последовательность нуклеотидов на  и-РНК, антикодоны соответствующих т-РНК и аминокислотную последовательность соответствующего фрагмента молекулы белка, используя таблицу генетического ко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274680"/>
            <a:ext cx="876312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9.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ое исследование показало, что 30 % общего числа нуклеотидов данной и- РНК приходится на урацил, 26 % -на цитозин, 24 %- на аденин. Что можно сказать о нуклеотидном составе соответствующего участка двух цепочечной ДНК, слепком с которого является и-РН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10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нном фрагменте молекулы ДНК: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-А-Г-Ц-Г-А-Т-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-Г-Ц-Т-А-Г-Ц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ошла генная мутация – восьмой нуклеотид переместился на первое место. Определите последовательность нуклеотидов в фрагменте молекулы ДНК, антикодоны т-РНК, виды и порядок аминокислот, которые кодируют фрагмент и-РНК. Используйте таблицу генетического к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предложенному фрагменту гена:      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-А-Ц-Г-Т-А-Т-Ц-Ц-Г-А-Т-Ц-Г-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е и-РНК, антикодоны   т-РНК и состав аминокислот, закодированных данным отрезком г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иосинтезе полипептида участвовали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-РН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антикодонам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УА, ГГЦ, ЦГЦ, АУУ, ЦГ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Определите нуклеотидную последовательность участка каждой цепи молекулы ДНК, который несет информацию о синтезируемом полипептиде,  число нуклеотидов, содержащих аденин, гуанин, тимин и цитозин в двуцепочечной молекуле ДН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дача № 2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но, что все виды РНК синтезируются на ДНК-матрице. Фрагмент молекулы ДНК, на котором синтезируется участок центральной петли  т - РНК, имеет последовательность нуклеотидов: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-Г-Т-Т-Г-Г-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-Ц-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-Г-Г-Ц-Т-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становите нуклеотидную последовательность участка т-РНК, который синтезируется на данном фрагменте, и аминокислоту, которую будет переносить эта т-РНК в процессе биосинтеза белка, если 3-ий триплет соответствует антикодону т-РНК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поясн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3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овательности одной из цепе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Н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 А Г Ц А Г Г Т А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произошла мутация- это выпадение второго нуклеотида в третьем триплете. Используя таблицу генетического кода, определите исходную  аминокислотную последовательность. Изменится ли первичная структура исходного полипептида? Ответ поясните. К какому виду мутаций относится данное изменение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4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-РНК содержит 120 нуклеотидов. Определите число аминокислот, входящих в копируемый ею белок, число молекул Т-РНК, участвующих в процессе биосинтеза этого белка, число триплетов в участке гена, кодирующих первичную структуру этого белка. Объясните результа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5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асток молекулы ДНК, кодирующий последовательность аминокислот в белке, имеет следующий состав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 А Т Г А А 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 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Г Т Г Ц Т Т 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Объясните, к каким  последствиям может привести случайное добавление нуклеотида гуанина между 7 и 8 нуклеотидам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6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ок молекулы  одной из цепей молекулы ДНК содержит 400 нуклеотидов с Аденином, 200 нуклеотидов с Тимином, 50 нуклеотидов с гуанином, 250 нуклеотидов с цитозином. Какое число нуклеотидов с А, Т,Г, Ц содержится в двух цепях ДНК? Сколько аминокислот должен содержать белок, кодируемый этим участком молекулы ДНК? Объясните отв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-360" y="1519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6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ок молекулы  одной из цепей молекулы ДНК содержит 400 нуклеотидов с Аденином, 200 нуклеотидов с Тимином, 50 нуклеотидов с гуанином, 250 нуклеотидов с цитозином. Какое число нуклеотидов с А, Т,Г, Ц содержится в двух цепях ДНК? Сколько аминокислот должен содержать белок, кодируемый этим участком молекулы ДНК? Объясните отв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7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молекуле ДНК находится 1400 нуклеотидов с Тимином, что составляет 5 % от их общего числа. Определите количество нуклеотидов с гуанином? Цитозином? Аденином? Объясните полученные результат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а № 8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роцессе гликолиза образовалось 42 молекулы ПВК. Какое количество глюкозы подверглось расщеплению и сколько молекул АТФ образовалось при полном окислени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4-05-05T05:54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