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D9C-CB9A-49A4-B318-EBA3B92C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413-E60D-4CCA-8991-05914325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140-779A-46B0-8BFF-2C1C99D3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BA4-CA4D-4A9B-9B93-B6B70FAE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4F0-EF84-4FDD-9E01-1E2544EC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8F2-79E6-48AE-AB21-27ABC13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E9B-AD38-4A57-824A-C02F523E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AC1-6DD2-451D-A924-4593CE76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F37-972C-4CF3-8CD7-380CD705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D4C-7D76-4643-9E1D-613E60E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12E-A08D-48FC-9FAA-06134A3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1F4-00A5-441C-9778-54D9B115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D555-8402-4700-9F29-DFBD67566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3-tub-ru.yandex.net/i?id=dcb0b4cc3ac204762643b5da1fa4d195-58-144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ФУТБО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00720" y="5105520"/>
            <a:ext cx="464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абота обучающегося 4 «Г» класса МОУ «СОШ №93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урзакова  Дмитр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читель Шапошникова Т.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0" y="1248120"/>
            <a:ext cx="4284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тбол в России до 1917 не получил массового распространения. Подлинно массовым он стал в годы Советской власти. С 1923 начали разыгрываться чемпионаты страны, вначале для сборных команд городов (наибольших успехов добилась сборная Москвы). С 1936 разыгрывались чемпионаты и Кубок СССР для клубных команд. В 1930- гг. гремели имена братьев Старостиных, выступавших за московский «Спартак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ФОРУМ ФНК * Просмотр темы - Футбольная коллекция"/>
          <p:cNvPicPr/>
          <p:nvPr/>
        </p:nvPicPr>
        <p:blipFill>
          <a:blip r:embed="rId1"/>
          <a:stretch/>
        </p:blipFill>
        <p:spPr>
          <a:xfrm>
            <a:off x="3048120" y="2421000"/>
            <a:ext cx="6095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7093080" y="1365480"/>
            <a:ext cx="1726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мпионами СССР были: тринадцать раз становилось «Динамо» (Киев), двенадцать раз — «Спартак» (Москва), одиннадцать — Динамо» (Москва), семь раз — ЦДКА-ЦСКА, три раза «Торпедо» (Москва), дважды — «Динамо» (Тбилиси), дважды — «Днепр» (Днепропетровск), по одному разу — «Арарат» (Ереван), «Динамо » (Минск) и «Зенит» (Ленинград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tatasoz - Футбол СССР"/>
          <p:cNvPicPr/>
          <p:nvPr/>
        </p:nvPicPr>
        <p:blipFill>
          <a:blip r:embed="rId1"/>
          <a:stretch/>
        </p:blipFill>
        <p:spPr>
          <a:xfrm>
            <a:off x="0" y="0"/>
            <a:ext cx="66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187280" y="2214000"/>
            <a:ext cx="59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распада СССР в 1991 в России и других союзных республиках стали проводиться собственные национальные чемпионаты. Безусловным лидером российского футбола является московский «Спартак». Команда становилась чемпионом в 1992-2001 (кроме 1995, когда высший титул завоевала команда «Спартак-Алания»). Обладателями Кубка России были: «Торпедо» (Москва) — 1993; «Спартак» (Москва) — 1994, 1998; «Динамо» (Москва) — 1995; «Локомотив» (Москва) — 1996, 1997, 2000; «Зенит» (Санкт-Петербург) — 199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Скачать Сборная России по футболу в отборочном турнире Евро-2012 Обзоры матчей SATRip, SD, RU Обновлено 05.06.11 torrent - Torre"/>
          <p:cNvPicPr/>
          <p:nvPr/>
        </p:nvPicPr>
        <p:blipFill>
          <a:blip r:embed="rId1"/>
          <a:stretch/>
        </p:blipFill>
        <p:spPr>
          <a:xfrm>
            <a:off x="0" y="4335480"/>
            <a:ext cx="3851280" cy="252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Фото с матча Россия - Голландия &quot; Fufel.INFO - приколы всея Интернета"/>
          <p:cNvPicPr/>
          <p:nvPr/>
        </p:nvPicPr>
        <p:blipFill>
          <a:blip r:embed="rId2"/>
          <a:stretch/>
        </p:blipFill>
        <p:spPr>
          <a:xfrm>
            <a:off x="5248440" y="3935520"/>
            <a:ext cx="38955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0-tub-ru.yandex.net/i?id=9e1f95209c99845b9b748bfffd1ebcc1-30-144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06292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 (англ. football, от foot — нога и ball — мяч)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игра на травяном поле, в которой две противоборствующие команды (по 11 человек в каждой), используя ведение и передачи мяча ногами или другой частью тела (кроме рук), стремятся забить его в ворота соперника и не пропустить в сво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Футбо́л -олімпійський вид спорту, командна спортивна гра, у якій беруть участь дві команди по одинадцять гравців у кожні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50920" y="40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утбольное поле — 90-120x45-90 м, продолжительность игры — 90 ми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 тайма по 45 мин с перерывом 15 мин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0-tub-ru.yandex.net/i?id=9e1f95209c99845b9b748bfffd1ebcc1-30-144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900000" y="1989000"/>
            <a:ext cx="691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олимпийском турнире участвуют 16 команд: 14 вакансий разыгрывается в отборочных соревнованиях: чемпион предыдущих Олимпийских игр и команда страны-организатора Олимпиады допускаются к соревнованиям без отборочных матч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281600" y="189000"/>
            <a:ext cx="741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утбол на летней олимпиа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765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1930 проводятся чемпионаты мира по футболу (так же, как и олимпийские турниры один раз в четырехлетие, в четные годы между високосными). В них принимают участие, в основном, профессиональные футболис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4120" y="-275760"/>
            <a:ext cx="579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мпионат ми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6732720" y="1802880"/>
            <a:ext cx="212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время проведения чемпионатов мира обнаружилась одна показательная особенность — очень часто на выступление команды, страна которой принимала мировой чемпионат, самым позитивным образом влияло место его провед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Первый взгляд: знакомство с участниками ЧМ по футболу-2014 в Бразилии Фото Р-Спорт. Все главные новости спорта"/>
          <p:cNvPicPr/>
          <p:nvPr/>
        </p:nvPicPr>
        <p:blipFill>
          <a:blip r:embed="rId1"/>
          <a:stretch/>
        </p:blipFill>
        <p:spPr>
          <a:xfrm>
            <a:off x="0" y="2476440"/>
            <a:ext cx="6572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quot;Манчестер Юнайтед&quot; пробился в полуфинал Кубка Англии PUBLIKA .MD"/>
          <p:cNvPicPr/>
          <p:nvPr/>
        </p:nvPicPr>
        <p:blipFill>
          <a:blip r:embed="rId1"/>
          <a:stretch/>
        </p:blipFill>
        <p:spPr>
          <a:xfrm>
            <a:off x="5219640" y="1916280"/>
            <a:ext cx="392436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бок Евро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2133720"/>
            <a:ext cx="4680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1958-1960 был проведен розыгрыш первого Кубка Европы (впоследствии всегда финалы Кубка и заменившего его чемпионата Европы проводятся в високосные годы). В первом финале 1960 сборная СССР победила сборную Югославии (2:1), в составе сборной СССР играли Л. Яшин, Г. Чохели, А. Масленкин, А. Крутиков, Ю. Войнов, И. Нетто, С. Метревели, Вал. Иванов, В. Понедельник, В. Бубукин, М. Месх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Новость: Лига чемпионов в цифрах"/>
          <p:cNvPicPr/>
          <p:nvPr/>
        </p:nvPicPr>
        <p:blipFill>
          <a:blip r:embed="rId1"/>
          <a:stretch/>
        </p:blipFill>
        <p:spPr>
          <a:xfrm>
            <a:off x="3924360" y="765000"/>
            <a:ext cx="5219640" cy="3240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бок европейских чемпион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4005000"/>
            <a:ext cx="64911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езоне 1955-56 впервые был разыгран Кубок европейских чемпионов (ныне — Лига чемпионов). Чаще всего победителем этого турнира становились мадридский «Реал» (Испания) (1956-1960, 1966, 1998, 2002), «Милан» (Италия) (1963, 1969, 1989, 1990, 1994, 2003), «Аякс» (Амстердам, Нидерланды) (1971-1973, 1995), «Ливерпуль» (Англия) (1977, 1978, 1981, 1984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бок УЕФ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бок УЕФА (для призеров национальных чемпионатов) разыгрывался с 1958 (до 1971 носил название Кубок Ярмарок). «Барселона» (Испания) побеждала в 1958, 1960, 1966, «Ювентус» (Турин, Италия) — в 1977, 1990, 1993, «Интер» (Милан, Италия) — в 1991, 1994, 199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24000" y="1065960"/>
            <a:ext cx="5760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ая игра сборных команд Петербурга и Москвы состоялась в 1907 и закончилась победой Петербурга 2:0. В 1911 был организован Всероссийский футбольный союз. В 1913 было разыграно второе первенство России. Результат был сенсационным. Команда Петербурга, бесспорный фаворит, проиграла одесситам в финальном матче со счетом 2:4. В 1914 начавшиеся встречи на первенстве России доведены до конца не были. Их прервала Первая мировая война. На международную арену русские футболисты вышли впервые в 1910, когда Россию посетила команда пражского клуба «Коринтианс». Русские футболисты не могли оказать иностранцам должного сопротивления и большей частью проигрывали. История его только начиналас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Откуда берет начало проблема российского футбола? Big-Soccer.Ru"/>
          <p:cNvPicPr/>
          <p:nvPr/>
        </p:nvPicPr>
        <p:blipFill>
          <a:blip r:embed="rId1"/>
          <a:stretch/>
        </p:blipFill>
        <p:spPr>
          <a:xfrm>
            <a:off x="4284720" y="3503520"/>
            <a:ext cx="48592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405720" y="26028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утбол в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22:19:05Z</dcterms:created>
  <dc:creator>А где 800р</dc:creator>
  <dc:description/>
  <dc:language>en-US</dc:language>
  <cp:lastModifiedBy>Владимир</cp:lastModifiedBy>
  <dcterms:modified xsi:type="dcterms:W3CDTF">2015-08-15T16:01:13Z</dcterms:modified>
  <cp:revision>6</cp:revision>
  <dc:subject/>
  <dc:title>ФУТБОЛ (англ. football, от foot — нога и ball — мяч), спортивная игра на травяном поле, в которой две противоборствующие команды (по 11 человек в каждой), используя ведение и передачи мяча ногами или другой частью тела (кроме рук), стремятся забить его в ворота соперника и не пропустить в свои.</dc:title>
</cp:coreProperties>
</file>