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1A5-7C5D-40B6-B912-595D4F2E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0BB-D668-4887-B46A-FC370773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B231-652E-4A56-89F2-3C6C2A59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284-30A1-4D2A-9FC7-EC8D6209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74F-E0E5-4C37-9198-FA58D7A1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323-CF99-43E7-AF22-BD831767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C35-8035-46CD-89F8-7C202E6B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F0B-7B60-44B2-84CB-63B14115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178-7ADD-4C31-BACB-B77705BE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C6B-1DFC-41C2-9818-DBB85B0A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80E-A59C-4E21-9200-CF14E8E2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276-BA6A-4BB3-B720-D67DB7C3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73FF-ABA3-43EF-96E0-78251F76C5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im3-tub-ru.yandex.net/i?id=dcb0b4cc3ac204762643b5da1fa4d195-58-144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967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ФУТБОЛ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00720" y="5105520"/>
            <a:ext cx="464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Работа обучающегося 4 «Г» класса МОУ «СОШ №93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Мурзакова  Дмитр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Учитель Шапошникова Т.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0" y="1248120"/>
            <a:ext cx="4284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Футбол в России до 1917 не получил массового распространения. Подлинно массовым он стал в годы Советской власти. С 1923 начали разыгрываться чемпионаты страны, вначале для сборных команд городов (наибольших успехов добилась сборная Москвы). С 1936 разыгрывались чемпионаты и Кубок СССР для клубных команд. В 1930- гг. гремели имена братьев Старостиных, выступавших за московский «Спартак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ФОРУМ ФНК * Просмотр темы - Футбольная коллекция"/>
          <p:cNvPicPr/>
          <p:nvPr/>
        </p:nvPicPr>
        <p:blipFill>
          <a:blip r:embed="rId1"/>
          <a:stretch/>
        </p:blipFill>
        <p:spPr>
          <a:xfrm>
            <a:off x="3048120" y="2421000"/>
            <a:ext cx="60958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7093080" y="1365480"/>
            <a:ext cx="1726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мпионами СССР были: тринадцать раз становилось «Динамо» (Киев), двенадцать раз — «Спартак» (Москва), одиннадцать — Динамо» (Москва), семь раз — ЦДКА-ЦСКА, три раза «Торпедо» (Москва), дважды — «Динамо» (Тбилиси), дважды — «Днепр» (Днепропетровск), по одному разу — «Арарат» (Ереван), «Динамо » (Минск) и «Зенит» (Ленинград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tatasoz - Футбол СССР"/>
          <p:cNvPicPr/>
          <p:nvPr/>
        </p:nvPicPr>
        <p:blipFill>
          <a:blip r:embed="rId1"/>
          <a:stretch/>
        </p:blipFill>
        <p:spPr>
          <a:xfrm>
            <a:off x="0" y="0"/>
            <a:ext cx="66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1187280" y="2214000"/>
            <a:ext cx="5940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распада СССР в 1991 в России и других союзных республиках стали проводиться собственные национальные чемпионаты. Безусловным лидером российского футбола является московский «Спартак». Команда становилась чемпионом в 1992-2001 (кроме 1995, когда высший титул завоевала команда «Спартак-Алания»). Обладателями Кубка России были: «Торпедо» (Москва) — 1993; «Спартак» (Москва) — 1994, 1998; «Динамо» (Москва) — 1995; «Локомотив» (Москва) — 1996, 1997, 2000; «Зенит» (Санкт-Петербург) — 199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Скачать Сборная России по футболу в отборочном турнире Евро-2012 Обзоры матчей SATRip, SD, RU Обновлено 05.06.11 torrent - Torre"/>
          <p:cNvPicPr/>
          <p:nvPr/>
        </p:nvPicPr>
        <p:blipFill>
          <a:blip r:embed="rId1"/>
          <a:stretch/>
        </p:blipFill>
        <p:spPr>
          <a:xfrm>
            <a:off x="0" y="4335480"/>
            <a:ext cx="3851280" cy="2522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Фото с матча Россия - Голландия &quot; Fufel.INFO - приколы всея Интернета"/>
          <p:cNvPicPr/>
          <p:nvPr/>
        </p:nvPicPr>
        <p:blipFill>
          <a:blip r:embed="rId2"/>
          <a:stretch/>
        </p:blipFill>
        <p:spPr>
          <a:xfrm>
            <a:off x="5248440" y="3935520"/>
            <a:ext cx="389556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im0-tub-ru.yandex.net/i?id=9e1f95209c99845b9b748bfffd1ebcc1-30-144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197000"/>
            <a:ext cx="806292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БОЛ (англ. football, от foot — нога и ball — мяч)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ая игра на травяном поле, в которой две противоборствующие команды (по 11 человек в каждой), используя ведение и передачи мяча ногами или другой частью тела (кроме рук), стремятся забить его в ворота соперника и не пропустить в сво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Футбо́л -олімпійський вид спорту, командна спортивна гра, у якій беруть участь дві команди по одинадцять гравців у кожні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250920" y="404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утбольное поле — 90-120x45-90 м, продолжительность игры — 90 ми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2 тайма по 45 мин с перерывом 15 мин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0-tub-ru.yandex.net/i?id=9e1f95209c99845b9b748bfffd1ebcc1-30-144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900000" y="1989000"/>
            <a:ext cx="691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олимпийском турнире участвуют 16 команд: 14 вакансий разыгрывается в отборочных соревнованиях: чемпион предыдущих Олимпийских игр и команда страны-организатора Олимпиады допускаются к соревнованиям без отборочных матч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281600" y="189000"/>
            <a:ext cx="741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утбол на летней олимпиа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24000" y="765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1930 проводятся чемпионаты мира по футболу (так же, как и олимпийские турниры один раз в четырехлетие, в четные годы между високосными). В них принимают участие, в основном, профессиональные футболис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24120" y="-275760"/>
            <a:ext cx="579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мпионат мир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6732720" y="1802880"/>
            <a:ext cx="212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 время проведения чемпионатов мира обнаружилась одна показательная особенность — очень часто на выступление команды, страна которой принимала мировой чемпионат, самым позитивным образом влияло место его проведения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Первый взгляд: знакомство с участниками ЧМ по футболу-2014 в Бразилии Фото Р-Спорт. Все главные новости спорта"/>
          <p:cNvPicPr/>
          <p:nvPr/>
        </p:nvPicPr>
        <p:blipFill>
          <a:blip r:embed="rId1"/>
          <a:stretch/>
        </p:blipFill>
        <p:spPr>
          <a:xfrm>
            <a:off x="0" y="2476440"/>
            <a:ext cx="6572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&quot;Манчестер Юнайтед&quot; пробился в полуфинал Кубка Англии PUBLIKA .MD"/>
          <p:cNvPicPr/>
          <p:nvPr/>
        </p:nvPicPr>
        <p:blipFill>
          <a:blip r:embed="rId1"/>
          <a:stretch/>
        </p:blipFill>
        <p:spPr>
          <a:xfrm>
            <a:off x="5219640" y="1916280"/>
            <a:ext cx="392436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убок Европ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2133720"/>
            <a:ext cx="4680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1958-1960 был проведен розыгрыш первого Кубка Европы (впоследствии всегда финалы Кубка и заменившего его чемпионата Европы проводятся в високосные годы). В первом финале 1960 сборная СССР победила сборную Югославии (2:1), в составе сборной СССР играли Л. Яшин, Г. Чохели, А. Масленкин, А. Крутиков, Ю. Войнов, И. Нетто, С. Метревели, Вал. Иванов, В. Понедельник, В. Бубукин, М. Месх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Новость: Лига чемпионов в цифрах"/>
          <p:cNvPicPr/>
          <p:nvPr/>
        </p:nvPicPr>
        <p:blipFill>
          <a:blip r:embed="rId1"/>
          <a:stretch/>
        </p:blipFill>
        <p:spPr>
          <a:xfrm>
            <a:off x="3924360" y="765000"/>
            <a:ext cx="5219640" cy="3240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убок европейских чемпион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4005000"/>
            <a:ext cx="649116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езоне 1955-56 впервые был разыгран Кубок европейских чемпионов (ныне — Лига чемпионов). Чаще всего победителем этого турнира становились мадридский «Реал» (Испания) (1956-1960, 1966, 1998, 2002), «Милан» (Италия) (1963, 1969, 1989, 1990, 1994, 2003), «Аякс» (Амстердам, Нидерланды) (1971-1973, 1995), «Ливерпуль» (Англия) (1977, 1978, 1981, 1984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убок УЕФ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бок УЕФА (для призеров национальных чемпионатов) разыгрывался с 1958 (до 1971 носил название Кубок Ярмарок). «Барселона» (Испания) побеждала в 1958, 1960, 1966, «Ювентус» (Турин, Италия) — в 1977, 1990, 1993, «Интер» (Милан, Италия) — в 1991, 1994, 199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24000" y="1065960"/>
            <a:ext cx="57607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ая игра сборных команд Петербурга и Москвы состоялась в 1907 и закончилась победой Петербурга 2:0. В 1911 был организован Всероссийский футбольный союз. В 1913 было разыграно второе первенство России. Результат был сенсационным. Команда Петербурга, бесспорный фаворит, проиграла одесситам в финальном матче со счетом 2:4. В 1914 начавшиеся встречи на первенстве России доведены до конца не были. Их прервала Первая мировая война. На международную арену русские футболисты вышли впервые в 1910, когда Россию посетила команда пражского клуба «Коринтианс». Русские футболисты не могли оказать иностранцам должного сопротивления и большей частью проигрывали. История его только начиналас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Откуда берет начало проблема российского футбола? Big-Soccer.Ru"/>
          <p:cNvPicPr/>
          <p:nvPr/>
        </p:nvPicPr>
        <p:blipFill>
          <a:blip r:embed="rId1"/>
          <a:stretch/>
        </p:blipFill>
        <p:spPr>
          <a:xfrm>
            <a:off x="4284720" y="3503520"/>
            <a:ext cx="4859280" cy="335448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405720" y="260280"/>
            <a:ext cx="41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утбол в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22:19:05Z</dcterms:created>
  <dc:creator>А где 800р</dc:creator>
  <dc:description/>
  <dc:language>en-US</dc:language>
  <cp:lastModifiedBy>Владимир</cp:lastModifiedBy>
  <dcterms:modified xsi:type="dcterms:W3CDTF">2015-08-15T16:01:13Z</dcterms:modified>
  <cp:revision>6</cp:revision>
  <dc:subject/>
  <dc:title>ФУТБОЛ (англ. football, от foot — нога и ball — мяч), спортивная игра на травяном поле, в которой две противоборствующие команды (по 11 человек в каждой), используя ведение и передачи мяча ногами или другой частью тела (кроме рук), стремятся забить его в ворота соперника и не пропустить в свои.</dc:title>
</cp:coreProperties>
</file>