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6B85-E542-4F17-A2C2-25228FC1C2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ибли дети – граждане ми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D581-E29E-47E0-B007-734FE6DF3CC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B92-6145-400D-B96A-2A5A1FE2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AC1-43D0-448E-BB7C-945ECE26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883-EA80-42CD-B34A-52DABF33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188-BE46-4B0B-9EB7-B988850F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1BB4-29DA-4162-838A-7560CB94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597C-90E9-4754-8888-4EE8F82A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D1B6-E87A-49A1-A59F-1D01AFB5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A719-1D21-4956-856A-91218C60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DE81-37A3-42AB-99A4-5E68B7B9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1F5E-A11B-427E-82C6-50A02C25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2433-86D4-4937-A641-B378A93C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481-FE72-47D4-97C0-29C05F9C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B6D3-590C-4657-987D-CF8B21A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7A97-90EE-41CE-A00C-133BF6FF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B1CB-D340-4240-9BF5-4E2E71FA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7A4B-D095-49B5-BF12-DE0BB983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0EA7-E440-4BDD-95AB-27C360EB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B89-6BCE-4C38-9C6E-3EEA2F1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E83-BBC9-46B4-8719-77D7D23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699-B836-468B-90B1-EE6B056C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023-C486-4136-92CC-718E1543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9DB-E6D7-418D-A9AB-0493235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D2B-01AA-488C-AD8D-AE59ACAE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45A-97E9-4319-93B0-0A30AC7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C550-C441-40F9-AD31-0CB32492A2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6E90-6A5F-4BF7-AB6F-98E9CD20D0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r1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134560" cy="4392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ffff00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ahoma"/>
              </a:rPr>
              <a:t>У ВОЙНЫ </a:t>
            </a:r>
            <a:br>
              <a:rPr sz="9600"/>
            </a:br>
            <a:r>
              <a:rPr b="0" lang="ru-RU" sz="9600" spc="-1" strike="noStrike">
                <a:solidFill>
                  <a:srgbClr val="ff0000"/>
                </a:solidFill>
                <a:latin typeface="Tahoma"/>
              </a:rPr>
              <a:t>НЕ ДЕТСКОЕ ЛИЦО…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Minusovka_Svyacshennaya_vojna_vmusice.net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Эта тонкая тетрадка стоит многих толстых книг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Picture 4" descr="апгна"/>
          <p:cNvPicPr/>
          <p:nvPr/>
        </p:nvPicPr>
        <p:blipFill>
          <a:blip r:embed="rId1"/>
          <a:stretch/>
        </p:blipFill>
        <p:spPr>
          <a:xfrm>
            <a:off x="179280" y="1773360"/>
            <a:ext cx="4557960" cy="4606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нш89щ"/>
          <p:cNvPicPr/>
          <p:nvPr/>
        </p:nvPicPr>
        <p:blipFill>
          <a:blip r:embed="rId2"/>
          <a:stretch/>
        </p:blipFill>
        <p:spPr>
          <a:xfrm>
            <a:off x="5003640" y="1773360"/>
            <a:ext cx="3397320" cy="46353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о время войны погибло 15 миллионов детей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1" name="Picture 2" descr="C:\Users\USer\Downloads\2d5ce2_eta.jpg"/>
          <p:cNvPicPr/>
          <p:nvPr/>
        </p:nvPicPr>
        <p:blipFill>
          <a:blip r:embed="rId1"/>
          <a:stretch/>
        </p:blipFill>
        <p:spPr>
          <a:xfrm>
            <a:off x="826920" y="1700280"/>
            <a:ext cx="7593120" cy="384336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3"/>
          <p:cNvSpPr/>
          <p:nvPr/>
        </p:nvSpPr>
        <p:spPr>
          <a:xfrm>
            <a:off x="711000" y="5877000"/>
            <a:ext cx="78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гибли дети – граждане мира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ак хорошо на свете без войны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683480" cy="518328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8" descr="C:\Users\USer\Downloads\75153467_2206.jpg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ятое пламя трепетно горит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 могиле неизвестного солдата ты в праздники и будни приходи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8" name="Picture 4" descr="G:\DSC02650.JPG"/>
          <p:cNvPicPr/>
          <p:nvPr/>
        </p:nvPicPr>
        <p:blipFill>
          <a:blip r:embed="rId1"/>
          <a:stretch/>
        </p:blipFill>
        <p:spPr>
          <a:xfrm>
            <a:off x="2556000" y="1341360"/>
            <a:ext cx="4011480" cy="53485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 rot="20371800">
            <a:off x="1153800" y="3271680"/>
            <a:ext cx="6697440" cy="101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ы с вами родились в мирное время, но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4" descr="C:\Users\USer\Downloads\761de3c6d7bbb505394c6da5284ea6ad08f89f78_750.jpg"/>
          <p:cNvPicPr/>
          <p:nvPr/>
        </p:nvPicPr>
        <p:blipFill>
          <a:blip r:embed="rId1"/>
          <a:stretch/>
        </p:blipFill>
        <p:spPr>
          <a:xfrm>
            <a:off x="324000" y="1773360"/>
            <a:ext cx="4319280" cy="2879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USer\Downloads\04-44-3.jpg"/>
          <p:cNvPicPr/>
          <p:nvPr/>
        </p:nvPicPr>
        <p:blipFill>
          <a:blip r:embed="rId2"/>
          <a:stretch/>
        </p:blipFill>
        <p:spPr>
          <a:xfrm>
            <a:off x="4067280" y="3573360"/>
            <a:ext cx="4408560" cy="295272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2 июня 1941 года началась Великая Отечественная Война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7" descr="C:\Users\USer\Downloads\102241710_3745438_05.jpg"/>
          <p:cNvPicPr/>
          <p:nvPr/>
        </p:nvPicPr>
        <p:blipFill>
          <a:blip r:embed="rId1"/>
          <a:stretch/>
        </p:blipFill>
        <p:spPr>
          <a:xfrm>
            <a:off x="250920" y="1341360"/>
            <a:ext cx="4619520" cy="2808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Users\USer\Downloads\30806192_kolonna_pole.jpg"/>
          <p:cNvPicPr/>
          <p:nvPr/>
        </p:nvPicPr>
        <p:blipFill>
          <a:blip r:embed="rId2"/>
          <a:stretch/>
        </p:blipFill>
        <p:spPr>
          <a:xfrm>
            <a:off x="4140360" y="3716280"/>
            <a:ext cx="4752720" cy="282564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ойна длилась                                              3 года 10 месяцев 17 дн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Picture 5" descr="C:\Users\USer\Downloads\1395338445_054.jpg"/>
          <p:cNvPicPr/>
          <p:nvPr/>
        </p:nvPicPr>
        <p:blipFill>
          <a:blip r:embed="rId1"/>
          <a:stretch/>
        </p:blipFill>
        <p:spPr>
          <a:xfrm>
            <a:off x="324000" y="3860640"/>
            <a:ext cx="4248000" cy="2829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Users\USer\Downloads\1395338480_067.jpg"/>
          <p:cNvPicPr/>
          <p:nvPr/>
        </p:nvPicPr>
        <p:blipFill>
          <a:blip r:embed="rId2"/>
          <a:stretch/>
        </p:blipFill>
        <p:spPr>
          <a:xfrm>
            <a:off x="4643280" y="1557360"/>
            <a:ext cx="4289760" cy="272412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былось не громкое имя, осталось лишь кличка «связной»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2" descr="C:\Users\USer\Downloads\extremely_young_soldiers_from_around_the_world_640_high_16.jpg"/>
          <p:cNvPicPr/>
          <p:nvPr/>
        </p:nvPicPr>
        <p:blipFill>
          <a:blip r:embed="rId1"/>
          <a:stretch/>
        </p:blipFill>
        <p:spPr>
          <a:xfrm>
            <a:off x="2268360" y="1413000"/>
            <a:ext cx="4175280" cy="521964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Не смотря на трудности, дети не забывали об учеб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5" descr="C:\Users\USer\Downloads\1380007925_12.jpg"/>
          <p:cNvPicPr/>
          <p:nvPr/>
        </p:nvPicPr>
        <p:blipFill>
          <a:blip r:embed="rId1"/>
          <a:stretch/>
        </p:blipFill>
        <p:spPr>
          <a:xfrm>
            <a:off x="1116000" y="1484280"/>
            <a:ext cx="6840720" cy="509580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И дети внесли свой вклад                            в побед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Picture 5" descr="C:\Users\USer\Downloads\57c64ca6bb59.jpg"/>
          <p:cNvPicPr/>
          <p:nvPr/>
        </p:nvPicPr>
        <p:blipFill>
          <a:blip r:embed="rId1"/>
          <a:stretch/>
        </p:blipFill>
        <p:spPr>
          <a:xfrm>
            <a:off x="4572000" y="3141720"/>
            <a:ext cx="4200480" cy="3143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C:\Users\USer\Downloads\100694295_large_ppsch.jpg"/>
          <p:cNvPicPr/>
          <p:nvPr/>
        </p:nvPicPr>
        <p:blipFill>
          <a:blip r:embed="rId2"/>
          <a:stretch/>
        </p:blipFill>
        <p:spPr>
          <a:xfrm>
            <a:off x="395280" y="1773360"/>
            <a:ext cx="4305240" cy="295092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900 дней и ночей длилась блокада Ленинград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Picture 4" descr="C:\Users\USer\Downloads\19862.jpg"/>
          <p:cNvPicPr/>
          <p:nvPr/>
        </p:nvPicPr>
        <p:blipFill>
          <a:blip r:embed="rId1"/>
          <a:stretch/>
        </p:blipFill>
        <p:spPr>
          <a:xfrm>
            <a:off x="4500720" y="1484280"/>
            <a:ext cx="4319280" cy="324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Users\USer\Downloads\wpid-sXYoWxRdG-g.jpg"/>
          <p:cNvPicPr/>
          <p:nvPr/>
        </p:nvPicPr>
        <p:blipFill>
          <a:blip r:embed="rId2"/>
          <a:stretch/>
        </p:blipFill>
        <p:spPr>
          <a:xfrm>
            <a:off x="395280" y="3284640"/>
            <a:ext cx="4100400" cy="334008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Блокадный хлеб Ленинград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26920" y="5444640"/>
            <a:ext cx="38894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Детям 125 грамм на де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Picture 2" descr="C:\Users\USer\Downloads\8593.jpg"/>
          <p:cNvPicPr/>
          <p:nvPr/>
        </p:nvPicPr>
        <p:blipFill>
          <a:blip r:embed="rId1"/>
          <a:stretch/>
        </p:blipFill>
        <p:spPr>
          <a:xfrm>
            <a:off x="324000" y="1341360"/>
            <a:ext cx="4895640" cy="36720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бю"/>
          <p:cNvPicPr/>
          <p:nvPr/>
        </p:nvPicPr>
        <p:blipFill>
          <a:blip r:embed="rId2"/>
          <a:stretch/>
        </p:blipFill>
        <p:spPr>
          <a:xfrm>
            <a:off x="5076720" y="3789360"/>
            <a:ext cx="3638520" cy="26845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1:18:10Z</dcterms:created>
  <dc:creator>Vital</dc:creator>
  <dc:description/>
  <dc:language>en-US</dc:language>
  <cp:lastModifiedBy>1</cp:lastModifiedBy>
  <dcterms:modified xsi:type="dcterms:W3CDTF">2015-08-16T11:24:55Z</dcterms:modified>
  <cp:revision>76</cp:revision>
  <dc:subject/>
  <dc:title>Великие полководцы и флотоводцы России</dc:title>
</cp:coreProperties>
</file>