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A13-5D79-40C7-8EC9-9376477F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61E-6786-47D5-937A-1EA5A8B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CA8AC-D001-479B-80BF-F04763F6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9C530-376A-41CD-B554-08795A8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5F32-91BE-4EAE-9693-CD1C3E3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B655E-64FC-449E-8937-14D9678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E99A3-0757-4E10-946F-245ABE6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ABFEF-D0EA-4068-95A3-1914AE1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A434A-DFF6-41B6-86C2-8950548B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A2D5A-92AB-4BB5-9678-1B4E6CBE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C373F-B5AC-4D20-A386-D2218029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77D53-98A9-4B07-AD26-F8D8500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6EC-FC27-4F2E-96B5-55FFD744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BFFD6-250C-4DC7-895E-341D86A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F48A0-A8E9-4EA4-9942-45B3BFC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EF365-8DCD-45A5-B07D-28C6C38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7976-E761-4972-B46C-CB6909D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C78B5-78F1-460F-9A08-1970021D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15A04-29E7-4415-A7DD-52A3C44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3A588-E15D-4476-9CE9-076E8B3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71FF1-36A9-48C4-A691-09BCFD4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43AF8-C109-496B-94A6-37548A4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49D59-50FD-4FB4-BC18-4BDD1C33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92D-8FD9-4EFE-B582-143058D0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74AD2-C3F2-4851-8E04-764B0A52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8497BD-78F2-41AD-B37C-C8312699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F4663D-69F7-46F2-87E5-82ECB696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E82EF7-0B74-4DE9-B213-141BD3F2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285978-5709-4839-8573-81C32FD6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49E5EA-616A-45AF-88C1-E7301E18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ED5CD6-A9CA-4F7D-AEA6-2C6114F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8D3D0C-BA22-4FB6-BF7B-2C68E20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17DEA2-415F-4BB7-BB19-07D3E14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5CF341-25A0-455E-933C-A20C42A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D8A0-0E9C-46F1-A368-6F2AB46C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E62581-1853-43BE-B6EE-4FC50317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B1501-421F-4AC1-A03C-F990AC8D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9C51BA-86E2-466E-BF69-67B77011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66AEEE-ECB7-4093-A028-20655890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CC412B-4B35-4424-8CD3-730C5618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3002A6-8AB7-4537-B7B1-6A10F338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FB777C-28B5-4874-96CC-C41FFECD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2B7065-1C4F-4066-B40B-FFE3B592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9E4939-1C38-4FC3-8CA1-467D7B57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C64BDF-D2EE-469E-B9DF-46D08E5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54C9-B8E7-445B-B7A8-BD153BF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D0F49E-C219-4834-9FC1-945908D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901D43-2B53-4E50-8980-F9F5EE2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61563-C000-47E7-B62E-1C60C649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508C22-22D7-4ADC-9DAC-B0D901E9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C93107-5DB7-49D3-96F3-8F9B9FFB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89A49-16B4-4CD0-9A78-4E03B05A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A14DC-E8E4-4449-B4DF-D41AAC5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2A1CB-726D-4371-B9E5-F2EDB6B0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17246-B862-4E9B-A809-DDBD98A9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31373-60A1-434E-89B2-9DBA05C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EB56-4431-47A4-80AE-3557692D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3502A-D5E9-4A4E-87E7-D6FAF95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799B9-31DE-4B91-BBA9-88991E1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91697-543F-4E99-A274-D0D9878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F7BE3-A042-4D00-9364-703563F6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08E54-2536-49EC-ACFC-A64864BA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D0F45-C3B5-4D13-9E3A-5942B5D0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DCA41-13F4-41A5-89B2-D329F31C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F489D-4407-42ED-B2BA-E97214BE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A6DFD-337E-4162-A9BF-5992D9C5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81C22-91B7-4C15-8996-8654AE1C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3031-7BE6-4C1F-98EE-81F5463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A39D5-3058-46FA-97E4-26A85BB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273B5-AFC7-4985-840C-C7BEB362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8634A-AB8C-4B7D-B1FC-47AC32C9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3F803-413B-44C4-B2E8-E0C056C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68754-E63E-4A81-9F9C-E8D8F1F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AFEEC-4ED0-4BE6-A81D-570ABE6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8150B-CAEA-401B-8D44-EB6B1A8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CF53F-8B21-4BB3-ABC4-8B3A3F5F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40FBC-A781-414C-B57E-C600068F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E718D-24E9-4B34-B0C5-0C872666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AB45-B9E4-431E-8EC4-0D5C4DE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D695A-16F2-4A94-9CDD-D69A2108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DD280-9AC1-4447-BF6D-F241A737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4D8B6-717E-40AC-AD27-94A64161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41CA3-E424-4A98-99C1-C23EFEF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2346D-FAB9-441D-9ADC-F15CE32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E7C22-C4F7-4679-8916-BB34926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2190C-D5CF-4BAA-B14D-345FFA3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98428-826A-4E8C-99FF-56149DA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9D73E-92B6-42DF-AC4D-1C86DC3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2FEC2-6DD5-4720-9F3C-04C67B3D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B642-7A21-4F46-B324-8A356FE6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920F4-2925-4018-AB32-AE393CEE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14999-C38C-4838-9A92-FADB9CD4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50244-5652-420B-A9CE-255C14B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E9E86-BEEC-4138-9D84-D6486767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B170E-4F26-41E4-A2B7-E860EF8B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7D3BD-AB31-4303-B680-5EFB587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AE9A8-511F-4831-B5EB-1F1B627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027CF-3FC3-4B03-8AEC-32CBC61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6200C-9F4C-4581-8556-D6EA311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49ED2-1C36-4906-BD14-3E3603E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80F-76F9-4015-9819-E4E51CD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4303D-50B8-4159-82D5-DE70E67B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09F15-8B0F-4FD3-8DAD-3220D55A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377ED-8786-4ECC-88AF-E03385DC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318-AE7D-4330-9E3D-9EDFB7FB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1185-304D-46F9-BE46-47A45158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A6C2-62E0-40BE-96ED-B3F6EBA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828-30C7-4BEF-A6B3-C437E0C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207E-5DD7-40AD-A721-2D087992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DF7-C2C1-4996-A421-E8DA2C56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B713-9CCE-4510-86FB-4C5C36A9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0587-FD3A-45C7-967B-9DB94F5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2CA0-D2F7-449A-AF77-082CA0E1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64F6-2ED5-4684-AD12-9054E8AF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511E-6FCD-4A8B-BC6D-F2C4C05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D97-26B1-4D19-A4E9-7DA62E34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118A-EEA1-4590-B595-573E8C4F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FC29-D4AC-40AD-B12B-DE1A527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8EC4-14C0-43CD-B982-B850D90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5C9E-ABFB-4A65-AD6E-11B83FC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AF01-A07D-4F09-B76C-F7A1CB05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CDFC-61EC-45A9-99C7-2B99561C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5F00-DC35-4575-831D-A8393255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8ABA-773C-48A2-A397-2DBE575F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2043-2DA1-49E1-8FE1-23DB814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235B-F847-43EC-B7B9-0064381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0D3-921B-4507-96DA-DC694E43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8800-AE62-4A57-B5B5-1450124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BC70-6545-4ED5-8A8C-491E5050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F258-A444-40EA-96E1-9B976253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3AF0-E6A6-425F-80C6-D7B044AC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335B-A6FE-4D2E-A511-3B2AD7E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6A24-716E-4452-8D30-BEBD039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166D-541A-4C83-B800-D00527A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3B8D6-004E-4ECA-9C47-569B5596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7F1C-DB28-4BE9-A69D-35A6B06D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0D153-227A-4723-86F7-3BDBD48F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B14-B87A-409D-ACD7-1276A4F3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EA52F-D662-4BA8-B1C5-A177CE3C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9DEB4-F341-49CA-9EA4-A055F88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ED757-804C-42AB-98EE-D9EF5C6F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A5C9C-CCB4-4D79-B71C-D7E714B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82141-DDA0-482E-A23E-E9CA8A8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53B39-0A57-4813-AE87-55D003D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17FD3-5579-4C71-8951-1F92252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2AD27-1506-4B81-A57E-BCEA59E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E7BD7-2D82-4573-A8B5-722BBCC5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89909-707F-415D-96EA-C544B561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C62-A159-4AD4-A701-72A285B6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A2DF8-6779-4033-B5D5-470E40C7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7484-53E0-4469-ADF4-07325B5D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61CE7-6A0D-4888-A985-E293972E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F2ED-2F7C-4204-A0E6-EFE1E345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19F3-2C30-472F-8E2A-D4557B9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7A8C8-43D1-4A4F-A17D-8A551ACE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737F-E2B2-4C27-B9BF-8D24DA5F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689C-EBB2-4AEE-8274-EA07887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E4C2-4CCF-4D6C-A3E8-9FC4BA26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1C87E-AACA-4570-9DAB-4C393AE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A08-515E-49DC-9990-36867ED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92077-C91E-45C0-AEBD-56D491D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9B6D-624F-48F1-87F3-BF236312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3EE3-53D7-4A2C-B4C1-F7BF5953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95F67-B320-45AC-86F0-4D4030A7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BE42D-C2F6-4E19-8519-C4B59FE3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84FF0-ECF4-49C8-A837-8F017709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67FE7-1246-4630-AE10-A4EA0A1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88F5B-AA9A-410B-A065-EE3BE1FB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4FD1E-057C-4D8C-A0DF-6C1A21E1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AA723-A9AD-4453-BF28-F1AA2B5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9BF-6F9B-4AF9-B182-3E18FD8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A425C-70CD-4F9D-A3E3-F58A947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656F2-1C6A-4845-9A69-3682277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F8B73-D2FB-4912-BADE-101B9F4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41AE0-B8A4-4A9C-90AB-B183F40B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FB7EE-B33D-40F4-99D7-E493AD11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8BB2-0F96-4FC6-8267-8D6183FD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16E42-C3CE-4C08-841D-AA06DA8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A4A9-4CDE-4284-BB25-EA1DDE1A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C4FC-31DF-4A76-9A19-71A83593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7D87-CC0E-4FF9-8B46-8950B28F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472-F3FF-4961-900A-BA31345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439E3-3AA9-4745-BDC5-FE58365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6649A-3BB0-42BD-A6D4-8AF4813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F1CF1-8128-4A67-82BF-E6DB025C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BFF7C-E76E-4893-8B8B-EE771DC9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36A7B-B532-4C02-B5D2-FCA3BF6A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F413-97DC-42D9-8BF7-02E53ACD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90E4-260F-4ADF-8180-9224C48B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666AA-7BE9-4955-8DC4-B840C452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2BF57-84FF-4E9C-ABBB-3B812A33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653A2-E80C-4040-B331-108B0120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473-BC70-4523-920F-6180C2799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AC9-FE9B-4F2C-8A12-5E939ADDA099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1DF-A166-46AE-A7C4-A1A1B4300FDB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3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AA0E-6E7F-4506-8282-5771AAA97503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E77-E804-4168-811A-63E6B7439A2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62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B2AC-EC41-483C-A995-35E5A96B3C7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70A1-E970-412C-A87D-F375BF81971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2AA7-C792-4AF1-B993-93D144D40120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4F62-77BB-4473-B91D-3E0A99B13DED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3B9-3F58-41AF-99E3-A99861A753A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03A-F334-4EF1-B392-4710092C0E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229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AFB1-334E-43EB-B07B-B828C3E032F2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1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677-3936-43FD-90DD-5238B8AEDF6B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C43-9FA8-43F2-854C-96BA744E40B8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E7F1-0D6C-4DCF-9D77-67ECAD208AFA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0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1ECA-8E92-4F51-92DA-0F3B91D23F7F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WordArt 6"/>
          <p:cNvSpPr txBox="1"/>
          <p:nvPr/>
        </p:nvSpPr>
        <p:spPr>
          <a:xfrm>
            <a:off x="533520" y="6858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4" name="WordArt 9"/>
          <p:cNvSpPr txBox="1"/>
          <p:nvPr/>
        </p:nvSpPr>
        <p:spPr>
          <a:xfrm>
            <a:off x="762120" y="3733920"/>
            <a:ext cx="7924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природа и 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755" name="TextBox 4"/>
          <p:cNvSpPr/>
          <p:nvPr/>
        </p:nvSpPr>
        <p:spPr>
          <a:xfrm>
            <a:off x="2666880" y="1600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Прямоугольник 5" descr=""/>
          <p:cNvPicPr/>
          <p:nvPr/>
        </p:nvPicPr>
        <p:blipFill>
          <a:blip r:embed="rId1"/>
          <a:stretch/>
        </p:blipFill>
        <p:spPr>
          <a:xfrm>
            <a:off x="85680" y="225360"/>
            <a:ext cx="91188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Прямоугольник 2" descr=""/>
          <p:cNvPicPr/>
          <p:nvPr/>
        </p:nvPicPr>
        <p:blipFill>
          <a:blip r:embed="rId1"/>
          <a:stretch/>
        </p:blipFill>
        <p:spPr>
          <a:xfrm>
            <a:off x="762120" y="19080"/>
            <a:ext cx="8400960" cy="865080"/>
          </a:xfrm>
          <a:prstGeom prst="rect">
            <a:avLst/>
          </a:prstGeom>
          <a:ln w="0">
            <a:noFill/>
          </a:ln>
        </p:spPr>
      </p:pic>
      <p:sp>
        <p:nvSpPr>
          <p:cNvPr id="801" name="Солнце 3"/>
          <p:cNvSpPr/>
          <p:nvPr/>
        </p:nvSpPr>
        <p:spPr>
          <a:xfrm>
            <a:off x="2819520" y="2514600"/>
            <a:ext cx="3809880" cy="2666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ервый год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Облако 4"/>
          <p:cNvSpPr/>
          <p:nvPr/>
        </p:nvSpPr>
        <p:spPr>
          <a:xfrm>
            <a:off x="1371600" y="1752480"/>
            <a:ext cx="2362320" cy="129564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Вводное занятие, техника безопасности.</a:t>
            </a:r>
            <a:r>
              <a:rPr b="0" lang="ru-RU" sz="1400" spc="-1" strike="noStrike">
                <a:solidFill>
                  <a:srgbClr val="d8d8d8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Облако 5"/>
          <p:cNvSpPr/>
          <p:nvPr/>
        </p:nvSpPr>
        <p:spPr>
          <a:xfrm>
            <a:off x="3505320" y="990720"/>
            <a:ext cx="2133360" cy="152388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Сбор природного 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Облако 6"/>
          <p:cNvSpPr/>
          <p:nvPr/>
        </p:nvSpPr>
        <p:spPr>
          <a:xfrm>
            <a:off x="5486400" y="1600200"/>
            <a:ext cx="1981080" cy="121932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Поделки из природного 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Облако 8"/>
          <p:cNvSpPr/>
          <p:nvPr/>
        </p:nvSpPr>
        <p:spPr>
          <a:xfrm>
            <a:off x="6248520" y="2743200"/>
            <a:ext cx="1981080" cy="106668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Наблюдение птиц в приро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Облако 9"/>
          <p:cNvSpPr/>
          <p:nvPr/>
        </p:nvSpPr>
        <p:spPr>
          <a:xfrm>
            <a:off x="6324480" y="3809880"/>
            <a:ext cx="2362320" cy="106704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Композиции из засушенных цв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Облако 10"/>
          <p:cNvSpPr/>
          <p:nvPr/>
        </p:nvSpPr>
        <p:spPr>
          <a:xfrm>
            <a:off x="5105520" y="4876920"/>
            <a:ext cx="2590560" cy="121896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Композиции из природного и растительного 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Облако 13"/>
          <p:cNvSpPr/>
          <p:nvPr/>
        </p:nvSpPr>
        <p:spPr>
          <a:xfrm>
            <a:off x="2590920" y="5181480"/>
            <a:ext cx="2514600" cy="121932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Земноводные и пресмыкающие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Облако 14"/>
          <p:cNvSpPr/>
          <p:nvPr/>
        </p:nvSpPr>
        <p:spPr>
          <a:xfrm>
            <a:off x="990720" y="4267080"/>
            <a:ext cx="2286000" cy="129564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Поделки по замыслу учащих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Облако 15"/>
          <p:cNvSpPr/>
          <p:nvPr/>
        </p:nvSpPr>
        <p:spPr>
          <a:xfrm>
            <a:off x="685800" y="3048120"/>
            <a:ext cx="2133720" cy="129528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Итоговое занят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6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6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6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6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6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6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6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6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6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6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6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Рисунок 4" descr="29.jpg"/>
          <p:cNvPicPr/>
          <p:nvPr/>
        </p:nvPicPr>
        <p:blipFill>
          <a:blip r:embed="rId1"/>
          <a:stretch/>
        </p:blipFill>
        <p:spPr>
          <a:xfrm>
            <a:off x="609480" y="3352680"/>
            <a:ext cx="3581640" cy="3124440"/>
          </a:xfrm>
          <a:prstGeom prst="rect">
            <a:avLst/>
          </a:prstGeom>
          <a:ln w="0">
            <a:noFill/>
          </a:ln>
        </p:spPr>
      </p:pic>
      <p:pic>
        <p:nvPicPr>
          <p:cNvPr id="758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63000" cy="336564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 txBox="1"/>
          <p:nvPr/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d8d8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d8d8"/>
              </a:solidFill>
              <a:latin typeface="Cambria"/>
            </a:endParaRPr>
          </a:p>
        </p:txBody>
      </p:sp>
      <p:pic>
        <p:nvPicPr>
          <p:cNvPr id="760" name="Прямоугольник 6" descr=""/>
          <p:cNvPicPr/>
          <p:nvPr/>
        </p:nvPicPr>
        <p:blipFill>
          <a:blip r:embed="rId3"/>
          <a:stretch/>
        </p:blipFill>
        <p:spPr>
          <a:xfrm>
            <a:off x="55440" y="60480"/>
            <a:ext cx="9028080" cy="40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609840" y="762480"/>
            <a:ext cx="8153640" cy="57150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2" name="Прямоугольник 20" descr=""/>
          <p:cNvPicPr/>
          <p:nvPr/>
        </p:nvPicPr>
        <p:blipFill>
          <a:blip r:embed="rId1"/>
          <a:stretch/>
        </p:blipFill>
        <p:spPr>
          <a:xfrm>
            <a:off x="804960" y="1231920"/>
            <a:ext cx="76327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ыявление творческих возможностей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Создание условий для лучшего усвоения знаний своего края и его обита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41d0"/>
                </a:solidFill>
                <a:latin typeface="Verdana"/>
              </a:rPr>
              <a:t>         </a:t>
            </a:r>
            <a:r>
              <a:rPr b="1" lang="ru-RU" sz="4000" spc="-1" strike="noStrike">
                <a:solidFill>
                  <a:srgbClr val="e341d0"/>
                </a:solidFill>
                <a:latin typeface="Verdana"/>
              </a:rPr>
              <a:t>Задачи программ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Развивать творческую способ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оспитывать целеустремлённость, трудовую актив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Формировать у учащихся целостного восприятия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4" name="Прямоугольник 7" descr=""/>
          <p:cNvPicPr/>
          <p:nvPr/>
        </p:nvPicPr>
        <p:blipFill>
          <a:blip r:embed="rId1"/>
          <a:stretch/>
        </p:blipFill>
        <p:spPr>
          <a:xfrm>
            <a:off x="1603440" y="133200"/>
            <a:ext cx="5784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962"/>
                </a:solidFill>
                <a:latin typeface="Times New Roman"/>
              </a:rPr>
              <a:t>Учебно-тематический план.</a:t>
            </a:r>
            <a:br>
              <a:rPr sz="3600"/>
            </a:br>
            <a:r>
              <a:rPr b="1" lang="ru-RU" sz="3600" spc="-1" strike="noStrike">
                <a:solidFill>
                  <a:srgbClr val="712962"/>
                </a:solidFill>
                <a:latin typeface="Times New Roman"/>
              </a:rPr>
              <a:t>Первый год обучения.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80880" y="1600200"/>
          <a:ext cx="8458200" cy="4948200"/>
        </p:xfrm>
        <a:graphic>
          <a:graphicData uri="http://schemas.openxmlformats.org/drawingml/2006/table">
            <a:tbl>
              <a:tblPr/>
              <a:tblGrid>
                <a:gridCol w="3487680"/>
                <a:gridCol w="1779840"/>
                <a:gridCol w="1779480"/>
                <a:gridCol w="1411200"/>
              </a:tblGrid>
              <a:tr h="3052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.Вводное заняти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. Инструменты, материалы, техника безопас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. «Наши друзья – пернаты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. Композиции из природного матер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5. изготовление поделок из шишек, желудей, орех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. Экскурсии, наблюдения, зарисовки на тему «Царевна – лягушк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. Итоговое заня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6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одержание изучаемого курса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68" name="Цилиндр 9"/>
          <p:cNvSpPr/>
          <p:nvPr/>
        </p:nvSpPr>
        <p:spPr>
          <a:xfrm>
            <a:off x="1295280" y="4114800"/>
            <a:ext cx="1219320" cy="2590920"/>
          </a:xfrm>
          <a:prstGeom prst="can">
            <a:avLst>
              <a:gd name="adj" fmla="val 3578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ервый год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Облако 12"/>
          <p:cNvSpPr/>
          <p:nvPr/>
        </p:nvSpPr>
        <p:spPr>
          <a:xfrm>
            <a:off x="0" y="2971800"/>
            <a:ext cx="1981080" cy="21337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водное  заня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Облако 16"/>
          <p:cNvSpPr/>
          <p:nvPr/>
        </p:nvSpPr>
        <p:spPr>
          <a:xfrm>
            <a:off x="1676520" y="2819520"/>
            <a:ext cx="1981080" cy="213336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ши друзья - перна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Облако 18"/>
          <p:cNvSpPr/>
          <p:nvPr/>
        </p:nvSpPr>
        <p:spPr>
          <a:xfrm>
            <a:off x="457200" y="1143000"/>
            <a:ext cx="2590920" cy="23623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нструм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испособл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Цилиндр 19"/>
          <p:cNvSpPr/>
          <p:nvPr/>
        </p:nvSpPr>
        <p:spPr>
          <a:xfrm>
            <a:off x="6019920" y="3886200"/>
            <a:ext cx="1523880" cy="2743200"/>
          </a:xfrm>
          <a:prstGeom prst="can">
            <a:avLst>
              <a:gd name="adj" fmla="val 9773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мпозиция из раститель-ного 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Облако 20"/>
          <p:cNvSpPr/>
          <p:nvPr/>
        </p:nvSpPr>
        <p:spPr>
          <a:xfrm>
            <a:off x="5715000" y="1143000"/>
            <a:ext cx="2514600" cy="25909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кскурсии, наблюдения, зарисов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Облако 21"/>
          <p:cNvSpPr/>
          <p:nvPr/>
        </p:nvSpPr>
        <p:spPr>
          <a:xfrm>
            <a:off x="4572000" y="2666880"/>
            <a:ext cx="2514600" cy="23623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зготовление поделок из шишек, желудей и ор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Облако 22"/>
          <p:cNvSpPr/>
          <p:nvPr/>
        </p:nvSpPr>
        <p:spPr>
          <a:xfrm>
            <a:off x="6705720" y="2514600"/>
            <a:ext cx="1904760" cy="205740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тоговое зан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Учебно-тематический план.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Второй год обучения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228600" y="1676520"/>
          <a:ext cx="8686800" cy="4760640"/>
        </p:xfrm>
        <a:graphic>
          <a:graphicData uri="http://schemas.openxmlformats.org/drawingml/2006/table">
            <a:tbl>
              <a:tblPr/>
              <a:tblGrid>
                <a:gridCol w="4572000"/>
                <a:gridCol w="1447920"/>
                <a:gridCol w="1447560"/>
                <a:gridCol w="1219320"/>
              </a:tblGrid>
              <a:tr h="24372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Вводное занятие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 Инструменты, приспособления, тех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езопас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 «Красная книг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Сбор природн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 Изготовление поделок из природн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. Изготовление поделок из растительн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. Наши друзья - п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. Земноводные и пресмыкающие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. Экскурсии, наблюдения, зарисовки на тему «Царевна – лягушк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. Изготовление поделок п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бственному замыс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. Итоговые зан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Прямоугольник 9" descr=""/>
          <p:cNvPicPr/>
          <p:nvPr/>
        </p:nvPicPr>
        <p:blipFill>
          <a:blip r:embed="rId1"/>
          <a:stretch/>
        </p:blipFill>
        <p:spPr>
          <a:xfrm>
            <a:off x="-6480" y="42840"/>
            <a:ext cx="9004320" cy="822240"/>
          </a:xfrm>
          <a:prstGeom prst="rect">
            <a:avLst/>
          </a:prstGeom>
          <a:ln w="0">
            <a:noFill/>
          </a:ln>
        </p:spPr>
      </p:pic>
      <p:sp>
        <p:nvSpPr>
          <p:cNvPr id="781" name="Овал 45"/>
          <p:cNvSpPr/>
          <p:nvPr/>
        </p:nvSpPr>
        <p:spPr>
          <a:xfrm rot="20953200">
            <a:off x="2514240" y="837720"/>
            <a:ext cx="1828800" cy="167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ное зан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Овал 47"/>
          <p:cNvSpPr/>
          <p:nvPr/>
        </p:nvSpPr>
        <p:spPr>
          <a:xfrm rot="1800600">
            <a:off x="4190760" y="990720"/>
            <a:ext cx="213336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12962"/>
                </a:solidFill>
                <a:latin typeface="Arial"/>
              </a:rPr>
              <a:t>Инструменты, приспособления. Техника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Овал 49"/>
          <p:cNvSpPr/>
          <p:nvPr/>
        </p:nvSpPr>
        <p:spPr>
          <a:xfrm>
            <a:off x="3276720" y="2362320"/>
            <a:ext cx="1752480" cy="1295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расная книг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Овал 51"/>
          <p:cNvSpPr/>
          <p:nvPr/>
        </p:nvSpPr>
        <p:spPr>
          <a:xfrm rot="19459800">
            <a:off x="622440" y="1120680"/>
            <a:ext cx="2057400" cy="1752840"/>
          </a:xfrm>
          <a:prstGeom prst="ellipse">
            <a:avLst/>
          </a:prstGeom>
          <a:solidFill>
            <a:srgbClr val="e341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бор природн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ердце 53"/>
          <p:cNvSpPr/>
          <p:nvPr/>
        </p:nvSpPr>
        <p:spPr>
          <a:xfrm rot="20119800">
            <a:off x="1238400" y="2295360"/>
            <a:ext cx="2331720" cy="20923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елки из природного и растительн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ердце 54"/>
          <p:cNvSpPr/>
          <p:nvPr/>
        </p:nvSpPr>
        <p:spPr>
          <a:xfrm rot="1853400">
            <a:off x="5940000" y="1581120"/>
            <a:ext cx="1878120" cy="16938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ши меньшие друз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Овал 55"/>
          <p:cNvSpPr/>
          <p:nvPr/>
        </p:nvSpPr>
        <p:spPr>
          <a:xfrm rot="1105800">
            <a:off x="5181120" y="2806560"/>
            <a:ext cx="2057400" cy="129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кскурсии, наблюдения, зарисов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ердце 56"/>
          <p:cNvSpPr/>
          <p:nvPr/>
        </p:nvSpPr>
        <p:spPr>
          <a:xfrm rot="1277400">
            <a:off x="4312800" y="3564000"/>
            <a:ext cx="2286000" cy="1523880"/>
          </a:xfrm>
          <a:prstGeom prst="pie">
            <a:avLst/>
          </a:prstGeom>
          <a:solidFill>
            <a:srgbClr val="99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елки по собственному замыс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Овал 57"/>
          <p:cNvSpPr/>
          <p:nvPr/>
        </p:nvSpPr>
        <p:spPr>
          <a:xfrm rot="20467200">
            <a:off x="2933640" y="3412800"/>
            <a:ext cx="160020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Итоговое занят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Скругленная соединительная линия 61"/>
          <p:cNvCxnSpPr/>
          <p:nvPr/>
        </p:nvCxnSpPr>
        <p:spPr>
          <a:xfrm flipH="1" rot="16200000">
            <a:off x="3848040" y="5142960"/>
            <a:ext cx="106740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9360">
            <a:solidFill>
              <a:srgbClr val="363636"/>
            </a:solidFill>
            <a:miter/>
          </a:ln>
        </p:spPr>
      </p:cxnSp>
      <p:cxnSp>
        <p:nvCxnSpPr>
          <p:cNvPr id="791" name="Скругленная соединительная линия 64"/>
          <p:cNvCxnSpPr>
            <a:stCxn id="788" idx="2"/>
          </p:cNvCxnSpPr>
          <p:nvPr/>
        </p:nvCxnSpPr>
        <p:spPr>
          <a:xfrm rot="5400000">
            <a:off x="4384440" y="5148360"/>
            <a:ext cx="908640" cy="6829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161616"/>
            </a:solidFill>
            <a:miter/>
          </a:ln>
        </p:spPr>
      </p:cxnSp>
      <p:cxnSp>
        <p:nvCxnSpPr>
          <p:cNvPr id="792" name="Скругленная соединительная линия 18"/>
          <p:cNvCxnSpPr/>
          <p:nvPr/>
        </p:nvCxnSpPr>
        <p:spPr>
          <a:xfrm rot="5400000">
            <a:off x="3696480" y="5067360"/>
            <a:ext cx="1751760" cy="2160"/>
          </a:xfrm>
          <a:prstGeom prst="curvedConnector5">
            <a:avLst>
              <a:gd name="adj1" fmla="val 49989"/>
              <a:gd name="adj2" fmla="val 40000"/>
              <a:gd name="adj3" fmla="val 49989"/>
            </a:avLst>
          </a:prstGeom>
          <a:ln w="9360">
            <a:solidFill>
              <a:srgbClr val="161616"/>
            </a:solidFill>
            <a:miter/>
          </a:ln>
        </p:spPr>
      </p:cxnSp>
      <p:cxnSp>
        <p:nvCxnSpPr>
          <p:cNvPr id="793" name="Скругленная соединительная линия 26"/>
          <p:cNvCxnSpPr/>
          <p:nvPr/>
        </p:nvCxnSpPr>
        <p:spPr>
          <a:xfrm rot="5400000">
            <a:off x="4037760" y="5105160"/>
            <a:ext cx="1296000" cy="229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161616"/>
            </a:solidFill>
            <a:miter/>
          </a:ln>
        </p:spPr>
      </p:cxnSp>
      <p:cxnSp>
        <p:nvCxnSpPr>
          <p:cNvPr id="794" name="Скругленная соединительная линия 33"/>
          <p:cNvCxnSpPr>
            <a:stCxn id="789" idx="5"/>
          </p:cNvCxnSpPr>
          <p:nvPr/>
        </p:nvCxnSpPr>
        <p:spPr>
          <a:xfrm flipH="1" rot="16200000">
            <a:off x="3862080" y="5082120"/>
            <a:ext cx="1289880" cy="129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161616"/>
            </a:solidFill>
            <a:miter/>
          </a:ln>
        </p:spPr>
      </p:cxnSp>
      <p:sp>
        <p:nvSpPr>
          <p:cNvPr id="795" name="Прямоугольник 43"/>
          <p:cNvSpPr/>
          <p:nvPr/>
        </p:nvSpPr>
        <p:spPr>
          <a:xfrm>
            <a:off x="1143000" y="5562720"/>
            <a:ext cx="91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Прямоугольник 45" descr=""/>
          <p:cNvPicPr/>
          <p:nvPr/>
        </p:nvPicPr>
        <p:blipFill>
          <a:blip r:embed="rId2"/>
          <a:stretch/>
        </p:blipFill>
        <p:spPr>
          <a:xfrm>
            <a:off x="1768320" y="5870520"/>
            <a:ext cx="6016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41d0"/>
                </a:solidFill>
                <a:latin typeface="Times New Roman"/>
              </a:rPr>
              <a:t>Учебно-тематический план. </a:t>
            </a:r>
            <a:br>
              <a:rPr sz="4400"/>
            </a:br>
            <a:r>
              <a:rPr b="1" lang="ru-RU" sz="4400" spc="-1" strike="noStrike">
                <a:solidFill>
                  <a:srgbClr val="e341d0"/>
                </a:solidFill>
                <a:latin typeface="Times New Roman"/>
              </a:rPr>
              <a:t>Третий год обучения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8600" y="2057400"/>
          <a:ext cx="8686800" cy="4572000"/>
        </p:xfrm>
        <a:graphic>
          <a:graphicData uri="http://schemas.openxmlformats.org/drawingml/2006/table">
            <a:tbl>
              <a:tblPr/>
              <a:tblGrid>
                <a:gridCol w="5562720"/>
                <a:gridCol w="990360"/>
                <a:gridCol w="1067040"/>
                <a:gridCol w="1066680"/>
              </a:tblGrid>
              <a:tr h="274680">
                <a:tc rowSpan="2"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.Вводное занятие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хника   безопас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. Сбор природ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. Изготовление поделок из природ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.Наблюдение птиц в приро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5. Изготовление композиций из засушенных цв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6. Создание композиций из природного и раститель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7. Земноводные и пресмыкающиеся (экскурсии, наблюдения, зарисов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8. Изготовление поделок по замыслу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9. Итоговое заня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8-16T12:30:22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