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90A-82FE-4B0D-9C0F-BE5BBF4B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16C-EDBE-4F18-914A-07B661A0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E5DD9-B4BC-454B-92C0-70206637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651C9-C4B9-4289-809B-11734891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3EF4D-1DDF-4E4A-9993-923D8404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171CF-55ED-418B-9479-1B6EF4B7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D9A65-1572-4882-9F6A-2790E680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CFCC0-B92B-40B0-89C1-14600065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6B811-FD30-4EDD-A9D0-FFAD3EB9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D424F-F30C-4045-8B5A-69341A08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0E3E7-93C4-4969-981E-950C66B8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E239D-5DF2-4FB7-8167-92C4C892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5B2-B5E0-4C40-92CA-00E00F28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2C072-A7C4-400E-83D9-637E27BF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9F8C4-F6A4-4F01-8923-563DEF72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686BA-D449-411B-8162-B3723608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7430D-2141-4133-A2D6-77E82D94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73A3C-D9CC-4C32-9BF4-10C519D8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0DD13-0A72-4D70-B3A3-E9DF2CEC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FF11D-4C05-4AE3-AB62-76A9D9FB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D72AF-ED3C-4FCE-82B3-8EC4E59B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E12B8-4DCB-4EE0-AD07-04AE09E0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E1092-2926-4865-9994-720C4D20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0C1-1EF0-4928-AEE2-1DEE3407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C3235-8BD0-4BB1-8F15-671E54E8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510F28-D21A-4F70-BD12-331CC11D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3B0189-09FC-4858-BA2D-3109AB42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D6811B-0F5F-419B-995C-5E7AC92D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5D7A8A-4039-4019-A1A7-CBA437DC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A8B175-17FC-45E1-8E26-57D81044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CC6D8D-E1FC-49FF-AB8D-0E409D31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E39C3B-B191-4F05-936D-8E8DD0D0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6D4C0E-560A-438F-A3BD-AAB98D5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3C83C3-4C29-4700-B230-90745E01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C18E-FBDA-4321-948A-EE17DE23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D9739F-9576-4A5B-9DB3-00D30DE6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8A4F54-6752-49CC-A2F8-4B185133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AD515B-EF22-4B36-9463-42F5031B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578194-44F0-4B50-A775-461C3343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50AD69-D21E-42D4-897E-86FA7DA6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3514DD-F39A-4283-B85C-0C1CEBC0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EE374A-A63C-4008-B506-A9C53BDA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4045A8-E24B-4605-9525-0A37F98A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2E0410-21F0-4C5D-A006-9D0EF5CF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4533AD-CE42-46C7-907F-0CC49797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343C-B779-4EC4-95C4-E7C33737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7BCF77-26C6-4D60-B4BA-1A8FE99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7D23D3-6ED3-4849-AC88-1662739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2E1826-F00F-4E37-BC44-69776D57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200B0D-8466-4D54-B413-F64FC642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051725-0356-4D30-B762-1FAB90B1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497A9-872E-41C5-8B1D-5315147B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9BEA0-BE00-4800-A82C-CA7F7CA1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E8C22-C295-4A9D-A4D7-A47D67D5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A5E7A-3596-40B6-9D5B-1BED9611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C77BF-7848-44A0-A570-A08FAC61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0086-A946-46B6-89D2-2CA74875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EFBFF-1DEF-4B4E-BB16-059EBF29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0A59C-BBE4-49B0-A5B6-57512534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E300C-3F99-4C8C-A14E-43A3468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170F1-7E94-45D9-9B7F-DB4D466E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34258-01BC-4713-AFF1-BEFAF0EC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27A21-DD5B-465F-9F38-37BF9C85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1650B-4E59-4745-8406-551DD72E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43FAF-EBFF-4398-8849-B6C063DC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DEAA0-56E3-463C-9A3A-E1A2B4AB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7D732-C452-4781-B3D2-DD8F1585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9075-5BB2-44B4-99CB-B3ACA899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D4F15-F6E5-45BA-B058-265849D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88CDB-8053-442F-B00B-B91726FF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F97A1-98EE-4B54-B903-F75E6016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914E3-EC54-4CF7-ABB7-A48A48A7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73F98-E73F-4173-BE07-0F55C7BA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37759-1CE4-4727-BE4D-C43A6D6F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2763B-301F-4FC9-98E8-FF9645C3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B6B82-B0A7-491E-BC41-64469D36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DF227-22BB-4B4A-B53E-395E0417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5224B-8FDC-41B5-A5C3-E0757878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4C34-4FDE-4FF7-AD7F-8589019D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25F75-F341-453C-8C28-2ECC4D42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344E9-64BF-41AF-9D86-ABEADB77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25750-4EBB-4A9D-84DE-8092C7A9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2B0F8-5C05-4EA6-B1B0-D6444054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46669-97A2-47A2-93EA-C6F47573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9FA2D-5C09-4368-923A-FC66A0D6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CDD50-227C-482A-8EC5-858D76B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0CD37-3339-4AD0-8F5C-74702FD9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878CE-240B-489E-AEC0-E2D31105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69DF8-A229-4D6F-8A1C-594C6DDF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6AF8-44E6-47D7-9F40-8268570A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543DA-010A-49D3-B89B-0D7AD79C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D6AE7-32B6-4F85-A7DC-4104867E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36FAB-1396-4161-86E6-8D05DE71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921AE-768E-48E6-AFDD-CAF36364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53968-98F6-45FB-BC5D-CD85D663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34272-B7E1-48B0-9E90-2D1FDE52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E1ED8-C9D6-4FB9-B3D3-C26B2CED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BB2B7-43A3-4277-BEDA-5EA99DA4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1616B-4E87-4E5A-AB21-639DD9C3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D372B6-8848-471C-8B03-C5A9D5B7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A552-4687-423D-8249-4075A19B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4537E-0391-4D23-8071-B183FEAE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A6E98-8B6C-40B1-A1A5-78C25F68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007BE9-B066-437B-A22D-CEB0DDEA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5AC-CEFD-4F43-A274-7372D620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440B-3E6E-4A46-9BB1-059A7A5B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D813-2FF8-4CFE-B656-9284BF21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335E-003B-479A-841A-8FCAE893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4F88-5F13-4E94-A4BE-D9886A88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AC56-538D-4777-8439-C9ACFEBE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56E8-7698-4644-9DE4-677B4A18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8939-74A9-4E22-8795-21A67312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D682-3B1E-4249-A503-8C93DD8F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16E7-04CB-49B0-AD2B-2C07A5EF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321F7-1C26-4F6B-8ACB-91B8D280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A4A-F137-445E-998B-12A83D2B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E527-2B81-427D-A3D7-6EB1DE34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36A6-5BF4-41D4-A51E-9BB839C5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3AB5-B045-4768-A646-4247214A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64D7-1322-48A7-A68C-9B01675E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9229-AE6A-4982-BF9C-8EEC9317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3D10-80CF-48F5-8252-90C5DE98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1869-3E8B-40D2-9B2D-867A4560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C851-8C6A-47CC-AB31-6D454B48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7B8A3-5980-4EB3-9018-A54F0CB4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E54B-9FFC-490B-9DAC-A30434E5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2E6-AD2A-4F5E-9738-CECDA088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3B6B2-835A-453E-8311-0F1527E1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4CD65-726E-41E7-9A12-8438C536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A5B0D-944B-4D27-9FF5-7733CCE4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0E1D3-9544-458F-90B3-9EBEC01F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99FC-C14D-444E-BCCF-0BFE237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C4B88-4221-475B-A4C1-3C1DE978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F0143-641D-4BDC-83D5-7CCB8E0D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25BF-3A1E-4FE3-A968-A31F1C2E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FCD5A-A229-4CC2-87A8-3389C340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E66F6-8F90-492B-AE4D-BB1E4135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2E7-62E4-4134-9858-18A8D8F6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65C3B-A377-4C24-8895-B407569A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1F83B-9F4B-4D4C-90E4-743321AC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C5253-DF79-4868-988E-9C07A0D3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B30D5-9122-4FAE-BE46-E854DA2A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8B802-9BA3-422C-8C8B-D65B7DBF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E59C4-011A-49CB-905A-ECE58AF1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C23D6-096F-4B10-9A6D-F156BDB3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B6478-F3CB-4724-B6E7-2D7EFBFC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270FC-D579-411C-955E-72B72B83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E0FFB-3DD2-4454-A4F3-8240EA4C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4CB-F581-4551-9938-789623CB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C2954-B66A-4FC6-A49D-959EB904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648F4-282D-4A55-A349-B97AA548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6596-BA69-4AF9-80AB-D4ADEED4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2BEC-83D7-47B2-83B6-25501B42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6C7D7-509E-4755-A509-575B8DD8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9BC8-9961-4470-A0D5-1820A156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BC646-4BD7-4086-A8E3-0B0B89A6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F61CF-B128-417B-8AC2-D8701D5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078B4-B7F4-438D-8447-8221E698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AFD05-5705-446C-859D-4D125427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D50-1A94-422B-9B1F-62A4A80C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FA570-3C6B-48E5-9710-7D4B72B8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9D604-71E6-474D-98FD-2E57AEE0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37A9A-CCF7-43E7-9E32-603F69EC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3CC30-DDB3-4CB5-AA8B-F6B2196C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226C3-DD9A-4768-8C6F-687248FD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1BAD6-46EB-49AF-8163-5CD1C4C0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47997-59B9-4786-A2B4-A199F31E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21C93-6570-433A-8849-9EE1E77B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BAA21-A2E3-4835-A27F-E9D651A9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AB7C5-56AA-4225-A289-4416D47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1BF-C7EE-4AAE-9255-052F0E3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7C348-0F56-476D-A062-FE823B21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B940B-11A2-431F-AFDF-3A4E75BA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89FA2-9FCD-4649-BF62-ECB095EE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51281-CA48-4D35-8201-F206E42F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3E546-68F8-411D-91C3-B10836AF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E9A24-B4DF-46D2-B3DB-3E88425C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D57DD-932B-4781-9883-B789EBE5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C6F70-74BD-407D-9FAC-FDC5CCAC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80616-B408-4423-8D2C-2C374ABE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2558-1846-47D8-BEBF-E2FE5CE4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EC3-1AB0-4433-8478-F5AC6DC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768AF-E1E5-4177-9CB5-0503CE97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8526C-E1C4-409E-BB63-6133B5F9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E0F56-27D4-4DFC-A446-CA4775A4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D422A-7250-48A2-A7CE-79A60834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E3B46-982A-420B-ADA0-1B5DC294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F6FBD-C472-433F-A883-DB7BC774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62743-F8F7-473C-A6BA-E4D89481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E77FD-F4A8-400A-88E7-D2D23E79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905CD-B799-4DF5-845A-68572919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56054-6EE7-47F9-8F98-D6707B13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17E8-F741-4C6C-B2CE-5A2824A336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662F-F3F0-4138-9ADE-5AF4915D73C5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3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F670-0B54-4FCF-B788-10E1851FD6C2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3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166B-CD06-4BE2-A41E-C0764EDF6C7F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8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1949-E400-49F4-8140-DE3058D9FD9A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62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EE0-8391-40B5-A355-88890E66457F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2DCC-430A-4212-A8EE-776DC0FAD17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1F48-BED1-480C-BB19-317CF8982BE9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6E4F-87C8-4525-855E-683E18DF781D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7D38-859E-4733-BA82-05A90EBFBC94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40F5-FEC5-476F-80DC-F12203FE6E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229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6A4D-BE4B-4249-91AB-A636E6D5FB1A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ftr" idx="1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918F-2ABB-4C55-ACC3-FFE44F1A2E0B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2345-9E8F-4924-B2B2-1022047ED4B1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ftr" idx="2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21A5-E1C7-43A9-871D-FEE56D66CAB3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0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1" marL="639720" indent="-228600">
              <a:buClr>
                <a:srgbClr val="a5644e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2" marL="822240" indent="-19044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3" marL="100476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4" marL="1187280" indent="-182520"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5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  <a:p>
            <a:pPr lvl="6" marL="1187280" indent="-182520">
              <a:buClr>
                <a:srgbClr val="d8d8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d8d8"/>
              </a:solidFill>
              <a:latin typeface="Cambr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6b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9D0E-6E6B-4783-BF62-96D8D57C2C25}" type="slidenum">
              <a:rPr b="0" lang="ru-RU" sz="1600" spc="-1" strike="noStrike">
                <a:solidFill>
                  <a:srgbClr val="006bb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WordArt 6"/>
          <p:cNvSpPr txBox="1"/>
          <p:nvPr/>
        </p:nvSpPr>
        <p:spPr>
          <a:xfrm>
            <a:off x="533520" y="68580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4" name="WordArt 9"/>
          <p:cNvSpPr txBox="1"/>
          <p:nvPr/>
        </p:nvSpPr>
        <p:spPr>
          <a:xfrm>
            <a:off x="762120" y="3733920"/>
            <a:ext cx="7924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природа и 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sp>
        <p:nvSpPr>
          <p:cNvPr id="755" name="TextBox 4"/>
          <p:cNvSpPr/>
          <p:nvPr/>
        </p:nvSpPr>
        <p:spPr>
          <a:xfrm>
            <a:off x="2666880" y="1600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Прямоугольник 5" descr=""/>
          <p:cNvPicPr/>
          <p:nvPr/>
        </p:nvPicPr>
        <p:blipFill>
          <a:blip r:embed="rId1"/>
          <a:stretch/>
        </p:blipFill>
        <p:spPr>
          <a:xfrm>
            <a:off x="85680" y="225360"/>
            <a:ext cx="91188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Прямоугольник 2" descr=""/>
          <p:cNvPicPr/>
          <p:nvPr/>
        </p:nvPicPr>
        <p:blipFill>
          <a:blip r:embed="rId1"/>
          <a:stretch/>
        </p:blipFill>
        <p:spPr>
          <a:xfrm>
            <a:off x="762120" y="19080"/>
            <a:ext cx="8400960" cy="865080"/>
          </a:xfrm>
          <a:prstGeom prst="rect">
            <a:avLst/>
          </a:prstGeom>
          <a:ln w="0">
            <a:noFill/>
          </a:ln>
        </p:spPr>
      </p:pic>
      <p:sp>
        <p:nvSpPr>
          <p:cNvPr id="801" name="Солнце 3"/>
          <p:cNvSpPr/>
          <p:nvPr/>
        </p:nvSpPr>
        <p:spPr>
          <a:xfrm>
            <a:off x="2819520" y="2514600"/>
            <a:ext cx="3809880" cy="26668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ервый год об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Облако 4"/>
          <p:cNvSpPr/>
          <p:nvPr/>
        </p:nvSpPr>
        <p:spPr>
          <a:xfrm>
            <a:off x="1371600" y="1752480"/>
            <a:ext cx="2362320" cy="129564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Вводное занятие, техника безопасности.</a:t>
            </a:r>
            <a:r>
              <a:rPr b="0" lang="ru-RU" sz="1400" spc="-1" strike="noStrike">
                <a:solidFill>
                  <a:srgbClr val="d8d8d8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Облако 5"/>
          <p:cNvSpPr/>
          <p:nvPr/>
        </p:nvSpPr>
        <p:spPr>
          <a:xfrm>
            <a:off x="3505320" y="990720"/>
            <a:ext cx="2133360" cy="152388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Сбор природного 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Облако 6"/>
          <p:cNvSpPr/>
          <p:nvPr/>
        </p:nvSpPr>
        <p:spPr>
          <a:xfrm>
            <a:off x="5486400" y="1600200"/>
            <a:ext cx="1981080" cy="121932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Поделки из природного 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Облако 8"/>
          <p:cNvSpPr/>
          <p:nvPr/>
        </p:nvSpPr>
        <p:spPr>
          <a:xfrm>
            <a:off x="6248520" y="2743200"/>
            <a:ext cx="1981080" cy="106668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Наблюдение птиц в приро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Облако 9"/>
          <p:cNvSpPr/>
          <p:nvPr/>
        </p:nvSpPr>
        <p:spPr>
          <a:xfrm>
            <a:off x="6324480" y="3809880"/>
            <a:ext cx="2362320" cy="106704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Композиции из засушенных цве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Облако 10"/>
          <p:cNvSpPr/>
          <p:nvPr/>
        </p:nvSpPr>
        <p:spPr>
          <a:xfrm>
            <a:off x="5105520" y="4876920"/>
            <a:ext cx="2590560" cy="121896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Композиции из природного и растительного 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Облако 13"/>
          <p:cNvSpPr/>
          <p:nvPr/>
        </p:nvSpPr>
        <p:spPr>
          <a:xfrm>
            <a:off x="2590920" y="5181480"/>
            <a:ext cx="2514600" cy="121932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Земноводные и пресмыкающие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Облако 14"/>
          <p:cNvSpPr/>
          <p:nvPr/>
        </p:nvSpPr>
        <p:spPr>
          <a:xfrm>
            <a:off x="990720" y="4267080"/>
            <a:ext cx="2286000" cy="129564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Поделки по замыслу учащих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Облако 15"/>
          <p:cNvSpPr/>
          <p:nvPr/>
        </p:nvSpPr>
        <p:spPr>
          <a:xfrm>
            <a:off x="685800" y="3048120"/>
            <a:ext cx="2133720" cy="1295280"/>
          </a:xfrm>
          <a:prstGeom prst="pie">
            <a:avLst/>
          </a:prstGeom>
          <a:solidFill>
            <a:srgbClr val="c9f1ff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Итоговое занят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6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6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6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6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6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6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6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6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6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6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6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6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6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6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6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Рисунок 4" descr="29.jpg"/>
          <p:cNvPicPr/>
          <p:nvPr/>
        </p:nvPicPr>
        <p:blipFill>
          <a:blip r:embed="rId1"/>
          <a:stretch/>
        </p:blipFill>
        <p:spPr>
          <a:xfrm>
            <a:off x="609480" y="3352680"/>
            <a:ext cx="3581640" cy="3124440"/>
          </a:xfrm>
          <a:prstGeom prst="rect">
            <a:avLst/>
          </a:prstGeom>
          <a:ln w="0">
            <a:noFill/>
          </a:ln>
        </p:spPr>
      </p:pic>
      <p:pic>
        <p:nvPicPr>
          <p:cNvPr id="758" name="Rectangle 2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163000" cy="336564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 txBox="1"/>
          <p:nvPr/>
        </p:nvSpPr>
        <p:spPr>
          <a:xfrm>
            <a:off x="457200" y="1980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d8d8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d8d8"/>
              </a:solidFill>
              <a:latin typeface="Cambria"/>
            </a:endParaRPr>
          </a:p>
        </p:txBody>
      </p:sp>
      <p:pic>
        <p:nvPicPr>
          <p:cNvPr id="760" name="Прямоугольник 6" descr=""/>
          <p:cNvPicPr/>
          <p:nvPr/>
        </p:nvPicPr>
        <p:blipFill>
          <a:blip r:embed="rId3"/>
          <a:stretch/>
        </p:blipFill>
        <p:spPr>
          <a:xfrm>
            <a:off x="55440" y="60480"/>
            <a:ext cx="9028080" cy="40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609840" y="762480"/>
            <a:ext cx="8153640" cy="57150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2" name="Прямоугольник 20" descr=""/>
          <p:cNvPicPr/>
          <p:nvPr/>
        </p:nvPicPr>
        <p:blipFill>
          <a:blip r:embed="rId1"/>
          <a:stretch/>
        </p:blipFill>
        <p:spPr>
          <a:xfrm>
            <a:off x="804960" y="1231920"/>
            <a:ext cx="76327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Выявление творческих возможностей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Создание условий для лучшего усвоения знаний своего края и его обита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41d0"/>
                </a:solidFill>
                <a:latin typeface="Verdana"/>
              </a:rPr>
              <a:t>         </a:t>
            </a:r>
            <a:r>
              <a:rPr b="1" lang="ru-RU" sz="4000" spc="-1" strike="noStrike">
                <a:solidFill>
                  <a:srgbClr val="e341d0"/>
                </a:solidFill>
                <a:latin typeface="Verdana"/>
              </a:rPr>
              <a:t>Задачи программ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Развивать творческую способ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Воспитывать целеустремлённость, трудовую актив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Формировать у учащихся целостного восприятия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4" name="Прямоугольник 7" descr=""/>
          <p:cNvPicPr/>
          <p:nvPr/>
        </p:nvPicPr>
        <p:blipFill>
          <a:blip r:embed="rId1"/>
          <a:stretch/>
        </p:blipFill>
        <p:spPr>
          <a:xfrm>
            <a:off x="1603440" y="133200"/>
            <a:ext cx="5784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962"/>
                </a:solidFill>
                <a:latin typeface="Times New Roman"/>
              </a:rPr>
              <a:t>Учебно-тематический план.</a:t>
            </a:r>
            <a:br>
              <a:rPr sz="3600"/>
            </a:br>
            <a:r>
              <a:rPr b="1" lang="ru-RU" sz="3600" spc="-1" strike="noStrike">
                <a:solidFill>
                  <a:srgbClr val="712962"/>
                </a:solidFill>
                <a:latin typeface="Times New Roman"/>
              </a:rPr>
              <a:t>Первый год обучения.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380880" y="1600200"/>
          <a:ext cx="8458200" cy="4948200"/>
        </p:xfrm>
        <a:graphic>
          <a:graphicData uri="http://schemas.openxmlformats.org/drawingml/2006/table">
            <a:tbl>
              <a:tblPr/>
              <a:tblGrid>
                <a:gridCol w="3487680"/>
                <a:gridCol w="1779840"/>
                <a:gridCol w="1779480"/>
                <a:gridCol w="1411200"/>
              </a:tblGrid>
              <a:tr h="30528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ЧА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.Вводное занятие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. Инструменты, материалы, техника безопас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. «Наши друзья – пернатые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4. Композиции из природного матери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5. изготовление поделок из шишек, желудей, орех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. Экскурсии, наблюдения, зарисовки на тему «Царевна – лягушк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7. Итоговое заня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6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Содержание изучаемого курса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br>
              <a:rPr sz="3600"/>
            </a:b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768" name="Цилиндр 9"/>
          <p:cNvSpPr/>
          <p:nvPr/>
        </p:nvSpPr>
        <p:spPr>
          <a:xfrm>
            <a:off x="1295280" y="4114800"/>
            <a:ext cx="1219320" cy="2590920"/>
          </a:xfrm>
          <a:prstGeom prst="can">
            <a:avLst>
              <a:gd name="adj" fmla="val 3578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ервый год 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Облако 12"/>
          <p:cNvSpPr/>
          <p:nvPr/>
        </p:nvSpPr>
        <p:spPr>
          <a:xfrm>
            <a:off x="0" y="2971800"/>
            <a:ext cx="1981080" cy="213372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водное  заня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Облако 16"/>
          <p:cNvSpPr/>
          <p:nvPr/>
        </p:nvSpPr>
        <p:spPr>
          <a:xfrm>
            <a:off x="1676520" y="2819520"/>
            <a:ext cx="1981080" cy="213336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аши друзья - перна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Облако 18"/>
          <p:cNvSpPr/>
          <p:nvPr/>
        </p:nvSpPr>
        <p:spPr>
          <a:xfrm>
            <a:off x="457200" y="1143000"/>
            <a:ext cx="2590920" cy="236232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нструмен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риспособле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Цилиндр 19"/>
          <p:cNvSpPr/>
          <p:nvPr/>
        </p:nvSpPr>
        <p:spPr>
          <a:xfrm>
            <a:off x="6019920" y="3886200"/>
            <a:ext cx="1523880" cy="2743200"/>
          </a:xfrm>
          <a:prstGeom prst="can">
            <a:avLst>
              <a:gd name="adj" fmla="val 9773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мпозиция из раститель-ного  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Облако 20"/>
          <p:cNvSpPr/>
          <p:nvPr/>
        </p:nvSpPr>
        <p:spPr>
          <a:xfrm>
            <a:off x="5715000" y="1143000"/>
            <a:ext cx="2514600" cy="259092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Экскурсии, наблюдения, зарисов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Облако 21"/>
          <p:cNvSpPr/>
          <p:nvPr/>
        </p:nvSpPr>
        <p:spPr>
          <a:xfrm>
            <a:off x="4572000" y="2666880"/>
            <a:ext cx="2514600" cy="236232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зготовление поделок из шишек, желудей и ор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Облако 22"/>
          <p:cNvSpPr/>
          <p:nvPr/>
        </p:nvSpPr>
        <p:spPr>
          <a:xfrm>
            <a:off x="6705720" y="2514600"/>
            <a:ext cx="1904760" cy="205740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тоговое заня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Учебно-тематический план.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Второй год обучения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228600" y="1676520"/>
          <a:ext cx="8686800" cy="4760640"/>
        </p:xfrm>
        <a:graphic>
          <a:graphicData uri="http://schemas.openxmlformats.org/drawingml/2006/table">
            <a:tbl>
              <a:tblPr/>
              <a:tblGrid>
                <a:gridCol w="4572000"/>
                <a:gridCol w="1447920"/>
                <a:gridCol w="1447560"/>
                <a:gridCol w="1219320"/>
              </a:tblGrid>
              <a:tr h="24372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А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Вводное занятие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 Инструменты, приспособления, тех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езопас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 «Красная книг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.Сбор природного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. Изготовление поделок из природного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. Изготовление поделок из растительного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. Наши друзья - пт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. Земноводные и пресмыкающие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. Экскурсии, наблюдения, зарисовки на тему «Царевна – лягушк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. Изготовление поделок п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бственному замысл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. Итоговые зан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Прямоугольник 9" descr=""/>
          <p:cNvPicPr/>
          <p:nvPr/>
        </p:nvPicPr>
        <p:blipFill>
          <a:blip r:embed="rId1"/>
          <a:stretch/>
        </p:blipFill>
        <p:spPr>
          <a:xfrm>
            <a:off x="-6480" y="42840"/>
            <a:ext cx="9004320" cy="822240"/>
          </a:xfrm>
          <a:prstGeom prst="rect">
            <a:avLst/>
          </a:prstGeom>
          <a:ln w="0">
            <a:noFill/>
          </a:ln>
        </p:spPr>
      </p:pic>
      <p:sp>
        <p:nvSpPr>
          <p:cNvPr id="781" name="Овал 45"/>
          <p:cNvSpPr/>
          <p:nvPr/>
        </p:nvSpPr>
        <p:spPr>
          <a:xfrm rot="20953200">
            <a:off x="2514240" y="837720"/>
            <a:ext cx="1828800" cy="1676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одное заня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Овал 47"/>
          <p:cNvSpPr/>
          <p:nvPr/>
        </p:nvSpPr>
        <p:spPr>
          <a:xfrm rot="1800600">
            <a:off x="4190760" y="990720"/>
            <a:ext cx="2133360" cy="190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12962"/>
                </a:solidFill>
                <a:latin typeface="Arial"/>
              </a:rPr>
              <a:t>Инструменты, приспособления. Техника безопа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Овал 49"/>
          <p:cNvSpPr/>
          <p:nvPr/>
        </p:nvSpPr>
        <p:spPr>
          <a:xfrm>
            <a:off x="3276720" y="2362320"/>
            <a:ext cx="1752480" cy="12952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расная книг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Овал 51"/>
          <p:cNvSpPr/>
          <p:nvPr/>
        </p:nvSpPr>
        <p:spPr>
          <a:xfrm rot="19459800">
            <a:off x="622440" y="1120680"/>
            <a:ext cx="2057400" cy="1752840"/>
          </a:xfrm>
          <a:prstGeom prst="ellipse">
            <a:avLst/>
          </a:prstGeom>
          <a:solidFill>
            <a:srgbClr val="e341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бор природного матер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Сердце 53"/>
          <p:cNvSpPr/>
          <p:nvPr/>
        </p:nvSpPr>
        <p:spPr>
          <a:xfrm rot="20119800">
            <a:off x="1238400" y="2295360"/>
            <a:ext cx="2331720" cy="209232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елки из природного и растительного матер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Сердце 54"/>
          <p:cNvSpPr/>
          <p:nvPr/>
        </p:nvSpPr>
        <p:spPr>
          <a:xfrm rot="1853400">
            <a:off x="5940000" y="1581120"/>
            <a:ext cx="1878120" cy="169380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ши меньшие друз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Овал 55"/>
          <p:cNvSpPr/>
          <p:nvPr/>
        </p:nvSpPr>
        <p:spPr>
          <a:xfrm rot="1105800">
            <a:off x="5181120" y="2806560"/>
            <a:ext cx="2057400" cy="129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кскурсии, наблюдения, зарисов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Сердце 56"/>
          <p:cNvSpPr/>
          <p:nvPr/>
        </p:nvSpPr>
        <p:spPr>
          <a:xfrm rot="1277400">
            <a:off x="4312800" y="3564000"/>
            <a:ext cx="2286000" cy="1523880"/>
          </a:xfrm>
          <a:prstGeom prst="pie">
            <a:avLst/>
          </a:prstGeom>
          <a:solidFill>
            <a:srgbClr val="99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елки по собственному замысл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Овал 57"/>
          <p:cNvSpPr/>
          <p:nvPr/>
        </p:nvSpPr>
        <p:spPr>
          <a:xfrm rot="20467200">
            <a:off x="2933640" y="3412800"/>
            <a:ext cx="160020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Итоговое занят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Скругленная соединительная линия 61"/>
          <p:cNvCxnSpPr/>
          <p:nvPr/>
        </p:nvCxnSpPr>
        <p:spPr>
          <a:xfrm flipH="1" rot="16200000">
            <a:off x="3848040" y="5142960"/>
            <a:ext cx="1067400" cy="53424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w="9360">
            <a:solidFill>
              <a:srgbClr val="363636"/>
            </a:solidFill>
            <a:miter/>
          </a:ln>
        </p:spPr>
      </p:cxnSp>
      <p:cxnSp>
        <p:nvCxnSpPr>
          <p:cNvPr id="791" name="Скругленная соединительная линия 64"/>
          <p:cNvCxnSpPr>
            <a:stCxn id="788" idx="2"/>
          </p:cNvCxnSpPr>
          <p:nvPr/>
        </p:nvCxnSpPr>
        <p:spPr>
          <a:xfrm rot="5400000">
            <a:off x="4384440" y="5148360"/>
            <a:ext cx="908640" cy="6829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161616"/>
            </a:solidFill>
            <a:miter/>
          </a:ln>
        </p:spPr>
      </p:cxnSp>
      <p:cxnSp>
        <p:nvCxnSpPr>
          <p:cNvPr id="792" name="Скругленная соединительная линия 18"/>
          <p:cNvCxnSpPr/>
          <p:nvPr/>
        </p:nvCxnSpPr>
        <p:spPr>
          <a:xfrm rot="5400000">
            <a:off x="3696480" y="5067360"/>
            <a:ext cx="1751760" cy="2160"/>
          </a:xfrm>
          <a:prstGeom prst="curvedConnector5">
            <a:avLst>
              <a:gd name="adj1" fmla="val 49989"/>
              <a:gd name="adj2" fmla="val 40000"/>
              <a:gd name="adj3" fmla="val 49989"/>
            </a:avLst>
          </a:prstGeom>
          <a:ln w="9360">
            <a:solidFill>
              <a:srgbClr val="161616"/>
            </a:solidFill>
            <a:miter/>
          </a:ln>
        </p:spPr>
      </p:cxnSp>
      <p:cxnSp>
        <p:nvCxnSpPr>
          <p:cNvPr id="793" name="Скругленная соединительная линия 26"/>
          <p:cNvCxnSpPr/>
          <p:nvPr/>
        </p:nvCxnSpPr>
        <p:spPr>
          <a:xfrm rot="5400000">
            <a:off x="4037760" y="5105160"/>
            <a:ext cx="1296000" cy="2293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161616"/>
            </a:solidFill>
            <a:miter/>
          </a:ln>
        </p:spPr>
      </p:cxnSp>
      <p:cxnSp>
        <p:nvCxnSpPr>
          <p:cNvPr id="794" name="Скругленная соединительная линия 33"/>
          <p:cNvCxnSpPr>
            <a:stCxn id="789" idx="5"/>
          </p:cNvCxnSpPr>
          <p:nvPr/>
        </p:nvCxnSpPr>
        <p:spPr>
          <a:xfrm flipH="1" rot="16200000">
            <a:off x="3862080" y="5082120"/>
            <a:ext cx="1289880" cy="129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161616"/>
            </a:solidFill>
            <a:miter/>
          </a:ln>
        </p:spPr>
      </p:cxnSp>
      <p:sp>
        <p:nvSpPr>
          <p:cNvPr id="795" name="Прямоугольник 43"/>
          <p:cNvSpPr/>
          <p:nvPr/>
        </p:nvSpPr>
        <p:spPr>
          <a:xfrm>
            <a:off x="1143000" y="5562720"/>
            <a:ext cx="914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6" name="Прямоугольник 45" descr=""/>
          <p:cNvPicPr/>
          <p:nvPr/>
        </p:nvPicPr>
        <p:blipFill>
          <a:blip r:embed="rId2"/>
          <a:stretch/>
        </p:blipFill>
        <p:spPr>
          <a:xfrm>
            <a:off x="1768320" y="5870520"/>
            <a:ext cx="6016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41d0"/>
                </a:solidFill>
                <a:latin typeface="Times New Roman"/>
              </a:rPr>
              <a:t>Учебно-тематический план. </a:t>
            </a:r>
            <a:br>
              <a:rPr sz="4400"/>
            </a:br>
            <a:r>
              <a:rPr b="1" lang="ru-RU" sz="4400" spc="-1" strike="noStrike">
                <a:solidFill>
                  <a:srgbClr val="e341d0"/>
                </a:solidFill>
                <a:latin typeface="Times New Roman"/>
              </a:rPr>
              <a:t>Третий год обучения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7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28600" y="2057400"/>
          <a:ext cx="8686800" cy="4572000"/>
        </p:xfrm>
        <a:graphic>
          <a:graphicData uri="http://schemas.openxmlformats.org/drawingml/2006/table">
            <a:tbl>
              <a:tblPr/>
              <a:tblGrid>
                <a:gridCol w="5562720"/>
                <a:gridCol w="990360"/>
                <a:gridCol w="1067040"/>
                <a:gridCol w="1066680"/>
              </a:tblGrid>
              <a:tr h="274680">
                <a:tc rowSpan="2"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ЧА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1.Вводное занятие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техника   безопас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. Сбор природного матер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. Изготовление поделок из природного матер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.Наблюдение птиц в природ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5. Изготовление композиций из засушенных цв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6. Создание композиций из природного и растительного матер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7. Земноводные и пресмыкающиеся (экскурсии, наблюдения, зарисовк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8. Изготовление поделок по замыслу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9. Итоговое заня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5-08-16T12:30:22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