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188-7139-49AF-B659-32B87027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766-81CD-40E4-9532-140CB8C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F76-BF35-420A-AC75-6D511E08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2D3-E2AC-4B7B-9E83-3FFBF17D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5DC4-41A3-4044-A546-E9558030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2720-8BC5-48E6-B48B-0655517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57B8-2DCC-4E67-B4B2-91D6C37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45CA-4D2C-483D-AD92-CF11E49F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8907-7D0C-43DF-8882-3DBFA31A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7366-6A14-4DFA-9289-5E9B7F8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8660-9014-4BBF-8E44-46A87BC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2B1-AB0B-4806-9DC2-B048B9DA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BF87-8FCD-4F01-BFA9-61EDE1F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CCF3-7853-4315-A4B0-E026F38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3BBB-D862-430D-905D-93B76649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6DCD-F170-4137-88F1-EB3BC2E4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A8F1-2642-48DB-9520-A9B106B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3C5-8419-4C30-9AAF-340C01A4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E16-9792-4D58-97A3-859FF13B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0DD-F11C-419D-B5B6-13B7068E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A6A-EA41-4DBD-9190-A69C5D35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9B1-24B6-460A-B655-8BB1A80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F18-DF1C-4D1C-8491-B22C997F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E2A-A94B-4915-BCD7-1F4D994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296D-4DD0-4943-9C19-1B7E9BFB7D1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799-8EAF-41AB-B24B-64797072F20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-30240"/>
            <a:ext cx="7804080" cy="1017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609480" y="1447920"/>
            <a:ext cx="678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такое «Красная книга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то занесён в данную книг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ему они находятся под охран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мы можем помогать и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аш любимый  обитатель, занесённый в «Красную книгу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9320" y="1066680"/>
            <a:ext cx="39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3, второ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609480" y="3505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ужно правильно собирать природный и растительный матери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лучше производить сбор и в какое врем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ему нельзя срезать кору и бересту с деревье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ила поведения в лес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1292040" y="312408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4-6, второ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609480" y="52578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их вы знаете земноводных и пресмыкающих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пользу они принося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то из них занесён в «Красную книгу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368360" y="48769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8-9, второ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-30240"/>
            <a:ext cx="7802640" cy="1017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143000" y="106668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3, первы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73040" y="1371600"/>
            <a:ext cx="438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пернатых друзей вы знаете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ужно заботиться о них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ую пользу приносят птицы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тицы обитают в наших краях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тицы зимуют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знаешь перелетных птиц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296000" y="320040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4-5, первы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79520" y="3505320"/>
            <a:ext cx="84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правильно производить сбор природного и растительного материалов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е время лучше производить сбор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обходимо для работы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кажите о своей любимой подел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447920" y="480060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6,первы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71240" y="510552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земноводных вы знае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пресмыкающихся вы знае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значение они имеют в нашей жизни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методы и приемы по их охране вы знаете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-30240"/>
            <a:ext cx="7937640" cy="10177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457200" y="152388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е значение для нас имеют птиц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  какими  птицами вам пришлось наблюд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вы помогли пернатым птица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216800" y="1143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3, трети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369080" y="2666880"/>
            <a:ext cx="40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4-7, трети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533520" y="30481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ие земноводные и пресмыкающиеся обитают в нашем кра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пользу принося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работу ты провёл для их выжива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6" descr=""/>
          <p:cNvPicPr/>
          <p:nvPr/>
        </p:nvPicPr>
        <p:blipFill>
          <a:blip r:embed="rId1"/>
          <a:stretch/>
        </p:blipFill>
        <p:spPr>
          <a:xfrm>
            <a:off x="23760" y="-30240"/>
            <a:ext cx="9156600" cy="1017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shetova2.jpg"/>
          <p:cNvPicPr/>
          <p:nvPr/>
        </p:nvPicPr>
        <p:blipFill>
          <a:blip r:embed="rId2"/>
          <a:stretch/>
        </p:blipFill>
        <p:spPr>
          <a:xfrm>
            <a:off x="228600" y="1143000"/>
            <a:ext cx="4191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36.jpg"/>
          <p:cNvPicPr/>
          <p:nvPr/>
        </p:nvPicPr>
        <p:blipFill>
          <a:blip r:embed="rId1"/>
          <a:stretch/>
        </p:blipFill>
        <p:spPr>
          <a:xfrm>
            <a:off x="6095880" y="2666880"/>
            <a:ext cx="2857680" cy="31435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725400" y="-60480"/>
            <a:ext cx="7675560" cy="11401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52280" y="114300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РФ  об образовании от 10.03.199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иповые программы. М.:Просвещение 1992 г. и типовые положения (посмотреть в программе «Оригами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тская энциклопедия «Что такое, кто такой?» - М.:Педагогика 199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нциклопедия природы России «Птицы», «Земноводные и пресмыкающиеся». М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гибина М.И. «Природные дары». М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Минг – Виверз – Картер  «Засушенные цветы» . К.: 198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ернуха Т.А. «Твоя маленькая мастерская». М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нецкая Л. «Креативные картины из природного материала». М.: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Журналы «Юный натуралист». М.: 1996 – 1998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мфибии и рептилии Нижегородской области – пособие. НН.:200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мноводные пресмыкающиеся – метод. пособие. НН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ди и птицы – метод. пособие. НН.: 2002 – 2004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Женщины книга для вас – пособие по аранжировке сухими цветами.-М.: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ухие цветы – пособие. «100 идей для  украшения вашего дома». М.:199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комендации по заготовке, засушке и сохранению растений – методическое пособие. НН.: 200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1036800" y="96840"/>
            <a:ext cx="7368840" cy="1195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33.jpg"/>
          <p:cNvPicPr/>
          <p:nvPr/>
        </p:nvPicPr>
        <p:blipFill>
          <a:blip r:embed="rId2"/>
          <a:stretch/>
        </p:blipFill>
        <p:spPr>
          <a:xfrm>
            <a:off x="533520" y="1295280"/>
            <a:ext cx="3504960" cy="3581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87.jpg"/>
          <p:cNvPicPr/>
          <p:nvPr/>
        </p:nvPicPr>
        <p:blipFill>
          <a:blip r:embed="rId3"/>
          <a:stretch/>
        </p:blipFill>
        <p:spPr>
          <a:xfrm>
            <a:off x="4724280" y="1905120"/>
            <a:ext cx="4114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69.jpg"/>
          <p:cNvPicPr/>
          <p:nvPr/>
        </p:nvPicPr>
        <p:blipFill>
          <a:blip r:embed="rId1"/>
          <a:stretch/>
        </p:blipFill>
        <p:spPr>
          <a:xfrm>
            <a:off x="380880" y="609480"/>
            <a:ext cx="3276720" cy="3353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366.jpg"/>
          <p:cNvPicPr/>
          <p:nvPr/>
        </p:nvPicPr>
        <p:blipFill>
          <a:blip r:embed="rId2"/>
          <a:stretch/>
        </p:blipFill>
        <p:spPr>
          <a:xfrm>
            <a:off x="4114800" y="533520"/>
            <a:ext cx="48006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8-16T12:30:11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