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A24-4B4C-4ABA-96AD-C1B4C24B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467-18E7-4DC9-AD95-50CAEA6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1E5-9ECC-4E5B-8EB6-7B424D22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9A6-6585-4468-9F8B-E8C16B55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F51-C0A0-4F2E-8671-29556207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D1E-C4A6-4039-887C-079BAA52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BE25-BB0E-49A9-AE70-2180BB51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DCE2-5A8E-4FDF-9E9F-EA7DCBD3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76E-14F2-4D73-86DF-96F297B9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345-E6C4-483A-B32D-B0E04FB4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420F-8F71-4328-9C8C-AE1E3AF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3E3-6559-4A79-AFE7-65F1810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B91-EFD1-4810-8F3C-376F285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6642-8D5C-40FD-B378-4DA521D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EB85-8560-4716-B9B8-5B70863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3157-D4C3-429F-969D-BE784B4C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B712-20E7-4BA5-972A-8D8FCD5B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519-73B3-4100-BD6E-088E586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AAB-855E-4B54-A449-29793B28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78B-EF00-408F-A891-021EF8A2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7C4-765E-4754-B7D5-9EC92F19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BF8-FD32-4684-9830-6FB397A2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0DB-96E8-4E05-8807-C035BF6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EDD-3541-41F1-B88E-902AD91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56D7-0348-4A57-98E5-6E5126F75C2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9EF8-4C65-4103-8AF9-09DA37FD843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-30240"/>
            <a:ext cx="7804080" cy="1017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609480" y="1447920"/>
            <a:ext cx="678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такое «Красная книга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то занесён в данную книг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ему они находятся под охран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мы можем помогать и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аш любимый  обитатель, занесённый в «Красную книгу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9320" y="1066680"/>
            <a:ext cx="39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3, второ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609480" y="3505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ужно правильно собирать природный и растительный матери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лучше производить сбор и в какое врем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ему нельзя срезать кору и бересту с деревье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ила поведения в лес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1292040" y="312408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4-6, второ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609480" y="52578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их вы знаете земноводных и пресмыкающих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пользу они принося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то из них занесён в «Красную книгу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368360" y="48769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8-9, второ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-30240"/>
            <a:ext cx="7802640" cy="1017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143000" y="106668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3, первы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73040" y="1371600"/>
            <a:ext cx="438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пернатых друзей вы знаете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ужно заботиться о них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ую пользу приносят птицы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тицы обитают в наших краях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тицы зимуют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знаешь перелетных птиц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296000" y="320040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4-5, первы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79520" y="3505320"/>
            <a:ext cx="84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правильно производить сбор природного и растительного материалов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е время лучше производить сбор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обходимо для работы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кажите о своей любимой подел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447920" y="480060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6,первы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71240" y="510552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земноводных вы знае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пресмыкающихся вы знае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значение они имеют в нашей жизни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методы и приемы по их охране вы знаете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-30240"/>
            <a:ext cx="7937640" cy="10177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457200" y="152388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е значение для нас имеют птиц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  какими  птицами вам пришлось наблюд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вы помогли пернатым птица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216800" y="114300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3, трети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369080" y="2666880"/>
            <a:ext cx="40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41d0"/>
                </a:solidFill>
                <a:latin typeface="Arial"/>
              </a:rPr>
              <a:t>Тема 4-7, третий год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533520" y="30481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ие земноводные и пресмыкающиеся обитают в нашем кра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пользу принося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работу ты провёл для их выжива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6" descr=""/>
          <p:cNvPicPr/>
          <p:nvPr/>
        </p:nvPicPr>
        <p:blipFill>
          <a:blip r:embed="rId1"/>
          <a:stretch/>
        </p:blipFill>
        <p:spPr>
          <a:xfrm>
            <a:off x="23760" y="-30240"/>
            <a:ext cx="9156600" cy="1017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shetova2.jpg"/>
          <p:cNvPicPr/>
          <p:nvPr/>
        </p:nvPicPr>
        <p:blipFill>
          <a:blip r:embed="rId2"/>
          <a:stretch/>
        </p:blipFill>
        <p:spPr>
          <a:xfrm>
            <a:off x="228600" y="1143000"/>
            <a:ext cx="4191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36.jpg"/>
          <p:cNvPicPr/>
          <p:nvPr/>
        </p:nvPicPr>
        <p:blipFill>
          <a:blip r:embed="rId1"/>
          <a:stretch/>
        </p:blipFill>
        <p:spPr>
          <a:xfrm>
            <a:off x="6095880" y="2666880"/>
            <a:ext cx="2857680" cy="31435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725400" y="-60480"/>
            <a:ext cx="7675560" cy="11401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52280" y="114300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РФ  об образовании от 10.03.199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иповые программы. М.:Просвещение 1992 г. и типовые положения (посмотреть в программе «Оригами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тская энциклопедия «Что такое, кто такой?» - М.:Педагогика 199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нциклопедия природы России «Птицы», «Земноводные и пресмыкающиеся». М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гибина М.И. «Природные дары». М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Минг – Виверз – Картер  «Засушенные цветы» . К.: 198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ернуха Т.А. «Твоя маленькая мастерская». М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нецкая Л. «Креативные картины из природного материала». М.: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Журналы «Юный натуралист». М.: 1996 – 1998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мфибии и рептилии Нижегородской области – пособие. НН.:200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мноводные пресмыкающиеся – метод. пособие. НН.: 199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ди и птицы – метод. пособие. НН.: 2002 – 2004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Женщины книга для вас – пособие по аранжировке сухими цветами.-М.: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ухие цветы – пособие. «100 идей для  украшения вашего дома». М.:199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комендации по заготовке, засушке и сохранению растений – методическое пособие. НН.: 200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1036800" y="96840"/>
            <a:ext cx="7368840" cy="1195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33.jpg"/>
          <p:cNvPicPr/>
          <p:nvPr/>
        </p:nvPicPr>
        <p:blipFill>
          <a:blip r:embed="rId2"/>
          <a:stretch/>
        </p:blipFill>
        <p:spPr>
          <a:xfrm>
            <a:off x="533520" y="1295280"/>
            <a:ext cx="3504960" cy="3581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87.jpg"/>
          <p:cNvPicPr/>
          <p:nvPr/>
        </p:nvPicPr>
        <p:blipFill>
          <a:blip r:embed="rId3"/>
          <a:stretch/>
        </p:blipFill>
        <p:spPr>
          <a:xfrm>
            <a:off x="4724280" y="1905120"/>
            <a:ext cx="4114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69.jpg"/>
          <p:cNvPicPr/>
          <p:nvPr/>
        </p:nvPicPr>
        <p:blipFill>
          <a:blip r:embed="rId1"/>
          <a:stretch/>
        </p:blipFill>
        <p:spPr>
          <a:xfrm>
            <a:off x="380880" y="609480"/>
            <a:ext cx="3276720" cy="3353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366.jpg"/>
          <p:cNvPicPr/>
          <p:nvPr/>
        </p:nvPicPr>
        <p:blipFill>
          <a:blip r:embed="rId2"/>
          <a:stretch/>
        </p:blipFill>
        <p:spPr>
          <a:xfrm>
            <a:off x="4114800" y="533520"/>
            <a:ext cx="48006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8-16T12:30:11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