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gif" ContentType="image/gif"/>
  <Override PartName="/ppt/media/image19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1.jpeg" ContentType="image/jpeg"/>
  <Override PartName="/ppt/media/image15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4.wmf" ContentType="image/x-wmf"/>
  <Override PartName="/ppt/media/image13.wmf" ContentType="image/x-wmf"/>
  <Override PartName="/ppt/media/chimes.wav" ContentType="audio/x-wav"/>
  <Override PartName="/ppt/media/image7.wmf" ContentType="image/x-wmf"/>
  <Override PartName="/ppt/media/image12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359E-0023-4B8A-A6E4-84CB1405B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B96A-C979-4EDB-8C52-00FF5382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F510-EACF-408A-BDC9-129029B1F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7E46-EF4E-4B6D-9F46-987FC24FC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2A78-492F-40AA-A98E-7DD4CA82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FD23-07FE-4966-9E62-9BF93A90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8CDD-8DB4-4345-9EC4-0C334C81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6BA6-F101-4F78-85AB-6DBB71F6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695A-6612-4862-A90D-EB76CF9F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F4F7-4E41-4371-9BE4-C2E69AC1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BD62-7779-40BE-A9C6-6534280E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12F8-6514-46D7-8F2C-4AC987C0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576D-6479-4B84-B320-92DEA7640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gi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57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fb8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357360"/>
            <a:ext cx="9144000" cy="3787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fb81"/>
              </a:gs>
            </a:gsLst>
            <a:lin ang="5400000"/>
          </a:gra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95280" y="476280"/>
            <a:ext cx="849780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 а м я т ь  - 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дивительное свойство человеческого разума.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00000" y="3357720"/>
            <a:ext cx="727416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e7192d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Память - это единственный рай,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e7192d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e7192d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з которого нет изгнания".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e7192d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724360" y="6021360"/>
            <a:ext cx="2951280" cy="43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. Ю. Матюгин.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plit dir="in" orient="horz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5688000" cy="5761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7020000" y="1341360"/>
            <a:ext cx="151272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in" orient="horz"/>
    <p:sndAc>
      <p:stSnd>
        <p:snd r:embed="rId2" name="chimes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203640" y="620640"/>
            <a:ext cx="5759280" cy="5545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900000" y="981000"/>
            <a:ext cx="1584360" cy="45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in" orient="horz"/>
    <p:sndAc>
      <p:stSnd>
        <p:snd r:embed="rId2" name="chimes.wav"/>
      </p:stSnd>
    </p:sndAc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908000" y="260280"/>
            <a:ext cx="55436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Impact"/>
              </a:rPr>
              <a:t>2  раунд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16000" y="2708280"/>
            <a:ext cx="676908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Восстанови</a:t>
            </a:r>
            <a:endParaRPr b="0" lang="en-US" sz="2400" spc="1" strike="noStrike">
              <a:ln w="19080">
                <a:solidFill>
                  <a:srgbClr val="0000ff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ртинку".</a:t>
            </a:r>
            <a:endParaRPr b="0" lang="en-US" sz="2400" spc="1" strike="noStrike">
              <a:ln w="19080">
                <a:solidFill>
                  <a:srgbClr val="0000ff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plit dir="in" orient="horz"/>
    <p:sndAc>
      <p:stSnd>
        <p:snd r:embed="rId1" name="chimes.wav"/>
      </p:stSnd>
    </p:sndAc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457200" y="274680"/>
          <a:ext cx="8291520" cy="6178680"/>
        </p:xfrm>
        <a:graphic>
          <a:graphicData uri="http://schemas.openxmlformats.org/drawingml/2006/table">
            <a:tbl>
              <a:tblPr/>
              <a:tblGrid>
                <a:gridCol w="1382760"/>
                <a:gridCol w="1380960"/>
                <a:gridCol w="1382760"/>
                <a:gridCol w="1381320"/>
                <a:gridCol w="1374480"/>
                <a:gridCol w="138924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4faa4"/>
                    </a:solidFill>
                  </a:tcPr>
                </a:tc>
              </a:tr>
              <a:tr h="103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4fa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3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4fa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1e7"/>
                    </a:solidFill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1e7"/>
                    </a:solidFill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4fa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p:transition spd="med">
    <p:split dir="in" orient="horz"/>
    <p:sndAc>
      <p:stSnd>
        <p:snd r:embed="rId1" name="chimes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457200" y="274680"/>
          <a:ext cx="8362440" cy="6322680"/>
        </p:xfrm>
        <a:graphic>
          <a:graphicData uri="http://schemas.openxmlformats.org/drawingml/2006/table">
            <a:tbl>
              <a:tblPr/>
              <a:tblGrid>
                <a:gridCol w="1393560"/>
                <a:gridCol w="1393920"/>
                <a:gridCol w="1393560"/>
                <a:gridCol w="1393920"/>
                <a:gridCol w="1393920"/>
                <a:gridCol w="1393560"/>
              </a:tblGrid>
              <a:tr h="105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plit dir="in" orient="horz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457200" y="274680"/>
          <a:ext cx="8362800" cy="6394320"/>
        </p:xfrm>
        <a:graphic>
          <a:graphicData uri="http://schemas.openxmlformats.org/drawingml/2006/table">
            <a:tbl>
              <a:tblPr/>
              <a:tblGrid>
                <a:gridCol w="1393920"/>
                <a:gridCol w="1393560"/>
                <a:gridCol w="1393920"/>
                <a:gridCol w="1393920"/>
                <a:gridCol w="1393920"/>
                <a:gridCol w="1393560"/>
              </a:tblGrid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19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19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3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bf15e"/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bf15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3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bf15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13ed"/>
                    </a:solidFill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1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1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3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19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13ed"/>
                    </a:solidFill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bf15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19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36"/>
                    </a:solidFill>
                  </a:tcPr>
                </a:tc>
              </a:tr>
            </a:tbl>
          </a:graphicData>
        </a:graphic>
      </p:graphicFrame>
    </p:spTree>
  </p:cSld>
  <p:transition spd="slow">
    <p:checker dir="vert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9000"/>
          </a:xfrm>
          <a:prstGeom prst="rect">
            <a:avLst/>
          </a:prstGeom>
          <a:gradFill rotWithShape="0">
            <a:gsLst>
              <a:gs pos="0">
                <a:srgbClr val="fdf0a1"/>
              </a:gs>
              <a:gs pos="100000">
                <a:srgbClr val="a4faa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9144000" cy="5229360"/>
          </a:xfrm>
          <a:prstGeom prst="rect">
            <a:avLst/>
          </a:prstGeom>
          <a:gradFill rotWithShape="0">
            <a:gsLst>
              <a:gs pos="0">
                <a:srgbClr val="fdf0a1"/>
              </a:gs>
              <a:gs pos="50000">
                <a:srgbClr val="d6fcfe"/>
              </a:gs>
              <a:gs pos="100000">
                <a:srgbClr val="fdf0a1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124000" y="692280"/>
            <a:ext cx="4753080" cy="136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  раунд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03280" y="2852640"/>
            <a:ext cx="662472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41e7"/>
                    </a:gs>
                    <a:gs pos="50000">
                      <a:srgbClr val="f11362"/>
                    </a:gs>
                    <a:gs pos="100000">
                      <a:srgbClr val="4d41e7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Найди ошибку"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41e7"/>
                  </a:gs>
                  <a:gs pos="50000">
                    <a:srgbClr val="f11362"/>
                  </a:gs>
                  <a:gs pos="100000">
                    <a:srgbClr val="4d41e7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split dir="in" orient="horz"/>
    <p:sndAc>
      <p:stSnd>
        <p:snd r:embed="rId1" name="chimes.wav"/>
      </p:stSnd>
    </p:sndAc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673440" y="836640"/>
            <a:ext cx="4795920" cy="4897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716360" y="1413000"/>
            <a:ext cx="122400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16360" y="1700280"/>
            <a:ext cx="1224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чинение на тему:</a:t>
            </a:r>
            <a:endParaRPr b="0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Как я провел лето".</a:t>
            </a:r>
            <a:endParaRPr b="0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3429000"/>
            <a:ext cx="323640" cy="2998800"/>
          </a:xfrm>
          <a:custGeom>
            <a:avLst/>
            <a:gdLst/>
            <a:ahLst/>
            <a:rect l="l" t="t" r="r" b="b"/>
            <a:pathLst>
              <a:path w="492" h="1980">
                <a:moveTo>
                  <a:pt x="431" y="0"/>
                </a:moveTo>
                <a:cubicBezTo>
                  <a:pt x="461" y="824"/>
                  <a:pt x="492" y="1648"/>
                  <a:pt x="431" y="1814"/>
                </a:cubicBezTo>
                <a:cubicBezTo>
                  <a:pt x="370" y="1980"/>
                  <a:pt x="136" y="1005"/>
                  <a:pt x="68" y="998"/>
                </a:cubicBezTo>
                <a:cubicBezTo>
                  <a:pt x="0" y="991"/>
                  <a:pt x="7" y="1663"/>
                  <a:pt x="22" y="1769"/>
                </a:cubicBezTo>
                <a:cubicBezTo>
                  <a:pt x="37" y="1875"/>
                  <a:pt x="150" y="1656"/>
                  <a:pt x="158" y="1633"/>
                </a:cubicBezTo>
                <a:cubicBezTo>
                  <a:pt x="166" y="1610"/>
                  <a:pt x="91" y="1640"/>
                  <a:pt x="68" y="1633"/>
                </a:cubicBezTo>
                <a:cubicBezTo>
                  <a:pt x="45" y="1626"/>
                  <a:pt x="15" y="1595"/>
                  <a:pt x="22" y="1588"/>
                </a:cubicBezTo>
                <a:cubicBezTo>
                  <a:pt x="29" y="1581"/>
                  <a:pt x="98" y="1588"/>
                  <a:pt x="113" y="15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5734080"/>
            <a:ext cx="144360" cy="1443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5805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5877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851280" y="5733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88000" y="1773360"/>
            <a:ext cx="71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516720" y="1773360"/>
            <a:ext cx="285120" cy="14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740720" y="1125360"/>
            <a:ext cx="144360" cy="432000"/>
          </a:xfrm>
          <a:custGeom>
            <a:avLst/>
            <a:gdLst>
              <a:gd name="textAreaLeft" fmla="*/ 36000 w 144360"/>
              <a:gd name="textAreaRight" fmla="*/ 108360 w 144360"/>
              <a:gd name="textAreaTop" fmla="*/ 0 h 432000"/>
              <a:gd name="textAreaBottom" fmla="*/ 378000 h 432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67640" y="1197000"/>
            <a:ext cx="289080" cy="216000"/>
          </a:xfrm>
          <a:custGeom>
            <a:avLst/>
            <a:gdLst>
              <a:gd name="textAreaLeft" fmla="*/ 0 w 289080"/>
              <a:gd name="textAreaRight" fmla="*/ 289080 w 289080"/>
              <a:gd name="textAreaTop" fmla="*/ 27720 h 216000"/>
              <a:gd name="textAreaBottom" fmla="*/ 1882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32360" y="476280"/>
            <a:ext cx="1008000" cy="649080"/>
          </a:xfrm>
          <a:prstGeom prst="irregularSeal2">
            <a:avLst/>
          </a:prstGeom>
          <a:solidFill>
            <a:srgbClr val="d6fc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620640"/>
            <a:ext cx="648000" cy="50472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3280" y="476280"/>
            <a:ext cx="649440" cy="649080"/>
          </a:xfrm>
          <a:custGeom>
            <a:avLst/>
            <a:gdLst>
              <a:gd name="textAreaLeft" fmla="*/ 148320 w 649440"/>
              <a:gd name="textAreaRight" fmla="*/ 501120 w 649440"/>
              <a:gd name="textAreaTop" fmla="*/ 147960 h 649080"/>
              <a:gd name="textAreaBottom" fmla="*/ 501120 h 64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eea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476280"/>
            <a:ext cx="431640" cy="50472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20630400">
            <a:off x="7677000" y="3355920"/>
            <a:ext cx="360360" cy="357120"/>
          </a:xfrm>
          <a:custGeom>
            <a:avLst/>
            <a:gdLst>
              <a:gd name="textAreaLeft" fmla="*/ 84600 w 360360"/>
              <a:gd name="textAreaRight" fmla="*/ 275400 w 360360"/>
              <a:gd name="textAreaTop" fmla="*/ 41760 h 357120"/>
              <a:gd name="textAreaBottom" fmla="*/ 223920 h 3571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05a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885080" y="4508640"/>
            <a:ext cx="71640" cy="7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956720" y="4508640"/>
            <a:ext cx="71280" cy="7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42920" y="2997360"/>
            <a:ext cx="2570400" cy="122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547640" y="2997360"/>
            <a:ext cx="676440" cy="1000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2411280" y="3068640"/>
            <a:ext cx="1152720" cy="11127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843280" y="4221000"/>
            <a:ext cx="0" cy="144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35280" y="4292640"/>
            <a:ext cx="0" cy="108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03640" y="4149720"/>
            <a:ext cx="0" cy="108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47640" y="414972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755640" y="476280"/>
            <a:ext cx="1668600" cy="129708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  <p:sndAc>
      <p:stSnd>
        <p:snd r:embed="rId5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50000">
                <a:srgbClr val="156b13"/>
              </a:gs>
              <a:gs pos="100000">
                <a:srgbClr val="ddebc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gradFill rotWithShape="0">
            <a:gsLst>
              <a:gs pos="0">
                <a:srgbClr val="156b13">
                  <a:alpha val="62352"/>
                </a:srgbClr>
              </a:gs>
              <a:gs pos="50000">
                <a:srgbClr val="ddebcf">
                  <a:alpha val="59215"/>
                </a:srgbClr>
              </a:gs>
              <a:gs pos="100000">
                <a:srgbClr val="156b13">
                  <a:alpha val="62352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8360" y="1125360"/>
            <a:ext cx="10666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ddebcf"/>
                    </a:gs>
                    <a:gs pos="50000">
                      <a:srgbClr val="156b13"/>
                    </a:gs>
                    <a:gs pos="100000">
                      <a:srgbClr val="ddebc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  раунд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ddebcf"/>
                  </a:gs>
                  <a:gs pos="50000">
                    <a:srgbClr val="156b13"/>
                  </a:gs>
                  <a:gs pos="100000">
                    <a:srgbClr val="ddebc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19280" y="333360"/>
            <a:ext cx="52578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  раунд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4000" y="1773360"/>
            <a:ext cx="8820000" cy="40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11362"/>
                    </a:gs>
                  </a:gsLst>
                  <a:lin ang="5400000"/>
                </a:gradFill>
                <a:latin typeface="Times New Roman"/>
              </a:rPr>
              <a:t>"Запомнить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11362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11362"/>
                    </a:gs>
                  </a:gsLst>
                  <a:lin ang="5400000"/>
                </a:gradFill>
                <a:latin typeface="Times New Roman"/>
              </a:rPr>
              <a:t>чтобы вспомнить"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1136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split dir="in" orient="horz"/>
    <p:sndAc>
      <p:stSnd>
        <p:snd r:embed="rId3" name="chimes.wav"/>
      </p:stSnd>
    </p:sndAc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250920" y="274680"/>
          <a:ext cx="8641800" cy="6322680"/>
        </p:xfrm>
        <a:graphic>
          <a:graphicData uri="http://schemas.openxmlformats.org/drawingml/2006/table">
            <a:tbl>
              <a:tblPr/>
              <a:tblGrid>
                <a:gridCol w="2880360"/>
                <a:gridCol w="2880720"/>
                <a:gridCol w="2880720"/>
              </a:tblGrid>
              <a:tr h="21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1136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1136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1136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11362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11362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11362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11362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11362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11362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710160" y="2503440"/>
            <a:ext cx="1723680" cy="1849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826920" y="4724280"/>
            <a:ext cx="1570320" cy="17305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6877080" y="2708280"/>
            <a:ext cx="1338120" cy="12938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6372360" y="692280"/>
            <a:ext cx="2241360" cy="1412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3616200" y="430200"/>
            <a:ext cx="1825920" cy="17254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755640" y="836640"/>
            <a:ext cx="1871640" cy="11206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7"/>
          <a:stretch/>
        </p:blipFill>
        <p:spPr>
          <a:xfrm>
            <a:off x="3635280" y="4869000"/>
            <a:ext cx="1728720" cy="1423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8"/>
          <a:stretch/>
        </p:blipFill>
        <p:spPr>
          <a:xfrm>
            <a:off x="826920" y="2565360"/>
            <a:ext cx="1819440" cy="1668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9"/>
          <a:stretch/>
        </p:blipFill>
        <p:spPr>
          <a:xfrm>
            <a:off x="6443640" y="4724280"/>
            <a:ext cx="1944720" cy="1474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  <p:sndAc>
      <p:stSnd>
        <p:snd r:embed="rId10" name="chimes.wav"/>
      </p:stSnd>
    </p:sndAc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6000"/>
                            </p:stCondLst>
                            <p:childTnLst>
                              <p:par>
                                <p:cTn id="2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8000"/>
                            </p:stCondLst>
                            <p:childTnLst>
                              <p:par>
                                <p:cTn id="2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2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3141360"/>
            <a:ext cx="9144000" cy="3716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260280"/>
            <a:ext cx="20876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Impact"/>
              </a:rPr>
              <a:t>ПАМЯТ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627280" y="-316080"/>
            <a:ext cx="626580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свойство нервной системы человека, </a:t>
            </a:r>
            <a:endParaRPr b="0" lang="en-US" sz="12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выражающееся в способности длительно хранить информацию</a:t>
            </a:r>
            <a:endParaRPr b="0" lang="en-US" sz="12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и воспроизводить ее в сферу сознания и поведения.</a:t>
            </a:r>
            <a:endParaRPr b="0" lang="en-US" sz="12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403280" y="3357720"/>
            <a:ext cx="662472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e7192d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ды памят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e7192d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11280" y="4292640"/>
            <a:ext cx="7850160" cy="20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e7192d"/>
                    </a:gs>
                    <a:gs pos="100000">
                      <a:srgbClr val="2d13ed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. Моторная  (память-привычка),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e7192d"/>
                  </a:gs>
                  <a:gs pos="100000">
                    <a:srgbClr val="2d13ed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e7192d"/>
                    </a:gs>
                    <a:gs pos="100000">
                      <a:srgbClr val="2d13ed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. Эмоциональная, аффективная (память чувств),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e7192d"/>
                  </a:gs>
                  <a:gs pos="100000">
                    <a:srgbClr val="2d13ed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e7192d"/>
                    </a:gs>
                    <a:gs pos="100000">
                      <a:srgbClr val="2d13ed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.Образная и словесно-логическая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e7192d"/>
                  </a:gs>
                  <a:gs pos="100000">
                    <a:srgbClr val="2d13ed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split dir="in" orient="horz"/>
    <p:sndAc>
      <p:stSnd>
        <p:snd r:embed="rId1" name="chimes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99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4000" y="620640"/>
            <a:ext cx="26636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41e7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d41e7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41e7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аунд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d41e7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50920" y="3500280"/>
            <a:ext cx="288108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Угадай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лово".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716360" y="3500280"/>
            <a:ext cx="27925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я -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00720" y="1557360"/>
            <a:ext cx="36716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а я -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427640" y="620640"/>
            <a:ext cx="4211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 - с - -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00720" y="5661000"/>
            <a:ext cx="4032000" cy="4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о -  ы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356000" y="2492280"/>
            <a:ext cx="4176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а - о - е -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plit dir="in" orient="horz"/>
    <p:sndAc>
      <p:stSnd>
        <p:snd r:embed="rId1" name="chimes.wav"/>
      </p:stSnd>
    </p:sndAc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000"/>
                            </p:stCondLst>
                            <p:childTnLst>
                              <p:par>
                                <p:cTn id="2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0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9000"/>
                            </p:stCondLst>
                            <p:childTnLst>
                              <p:par>
                                <p:cTn id="24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4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8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1000"/>
                            </p:stCondLst>
                            <p:childTnLst>
                              <p:par>
                                <p:cTn id="25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6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250920" y="274680"/>
          <a:ext cx="8641800" cy="6322680"/>
        </p:xfrm>
        <a:graphic>
          <a:graphicData uri="http://schemas.openxmlformats.org/drawingml/2006/table">
            <a:tbl>
              <a:tblPr/>
              <a:tblGrid>
                <a:gridCol w="2880360"/>
                <a:gridCol w="2880720"/>
                <a:gridCol w="2880720"/>
              </a:tblGrid>
              <a:tr h="21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1136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11362"/>
                          </a:solidFill>
                          <a:latin typeface="Arial"/>
                        </a:rPr>
                        <a:t>2     </a:t>
                      </a:r>
                      <a:r>
                        <a:rPr b="0" i="1" lang="en-US" sz="2800" spc="-1" strike="noStrike">
                          <a:solidFill>
                            <a:srgbClr val="f11362"/>
                          </a:solidFill>
                          <a:latin typeface="Arial"/>
                        </a:rPr>
                        <a:t>- о – 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11362"/>
                          </a:solidFill>
                          <a:latin typeface="Arial"/>
                        </a:rPr>
                        <a:t>3  </a:t>
                      </a:r>
                      <a:r>
                        <a:rPr b="0" i="1" lang="en-US" sz="2800" spc="-1" strike="noStrike">
                          <a:solidFill>
                            <a:srgbClr val="f11362"/>
                          </a:solidFill>
                          <a:latin typeface="Arial"/>
                        </a:rPr>
                        <a:t>- а – о – е -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11362"/>
                          </a:solidFill>
                          <a:latin typeface="Arial"/>
                        </a:rPr>
                        <a:t>4     </a:t>
                      </a:r>
                      <a:r>
                        <a:rPr b="0" i="1" lang="en-US" sz="2800" spc="-1" strike="noStrike">
                          <a:solidFill>
                            <a:srgbClr val="f11362"/>
                          </a:solidFill>
                          <a:latin typeface="Arial"/>
                        </a:rPr>
                        <a:t>- а я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11362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11362"/>
                          </a:solidFill>
                          <a:latin typeface="Arial"/>
                        </a:rPr>
                        <a:t>6      </a:t>
                      </a:r>
                      <a:r>
                        <a:rPr b="0" i="1" lang="en-US" sz="2800" spc="-1" strike="noStrike">
                          <a:solidFill>
                            <a:srgbClr val="f11362"/>
                          </a:solidFill>
                          <a:latin typeface="Arial"/>
                        </a:rPr>
                        <a:t>к – с -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11362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11362"/>
                          </a:solidFill>
                          <a:latin typeface="Arial"/>
                        </a:rPr>
                        <a:t>8       </a:t>
                      </a:r>
                      <a:r>
                        <a:rPr b="0" i="1" lang="en-US" sz="2800" spc="-1" strike="noStrike">
                          <a:solidFill>
                            <a:srgbClr val="f11362"/>
                          </a:solidFill>
                          <a:latin typeface="Arial"/>
                        </a:rPr>
                        <a:t>- я -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11362"/>
                          </a:solidFill>
                          <a:latin typeface="Arial"/>
                        </a:rPr>
                        <a:t>9     </a:t>
                      </a:r>
                      <a:r>
                        <a:rPr b="0" i="1" lang="en-US" sz="2800" spc="-1" strike="noStrike">
                          <a:solidFill>
                            <a:srgbClr val="f11362"/>
                          </a:solidFill>
                          <a:latin typeface="Arial"/>
                        </a:rPr>
                        <a:t>- и – р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710160" y="2503440"/>
            <a:ext cx="1723680" cy="18493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826920" y="4724280"/>
            <a:ext cx="1570320" cy="17305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877080" y="2924280"/>
            <a:ext cx="1338120" cy="12938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6372360" y="765000"/>
            <a:ext cx="2241360" cy="1339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3616200" y="907920"/>
            <a:ext cx="1825920" cy="1297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755640" y="836640"/>
            <a:ext cx="1871640" cy="11206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3635280" y="5084640"/>
            <a:ext cx="1584360" cy="12081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8"/>
          <a:stretch/>
        </p:blipFill>
        <p:spPr>
          <a:xfrm>
            <a:off x="826920" y="2781360"/>
            <a:ext cx="1819440" cy="1452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9"/>
          <a:stretch/>
        </p:blipFill>
        <p:spPr>
          <a:xfrm>
            <a:off x="6443640" y="5013360"/>
            <a:ext cx="1944720" cy="1474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  <p:sndAc>
      <p:stSnd>
        <p:snd r:embed="rId10" name="chimes.wav"/>
      </p:stSnd>
    </p:sndAc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900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d8fb81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525780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d8fb81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547640" y="692280"/>
            <a:ext cx="5545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6  раунд</a:t>
            </a:r>
            <a:endParaRPr b="0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187280" y="3246480"/>
            <a:ext cx="7056720" cy="15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Запомни цвет и слово"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in" orient="horz"/>
    <p:sndAc>
      <p:stSnd>
        <p:snd r:embed="rId3" name="chimes.wav"/>
      </p:stSnd>
    </p:sndAc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0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971640" y="1484280"/>
            <a:ext cx="3097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    добрый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187280" y="3141720"/>
            <a:ext cx="295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   яркий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71640" y="4797360"/>
            <a:ext cx="381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.    письменная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788000" y="1628640"/>
            <a:ext cx="2879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ловек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148360" y="3213000"/>
            <a:ext cx="2016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вет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580000" y="4797360"/>
            <a:ext cx="223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бот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in" orient="horz"/>
    <p:sndAc>
      <p:stSnd>
        <p:snd r:embed="rId1" name="chimes.wav"/>
      </p:stSnd>
    </p:sndAc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000"/>
                            </p:stCondLst>
                            <p:childTnLst>
                              <p:par>
                                <p:cTn id="3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971640" y="1484280"/>
            <a:ext cx="3097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    добрый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87280" y="3141720"/>
            <a:ext cx="295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   яркий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71640" y="4797360"/>
            <a:ext cx="381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.    письменная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788000" y="1628640"/>
            <a:ext cx="2879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ловек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148360" y="3213000"/>
            <a:ext cx="2016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вет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580000" y="4797360"/>
            <a:ext cx="223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бот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in" orient="horz"/>
    <p:sndAc>
      <p:stSnd>
        <p:snd r:embed="rId1" name="chimes.wav"/>
      </p:stSnd>
    </p:sndAc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17640"/>
          </a:xfrm>
          <a:prstGeom prst="rect">
            <a:avLst/>
          </a:prstGeom>
          <a:gradFill rotWithShape="0">
            <a:gsLst>
              <a:gs pos="0">
                <a:srgbClr val="a4f8fa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0846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Наличие возможности выразить свою мысль словами, значительно облегчает процесс запомин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Список вопросов, которые могут быть заданы к запоминаемому тексту, упростит задач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Организационный и структурированный подход к запоминанию. Если у вас будет картотека в голове, тогда легче извлечь оттуда информ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Эмоциональная окраска, придаваемая информации яркой ассоци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нужным воспомина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Готовясь к экзамену, материал необходимо повторять перед сн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абы информация, поступающая в течение всего дня, не смешивалась и не накладывалась одна на друг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16000" y="476280"/>
            <a:ext cx="7201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коны запоминания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in" orient="horz"/>
    <p:sndAc>
      <p:stSnd>
        <p:snd r:embed="rId1" name="chimes.wav"/>
      </p:stSnd>
    </p:sndAc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7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db5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gradFill rotWithShape="0">
            <a:gsLst>
              <a:gs pos="0">
                <a:srgbClr val="e7192d"/>
              </a:gs>
              <a:gs pos="50000">
                <a:srgbClr val="009999"/>
              </a:gs>
              <a:gs pos="100000">
                <a:srgbClr val="e7192d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«Для того, чтобы что-то запомнить, необходимо это понят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. Ан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«Память-это такое устройство в мозгу, при помощи которого мы все забываем».                                                                      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А. Чей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«Запись боли в одном пространстве памяти нельзя стереть записями счастья в других»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 «Кто не очень-то полагается на свою память, тому нелегко складно лгать».                                                                         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. Монт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 «Никто через год не вспомнит , какие ты носил джинсы, но все будут помнить, какой ты был человек».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. «Кто помнит всегда о других, тот оставляет о себе пам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то думает лишь о себе, канет в небытие».                Л. С. Сухоруков.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258920" y="260280"/>
            <a:ext cx="6265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2f236"/>
                    </a:gs>
                    <a:gs pos="50000">
                      <a:srgbClr val="e7192d"/>
                    </a:gs>
                    <a:gs pos="100000">
                      <a:srgbClr val="f2f23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ффоризм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2f236"/>
                  </a:gs>
                  <a:gs pos="50000">
                    <a:srgbClr val="e7192d"/>
                  </a:gs>
                  <a:gs pos="100000">
                    <a:srgbClr val="f2f23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in" orient="horz"/>
    <p:sndAc>
      <p:stSnd>
        <p:snd r:embed="rId1" name="chimes.wav"/>
      </p:stSnd>
    </p:sndAc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7000"/>
                            </p:stCondLst>
                            <p:childTnLst>
                              <p:par>
                                <p:cTn id="4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9000"/>
                            </p:stCondLst>
                            <p:childTnLst>
                              <p:par>
                                <p:cTn id="4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2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2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2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3000"/>
                            </p:stCondLst>
                            <p:childTnLst>
                              <p:par>
                                <p:cTn id="4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20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4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20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59280" y="2492280"/>
            <a:ext cx="30970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 внимание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plit dir="in" orient="horz"/>
    <p:sndAc>
      <p:stSnd>
        <p:snd r:embed="rId1" name="chimes.wav"/>
      </p:stSnd>
    </p:sndAc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4" dur="2000" fill="hold"/>
                                        <p:tgtEl>
                                          <p:spTgt spid="1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000"/>
                            </p:stCondLst>
                            <p:childTnLst>
                              <p:par>
                                <p:cTn id="4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19280" y="333360"/>
            <a:ext cx="5977080" cy="1827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277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Arial"/>
              </a:rPr>
              <a:t>Класификация памя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cc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26920" y="1628640"/>
            <a:ext cx="316872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2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. кратковременная,</a:t>
            </a:r>
            <a:endParaRPr b="0" i="1" lang="en-US" sz="20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. оперативная,</a:t>
            </a:r>
            <a:endParaRPr b="0" i="1" lang="en-US" sz="20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. долговременная.</a:t>
            </a:r>
            <a:endParaRPr b="0" i="1" lang="en-US" sz="20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95640" y="1628640"/>
            <a:ext cx="5148360" cy="489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2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. генетическая,</a:t>
            </a:r>
            <a:endParaRPr b="0" i="1" lang="en-US" sz="1800" spc="1" strike="noStrike">
              <a:ln w="0">
                <a:noFill/>
              </a:ln>
              <a:solidFill>
                <a:srgbClr val="cc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. зрительная,</a:t>
            </a:r>
            <a:endParaRPr b="0" i="1" lang="en-US" sz="1800" spc="1" strike="noStrike">
              <a:ln w="0">
                <a:noFill/>
              </a:ln>
              <a:solidFill>
                <a:srgbClr val="cc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. слуховая,</a:t>
            </a:r>
            <a:endParaRPr b="0" i="1" lang="en-US" sz="1800" spc="1" strike="noStrike">
              <a:ln w="0">
                <a:noFill/>
              </a:ln>
              <a:solidFill>
                <a:srgbClr val="cc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. двигательная,</a:t>
            </a:r>
            <a:endParaRPr b="0" i="1" lang="en-US" sz="1800" spc="1" strike="noStrike">
              <a:ln w="0">
                <a:noFill/>
              </a:ln>
              <a:solidFill>
                <a:srgbClr val="cc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. эмоциональная,</a:t>
            </a:r>
            <a:endParaRPr b="0" i="1" lang="en-US" sz="1800" spc="1" strike="noStrike">
              <a:ln w="0">
                <a:noFill/>
              </a:ln>
              <a:solidFill>
                <a:srgbClr val="cc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. осязательная, обонятельная,</a:t>
            </a:r>
            <a:endParaRPr b="0" i="1" lang="en-US" sz="1800" spc="1" strike="noStrike">
              <a:ln w="0">
                <a:noFill/>
              </a:ln>
              <a:solidFill>
                <a:srgbClr val="cc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0">
                  <a:noFill/>
                </a:ln>
                <a:solidFill>
                  <a:srgbClr val="cc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кусовая.</a:t>
            </a:r>
            <a:endParaRPr b="0" i="1" lang="en-US" sz="1800" spc="1" strike="noStrike">
              <a:ln w="0">
                <a:noFill/>
              </a:ln>
              <a:solidFill>
                <a:srgbClr val="cc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4360" y="4365720"/>
            <a:ext cx="26636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произвольное,</a:t>
            </a:r>
            <a:endParaRPr b="0" i="1" lang="en-US" sz="1800" spc="1" strike="noStrike">
              <a:ln w="0">
                <a:noFill/>
              </a:ln>
              <a:solidFill>
                <a:srgbClr val="ff99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извольное.</a:t>
            </a:r>
            <a:endParaRPr b="0" i="1" lang="en-US" sz="1800" spc="1" strike="noStrike">
              <a:ln w="0">
                <a:noFill/>
              </a:ln>
              <a:solidFill>
                <a:srgbClr val="ff99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plit dir="in" orient="horz"/>
    <p:sndAc>
      <p:stSnd>
        <p:snd r:embed="rId1" name="chimes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0" y="38858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476360" y="981000"/>
            <a:ext cx="65516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ff33cc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обро  пожаловать 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ff33cc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340000" y="3141720"/>
            <a:ext cx="4680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50000">
                      <a:srgbClr val="ff3300"/>
                    </a:gs>
                    <a:gs pos="100000">
                      <a:srgbClr val="0066ff"/>
                    </a:gs>
                  </a:gsLst>
                  <a:lin ang="5400000"/>
                </a:gradFill>
                <a:latin typeface="Impact"/>
              </a:rPr>
              <a:t>Игр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50000">
                    <a:srgbClr val="ff3300"/>
                  </a:gs>
                  <a:gs pos="100000">
                    <a:srgbClr val="0066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4292640"/>
            <a:ext cx="835164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"Вспомнить все"</a:t>
            </a:r>
            <a:endParaRPr b="0" lang="en-US" sz="2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plit dir="in" orient="horz"/>
    <p:sndAc>
      <p:stSnd>
        <p:snd r:embed="rId1" name="chimes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2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2349000"/>
            <a:ext cx="9144000" cy="49705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547640" y="260280"/>
            <a:ext cx="59040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00ff"/>
                  </a:solidFill>
                  <a:prstDash val="lgDash"/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ffcc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  раунд</a:t>
            </a:r>
            <a:endParaRPr b="0" lang="en-US" sz="2000" spc="1" strike="noStrike">
              <a:ln w="19080">
                <a:solidFill>
                  <a:srgbClr val="ff00ff"/>
                </a:solidFill>
                <a:prstDash val="lgDash"/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ffcc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692360" y="2276640"/>
            <a:ext cx="568800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блюдательность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plit dir="in" orient="horz"/>
    <p:sndAc>
      <p:stSnd>
        <p:snd r:embed="rId3" name="chimes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68360" y="1052640"/>
            <a:ext cx="172872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8160">
                  <a:solidFill>
                    <a:srgbClr val="ff33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</a:t>
            </a:r>
            <a:endParaRPr b="0" lang="en-US" sz="2000" spc="1" strike="noStrike">
              <a:ln w="38160">
                <a:solidFill>
                  <a:srgbClr val="ff33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64560" y="624240"/>
            <a:ext cx="4717800" cy="5606280"/>
            <a:chOff x="3364560" y="624240"/>
            <a:chExt cx="4717800" cy="5606280"/>
          </a:xfrm>
        </p:grpSpPr>
        <p:sp>
          <p:nvSpPr>
            <p:cNvPr id="69" name="_s5146"/>
            <p:cNvSpPr/>
            <p:nvPr/>
          </p:nvSpPr>
          <p:spPr>
            <a:xfrm flipH="1" flipV="1">
              <a:off x="4585680" y="2726280"/>
              <a:ext cx="568440" cy="352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5145"/>
            <p:cNvSpPr/>
            <p:nvPr/>
          </p:nvSpPr>
          <p:spPr>
            <a:xfrm>
              <a:off x="3364560" y="1676880"/>
              <a:ext cx="1311120" cy="1401480"/>
            </a:xfrm>
            <a:prstGeom prst="ellipse">
              <a:avLst/>
            </a:prstGeom>
            <a:solidFill>
              <a:srgbClr val="d9ebf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5144"/>
            <p:cNvSpPr/>
            <p:nvPr/>
          </p:nvSpPr>
          <p:spPr>
            <a:xfrm flipH="1">
              <a:off x="4585680" y="3779280"/>
              <a:ext cx="569880" cy="35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5143"/>
            <p:cNvSpPr/>
            <p:nvPr/>
          </p:nvSpPr>
          <p:spPr>
            <a:xfrm>
              <a:off x="3364560" y="3777480"/>
              <a:ext cx="1311120" cy="140184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5142"/>
            <p:cNvSpPr/>
            <p:nvPr/>
          </p:nvSpPr>
          <p:spPr>
            <a:xfrm>
              <a:off x="5723280" y="4128120"/>
              <a:ext cx="1080" cy="70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5141"/>
            <p:cNvSpPr/>
            <p:nvPr/>
          </p:nvSpPr>
          <p:spPr>
            <a:xfrm>
              <a:off x="5067360" y="4828680"/>
              <a:ext cx="1311120" cy="1401840"/>
            </a:xfrm>
            <a:prstGeom prst="ellipse">
              <a:avLst/>
            </a:prstGeom>
            <a:solidFill>
              <a:srgbClr val="feead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5140"/>
            <p:cNvSpPr/>
            <p:nvPr/>
          </p:nvSpPr>
          <p:spPr>
            <a:xfrm>
              <a:off x="6291360" y="3776040"/>
              <a:ext cx="568440" cy="35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5139"/>
            <p:cNvSpPr/>
            <p:nvPr/>
          </p:nvSpPr>
          <p:spPr>
            <a:xfrm>
              <a:off x="6771240" y="3777480"/>
              <a:ext cx="1311120" cy="1401840"/>
            </a:xfrm>
            <a:prstGeom prst="ellipse">
              <a:avLst/>
            </a:prstGeom>
            <a:solidFill>
              <a:srgbClr val="d9ebf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5138"/>
            <p:cNvSpPr/>
            <p:nvPr/>
          </p:nvSpPr>
          <p:spPr>
            <a:xfrm flipV="1">
              <a:off x="6289920" y="2726280"/>
              <a:ext cx="569880" cy="350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5137"/>
            <p:cNvSpPr/>
            <p:nvPr/>
          </p:nvSpPr>
          <p:spPr>
            <a:xfrm>
              <a:off x="6771240" y="1675440"/>
              <a:ext cx="1311120" cy="140148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5136"/>
            <p:cNvSpPr/>
            <p:nvPr/>
          </p:nvSpPr>
          <p:spPr>
            <a:xfrm flipV="1">
              <a:off x="5723280" y="2025360"/>
              <a:ext cx="0" cy="70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5135"/>
            <p:cNvSpPr/>
            <p:nvPr/>
          </p:nvSpPr>
          <p:spPr>
            <a:xfrm>
              <a:off x="5067360" y="624240"/>
              <a:ext cx="1311120" cy="1401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5134"/>
            <p:cNvSpPr/>
            <p:nvPr/>
          </p:nvSpPr>
          <p:spPr>
            <a:xfrm>
              <a:off x="5067360" y="2728080"/>
              <a:ext cx="1311120" cy="14014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 txBox="1"/>
          <p:nvPr/>
        </p:nvSpPr>
        <p:spPr>
          <a:xfrm>
            <a:off x="5508720" y="1052640"/>
            <a:ext cx="431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780000" y="4292640"/>
            <a:ext cx="431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236000" y="4365720"/>
            <a:ext cx="50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in" orient="horz"/>
    <p:sndAc>
      <p:stSnd>
        <p:snd r:embed="rId1" name="chimes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071800" y="1052640"/>
            <a:ext cx="7072200" cy="4895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79280" y="620640"/>
            <a:ext cx="208908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in" orient="horz"/>
    <p:sndAc>
      <p:stSnd>
        <p:snd r:embed="rId2" name="chimes.wav"/>
      </p:stSnd>
    </p:sndAc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95640" y="549360"/>
            <a:ext cx="4969080" cy="5616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755640" y="1197000"/>
            <a:ext cx="1871640" cy="42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in" orient="horz"/>
    <p:sndAc>
      <p:stSnd>
        <p:snd r:embed="rId2" name="chimes.wav"/>
      </p:stSnd>
    </p:sndAc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5145120" cy="5472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6588000" y="836640"/>
            <a:ext cx="1800360" cy="51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99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38160">
                <a:solidFill>
                  <a:srgbClr val="009999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in" orient="horz"/>
    <p:sndAc>
      <p:stSnd>
        <p:snd r:embed="rId2" name="chimes.wav"/>
      </p:stSnd>
    </p:sndAc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9T09:53:40Z</dcterms:created>
  <dc:creator>Пупс</dc:creator>
  <dc:description/>
  <dc:language>en-US</dc:language>
  <cp:lastModifiedBy>Пупс</cp:lastModifiedBy>
  <dcterms:modified xsi:type="dcterms:W3CDTF">2008-03-02T15:56:24Z</dcterms:modified>
  <cp:revision>7</cp:revision>
  <dc:subject/>
  <dc:title>Слайд 1</dc:title>
</cp:coreProperties>
</file>