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5A3-BC9D-443B-9F7A-5307733B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FEF-E072-4530-AADB-6D096803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CCC-84BE-45E1-ADB7-E8698C6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A0B-C865-4CB2-8822-77E45578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60F1-F22E-4F1F-B92A-EF72CCFB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0B14-1362-4D5C-97DA-B2C34A2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1F6D-2776-4D35-B436-D8101C07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41AC-6E9C-4AD3-9777-229F8DD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1003-7B00-42B4-AAC3-8E227C05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BB8-7A6F-4E8E-B592-DBF40EFE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1A5-5014-4E47-BA87-D145FC6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1E0-B7A7-4E19-BB90-007D61E1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5BAE-F1E7-4855-A669-9C69331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13E2-1898-4E31-B37A-2218C76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B5FB-481E-44C2-AE59-9A7EA81E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3D2-84C5-4886-91A1-754C2E63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DACF-7D64-44FB-8CD7-303CCF31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F8E-36A3-409F-A588-87B2FA92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1DD-88FE-4D90-AECA-58D2460B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336-F81A-4676-8070-0A6ECB58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885-5F37-452B-B166-34165ED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553-1DCE-489E-AB0C-7EC7294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28E-1022-43B7-BD0C-299B5CF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D5-4488-4BF8-AA4F-6925953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FCB-AD75-4B3C-B3F9-73EAFC864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ABAC-68A0-4FB6-A13C-15EF0B5A23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1424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ТУЛЬНЫЙ СЛАЙД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дрявцева Татьяна Владимировна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У СОШ №1 </a:t>
            </a:r>
            <a:br>
              <a:rPr sz="24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го района г. Нея и Нейский район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стромской области</a:t>
            </a:r>
            <a:br>
              <a:rPr sz="20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ий язык, УМК любой, 3-4 классы, 10-15 минут»</a:t>
            </a:r>
            <a:br>
              <a:rPr sz="6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438280" y="4267080"/>
            <a:ext cx="6248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578130"/>
          <p:cNvPicPr/>
          <p:nvPr/>
        </p:nvPicPr>
        <p:blipFill>
          <a:blip r:embed="rId1"/>
          <a:stretch/>
        </p:blipFill>
        <p:spPr>
          <a:xfrm>
            <a:off x="2362320" y="838080"/>
            <a:ext cx="761760" cy="67320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162920" y="5143680"/>
            <a:ext cx="576000" cy="569880"/>
          </a:xfrm>
          <a:custGeom>
            <a:avLst/>
            <a:gdLst>
              <a:gd name="textAreaLeft" fmla="*/ 36720 w 576000"/>
              <a:gd name="textAreaRight" fmla="*/ 539280 w 576000"/>
              <a:gd name="textAreaTop" fmla="*/ 36720 h 569880"/>
              <a:gd name="textAreaBottom" fmla="*/ 533160 h 5698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3909" y="3794"/>
                </a:moveTo>
                <a:lnTo>
                  <a:pt x="17922" y="10800"/>
                </a:lnTo>
                <a:lnTo>
                  <a:pt x="390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217332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, линейку, ласт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 коробка-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еда, что очень мал, Все вместит цветн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н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 и бережё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й уче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ятёрок» в нём полным-пол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кумен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н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метки в нём пишу, Коль забуду, подгляж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лах напомнит 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т нужный телеф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 моём столе живё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ётся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пью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друг такой? - Желез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и полез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кучно, нет ую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ключе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2"/>
          <p:cNvSpPr/>
          <p:nvPr/>
        </p:nvSpPr>
        <p:spPr>
          <a:xfrm>
            <a:off x="2173320" y="164304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у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11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рядок соблюда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ителей руга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нче класс у нас нешум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класс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1"/>
          <p:cNvSpPr/>
          <p:nvPr/>
        </p:nvSpPr>
        <p:spPr>
          <a:xfrm>
            <a:off x="2189160" y="1649520"/>
            <a:ext cx="40593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ш сегодня стр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мы пришли не на у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нынче, скидок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й вытян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2"/>
          <p:cNvSpPr/>
          <p:nvPr/>
        </p:nvSpPr>
        <p:spPr>
          <a:xfrm>
            <a:off x="2189160" y="1649520"/>
            <a:ext cx="40593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9"/>
          <p:cNvSpPr/>
          <p:nvPr/>
        </p:nvSpPr>
        <p:spPr>
          <a:xfrm>
            <a:off x="215424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1"/>
          <p:cNvSpPr/>
          <p:nvPr/>
        </p:nvSpPr>
        <p:spPr>
          <a:xfrm>
            <a:off x="2154240" y="1649520"/>
            <a:ext cx="405756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у утконоса нос?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опался мн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12"/>
          <p:cNvSpPr/>
          <p:nvPr/>
        </p:nvSpPr>
        <p:spPr>
          <a:xfrm>
            <a:off x="2154240" y="1650960"/>
            <a:ext cx="4057560" cy="252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215424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у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1"/>
          <p:cNvSpPr/>
          <p:nvPr/>
        </p:nvSpPr>
        <p:spPr>
          <a:xfrm>
            <a:off x="2154240" y="163836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дни мы отдыха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учимся, гуля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, зимой, ве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ни у нас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2"/>
          <p:cNvSpPr/>
          <p:nvPr/>
        </p:nvSpPr>
        <p:spPr>
          <a:xfrm>
            <a:off x="215424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шаблона: Зинина Светлана Александровна, учитель истории и обществознания  МОУ СОШ №43 г. Волгограда http://pedsovet.su/load/393-1-0-4327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jka.ru/blog/zagadki/319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lck.ru/9YZQ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гадка про 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lck.ru/9YZQ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гадка про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clck.ru/9YZRc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Бура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домой 5">
            <a:hlinkClick r:id="" action="ppaction://hlinkshowjump?jump=endshow"/>
          </p:cNvPr>
          <p:cNvSpPr/>
          <p:nvPr/>
        </p:nvSpPr>
        <p:spPr>
          <a:xfrm>
            <a:off x="7924680" y="5791320"/>
            <a:ext cx="519120" cy="504720"/>
          </a:xfrm>
          <a:custGeom>
            <a:avLst/>
            <a:gdLst>
              <a:gd name="textAreaLeft" fmla="*/ 32400 w 519120"/>
              <a:gd name="textAreaRight" fmla="*/ 486720 w 5191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2216" h="21600">
                <a:moveTo>
                  <a:pt x="0" y="0"/>
                </a:moveTo>
                <a:lnTo>
                  <a:pt x="22216" y="0"/>
                </a:lnTo>
                <a:lnTo>
                  <a:pt x="22216" y="21600"/>
                </a:lnTo>
                <a:lnTo>
                  <a:pt x="0" y="21600"/>
                </a:lnTo>
                <a:close/>
              </a:path>
              <a:path fill="lightenLess" w="22216" h="21600">
                <a:moveTo>
                  <a:pt x="0" y="0"/>
                </a:moveTo>
                <a:lnTo>
                  <a:pt x="22216" y="0"/>
                </a:lnTo>
                <a:lnTo>
                  <a:pt x="20816" y="1400"/>
                </a:lnTo>
                <a:lnTo>
                  <a:pt x="1400" y="1400"/>
                </a:lnTo>
                <a:close/>
              </a:path>
              <a:path fill="darken" w="22216" h="21600">
                <a:moveTo>
                  <a:pt x="22216" y="0"/>
                </a:moveTo>
                <a:lnTo>
                  <a:pt x="22216" y="21600"/>
                </a:lnTo>
                <a:lnTo>
                  <a:pt x="20816" y="20200"/>
                </a:lnTo>
                <a:lnTo>
                  <a:pt x="20816" y="1400"/>
                </a:lnTo>
                <a:close/>
              </a:path>
              <a:path fill="darkenLess" w="22216" h="21600">
                <a:moveTo>
                  <a:pt x="22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16" y="20200"/>
                </a:lnTo>
                <a:close/>
              </a:path>
              <a:path fill="lighten" w="22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16" h="21600">
                <a:moveTo>
                  <a:pt x="11108" y="3837"/>
                </a:moveTo>
                <a:lnTo>
                  <a:pt x="13684" y="6448"/>
                </a:lnTo>
                <a:lnTo>
                  <a:pt x="13684" y="4707"/>
                </a:lnTo>
                <a:lnTo>
                  <a:pt x="15460" y="4707"/>
                </a:lnTo>
                <a:lnTo>
                  <a:pt x="15460" y="8224"/>
                </a:lnTo>
                <a:lnTo>
                  <a:pt x="18071" y="10800"/>
                </a:lnTo>
                <a:lnTo>
                  <a:pt x="16417" y="10800"/>
                </a:lnTo>
                <a:lnTo>
                  <a:pt x="16417" y="17989"/>
                </a:lnTo>
                <a:lnTo>
                  <a:pt x="5799" y="17989"/>
                </a:lnTo>
                <a:lnTo>
                  <a:pt x="5799" y="10800"/>
                </a:lnTo>
                <a:lnTo>
                  <a:pt x="4145" y="10800"/>
                </a:lnTo>
                <a:close/>
              </a:path>
              <a:path fill="darkenLess" w="22216" h="21600">
                <a:moveTo>
                  <a:pt x="13684" y="6448"/>
                </a:moveTo>
                <a:lnTo>
                  <a:pt x="13684" y="4707"/>
                </a:lnTo>
                <a:lnTo>
                  <a:pt x="15460" y="4707"/>
                </a:lnTo>
                <a:lnTo>
                  <a:pt x="15460" y="8224"/>
                </a:lnTo>
                <a:close/>
              </a:path>
              <a:path fill="darkenLess" w="22216" h="21600">
                <a:moveTo>
                  <a:pt x="10185" y="14299"/>
                </a:moveTo>
                <a:lnTo>
                  <a:pt x="12031" y="14299"/>
                </a:lnTo>
                <a:lnTo>
                  <a:pt x="12031" y="17989"/>
                </a:lnTo>
                <a:lnTo>
                  <a:pt x="16417" y="17989"/>
                </a:lnTo>
                <a:lnTo>
                  <a:pt x="16417" y="10800"/>
                </a:lnTo>
                <a:lnTo>
                  <a:pt x="5799" y="10800"/>
                </a:lnTo>
                <a:lnTo>
                  <a:pt x="5799" y="17989"/>
                </a:lnTo>
                <a:lnTo>
                  <a:pt x="10185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7086600" cy="16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активный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рный диктант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теме «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438280" y="4267080"/>
            <a:ext cx="6248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70578130"/>
          <p:cNvPicPr/>
          <p:nvPr/>
        </p:nvPicPr>
        <p:blipFill>
          <a:blip r:embed="rId1"/>
          <a:stretch/>
        </p:blipFill>
        <p:spPr>
          <a:xfrm>
            <a:off x="2362320" y="838080"/>
            <a:ext cx="761760" cy="67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981080" y="34290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вце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района г.Нея и Нейский район Костр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2920" y="5143680"/>
            <a:ext cx="576000" cy="569880"/>
          </a:xfrm>
          <a:custGeom>
            <a:avLst/>
            <a:gdLst>
              <a:gd name="textAreaLeft" fmla="*/ 36720 w 576000"/>
              <a:gd name="textAreaRight" fmla="*/ 539280 w 576000"/>
              <a:gd name="textAreaTop" fmla="*/ 36720 h 569880"/>
              <a:gd name="textAreaBottom" fmla="*/ 533160 h 569880"/>
            </a:gdLst>
            <a:ahLst/>
            <a:rect l="textAreaLeft" t="textAreaTop" r="textAreaRight" b="textAreaBottom"/>
            <a:pathLst>
              <a:path w="21832" h="21600">
                <a:moveTo>
                  <a:pt x="0" y="0"/>
                </a:moveTo>
                <a:lnTo>
                  <a:pt x="21832" y="0"/>
                </a:lnTo>
                <a:lnTo>
                  <a:pt x="21832" y="21600"/>
                </a:lnTo>
                <a:lnTo>
                  <a:pt x="0" y="21600"/>
                </a:lnTo>
                <a:close/>
              </a:path>
              <a:path fill="lightenLess" w="21832" h="21600">
                <a:moveTo>
                  <a:pt x="0" y="0"/>
                </a:moveTo>
                <a:lnTo>
                  <a:pt x="21832" y="0"/>
                </a:lnTo>
                <a:lnTo>
                  <a:pt x="20432" y="1400"/>
                </a:lnTo>
                <a:lnTo>
                  <a:pt x="1400" y="1400"/>
                </a:lnTo>
                <a:close/>
              </a:path>
              <a:path fill="darken" w="21832" h="21600">
                <a:moveTo>
                  <a:pt x="21832" y="0"/>
                </a:moveTo>
                <a:lnTo>
                  <a:pt x="21832" y="21600"/>
                </a:lnTo>
                <a:lnTo>
                  <a:pt x="20432" y="20200"/>
                </a:lnTo>
                <a:lnTo>
                  <a:pt x="20432" y="1400"/>
                </a:lnTo>
                <a:close/>
              </a:path>
              <a:path fill="darkenLess" w="21832" h="21600">
                <a:moveTo>
                  <a:pt x="21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32" y="20200"/>
                </a:lnTo>
                <a:close/>
              </a:path>
              <a:path fill="lighten" w="21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32" h="21600">
                <a:moveTo>
                  <a:pt x="3909" y="3794"/>
                </a:moveTo>
                <a:lnTo>
                  <a:pt x="17922" y="10800"/>
                </a:lnTo>
                <a:lnTo>
                  <a:pt x="390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21333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ята!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Буратино не знает, как правильно писать словарные слова. Научите его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этого вам нужно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гадать школьные загадки 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записать их отгадки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самопроверки кликните на загадку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перехода к следующему слайду-загадке нажимайте на Буратино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лаю удачи!</a:t>
            </a:r>
            <a:br>
              <a:rPr sz="2000"/>
            </a:br>
            <a:br>
              <a:rPr sz="5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3581280"/>
            <a:ext cx="2616480" cy="2548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2209680" y="1676520"/>
            <a:ext cx="405792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2209680" y="1684440"/>
            <a:ext cx="405792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учит он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, но всё прощ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стать ум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он объяс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2"/>
          <p:cNvSpPr/>
          <p:nvPr/>
        </p:nvSpPr>
        <p:spPr>
          <a:xfrm>
            <a:off x="2209680" y="1684440"/>
            <a:ext cx="405792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9"/>
          <p:cNvSpPr/>
          <p:nvPr/>
        </p:nvSpPr>
        <p:spPr>
          <a:xfrm>
            <a:off x="2209680" y="1676520"/>
            <a:ext cx="405792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1"/>
          <p:cNvSpPr/>
          <p:nvPr/>
        </p:nvSpPr>
        <p:spPr>
          <a:xfrm>
            <a:off x="2209680" y="1670040"/>
            <a:ext cx="4057920" cy="25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роки посещ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веду днев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себя я назыв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 и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2"/>
          <p:cNvSpPr/>
          <p:nvPr/>
        </p:nvSpPr>
        <p:spPr>
          <a:xfrm>
            <a:off x="2209680" y="1670040"/>
            <a:ext cx="405792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9"/>
          <p:cNvSpPr/>
          <p:nvPr/>
        </p:nvSpPr>
        <p:spPr>
          <a:xfrm>
            <a:off x="2209680" y="1676520"/>
            <a:ext cx="405792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1"/>
          <p:cNvSpPr/>
          <p:nvPr/>
        </p:nvSpPr>
        <p:spPr>
          <a:xfrm>
            <a:off x="2209680" y="1676520"/>
            <a:ext cx="405792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сентябрьский, осен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нынче празд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нения рассея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а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2"/>
          <p:cNvSpPr/>
          <p:nvPr/>
        </p:nvSpPr>
        <p:spPr>
          <a:xfrm>
            <a:off x="2209680" y="1676520"/>
            <a:ext cx="4057920" cy="252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17332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есь урок пис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дится н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104580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9"/>
          <p:cNvSpPr/>
          <p:nvPr/>
        </p:nvSpPr>
        <p:spPr>
          <a:xfrm>
            <a:off x="217332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да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1"/>
          <p:cNvSpPr/>
          <p:nvPr/>
        </p:nvSpPr>
        <p:spPr>
          <a:xfrm>
            <a:off x="217332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его отточ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ешь всё, что хочеш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, море, горы, пля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это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2"/>
          <p:cNvSpPr/>
          <p:nvPr/>
        </p:nvSpPr>
        <p:spPr>
          <a:xfrm>
            <a:off x="2173320" y="1649520"/>
            <a:ext cx="4057560" cy="252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520" y="-255960"/>
            <a:ext cx="48513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352680"/>
            <a:ext cx="2616120" cy="2548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28800" y="6324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9"/>
          <p:cNvSpPr/>
          <p:nvPr/>
        </p:nvSpPr>
        <p:spPr>
          <a:xfrm>
            <a:off x="2154240" y="1649520"/>
            <a:ext cx="4057560" cy="2514600"/>
          </a:xfrm>
          <a:prstGeom prst="roundRect">
            <a:avLst>
              <a:gd name="adj" fmla="val 16667"/>
            </a:avLst>
          </a:prstGeom>
          <a:solidFill>
            <a:srgbClr val="ffff99">
              <a:alpha val="61000"/>
            </a:srgbClr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ку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1"/>
          <p:cNvSpPr/>
          <p:nvPr/>
        </p:nvSpPr>
        <p:spPr>
          <a:xfrm>
            <a:off x="2154240" y="1644480"/>
            <a:ext cx="4057560" cy="252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ворились две 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дуги и к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2"/>
          <p:cNvSpPr/>
          <p:nvPr/>
        </p:nvSpPr>
        <p:spPr>
          <a:xfrm>
            <a:off x="2154240" y="1649520"/>
            <a:ext cx="4057560" cy="252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8-18T14:14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