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557-5FD1-4F95-806F-9B40C82F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100-D3BE-481E-92FD-E4DF164D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340-896D-4455-9DEB-0A5AD9EB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327-DA42-46A7-8820-6DA6AA2E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5DA7-4D24-49E7-8660-F098F407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E075-6C03-4ACE-A122-2C8E74D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A18A-5B66-4136-BA3C-57FBA197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739E-EA68-4B1C-A1C4-2D022192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E0E0-07BA-4A01-B8F2-2725B9C4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2718-4B62-4437-B7FE-64511100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7E56-C5B2-41D3-9733-F0F9752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94B-197F-43E6-A112-E9280002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3CCE-B062-4B25-AFBD-23FCE164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8948-729A-46A2-BF0C-A691AF2B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A732-5EC4-4FD9-B4CC-F4AAF7C1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556A-580A-4FAE-A295-C8998F90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13B7-F7E0-4123-AA45-2B58DE67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39C-6D7E-453F-8786-F60CA0AB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E99-E0EB-4959-8DC3-D8AAF6E3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E26-AEAC-469C-BF90-95361CBF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A03-CFDC-4852-BBAC-1F924DD9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1CF-0409-4D7F-A1C3-E3319E4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E7A-D2DF-4023-B251-8496739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B4F-966F-47A5-A85A-1A27AB58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5403-5BBE-4A23-A0EF-1A579CA519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5F89-502A-4F2E-AC28-C3C25A4D5E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1424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ТУЛЬНЫЙ СЛАЙД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дрявцева Татьяна Владимировна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начальных классов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У СОШ №1 </a:t>
            </a:r>
            <a:br>
              <a:rPr sz="24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ниципального района г. Нея и Нейский район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стромской области</a:t>
            </a:r>
            <a:br>
              <a:rPr sz="20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сский язык, УМК любой, 3-4 классы, 10-15 минут»</a:t>
            </a:r>
            <a:br>
              <a:rPr sz="6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438280" y="4267080"/>
            <a:ext cx="6248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578130"/>
          <p:cNvPicPr/>
          <p:nvPr/>
        </p:nvPicPr>
        <p:blipFill>
          <a:blip r:embed="rId1"/>
          <a:stretch/>
        </p:blipFill>
        <p:spPr>
          <a:xfrm>
            <a:off x="2362320" y="838080"/>
            <a:ext cx="761760" cy="673200"/>
          </a:xfrm>
          <a:prstGeom prst="rect">
            <a:avLst/>
          </a:prstGeom>
          <a:ln w="0">
            <a:noFill/>
          </a:ln>
        </p:spPr>
      </p:pic>
      <p:sp>
        <p:nvSpPr>
          <p:cNvPr id="85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162920" y="5143680"/>
            <a:ext cx="576000" cy="569880"/>
          </a:xfrm>
          <a:custGeom>
            <a:avLst/>
            <a:gdLst>
              <a:gd name="textAreaLeft" fmla="*/ 36720 w 576000"/>
              <a:gd name="textAreaRight" fmla="*/ 539280 w 576000"/>
              <a:gd name="textAreaTop" fmla="*/ 36720 h 569880"/>
              <a:gd name="textAreaBottom" fmla="*/ 533160 h 5698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3909" y="3794"/>
                </a:moveTo>
                <a:lnTo>
                  <a:pt x="17922" y="10800"/>
                </a:lnTo>
                <a:lnTo>
                  <a:pt x="390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1"/>
          <p:cNvSpPr/>
          <p:nvPr/>
        </p:nvSpPr>
        <p:spPr>
          <a:xfrm>
            <a:off x="2173320" y="164448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, линейку, ласт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 коробка-плас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еда, что очень мал, Все вместит цветн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н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1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 и бережё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й уче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ятёрок» в нём полным-пол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кумен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л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н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1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метки в нём пишу, Коль забуду, подгляж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лах напомнит 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ет нужный телеф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 моём столе живё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ётся 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пьют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1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друг такой? - Желез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 и полез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скучно, нет ую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ключе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2"/>
          <p:cNvSpPr/>
          <p:nvPr/>
        </p:nvSpPr>
        <p:spPr>
          <a:xfrm>
            <a:off x="2173320" y="164304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у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11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рядок соблюда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ителей руга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нче класс у нас нешум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класс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1"/>
          <p:cNvSpPr/>
          <p:nvPr/>
        </p:nvSpPr>
        <p:spPr>
          <a:xfrm>
            <a:off x="2189160" y="1649520"/>
            <a:ext cx="40593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ш сегодня стр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мы пришли не на у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 нынче, скидок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ждый вытян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2"/>
          <p:cNvSpPr/>
          <p:nvPr/>
        </p:nvSpPr>
        <p:spPr>
          <a:xfrm>
            <a:off x="2189160" y="1649520"/>
            <a:ext cx="40593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9"/>
          <p:cNvSpPr/>
          <p:nvPr/>
        </p:nvSpPr>
        <p:spPr>
          <a:xfrm>
            <a:off x="215424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11"/>
          <p:cNvSpPr/>
          <p:nvPr/>
        </p:nvSpPr>
        <p:spPr>
          <a:xfrm>
            <a:off x="215424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й у утконоса нос?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попался мн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12"/>
          <p:cNvSpPr/>
          <p:nvPr/>
        </p:nvSpPr>
        <p:spPr>
          <a:xfrm>
            <a:off x="2154240" y="1650960"/>
            <a:ext cx="4057560" cy="2525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215424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у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1"/>
          <p:cNvSpPr/>
          <p:nvPr/>
        </p:nvSpPr>
        <p:spPr>
          <a:xfrm>
            <a:off x="2154240" y="163836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дни мы отдыха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учимся, гуля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, зимой, вес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они у нас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12"/>
          <p:cNvSpPr/>
          <p:nvPr/>
        </p:nvSpPr>
        <p:spPr>
          <a:xfrm>
            <a:off x="215424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шаблона: Зинина Светлана Александровна, учитель истории и обществознания  МОУ СОШ №43 г. Волгограда http://pedsovet.su/load/393-1-0-4327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jka.ru/blog/zagadki/319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г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clck.ru/9YZQ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гадка про 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clck.ru/9YZQ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гадка про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clck.ru/9YZRc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Бура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правляющая кнопка: домой 5">
            <a:hlinkClick r:id="" action="ppaction://hlinkshowjump?jump=endshow"/>
          </p:cNvPr>
          <p:cNvSpPr/>
          <p:nvPr/>
        </p:nvSpPr>
        <p:spPr>
          <a:xfrm>
            <a:off x="7924680" y="5791320"/>
            <a:ext cx="519120" cy="504720"/>
          </a:xfrm>
          <a:custGeom>
            <a:avLst/>
            <a:gdLst>
              <a:gd name="textAreaLeft" fmla="*/ 32400 w 519120"/>
              <a:gd name="textAreaRight" fmla="*/ 486720 w 5191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2216" h="21600">
                <a:moveTo>
                  <a:pt x="0" y="0"/>
                </a:moveTo>
                <a:lnTo>
                  <a:pt x="22216" y="0"/>
                </a:lnTo>
                <a:lnTo>
                  <a:pt x="22216" y="21600"/>
                </a:lnTo>
                <a:lnTo>
                  <a:pt x="0" y="21600"/>
                </a:lnTo>
                <a:close/>
              </a:path>
              <a:path fill="lightenLess" w="22216" h="21600">
                <a:moveTo>
                  <a:pt x="0" y="0"/>
                </a:moveTo>
                <a:lnTo>
                  <a:pt x="22216" y="0"/>
                </a:lnTo>
                <a:lnTo>
                  <a:pt x="20816" y="1400"/>
                </a:lnTo>
                <a:lnTo>
                  <a:pt x="1400" y="1400"/>
                </a:lnTo>
                <a:close/>
              </a:path>
              <a:path fill="darken" w="22216" h="21600">
                <a:moveTo>
                  <a:pt x="22216" y="0"/>
                </a:moveTo>
                <a:lnTo>
                  <a:pt x="22216" y="21600"/>
                </a:lnTo>
                <a:lnTo>
                  <a:pt x="20816" y="20200"/>
                </a:lnTo>
                <a:lnTo>
                  <a:pt x="20816" y="1400"/>
                </a:lnTo>
                <a:close/>
              </a:path>
              <a:path fill="darkenLess" w="22216" h="21600">
                <a:moveTo>
                  <a:pt x="22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16" y="20200"/>
                </a:lnTo>
                <a:close/>
              </a:path>
              <a:path fill="lighten" w="22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16" h="21600">
                <a:moveTo>
                  <a:pt x="11108" y="3837"/>
                </a:moveTo>
                <a:lnTo>
                  <a:pt x="13684" y="6448"/>
                </a:lnTo>
                <a:lnTo>
                  <a:pt x="13684" y="4707"/>
                </a:lnTo>
                <a:lnTo>
                  <a:pt x="15460" y="4707"/>
                </a:lnTo>
                <a:lnTo>
                  <a:pt x="15460" y="8224"/>
                </a:lnTo>
                <a:lnTo>
                  <a:pt x="18071" y="10800"/>
                </a:lnTo>
                <a:lnTo>
                  <a:pt x="16417" y="10800"/>
                </a:lnTo>
                <a:lnTo>
                  <a:pt x="16417" y="17989"/>
                </a:lnTo>
                <a:lnTo>
                  <a:pt x="5799" y="17989"/>
                </a:lnTo>
                <a:lnTo>
                  <a:pt x="5799" y="10800"/>
                </a:lnTo>
                <a:lnTo>
                  <a:pt x="4145" y="10800"/>
                </a:lnTo>
                <a:close/>
              </a:path>
              <a:path fill="darkenLess" w="22216" h="21600">
                <a:moveTo>
                  <a:pt x="13684" y="6448"/>
                </a:moveTo>
                <a:lnTo>
                  <a:pt x="13684" y="4707"/>
                </a:lnTo>
                <a:lnTo>
                  <a:pt x="15460" y="4707"/>
                </a:lnTo>
                <a:lnTo>
                  <a:pt x="15460" y="8224"/>
                </a:lnTo>
                <a:close/>
              </a:path>
              <a:path fill="darkenLess" w="22216" h="21600">
                <a:moveTo>
                  <a:pt x="10185" y="14299"/>
                </a:moveTo>
                <a:lnTo>
                  <a:pt x="12031" y="14299"/>
                </a:lnTo>
                <a:lnTo>
                  <a:pt x="12031" y="17989"/>
                </a:lnTo>
                <a:lnTo>
                  <a:pt x="16417" y="17989"/>
                </a:lnTo>
                <a:lnTo>
                  <a:pt x="16417" y="10800"/>
                </a:lnTo>
                <a:lnTo>
                  <a:pt x="5799" y="10800"/>
                </a:lnTo>
                <a:lnTo>
                  <a:pt x="5799" y="17989"/>
                </a:lnTo>
                <a:lnTo>
                  <a:pt x="10185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7086600" cy="16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активный 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рный диктант 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теме «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438280" y="4267080"/>
            <a:ext cx="6248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70578130"/>
          <p:cNvPicPr/>
          <p:nvPr/>
        </p:nvPicPr>
        <p:blipFill>
          <a:blip r:embed="rId1"/>
          <a:stretch/>
        </p:blipFill>
        <p:spPr>
          <a:xfrm>
            <a:off x="2362320" y="838080"/>
            <a:ext cx="761760" cy="67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1981080" y="3429000"/>
            <a:ext cx="55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рявце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 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района г.Нея и Нейский район Костр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162920" y="5143680"/>
            <a:ext cx="576000" cy="569880"/>
          </a:xfrm>
          <a:custGeom>
            <a:avLst/>
            <a:gdLst>
              <a:gd name="textAreaLeft" fmla="*/ 36720 w 576000"/>
              <a:gd name="textAreaRight" fmla="*/ 539280 w 576000"/>
              <a:gd name="textAreaTop" fmla="*/ 36720 h 569880"/>
              <a:gd name="textAreaBottom" fmla="*/ 533160 h 5698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3909" y="3794"/>
                </a:moveTo>
                <a:lnTo>
                  <a:pt x="17922" y="10800"/>
                </a:lnTo>
                <a:lnTo>
                  <a:pt x="390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21333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бята!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Буратино не знает, как правильно писать словарные слова. Научите его.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этого вам нужно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гадать школьные загадки 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записать их отгадки.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самопроверки кликните на загадку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перехода к следующему слайду-загадке нажимайте на Буратино.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елаю удачи!</a:t>
            </a:r>
            <a:br>
              <a:rPr sz="2000"/>
            </a:br>
            <a:br>
              <a:rPr sz="5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7280" y="3581280"/>
            <a:ext cx="2616480" cy="2548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2209680" y="1676520"/>
            <a:ext cx="405792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1"/>
          <p:cNvSpPr/>
          <p:nvPr/>
        </p:nvSpPr>
        <p:spPr>
          <a:xfrm>
            <a:off x="2209680" y="1684440"/>
            <a:ext cx="405792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учит он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, но всё прощ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стать ум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он объясн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2"/>
          <p:cNvSpPr/>
          <p:nvPr/>
        </p:nvSpPr>
        <p:spPr>
          <a:xfrm>
            <a:off x="2209680" y="1684440"/>
            <a:ext cx="405792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9"/>
          <p:cNvSpPr/>
          <p:nvPr/>
        </p:nvSpPr>
        <p:spPr>
          <a:xfrm>
            <a:off x="2209680" y="1676520"/>
            <a:ext cx="405792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1"/>
          <p:cNvSpPr/>
          <p:nvPr/>
        </p:nvSpPr>
        <p:spPr>
          <a:xfrm>
            <a:off x="2209680" y="1670040"/>
            <a:ext cx="405792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роки посеща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веду днев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себя я называ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 и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2"/>
          <p:cNvSpPr/>
          <p:nvPr/>
        </p:nvSpPr>
        <p:spPr>
          <a:xfrm>
            <a:off x="2209680" y="1670040"/>
            <a:ext cx="405792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9"/>
          <p:cNvSpPr/>
          <p:nvPr/>
        </p:nvSpPr>
        <p:spPr>
          <a:xfrm>
            <a:off x="2209680" y="1676520"/>
            <a:ext cx="405792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1"/>
          <p:cNvSpPr/>
          <p:nvPr/>
        </p:nvSpPr>
        <p:spPr>
          <a:xfrm>
            <a:off x="2209680" y="1676520"/>
            <a:ext cx="405792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сентябрьский, осен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нынче празд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нения рассея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а-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2"/>
          <p:cNvSpPr/>
          <p:nvPr/>
        </p:nvSpPr>
        <p:spPr>
          <a:xfrm>
            <a:off x="2209680" y="1676520"/>
            <a:ext cx="4057920" cy="2525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а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1"/>
          <p:cNvSpPr/>
          <p:nvPr/>
        </p:nvSpPr>
        <p:spPr>
          <a:xfrm>
            <a:off x="2173320" y="164448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есь урок пис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дится н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да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11"/>
          <p:cNvSpPr/>
          <p:nvPr/>
        </p:nvSpPr>
        <p:spPr>
          <a:xfrm>
            <a:off x="2173320" y="164448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его отточи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ешь всё, что хочеш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, море, горы, пля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это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9"/>
          <p:cNvSpPr/>
          <p:nvPr/>
        </p:nvSpPr>
        <p:spPr>
          <a:xfrm>
            <a:off x="215424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ку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1"/>
          <p:cNvSpPr/>
          <p:nvPr/>
        </p:nvSpPr>
        <p:spPr>
          <a:xfrm>
            <a:off x="2154240" y="164448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ворились две 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дуги и кр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2"/>
          <p:cNvSpPr/>
          <p:nvPr/>
        </p:nvSpPr>
        <p:spPr>
          <a:xfrm>
            <a:off x="2154240" y="1649520"/>
            <a:ext cx="4057560" cy="2525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8-18T14:14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