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D8A8-C18A-40D2-9CDE-8A1C286F38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3998-029C-4946-9738-117D2B3474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77BD-3100-442F-A53C-7A520E8B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44EF-1CD5-4EF2-B85B-E0423D66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56EC-CFBF-4E6D-874F-6D8446B8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AD2-A80B-45CA-8FA5-52666098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29CE-6EDA-476A-941E-A793F13B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8424-6269-4F9C-82CF-3FAC6083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842F-C6C8-4904-AC18-904BC664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C3E9-9E3B-4A4A-B7A9-BEFB77AA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182C-1226-4851-A90A-1AF791A8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6E05-AF28-4274-ABBC-A8A1ED8C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6BB1-718F-4050-BBEA-51DA6224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0D2-8F68-4A17-865E-15324FDC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74CF-4690-46E9-853F-31AADA96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2007-CB7F-45CA-AA62-46ED0BD4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C747-62A2-43A4-816B-B041DE6A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1764-E5E0-49BE-8298-D82B5ACF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EB0C-3E1A-4B0F-9F3B-45B26F23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A87B-55C6-439C-B8C7-EAF30B2D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7FA3-594F-49E4-9406-7E6ABFDA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EB41-0DFB-4157-817A-2E62C99B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F6E1-18E2-467A-97D4-42D01A54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55F1-83F7-4865-AFB1-89E2212E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B23-A99C-47A8-9F07-50EF8881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964-E994-4131-AD77-3879CAF6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1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7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0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6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7B4D-CBB5-4A65-A5FF-7B86360B4D77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71EE-30B6-4ACC-9E1B-67AB3C41C4AF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35280" y="836640"/>
            <a:ext cx="57499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  <a:ea typeface="Arial"/>
              </a:rPr>
              <a:t>Проектирование сюжетно – ролевой игры </a:t>
            </a:r>
            <a:br>
              <a:rPr sz="4400"/>
            </a:b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«Журналисты» в подготовительной групп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916360" y="4508640"/>
            <a:ext cx="6400800" cy="25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одготовила и провел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оспитатель Кузнецова Г.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МБДОУ детский сад № 12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г.о. Сама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777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расширять представления детей о профессии журналиста, фотограф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обогащать  словарь (микрофон, видеока­мера, диктофон, визитк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обогащать предметно- игровую среду группового помещения, игро­вой опыт дошкольник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учить до начала игры распределять ро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одготавливать необходи­мые условия, подбирать атрибуты, догова­риваться о последовательности со­вместных действ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омочь в освоении игровых действий (фотографировать, брать интер­вью,  записывать его на магнитофон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формировать умения выполнять роли в соответствии с сюжетом игры, используя атрибуты для игры и современные медиа средств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учить изменять игровое взаимодействие в зависимости от изменения замысла сюжет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формировать дружеские взаимоотношения в игре, умение договари­ваться и приходить на помощь, быть  общительными, вежливыми с людьм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вызывать интерес к совместной деятельности со взрослыми и сверст­ник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2771640" y="260280"/>
            <a:ext cx="3529080" cy="459720"/>
          </a:xfrm>
          <a:prstGeom prst="rect">
            <a:avLst/>
          </a:prstGeom>
          <a:gradFill rotWithShape="0">
            <a:gsLst>
              <a:gs pos="0">
                <a:srgbClr val="9fdbfe"/>
              </a:gs>
              <a:gs pos="100000">
                <a:srgbClr val="e4f5ff"/>
              </a:gs>
            </a:gsLst>
            <a:lin ang="16200000"/>
          </a:gradFill>
          <a:ln w="9360">
            <a:solidFill>
              <a:srgbClr val="3192b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971640" y="765000"/>
            <a:ext cx="78483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иемы создания интереса к иг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здание игровой обстановки до начала игр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питатель отмечает, что дети с большим интересом играют в школу. Мы можем рассказать о нашей школе детям других групп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говор на игру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годня мы с вами играем не только в игру «Школа», но и расскажем о ней нашим друзьям. Нужно будет взять интервью у учеников, учителей и директор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питатель вместе с детьми распределяет роли, учитывая желание детей. Можно я буду директором школы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питатель помогает детям определить наиболее удобное место для игры, оборудовать его, раскладывают необходимые ат­рибу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говаривают сюже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учатся в школе. Учитель учит детей. Директор руководит работой школ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урналисты берут интервью у учеников, учителей и директора с помощью схем- подсказ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2411280" y="115920"/>
            <a:ext cx="4464360" cy="5205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од иг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"/>
          <p:cNvSpPr/>
          <p:nvPr/>
        </p:nvSpPr>
        <p:spPr>
          <a:xfrm>
            <a:off x="1042920" y="0"/>
            <a:ext cx="77770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емы обучения игровым действи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астие вос­питателя в игре детей при введении роли (директор) как образец ведения  диалогов (выразительная речь, умение отвечать на вопросы журналистов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емы поддержания и развития иг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 собрали очень ценную информацию о работе школы, поэтому я предлагаю вам сообщить ее будущим школьникам. А для этого после подготовки материала мы с вами выпустим газету о школ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емы формирования взаимоотношений в иг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тель напоминает о том, что все споры решаются путем договора друг с друг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3"/>
          <p:cNvSpPr/>
          <p:nvPr/>
        </p:nvSpPr>
        <p:spPr>
          <a:xfrm>
            <a:off x="1042920" y="260280"/>
            <a:ext cx="7777080" cy="68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кончание игр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. Воспитатель спрашивает у детей, какая роль им понравилас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. Говорит детям, что для выпуска газеты необходимы рисунки всех сюжетов журналистов. Дети рисую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ценка игр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ценка взаимоотношени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спитатель спрашивает у детей, всегда ли получалось договориться. После ответов детей дает свою оценку взаимоотношени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ценка действий в соответствии с взятой на себя ролью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спитатель спрашивает у ребенка, справился ли он с ролью, которую выполнял; было ли сложно играть роль, почему. Затем спра­шивает у детей, какое интервью было самым интересным. В конце воспитатель высказывает свое мнение и спрашивает: «Кто-нибудь из вас хотел бы стать журналистом?», «У кого бы вы хотели взять следующее интервью?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1"/>
          <p:cNvPicPr/>
          <p:nvPr/>
        </p:nvPicPr>
        <p:blipFill>
          <a:blip r:embed="rId1"/>
          <a:stretch/>
        </p:blipFill>
        <p:spPr>
          <a:xfrm>
            <a:off x="2627280" y="765000"/>
            <a:ext cx="3384720" cy="27784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2411280" y="407664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1:33:18Z</dcterms:created>
  <dc:creator>.</dc:creator>
  <dc:description/>
  <dc:language>en-US</dc:language>
  <cp:lastModifiedBy>1</cp:lastModifiedBy>
  <dcterms:modified xsi:type="dcterms:W3CDTF">2015-08-17T03:04:52Z</dcterms:modified>
  <cp:revision>26</cp:revision>
  <dc:subject/>
  <dc:title>Профессия «Журналист»</dc:title>
</cp:coreProperties>
</file>