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4E28-F623-49BA-A985-8B02E7AA62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6F50-C089-48F8-B9C3-5292AEEDF7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16E-DF4B-4177-908C-F7E10742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8ED-7236-45FA-88C8-049762DA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409-1484-4339-BEF5-786AA78A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FCC-1422-4776-956C-2E06CEC7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9816-BB19-4C0B-A138-EDEC2AEB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73BA-BEE3-4EFE-BD28-8F98B28F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065E-8D30-4A95-9C5F-0CF8AF40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7188-3255-4FF7-B919-7955C3EC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8F3D-99E3-48C2-ACE3-4E4AFB8D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B8C0-0A67-44BB-8041-4B68EE38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4A63-2200-4C8B-91B4-06514DF6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782-1267-406F-84E0-745B8D58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FE0D-E708-4087-809E-0FBDA0FB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F806-F1D6-4D23-A941-6F8777B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6FE2-8211-434A-AFFD-8CBDBF89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1B5E-D31F-419A-93C8-1462ADDC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FF39-2E63-4BCE-8D2E-A5C6FC4A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D9E-1767-4775-9EEA-A89B87A4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0D0-8FA6-4B76-BE07-90E75B8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581-F056-41A8-99B8-9016AB35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883-9448-4FDC-96E2-558DE9C1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9B7-F661-4AB3-BD87-B8B60FFB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D86-7520-4042-9189-23B0458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92C-E679-4BE1-BA2A-1147BD6B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1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7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0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6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95B-278F-4247-B0B5-30B81D39E531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CB16-4816-4681-A38F-81CA72FA529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5280" y="836640"/>
            <a:ext cx="57499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  <a:ea typeface="Arial"/>
              </a:rPr>
              <a:t>Проектирование сюжетно – ролевой игры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«Журналисты» в подготовительной групп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916360" y="450864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дготовила и прове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оспитатель Кузнецова Г.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БДОУ детский сад № 12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.о. Сама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777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сширять представления детей о профессии журналиста, фотограф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богащать  словарь (микрофон, видеока­мера, диктофон, визит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богащать предметно- игровую среду группового помещения, игро­вой опыт дошкольник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учить до начала игры распределять ро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одготавливать необходи­мые условия, подбирать атрибуты, догова­риваться о последовательности со­вместных действ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омочь в освоении игровых действий (фотографировать, брать интер­вью,  записывать его на магнитофон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формировать умения выполнять роли в соответствии с сюжетом игры, используя атрибуты для игры и современные медиа средст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учить изменять игровое взаимодействие в зависимости от изменения замысла сюже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формировать дружеские взаимоотношения в игре, умение договари­ваться и приходить на помощь, быть  общительными, вежливыми с людь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вызывать интерес к совместной деятельности со взрослыми и сверст­ник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2771640" y="260280"/>
            <a:ext cx="3529080" cy="459720"/>
          </a:xfrm>
          <a:prstGeom prst="rect">
            <a:avLst/>
          </a:prstGeom>
          <a:gradFill rotWithShape="0">
            <a:gsLst>
              <a:gs pos="0">
                <a:srgbClr val="9fdbfe"/>
              </a:gs>
              <a:gs pos="100000">
                <a:srgbClr val="e4f5ff"/>
              </a:gs>
            </a:gsLst>
            <a:lin ang="16200000"/>
          </a:gradFill>
          <a:ln w="9360">
            <a:solidFill>
              <a:srgbClr val="3192b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971640" y="765000"/>
            <a:ext cx="7848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иемы создания интереса к иг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 игровой обстановки до начала игр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отмечает, что дети с большим интересом играют в школу. Мы можем рассказать о нашей школе детям других групп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говор на игр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годня мы с вами играем не только в игру «Школа», но и расскажем о ней нашим друзьям. Нужно будет взять интервью у учеников, учителей и директо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вместе с детьми распределяет роли, учитывая желание детей. Можно я буду директором школы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помогает детям определить наиболее удобное место для игры, оборудовать его, раскладывают необходимые ат­рибу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говаривают сюж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учатся в школе. Учитель учит детей. Директор руководит работой шко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урналисты берут интервью у учеников, учителей и директора с помощью схем- подсказ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411280" y="115920"/>
            <a:ext cx="4464360" cy="520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д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1042920" y="0"/>
            <a:ext cx="7777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емы обучения игровым дейст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ие вос­питателя в игре детей при введении роли (директор) как образец ведения  диалогов (выразительная речь, умение отвечать на вопросы журналист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емы поддержания и развития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собрали очень ценную информацию о работе школы, поэтому я предлагаю вам сообщить ее будущим школьникам. А для этого после подготовки материала мы с вами выпустим газету о школ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емы формирования взаимоотношений в иг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напоминает о том, что все споры решаются путем договора друг с друг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1042920" y="260280"/>
            <a:ext cx="777708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кончание иг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Воспитатель спрашивает у детей, какая роль им понравилас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Говорит детям, что для выпуска газеты необходимы рисунки всех сюжетов журналистов. Дети рисую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ценка иг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ценка взаимоотношен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атель спрашивает у детей, всегда ли получалось договориться. После ответов детей дает свою оценку взаимоотношен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ценка действий в соответствии с взятой на себя ролью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атель спрашивает у ребенка, справился ли он с ролью, которую выполнял; было ли сложно играть роль, почему. Затем спра­шивает у детей, какое интервью было самым интересным. В конце воспитатель высказывает свое мнение и спрашивает: «Кто-нибудь из вас хотел бы стать журналистом?», «У кого бы вы хотели взять следующее интервью?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"/>
          <p:cNvPicPr/>
          <p:nvPr/>
        </p:nvPicPr>
        <p:blipFill>
          <a:blip r:embed="rId1"/>
          <a:stretch/>
        </p:blipFill>
        <p:spPr>
          <a:xfrm>
            <a:off x="2627280" y="765000"/>
            <a:ext cx="3384720" cy="2778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2411280" y="407664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1:33:18Z</dcterms:created>
  <dc:creator>.</dc:creator>
  <dc:description/>
  <dc:language>en-US</dc:language>
  <cp:lastModifiedBy>1</cp:lastModifiedBy>
  <dcterms:modified xsi:type="dcterms:W3CDTF">2015-08-17T03:04:52Z</dcterms:modified>
  <cp:revision>26</cp:revision>
  <dc:subject/>
  <dc:title>Профессия «Журналист»</dc:title>
</cp:coreProperties>
</file>