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CD5-FA39-44C5-9B0D-01D7F848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D9E-34AB-4AE9-A61B-42B5340C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972-8070-4186-A0FA-D0863A8E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814-787A-4C55-A834-B061FA23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422E-B77B-4793-8DED-312FB269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403-AE90-4656-AB4C-CE248748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7052-7C43-4073-946B-250D9D8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82FB-20F6-4146-BEC7-5023AE3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D6B3-7F84-403C-883F-380E31A2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EED0-3EDB-4D20-B811-A2690080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0CED-F0D2-4750-BA6D-D4841DC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AA9-7292-44F2-9D3D-B9212273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F616-4C65-41E6-852B-DEE57CCA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BB6E-F515-4B9D-822F-FBA5487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7F7-0C86-4416-A4C6-A6D77C3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0162-4F6E-4057-889F-09A9B06A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04C6-E188-4C95-8ADF-C0F8911F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F040-6482-45CA-A6B3-FCE303C0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5FE0-6434-4BFC-B377-AAFDD46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3DB0-D900-483B-805B-8CD4629B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8E12-8703-4CC8-98AB-2D4A4DCA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A932-511B-4ECE-B24F-ED079B6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713-D6DB-41F4-A686-12478DC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5787-F678-437B-83D3-79ACD3CA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2BE5-3F6A-4A82-87ED-E57204F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E513-C902-481B-BDF0-6E5D22B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39D2-FA6B-4AC8-9FD6-0FF8AB0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8DBC-07F9-471A-8F82-32AB88F7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36CB-4CF4-4BD3-87F4-EC93F95A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C890-4221-4A44-B604-EA7599D5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F2FC-E1FF-401F-835A-45FEE9F2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B7EB-BCA8-4FAE-8035-E3DBA8FF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E0C4-4B8C-41BE-9DF0-C442A1C3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9EE-85C2-4FDD-815E-1A39B31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7E01-8B51-43CE-A2B9-5F53CF3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A05BF-58FC-4158-9659-9CC274C5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0953-E0E0-47DA-9B00-5F7DDB87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6E67-7DEC-4D05-BA98-63D8FBA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65F8-00DA-4EB8-BEF5-087A0D31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3BDB-CD3C-4B2F-8850-EACB9D3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066A-9F81-4B6C-B4E9-5167E458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A18F-68E6-4AD1-9FC4-89FF7609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2202-2691-4694-A3B9-89F63813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981B-7DE5-48BC-9FBB-DB3242FA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121-DEF6-4F7F-BDB7-5C17418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43EC-DEFD-4715-A1A5-9091D0F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5349-E1A7-40D5-89B8-4FFEDCCA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F8D66-04C3-4377-AC96-E4E802E4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9BC8-1C03-49FE-99A2-00F1FF1B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B5D4-3698-4608-A65D-9E6316B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C8487-B042-4372-82A4-10F2D8D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0D95-3DC1-474A-9279-B90FF23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A2ED0-C2CA-4BE9-9BBE-2E23E0D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CD2E-7729-46E8-B6B1-B46906D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5B8C-8C6F-45B4-9ECB-88EAF9E0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E5B-1887-4B28-B2A6-9C87267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1C24-5D59-46F6-8B4A-9887561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1B65-A072-42FA-B56B-AE76486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0BED-3712-4679-9BFD-EEE72FD8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E43F-7C5C-4B66-BE0A-2468C0C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F740-E2B4-4B5F-ACB9-E70F894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8C24F-E352-4B42-A27D-DB90AB3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1985-DD1E-4546-AC25-FD4D802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B313-EC59-4771-A70A-3138630C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AA15-511F-47AE-8283-7B7C0CC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F6624-48AB-4B90-9A07-726E151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0C4-972D-4D01-8B8A-E8D4787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C0DC-C60D-420F-9896-EC45B883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ED1F-377F-405A-843A-926ECE4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E922-A9C2-4F0B-B121-C8A95E82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4C07-2E35-4C08-8F8C-44F29D6B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5B7F-1195-4DB0-BF9D-DBAF058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2EAC-1E38-4E35-9C86-E56F470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91D8-3287-48D2-A45F-362DA123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73264-61AD-45D5-98DB-A24943CD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3CFDF-888C-4452-90D0-16EE5CEB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7C5AA-A1D6-4934-BF0A-7AD57DB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E69-DD54-4FC6-9691-6A2848E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2FFA-AE83-45DC-838D-D3BC97F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5802-DE20-4DFB-AC25-752D078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EB71-8495-4627-BD89-3002ADE8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45A9F-55F7-4BE6-84AC-6FCFF979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D66E9-7D27-4F89-B904-317B8480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03E-1CE9-43CA-940D-0E704ED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586D-F9E0-47A4-8103-77FC35EAF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950D-C7D8-40E5-8F00-DFBF9E9BF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41B-EB6F-4DF4-8870-65AC3A068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A0C1-9BC1-4016-849E-BDB8F07B8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134-D039-414E-9CD9-9D480F811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847F-B1C5-454B-86BF-F76F248AF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37FF-0391-4C10-8FCD-8B6321E2C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евиантное поведен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младших шк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619280" y="4046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БОУ СОШ № 8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Учитель- логопед  Гайирбегова Замира Гайирбег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47280" y="475920"/>
            <a:ext cx="56898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476280"/>
          <a:ext cx="8424720" cy="6173640"/>
        </p:xfrm>
        <a:graphic>
          <a:graphicData uri="http://schemas.openxmlformats.org/drawingml/2006/table">
            <a:tbl>
              <a:tblPr/>
              <a:tblGrid>
                <a:gridCol w="1655640"/>
                <a:gridCol w="2305080"/>
                <a:gridCol w="2430360"/>
                <a:gridCol w="203364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ысо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еремены, во время и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оддаётся влиянию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является асоциа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без причины может накинутьс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дарить сверстни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идумывает или участвует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грессивных игр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иногда привлекает к себе 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социальным поведение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может быть асоциа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дко придумывает или участвует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грессивных игра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облюдает правила иг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может организовать группы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тереса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является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сещения театров, выставок, экскурс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еустойчивость по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груби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адекватно реагирует на замечания учител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оявляет негативные реакции в отношении увиде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громко смеётся, разговаривает, крич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являет протестные реак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 некоторых моментах проявля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еустойчивость в поведен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неадекватно отреагировать на замечания взрослого, одноклассни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оявляет протестные реак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часто проявляет негативные реакции в  отношении увиде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ктивно участвует в процессе знакомства с новы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тересуется увиденны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облюдает правила посещения общественных мес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умеет логическимыслить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нимать адекватные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амодисциплиноров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 посещ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т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агрессивно ведёт себя по отношению к одноклассникам, *не соблюдает правил поведения в столов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оявляет неадекватные реакции (кидается едой, переворачивает стулья, кричит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тремится привлечь к себе вниман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ассив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агрессивно ведёт себя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ношению к одноклассникам, взрослым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часто, но нарушает правила поведения в столов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ивлекает к себе внимание  асоциальным поведение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проявлять раздражитель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аккуратен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держ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соблюдает правила поведения в  столов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офилактические мероприятия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илактическая работа с детьми с целью формирования у школьников знаний, установок, личностных ориентиров и норм поведения, обеспечивающих сохранение и укрепление физического, психологического здоров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Взаимодействие педагогов с психолого- логопедической службой МОУ, с родителями с целью предотвращения отклонений в поведении, способствование социализации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И.П. Подласо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, serif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Только учитель видит ребенка в реальной обстановке и его настоящих отношениях – в обыденных заботах, труде, поведении, контактах со сверстниками, старшими и младш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Только учитель видит, как трудится ребенок, как он думает и переживает, как ходит, стоит, бегает, дружит, как выражает свою внутреннюю позицию. Только учитель видит настоящего ребенка в реальных жизненных ситуациях</a:t>
            </a:r>
            <a:r>
              <a:rPr b="0" lang="ru-RU" sz="1900" spc="-1" strike="noStrike">
                <a:solidFill>
                  <a:srgbClr val="000000"/>
                </a:solidFill>
                <a:latin typeface="Times New Roman, serif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, serif"/>
              </a:rPr>
              <a:t>Он ближе всех стоит к ребенку в процессе его повседневной деятельности. И, следовательно, только учитель может составить наиболее правильное и, главное, целостное суждение о нем. А поняв, он может предотвратить неблагоприятное развитие событий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, serif"/>
              </a:rPr>
              <a:t>Девиантное поведение 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7632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система поступков или отдельные поступки человека в зависимости от его возраста, носящие характер отклонения от принятых в обществе н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Times New Roman, serif"/>
              </a:rPr>
              <a:t>Причины отклоняющегося от норм повед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68000" y="155736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Причины, связанные с психическими и психофизиологическими расстройст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Причины социального и психологического характ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7164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, serif"/>
              </a:rPr>
              <a:t>Основные факторы, 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Times New Roman, serif"/>
              </a:rPr>
              <a:t>влияющие на формирование девиантного поведения младших школьн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76720" y="2060280"/>
            <a:ext cx="5478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Б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2. Псих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Социально – педаг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Социально - эконом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Морально – эт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, serif"/>
              </a:rPr>
              <a:t>Основные факторы,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, serif"/>
              </a:rPr>
              <a:t>влияющие на формирование девиантного поведения младших школьников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18920" y="1989000"/>
            <a:ext cx="707868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Б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2. Психол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Социально – педагог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Социально - эконом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Морально – этически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чебная дезадаптация школьника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Стади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4000" y="1628640"/>
            <a:ext cx="691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- учебная декомпенсация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– состояние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школьная дезадаптация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– состояние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социальная дезадаптация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– состояние ребенка, когда отмечается полная утрата интереса к учебе, пребыванию в школьном коллективе, уход в асоциальные комп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криминализация среды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вободного времяпрепрово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71280" y="907560"/>
            <a:ext cx="604836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виантное повед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ладших школьников существенно отличия от девиантного поведения взрослых и обусловлено различными факторами, в том числе возрастными особен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410920" y="549360"/>
            <a:ext cx="64818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, serif"/>
              </a:rPr>
              <a:t>Деятельность учителя начальных классов по профилактике девиантного поведения детей младшего школьно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Наблюдает за поведением во время уроков,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поведением во внеурочное время, во время посещения столовой, поведением во время посещения театров, выставок, экскурс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поведением во время перемены, во время иг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Профилактика девиантного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Характеристика уровней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формированности девиантного поведения</a:t>
            </a:r>
            <a:br>
              <a:rPr sz="2200"/>
            </a:b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08000" y="981000"/>
          <a:ext cx="8785080" cy="5578560"/>
        </p:xfrm>
        <a:graphic>
          <a:graphicData uri="http://schemas.openxmlformats.org/drawingml/2006/table">
            <a:tbl>
              <a:tblPr/>
              <a:tblGrid>
                <a:gridCol w="1224000"/>
                <a:gridCol w="2376360"/>
                <a:gridCol w="2664000"/>
                <a:gridCol w="2520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ысо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56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ремя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ходит во время уроков, встаёт с мест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выполняет учебные задания во время уро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отвлекается, поворачивается, разговаривае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дисциплиниров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раздражител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ассивен в деятель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прогуливает уроки без уважительной  причи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зкая смена настро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оявля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едисциплинирован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частично учебные задания во время уро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всегда отвечает на устные вопросы, реагирует агрессивн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проявляет раздражитель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или редко пропускает занятия без  уважительной причи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редко отмечается резкая смена настро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иногда не контролирует себ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дисциплиниров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активно участвует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цессе уро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доброжелател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чётко выполняет инструк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всегда присутствует на занятия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усидчи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является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умеет себя контрол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ведение во внеурочн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агрессиве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арушает нормы и правила поведения в учреждении на перемене и после урок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провоцирует конфликт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вспыльчи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является неформальным отрицате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 выполняет общественные пор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дко вспыльчи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иногда нарушать нормы по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иногда является неформаль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рицательным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редко принимает участие в жизни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общается со всеми одноклассника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соблюдает нормы п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зависим от други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может организовать группы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тереса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 является лидер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умеет критически мыслить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нимать адекватные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неконфликтен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участвует в общественной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ласс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*охотно выполняет обществе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р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School 847</cp:lastModifiedBy>
  <dcterms:modified xsi:type="dcterms:W3CDTF">2015-08-18T09:46:06Z</dcterms:modified>
  <cp:revision>19</cp:revision>
  <dc:subject/>
  <dc:title>PRESENTATION  NAME</dc:title>
</cp:coreProperties>
</file>