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D07-ECBB-4A4A-9CB4-9934EA70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ADD-7F7B-40E2-A641-28D28A5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202-7ECB-440A-8EFB-C3A3A8F0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40E-4B5B-4CC7-900A-7F63BD0C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5F9-5417-45E1-B042-B7176A6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05DB-81A1-4AB2-8954-19EFF0C9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2B8-D9CB-470A-A61F-5E40E71D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09A-3BB6-4471-88B1-DF29918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D52-88D5-47A3-A2FD-6FC4B013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59D-0CDD-471B-A0CF-91D482DD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394-ADDF-41ED-AEBB-B44C96F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B8F-481A-4570-A862-958E250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A0F1-FA9C-4A8F-8293-DF01F47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BB8-05FC-4CCF-B36C-94B80D5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82F7-4BCB-4903-BBA0-04A8199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9C31-F6F0-4E12-95D8-39ACC114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AB71-8D81-41A9-94E7-92DDE4D1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69F1-F9B6-4B53-B2D4-1FD64E66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40B4-8A61-4712-BCC9-56A72A5C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EDFB-7132-42E7-987F-4273EED7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76A1-6040-4B2A-8884-59674E2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7EEF-DD45-4390-A92C-4D17A0AB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67E-BC46-47DB-9281-0D82158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3F2F-2821-4C87-94B3-8733B3E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8819-4662-47E0-98F5-F1B520D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A1E8-B3F8-4EB0-B61A-D70F9CC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CA4B-BE25-44B0-8875-CF10617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F04A-2281-417F-8A2C-454DDE9C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AF11-2932-4B59-B3E9-398620E2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1351-6BC6-4892-AD7B-DEDDE0B0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D1EC-88EF-4410-8B54-1FEE22AA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F18D-60D4-45EF-8AB6-2E9C284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50EF-4283-4CA6-9ABF-5C174107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928-8C1D-4F15-B010-F66B84D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E5F4-E8A4-41F9-A3AD-C0D061E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65B0-8971-409F-8C30-832CA925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7FC4-5EA5-40E6-BE61-0947742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28A7-7D72-4638-8DAE-3643694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6EF4-6EF1-47EC-9091-1CA7BD8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0263-8C1B-45B3-89D9-FBD3A8F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6241-29F4-43E2-B168-78659CBA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7DD2-BED4-4E3B-933A-77D8B66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F5AF-31A1-4882-89A2-5A1C4782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C0E5-DB3B-4334-BD90-D0EF6483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090-08AF-4632-984A-4651DAE7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4A44-31B0-4B36-BD39-5D0FCDC9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E22F8-39A6-4232-B732-8CBB1019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CD0C-1A7B-432A-9391-2E1276D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4EE8-6CB5-47BC-AB1B-DEE5DFB1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2F1E-D234-4A18-995C-DD71ACEC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E3330-ECE3-4A10-9189-3226C3D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F35F5-48A0-4076-B191-53BD38E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F17D-2E43-4FC3-A1F0-4578480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2355-8B78-4FA3-92AA-7202503D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6BB35-05E6-4847-96E7-9D6031B8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79F-46BF-4595-BA8E-A8DF35D3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CBC0-EA37-4CD8-87C5-0F178288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5F7C-8BFF-45FB-91F2-1687D6F5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A416-8F77-4F90-8900-C24B2E6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8172-5507-48BD-849E-5C0F2277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9094-7872-4AD7-926F-9FF474A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E3A2-0913-41B2-9615-52831E22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0E9B-4DEE-41C4-BC6F-D431E19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6BAC7-B1F6-47FD-9920-BB87130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CCD8-4E80-4CFE-AC17-BE3F09E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D505-3D2F-4A50-ACE7-F27B2B4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C63-9602-4832-939A-EBCFE9E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42D7-DB09-4A93-A367-3AB8717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E954-79FD-44F0-B8B2-8FD88FAB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0CBE-3110-4149-971D-4A8E73BA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47449-E2DB-40C8-97AF-8468BF6F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A4F0-F47C-4E66-B7FF-A8383A62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2644-F4E6-4DAB-92E0-0E0E8D7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2D0A-9E46-4B8D-B0B3-02677959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09317-D8F3-4827-A6F4-D284F05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BBFB-DCFB-4A28-AE63-D5B4D0D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17F9-8B92-43D0-B5D8-F424FE2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12D-277E-485D-A809-8940BBE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1A69A-A366-4C8C-B328-001E0BD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85A6-9704-4313-AB88-8DB96FC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822C-9613-422C-A3AA-E05FF32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E3D0-02C0-4893-B2F0-FA614FB1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CFE43-869F-43E6-9DB5-82D49301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5B1-EAA2-480C-9D2D-1582A89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1F4-2257-4015-9F22-E9052FEEB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00F-85CD-47CD-9CBC-9EB7A03AA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AD3-7A4A-4E7F-9ECC-DBFD9F4BB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61B-DED6-4167-98CC-B1EE3F8C7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284-211A-400B-AF38-27BF62628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5E8-AD95-49D6-9942-47E3D91F3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210-C664-43E3-A874-ED2D20837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евиантное поведен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младших шк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619280" y="4046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БОУ СОШ № 8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Учитель- логопед  Гайирбегова Замира Гайирбег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475920"/>
            <a:ext cx="5689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476280"/>
          <a:ext cx="8424720" cy="6173640"/>
        </p:xfrm>
        <a:graphic>
          <a:graphicData uri="http://schemas.openxmlformats.org/drawingml/2006/table">
            <a:tbl>
              <a:tblPr/>
              <a:tblGrid>
                <a:gridCol w="1655640"/>
                <a:gridCol w="2305080"/>
                <a:gridCol w="2430360"/>
                <a:gridCol w="203364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еремены, во время и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оддаётся влиянию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асоциа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без причины может накинутьс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дарить сверстни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идумывает или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грессивных игр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иногда привлекает к себе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социальным поведение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может быть асоциа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придумывает или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грессивных игра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блюдает правила иг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может организовать группы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тереса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сещения театров, выставок, экскурс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устойчивость по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груби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адекватно реагирует на замечания учител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являет негативные реакции в отношении увиде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громко смеётся, разговаривает, крич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являет протестные реа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 некоторых моментах проявля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устойчивость в поведен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неадекватно отреагировать на замечания взрослого, одноклассни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протестные реа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часто проявляет негативные реакции в  отношении увиде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ктивно участвует в процессе знакомства с новы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тересуется увиденны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облюдает правила посещения общественных мес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умеет логическимыслить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нимать адекватные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амодисциплиноров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 посещ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грессивно ведёт себя по отношению к одноклассникам, *не соблюдает правил поведения в 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являет неадекватные реакции (кидается едой, переворачивает стулья, кричит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тремится привлечь к себе внима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ассив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агрессивно ведёт себя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ношению к одноклассникам, взрослым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часто, но нарушает правила поведения в 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ивлекает к себе внимание  асоциальным поведение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проявлять раздражи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ккуратен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держ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соблюдает правила поведения в  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офилактические мероприятия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илактическая работа с детьми с целью формирования у школьников знаний, установок, личностных ориентиров и норм поведения, обеспечивающих сохранение и укрепление физического, психологического здоров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Взаимодействие педагогов с психолого- логопедической службой МОУ, с родителями с целью предотвращения отклонений в поведении, способствование социализаци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И.П. Подласо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Только учитель видит ребенка в реальной обстановке и его настоящих отношениях – в обыденных заботах, труде, поведении, контактах со сверстниками, старшими и младш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Только учитель видит, как трудится ребенок, как он думает и переживает, как ходит, стоит, бегает, дружит, как выражает свою внутреннюю позицию. Только учитель видит настоящего ребенка в реальных жизненных ситуациях</a:t>
            </a: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Он ближе всех стоит к ребенку в процессе его повседневной деятельности. И, следовательно, только учитель может составить наиболее правильное и, главное, целостное суждение о нем. А поняв, он может предотвратить неблагоприятное развитие событий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, serif"/>
              </a:rPr>
              <a:t>Девиантное поведение 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7632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система поступков или отдельные поступки человека в зависимости от его возраста, носящие характер отклонения от принятых в обществе н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, serif"/>
              </a:rPr>
              <a:t>Причины отклоняющегося от норм повед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68000" y="155736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Причины, связанные с психическими и психофизиологическими расстрой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Причины социального и психологического характ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7164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, serif"/>
              </a:rPr>
              <a:t>Основные факторы, 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Times New Roman, serif"/>
              </a:rPr>
              <a:t>влияющие на формирование девиантного поведения младших школь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76720" y="2060280"/>
            <a:ext cx="5478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2. Псих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оциально – педаг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Социально - эконом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орально – эт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, serif"/>
              </a:rPr>
              <a:t>Основные факторы,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, serif"/>
              </a:rPr>
              <a:t>влияющие на формирование девиантного поведения младших школьников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18920" y="1989000"/>
            <a:ext cx="707868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2. Псих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оциально – педаг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Социально - эконом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орально – эт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чебная дезадаптация школьника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Стади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4000" y="1628640"/>
            <a:ext cx="691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- учебная декомпенс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школьная дезадапт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социальная дезадапт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когда отмечается полная утрата интереса к учебе, пребыванию в школьном коллективе, уход в асоциальные комп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криминализация среды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вободного времяпрепрово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71280" y="907560"/>
            <a:ext cx="604836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виантное повед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ладших школьников существенно отличия от девиантного поведения взрослых и обусловлено различными факторами, в том числе возрастными особен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410920" y="549360"/>
            <a:ext cx="64818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, serif"/>
              </a:rPr>
              <a:t>Деятельность учителя начальных классов по профилактике девиантного поведения детей младшего школьно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Наблюдает за поведением во время уроков,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оведением во внеурочное время, во время посещения столовой, поведением во время посещения театров, выставок, экскурс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оведением во время перемены, во время иг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рофилактика девиантного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Характеристика уровней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формированности девиантного поведения</a:t>
            </a:r>
            <a:br>
              <a:rPr sz="2200"/>
            </a:b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08000" y="981000"/>
          <a:ext cx="8785080" cy="5578560"/>
        </p:xfrm>
        <a:graphic>
          <a:graphicData uri="http://schemas.openxmlformats.org/drawingml/2006/table">
            <a:tbl>
              <a:tblPr/>
              <a:tblGrid>
                <a:gridCol w="1224000"/>
                <a:gridCol w="2376360"/>
                <a:gridCol w="2664000"/>
                <a:gridCol w="2520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56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ходит во время уроков, встаёт с мест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ыполняет учебные задания во время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твлекается, поворачивается, разговаривае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дисциплиниров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раздражител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ассивен в де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гуливает уроки без уважительной  прич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зкая смена настро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дисциплинирован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частично учебные задания во время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сегда отвечает на устные вопросы, реагирует агрессив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раздражи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или редко пропускает занятия без  уважительной прич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редко отмечается резкая смена настро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не контролирует себ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дисциплиниров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активно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цессе уро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доброжелател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чётко выполняет инстру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всегда присутствует на занятия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сид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умеет себя контрол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неуроч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грессив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арушает нормы и правила поведения в учреждении на перемене и после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провоцирует конфликт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вспыль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является неформальным отрицате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ыполняет общественные пор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вспыль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иногда нарушать нормы по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иногда является неформаль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рицате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принимает участие в жизни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бщается со всеми одноклассник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облюдает нормы п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зависим от други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организовать группы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тереса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меет критически мыслить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нимать адекватные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конфликтен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частвует в общественной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ласс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хотно выполняет обществе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р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School 847</cp:lastModifiedBy>
  <dcterms:modified xsi:type="dcterms:W3CDTF">2015-08-18T09:46:06Z</dcterms:modified>
  <cp:revision>19</cp:revision>
  <dc:subject/>
  <dc:title>PRESENTATION  NAME</dc:title>
</cp:coreProperties>
</file>