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14.wmf" ContentType="image/x-wmf"/>
  <Override PartName="/ppt/media/image5.jpeg" ContentType="image/jpeg"/>
  <Override PartName="/ppt/media/image1.png" ContentType="image/png"/>
  <Override PartName="/ppt/media/image9.jpeg" ContentType="image/jpeg"/>
  <Override PartName="/ppt/media/image3.png" ContentType="image/png"/>
  <Override PartName="/ppt/media/image7.jpeg" ContentType="image/jpeg"/>
  <Override PartName="/ppt/media/image2.png" ContentType="image/png"/>
  <Override PartName="/ppt/media/image10.wmf" ContentType="image/x-wmf"/>
  <Override PartName="/ppt/media/image4.jpeg" ContentType="image/jpeg"/>
  <Override PartName="/ppt/media/image11.png" ContentType="image/png"/>
  <Override PartName="/ppt/media/image6.wmf" ContentType="image/x-wmf"/>
  <Override PartName="/ppt/media/image8.wmf" ContentType="image/x-wmf"/>
  <Override PartName="/ppt/media/image13.wmf" ContentType="image/x-wmf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</p:sldMasterIdLst>
  <p:notesMasterIdLst>
    <p:notesMasterId r:id="rId37"/>
  </p:notes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  <p:sldId id="265" r:id="rId47"/>
    <p:sldId id="266" r:id="rId48"/>
    <p:sldId id="267" r:id="rId49"/>
    <p:sldId id="268" r:id="rId50"/>
    <p:sldId id="269" r:id="rId51"/>
    <p:sldId id="270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notesMaster" Target="notesMasters/notesMaster1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slide" Target="slides/slide10.xml"/><Relationship Id="rId48" Type="http://schemas.openxmlformats.org/officeDocument/2006/relationships/slide" Target="slides/slide11.xml"/><Relationship Id="rId49" Type="http://schemas.openxmlformats.org/officeDocument/2006/relationships/slide" Target="slides/slide12.xml"/><Relationship Id="rId50" Type="http://schemas.openxmlformats.org/officeDocument/2006/relationships/slide" Target="slides/slide13.xml"/><Relationship Id="rId51" Type="http://schemas.openxmlformats.org/officeDocument/2006/relationships/slide" Target="slides/slide14.xml"/><Relationship Id="rId52" Type="http://schemas.openxmlformats.org/officeDocument/2006/relationships/slide" Target="slides/slide15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 type="dt" idx="10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 type="ftr" idx="10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PlaceHolder 6"/>
          <p:cNvSpPr>
            <a:spLocks noGrp="1"/>
          </p:cNvSpPr>
          <p:nvPr>
            <p:ph type="sldNum" idx="10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1C07-A7EF-490A-928B-FEFC610A68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32A9-76F1-4EAD-9814-8EF268270F1E}" type="slidenum">
              <a:rPr b="0" lang="ru-RU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BC6B-2443-49B3-8D06-BB9C24E8D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F178-3361-4EE1-95DA-8EF2FE62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7C88C-DA47-407B-BF3F-5D4BF2BB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FEFC34-006F-4FFF-8414-9360C688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E2B60C-038F-4771-AF90-4746C4C0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47AA1D-255F-42D3-AF0A-9624A401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B68189-BD58-4270-B400-482ABCD5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7D683A-CD45-448B-B90D-C04C36DE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A56981-E568-404C-A22E-1F34C836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D49284-F912-4DE2-90C0-C9907EBF7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7C83F6-14D0-495E-844F-6BF79BA5F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8B603A-AEBA-411C-9E83-B88DA5F33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35F1-390F-4BEA-9755-86F2F2C3D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9BC330-66E5-4758-8521-BE64A2C1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FAC85-465B-491A-B6E3-09EDC6FA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D8E703-AAFC-4FD4-B953-3FDB8DD1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B7EC50-AB61-482D-AA55-5A1CB5FE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0CEB1E-24E8-45B4-90C3-407592A1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579939-4DED-4BAF-8D03-DAA58670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2F966D-523C-42CC-B21F-E535D168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B92793-DB3D-4D1D-A767-B2C6760F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8E2797-86E5-4C6F-9C19-6025A7BF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1C9F61-0CC0-4181-AB29-9342785C9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7B44-C662-47BE-A28E-1EB871365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A3097C-523E-4E72-B61A-9BA140A30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50606B-77D9-47E9-A45F-F70F4FF4B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1D039A-7A2A-4996-9790-037E735D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9AF878-4FB3-4711-9FC8-1F669885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6C291C-79AD-4E53-BFEA-4A689270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57A89-4721-4681-A839-4650342F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E1E76-C81F-4A08-AF18-B9F597A1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53D68-2DE1-4467-9BCE-4BC5B34F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0E823-11A7-420D-97EC-475616F9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00DD3-7B93-4FA8-A90A-186FBACB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887D-8F9D-4D96-A68E-FF0CB06D1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1A3F63-085F-456B-A4EC-C0FE4830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212223-0E27-4042-9D04-4EEEC5A00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646AC-0AC4-41DC-AB73-B5BD28554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1B1313-F0C4-468F-BD06-4635F8324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5C4E7C-10D0-4FC9-9662-A5E43D4E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93E802-6DF4-454D-8F88-69E31925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5513EA-484C-4B62-8F22-DDCC21E0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95F28D-5876-457D-A69A-23C28520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3C15EE-F635-4441-81E3-0FCAB9F2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B94CC4-F616-41DE-88BE-3EB507F0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7218-AD88-4CFF-963F-E91435FD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8C62A7-FF6F-4BB7-9C6B-F4F7AFD6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A8A071-5409-4B35-A531-AEBF6811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EB09D9-B373-4323-B8A4-7837377C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30B3AE-2251-44E7-88E4-2FBD2F0B8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1301CC-D053-4659-87B3-413C25D6B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4FC20E-CEDD-47CB-8DE8-CEFF070B0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DB0005-7D9A-43E8-9F73-111EFD18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37A002-0F0F-4D93-B298-3E58B520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7E12B2-BFB2-4817-ADFF-7A166279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9005A6-8F86-4424-8835-734F00B0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1878-FA7F-4363-AD1A-E1D93164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826592-ED80-42C9-8308-BBFD678E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5EC4BC-37D7-4A32-B09D-06D4A2D2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D7A583-E572-4B11-8759-D2C9E0CA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4DF2DC-C6ED-4493-8AD5-5A7BD20B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CD9065-9A9A-4BB3-9A08-8500FE20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E8EFB9-124B-49B8-88F6-700461351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A74813-04A9-4B9A-8E67-3DE3E9CDD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65AEC9-0501-4C55-8B3D-8B3E8053F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BD2173-751E-4257-8ABF-6E984435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3107A7-5462-40ED-81DE-EB557EBE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E06F-C2DA-4F17-8486-1F414290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62EAF2-756E-4504-9B0B-E32ABE37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5D3BEE-1F92-47D8-BDF9-CF4273A2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AB64B9-0C5A-4BA6-859C-9EC503A8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C3ABBE-F424-43A8-B786-2404290E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9F3CC7-DB17-4A7A-B43E-CAD52C9F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6C95B2-EB42-4A15-B903-59BEEE99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AC91F6-A4F4-44FC-B86D-9DCDE30E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BE8559-4CB8-4E65-BB0E-DCE54E662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298063-A8A9-4064-9FFD-8B28A87BC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21BED2-2093-4697-B250-07818F9C1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93B5-A0B3-49E2-95A3-59842553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A2961F-F1A7-4FBB-8565-E761FACF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C3A9E1-4C35-4893-B1EF-F7AFB48A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961633-DDF1-4B98-AB0B-16DC710A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BA7761-F7E1-456B-9D66-D9002102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0490C3-6BB9-4FFC-A6A8-73E0B3AC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211B19-33EE-4C03-BF3A-B9108439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330656-DF2E-47E1-83C2-1936AB75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09BE46-3770-42CF-9F8A-D9D03102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949A30-1D17-48D3-9167-C170756D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6A6232-2FB5-4E38-BACD-A1392E6D2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A7D0-4309-4450-BB0F-4B1BC82E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8CD673-8E97-4A0E-B9E3-2410A569E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849739-FFFD-4E16-A966-4F5EA65F4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74A8FA-29CA-4996-B4A1-1518BE47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413400-026B-4076-900F-05F00005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AFCC32-FBE9-4FF7-868B-1B9B3E27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232114-ABE6-4750-8807-3EFC81FE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BDFCD9-7C83-48B5-82D0-E533CCAE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A00A1B-5685-4283-8BA0-AC184A35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01F642-6B29-477B-8435-F8F42FCC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46F03E-CCBE-47E0-AF74-B0CAA87A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11F7-2402-465C-97D3-89C5A07E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E664D1-8BE0-42B7-90F4-6F2647E5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9AE7F7-E152-4ECC-871E-4AA522591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A67485-7A9F-4AB5-9E37-BCF60529B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AFCB38-6A87-47FB-84B9-1EE52EFC4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82ED8E-BBEC-4F72-8DC5-71355A03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837D26-4489-402D-82FA-5C24DEC4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65E069-9687-4692-98C7-2CABD760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93A239-972F-45A8-8058-0E091AA0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F290A3-93CE-4A86-9961-0BB0B879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4146A9-6F63-499E-8830-362293EE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DFF2-E3F2-403C-8176-36D6B4FC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0C84-CB31-4164-8882-14294BC7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FCADB2-9B74-4825-80F9-140D7447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67702F-D09D-4E06-9A1C-88DC55A7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9EC80A-3B21-4DA0-B31D-A84A8A30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E81BC9-D791-4F52-8AD9-516B2B0DF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8C683A-78FE-431A-B005-AA36CA846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265923-2A6C-4E25-87B8-752F5E582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4D2127-2A9A-4FD3-B27E-E015D1E1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4624E2-D593-4C8C-8BF8-4647572A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E17101-93B5-406D-896F-39B3D6D1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EDF226-F364-4167-9951-682B7A1D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61398-5CAC-451F-95C6-26B6B7BA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A29CC4-8F58-4231-9C6D-28F2FD33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ADF3FB-6AE5-4E23-912D-1B99A933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D3B39A-EDBD-4B5D-81BA-DFAADBC3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376907-7BC5-45DB-92E4-6E220305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409615-CAAE-4513-864A-10B601B1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FCDC79-0702-4F16-B993-9DC763E06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88D07A-4179-4B2E-97BF-74387F3F6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C92D40-5B01-467E-B219-0A72303F0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BBF7A2-3832-49DA-BB2A-6F4CC72C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EF087F-CF8B-4F86-AA56-9DF8CBBD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1499D-77BF-4C8F-80C3-5F5F63B6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650731-336C-4EDC-8D9C-3275338D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8FFC5C-86B9-4B7D-A780-9D8AD0BD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510797-69FA-4586-9483-25A889BD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2187D8-AE15-4611-8F34-C26F8FED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CFA4DB-4846-413F-8EBB-99B6CB80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58ECCA-85CD-4030-8906-2DD15741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53E2D8-1C5C-455B-B061-82BF780A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A87376-39B0-41E0-B2F1-C8841A7A0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BDC358-BB43-4734-8A2E-3C016C20C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D795C9-F388-4A00-931D-1B72F72BD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620E-D3E8-4592-91B7-1F30E275B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06356B-51C3-4B8D-8AAA-5A970368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CCBA9E-26E8-463A-AF0C-2E9F3005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DE1DB8-8A8E-4A8C-85A3-F28F8940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31A50B-4A00-43C1-B027-51365210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836334-6E47-4FAE-B11A-E193503B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9A64F7-62AF-429C-8770-EC9C833F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B06A13-B184-4F53-A82B-79422B15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6521E7-B4DB-43DD-9507-99C76419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DD09F0-D7E2-4690-9A57-9CF2FDCC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188A58-52CA-4E86-AE96-0961C31D8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8405-5FAE-4B88-AFB4-80D066207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B6E5B8-302E-4751-BE20-F8FD4A89E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7CA920-2303-4F0B-BCE4-C6C2B0D25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7BC60A-F1CB-48A6-9AD7-48B61F09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65EBC6-EAD9-42F1-848E-CEDB0D35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0B266D-DEF5-415E-836D-22597B95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D36481-513E-4EF4-89D5-E7DBE32D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098404-3870-4D48-A225-2ADA57FD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1EF0C3-83BA-4EF5-9FEA-A1F13BAA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F58F79-D39D-4333-91D3-0B77E624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D32592-7506-437B-82E2-04CD6737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6244C-036F-4F80-BC07-361DBCD5A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A2EC32-CB18-4375-BDA1-C0AABA7E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C98290-0892-45A1-B3A6-F956DC76B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893493-9F64-49D5-8BFD-D89A05CE7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24E1CA-0887-400E-B45F-585230B76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818CA0-910A-4994-B869-2995234E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6010F9-CF9E-4366-AAAD-A429E65C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89FE4A-CE46-4D0E-BFEE-663E5F17A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602D95-52A6-4576-964F-E0F35A3A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30F4E3-0B4C-4A18-BB10-C76A75A0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16D7C7-B4DC-4E10-A2B7-203E5380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A5BE6-9CF8-449D-A42B-A06A8A211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7181C1-ADCC-49BB-940C-D7CA6D46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17D84C-DB9F-46B1-97A5-F9498A85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6747C0-8594-484B-814F-79C1CC29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F92946-DAF7-4E7B-826F-AD1CA4FF2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3C874D-87BF-4E2E-8CE3-BE16370D3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429571-856E-4E98-9646-E2D5682EF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96A5D7-B9F9-4374-A857-D6ABAF55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849739-540F-4DD8-AFEE-3671D4C7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7EE87F-C4FB-4737-8CCE-90A405D0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D2ACA2-6AC7-4160-89C8-FF248861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546BA-E416-48CD-B2DA-E07FDE34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4FFAB9-06B2-4008-9960-5E27BADD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E58F69-3CE8-4232-AEDA-A41EE652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2B709D-7B5C-411E-BCCB-B21F0B37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07C277-D884-4608-B015-8B8F45B9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2B36EF-6C9A-4444-978A-3DCBD585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E98DCD-4BE0-4918-9B3B-4EA416623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A4F1BC-9F97-433C-84B2-C5B920774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42B4D9B-9048-4A32-882A-622DF9387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30012A2-8D9F-4DAB-A491-8C1FBDD0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421516-5736-4650-8B94-A7B912FF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0DF2B-9FC4-415C-8674-6EA4DC99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6615A32-6E69-439E-9334-D44742C4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5316603-ABC0-4FF6-B0F7-751F8AB3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AEDDA1-6D53-489C-9748-C63AE5D7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E5563F-DE6A-4422-9B81-59450412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6C924CB-4CF0-4AF5-AF75-252729B4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C0FA556-4F70-4800-9999-C4E83CAB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52604D-E1CB-406D-9D3A-57263634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2E7B7B-4B4E-44FB-BCB0-10AB94E95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618E00C-6B14-4FB5-9082-4D28B87F7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84C7348-77D5-418F-8660-B9B85F2F2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DB6AB-F775-4F04-93DC-399AB4C4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6BB6DAE-43C0-4437-9AAC-89DE785A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F9E90E7-5D8B-4DB6-BE66-33CAE88F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1F3FFA3-EB04-42C5-A9A9-44E99EFA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5B7E818-5CA8-450C-88F3-0A45EB48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8373F51-82E7-4986-AF3C-1374C2DE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5C9287E-1CF4-4250-9606-0CD040F4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E8E815C-2E23-46E6-B2B4-26723C1B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B1D6A00-274F-49B3-8B46-AFB5C76D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5951D7-0113-46A8-ACB4-E2789F56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FAB07CE-ED20-42B5-9281-C461FBFC5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EFE6-2797-4D52-AA50-F499A9CE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3C0EB-8179-4B3B-BCE6-822B429C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CEDB921-48D4-48A6-BCA3-F66BD93C4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2EFB6B5-5C98-4F61-90C0-53F89C77B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55C7E0-D473-4C26-9CCB-9DE8A919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4431C51-C3AB-4D6B-9E52-5A5B124C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02F0DDD-BD1E-4D81-9904-8B0323B9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D16DB2D-EA17-4A1F-A512-0A31EFD2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066C214-0C16-4ED6-A079-F5D1A71C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6FD0115-C770-4390-89CF-F0D3890F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65FB554-E33E-43A7-8AFD-83679E9B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8C68DAC-A409-4DF7-8E4C-324F2B3B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FB98F-7A8B-44B1-8331-A2966E40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4677357-62CD-4A1B-BF31-C05D1DFF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3D0ED5B-E88E-49EC-8AE3-6FDD7046D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D029A81-2321-4993-8DDC-80E793889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3E31D55-2A05-4EF5-B070-F0069B7A8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1A43EF7-BD3D-4120-9D2C-E235A504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CE1668A-17B3-4D93-8D99-23218184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FCBCAC1-B595-4B16-BE9E-D1528DDC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3762935-4855-486F-8A05-23DCFDEC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6D8C880-8213-4F98-8C80-AFBF2068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2560B70-2561-4B90-B56F-FE637670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843E2-57D4-432C-B91F-9A853BC3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E5AE569-9A51-4E04-B2F0-C0B960D4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E3E2A00-FFA1-41B6-88A6-C0F04463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BC76CAE-A288-4E36-85FF-D49AEB22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F95E177-5C70-426E-AA2E-E92179446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B4990F4-656F-4683-BE72-82470CD86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77BAEB5-D543-4D54-9FE5-0F36F656C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6558D96-BFA9-45E3-8369-A49A5450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107F39E-C4BC-47E2-A277-69D7786C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502BB39-CA0D-40FD-8BC9-A44DDB76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6E725E0-5E87-457B-BE0B-964B83D7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D1FFE-7F14-4519-90CB-22CA59F4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20BD2A7-4E92-4A2F-980D-74789510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1D80BB2-C7C1-45D1-B992-0418FEA3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C905F58-A995-40EB-ACC9-D93945CC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2E8DA25-85F4-439F-8FAC-2832BD1B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6CF2CB0-9877-4C44-BAEF-9D855F5D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7D4DFC5-26AD-4E4C-8256-9D7C49E47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90A37AE-BACD-4CC2-8B3E-8909E9690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E7AAF3C-AB5C-4526-87BD-837586510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2AE1916-4CC3-4D68-9440-F1E42766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8C86965-2645-4279-8BCC-459D9341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6E83D-9514-4757-8CC1-21A69FB7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D6A9A0A-FCC5-444B-A99E-64BBCA0F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12B1406-DAF6-43CE-8324-276076B5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4D87E38-4184-480C-9ECB-7CA35CF5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DD8F168-4AA6-4168-80F3-6E883C61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74C310C-3B6D-452F-827F-7C3E1DAF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67BDFC4-2B0D-4865-884F-AB3320AA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4115015-7E0D-47C6-9630-8974DEFA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D5B9ACF-112C-4E73-B978-34E1EE39A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38E45AA-F7F5-44F9-9C78-DFA03813F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D120A54-5CF7-4DAA-B3BF-A1DD06E78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037B4-5FF4-407A-991C-ECE760D89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06588E2-BD04-4B24-8B2A-047FA8E2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C8FBDF3-7D66-49AE-8E1D-D5D68971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292E08F-BAE5-4B3C-AD42-E3F91BDD6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C61500C-22C6-4208-AD3D-C818BC69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A1AC361-A523-4869-B8AF-387595F9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48F01A2-0F4D-4DBE-9005-0408907A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0339277-C915-4B45-9DCF-2E45FBBB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6EC5ABC-42BB-4117-9934-42AA75E0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174BED4-EBE6-4C97-A0D3-89A0EE1D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9554FCD-C7AA-481C-B255-BAE6401AF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2C010-8B21-4CF9-A754-7182D4654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1B6F430-805C-4A2D-9DE0-B48757883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1245395-7452-4657-AB5B-AEA90F146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ED2AFD4-1BF9-4E1D-8EAE-091105D3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AC931ED-266B-41A3-9001-9965ABB2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E4B6786-DF63-4C1F-A78B-45FD6440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8C05C76-137C-4D36-A285-39B31A29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2D0985E-9D6A-4B26-8637-CE1A0433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4A18E79-A6E7-4A88-8D15-524B5E37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F9AAB38-F485-4A73-9750-5B4F814F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3B66464-3FEA-4696-8128-5D0C9F32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7618D-6B41-4A2E-854C-46162ED23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D63E283-C9CC-429D-ADFF-C47CFA7B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504EFB4-68D6-488E-87B9-4A1F1704E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88264DF-4FBD-473D-A53D-7EA8F79CE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0644BF5-542C-4A1D-B438-5FD702707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1317D5C-B5CB-4FA8-9FB5-FF95F914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6DCAE82-9AF2-4F79-91F0-901353DF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F0FCD35-1E9B-46F4-8153-87E92B9D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6257C48-8E48-4C2F-B7CD-448C9606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E666C9C-D69A-411F-B1DA-91345A77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682031A-562E-4CD6-B8E6-CE14CCC8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60840-1978-4BFC-984A-8A90BD0A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8D5C01C-8EC0-41EA-9CBC-548E0E40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E9FBA29-941B-410D-AE45-591B2A72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823AB28-3DF9-4225-8F67-F8A453E1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3CE4EB2-303B-4446-A746-C721A1D8D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B15C718-8C06-4992-B16B-45067FD90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0A0303B-029B-466C-8009-4246ED64D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65FF9E9-FDD1-4353-B780-EB530C53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D74D9F7-1F3C-42A2-A485-F8A0EA65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DE6B096-7E84-4811-8B04-4C3AB3C2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6062B3A-6CAA-4538-BEC7-E09708E2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992E6-7747-4E78-98F1-1B14A8DA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C77F6F1-D054-44BF-9541-F090CCC2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FEED9E7-DC4C-48F0-976E-7F248F5C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1408BD4-25A8-43ED-A251-1C4441BD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21840D3-6601-4CF3-86FD-2ACA6F53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DCD5B69-038D-4284-8CB7-89A48759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61BF0D6-DA5E-4254-9592-75E96EDC0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08A166C-CC5D-4A9A-A4E9-B790D22D2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5C8BD68-0082-4B2F-8476-5B192EA84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702D526-BF0B-4F3F-9BC5-0D9596F7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5B67065-2B52-4D3D-94ED-C0047CC5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8BEE-050C-409D-B86C-AC3EF6D8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55CC6-32DF-4F62-B5CB-3F5FE27A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4610560-1B4F-475D-B3E9-61438554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4BAC601-6754-46BB-B345-6F4AB6AA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40EBF10-E817-41F2-A1BD-18FC0A4F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1992292-1C9B-4998-B857-F9CF269C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4002432-8201-46B9-A362-3E378D0C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0DD97AB-89C9-4246-81E9-4CA3AE84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0461F4A-327D-45FE-88C5-8EC79934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150EC19-3BF1-46A0-8B77-9ED062DFB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BAE6A39-A065-4138-A0C4-C1838699A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BB608E9-8704-426D-8FAC-B24E453DB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CD18E-7F13-4A90-BCE7-F8C9164F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EB9AAE9-CF4D-4D44-A398-C08DD9EB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9994ECD-B05F-4597-B2A2-AD322D72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9B4A3C6-F4C5-43A4-A907-CE7111B4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9B2F21F-081B-471F-B918-1C8C6373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CA1FDAD-3E9B-4BF5-AF30-2178DFFD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EC265F7-609B-4DBC-8D25-8BB46C85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6BB83A2-588B-45DE-8393-DB768FBC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A8A3360-77C0-4FC8-89B8-2C87D64F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EE329D0-A6FE-4030-9CD9-F1364E99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0F9C707-FE0A-4654-8BBB-63E76074A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CE1CF-E7DA-49BA-9D49-3EA60935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4F9A286-14A0-442D-BFDF-65B7C905A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DF6F9-A1F9-40A5-ADB7-AEE731EF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7E40D-F48F-405C-90A9-BE83CDC6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9ED1A-7F16-413A-921E-1241054D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F448B-411A-4368-847F-07333636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292E0-8F0C-4723-8D89-D7F217108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67F04-E493-401E-BB00-F04620D66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98687-ADD7-4E23-8D22-0D5CC4D4F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8596-B85B-4087-A228-5231BE2C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6D5B6-1331-4EF5-8EE8-18401098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AC7C4-C01A-4EEA-8915-AC789803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B6950-E271-4C94-A7FC-2B216DB2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023DE-637B-4910-8690-41702C93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167EE-6683-4A3C-BD2A-00289224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069BA-8C81-48E7-A1F2-5C9D5067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DC2F9-BFB8-4088-894C-05D89875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41C57-F00C-42E6-B644-D5A06556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9D972-F94B-4F84-8CB7-C84C854F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1D86D-ABA4-4939-BE3C-0DBD04172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FAF0-1B0B-439C-AE67-AFACE474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653B3-E3BD-4EDB-A14F-C7C3C3A01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FD74E-EFCA-4D27-9704-DB1A83EFF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1BEF0-2BD9-423C-A2AB-2D370D2D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D3BC9-3BC7-4970-ACDB-37E653C3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986A1-136F-41B1-BBF5-34A2CBDE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871A7-408F-4631-8958-6EF5883F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5ACC4-B704-428D-88FA-992FC804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92C1B-FA4B-4BEB-BD5E-131AF126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329B6-A131-4D0E-9AF9-3E7C4B0A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89765-DDA0-4622-9CAE-B51658DE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35B0-5637-4674-9A73-F1DFF80B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829A3-350C-4D59-8BF0-34A8D637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4A160-3D80-44A8-8D7D-AFE86353C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249DF-96AD-42CC-8F79-B03625DAF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D0C71-14B2-4375-87B5-D76CBA657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2C5C0-E97C-41C5-9756-90668649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CED23-F908-42E5-A52C-6571EB62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9CC20-4FC2-411D-A84E-595A1B86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0FA3F-D916-4FA8-A2F6-4A244F59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B6BD2-7E71-4F1D-A535-DE1125A8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A551A-88F8-4598-82EA-B6BE8FF2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49B4-6602-4701-83D1-7DE8E463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95476-6E85-428C-B6EF-D011B838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16577-2918-487D-A3C2-AB263A8A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B9BD3-F412-4353-89BD-F753C268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2537E-B176-41BB-B37B-D446EADD8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E5417-B19B-4E63-82BD-6B4CE2779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B52BB-1645-4E37-94E8-43960B2F4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208AD-5BAF-44CA-ABFF-1E40372D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A66F3-8576-42BA-BBAC-F52BE176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68F2B-FC39-45B0-9D40-35AEF00E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807C2-CCA9-4533-A0C3-B3204ABE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F4D5-05CE-4EB9-8B1E-6999B8BB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BE50F-E601-40DD-92CD-CB812845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AC5EE-275C-44C9-A944-2A70ABD5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D3154-6CBD-418C-B793-B8012A68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89F3B-0425-42AF-882B-89DA813E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1ECB8-2996-4C27-BEE7-18426E0F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04F83-D37A-47D7-9EDF-D123DAF87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7C65B-EE07-4D3C-83B6-D3FE502E2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2A9B27-89CC-45DC-AA72-19725EDE0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3E7F02-A110-4041-98D2-454400EE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668080-A89C-40E5-849E-BE283254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4D05-C4C8-478A-B8A8-4CD80350E7B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AE0E-7D30-42BC-996A-8A6371B5BDB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465" name="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67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AB41-5D0D-4A65-A4A1-9D4A2E2F337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1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3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1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17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18" name="Овал 12" descr=""/>
            <p:cNvPicPr/>
            <p:nvPr/>
          </p:nvPicPr>
          <p:blipFill>
            <a:blip r:embed="rId3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20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5124-510C-41AB-B248-38FC4DF262A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3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64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565" name="Овал 15" descr=""/>
            <p:cNvPicPr/>
            <p:nvPr/>
          </p:nvPicPr>
          <p:blipFill>
            <a:blip r:embed="rId2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67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7805-4B18-43EB-A1D1-C5C16ECF78F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5964-B383-4E5E-9570-41F577E7A73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1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4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4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4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8772-923A-4D0E-AC85-FA5AE31C4EF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4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4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4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CA2F-C361-472E-A92B-E55478239E1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4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735" name="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737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8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dt" idx="4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 type="ftr" idx="5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 type="sldNum" idx="5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E929-2D58-4EF3-B2B5-06115114258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78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783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78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787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788" name="Овал 12" descr=""/>
            <p:cNvPicPr/>
            <p:nvPr/>
          </p:nvPicPr>
          <p:blipFill>
            <a:blip r:embed="rId3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790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dt" idx="5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ftr" idx="5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sldNum" idx="5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E8CD-2B2D-47D3-8065-1D611336530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3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834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835" name="Овал 15" descr=""/>
            <p:cNvPicPr/>
            <p:nvPr/>
          </p:nvPicPr>
          <p:blipFill>
            <a:blip r:embed="rId2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837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 type="dt" idx="5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 type="ftr" idx="5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 type="sldNum" idx="5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4FBC-6E41-419E-92FF-D16A81EA2C2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5BF0-CAC0-4498-842C-EB764BAE011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 type="dt" idx="5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 type="ftr" idx="5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 type="sldNum" idx="6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84AD-F88C-4A4E-AF19-566EEB88D86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1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6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6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6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63E2-8287-4CC3-ADD1-5C8E6E2DFB9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dt" idx="6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 type="ftr" idx="6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 type="sldNum" idx="6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7E57-A488-4BCD-9492-C71BB54ED48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4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1005" name="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07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8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 type="dt" idx="6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 type="ftr" idx="6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 type="sldNum" idx="6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AFB1-8C59-4936-BFAC-064E11712AC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5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53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57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1058" name="Овал 12" descr=""/>
            <p:cNvPicPr/>
            <p:nvPr/>
          </p:nvPicPr>
          <p:blipFill>
            <a:blip r:embed="rId3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9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60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 type="dt" idx="7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 type="ftr" idx="7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 type="sldNum" idx="7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3F80-DD53-48FB-896F-9711F594EB0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3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104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105" name="Овал 15" descr=""/>
            <p:cNvPicPr/>
            <p:nvPr/>
          </p:nvPicPr>
          <p:blipFill>
            <a:blip r:embed="rId2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6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107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 type="dt" idx="7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 type="ftr" idx="7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 type="sldNum" idx="7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113D-78F0-4CAA-80E0-3B89EC65CCC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 type="dt" idx="7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 type="ftr" idx="7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3" name="PlaceHolder 5"/>
          <p:cNvSpPr>
            <a:spLocks noGrp="1"/>
          </p:cNvSpPr>
          <p:nvPr>
            <p:ph type="sldNum" idx="7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7564-5BFF-45FC-9E50-AC7416F5A13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1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 type="dt" idx="7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 type="ftr" idx="8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 type="sldNum" idx="8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55F6-FD94-4AFB-869D-1E14E9D1B15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 type="dt" idx="8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 type="ftr" idx="8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 type="sldNum" idx="8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E230-B27C-47D9-ACC1-85D8AD93B71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4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1275" name="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6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277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8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 type="dt" idx="8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 type="ftr" idx="8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 type="sldNum" idx="8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8C91-D96B-4BE9-8DCE-D3003A26D71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98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99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1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B50C-E4C2-4403-BBA7-6BCE92AAEB9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32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323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32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327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1328" name="Овал 12" descr=""/>
            <p:cNvPicPr/>
            <p:nvPr/>
          </p:nvPicPr>
          <p:blipFill>
            <a:blip r:embed="rId3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9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330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 type="dt" idx="8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 type="ftr" idx="8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5" name="PlaceHolder 5"/>
          <p:cNvSpPr>
            <a:spLocks noGrp="1"/>
          </p:cNvSpPr>
          <p:nvPr>
            <p:ph type="sldNum" idx="9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4434-AF18-4BF5-BEE6-DF97608C300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3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374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375" name="Овал 15" descr=""/>
            <p:cNvPicPr/>
            <p:nvPr/>
          </p:nvPicPr>
          <p:blipFill>
            <a:blip r:embed="rId2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377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 type="dt" idx="9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 type="ftr" idx="9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2" name="PlaceHolder 5"/>
          <p:cNvSpPr>
            <a:spLocks noGrp="1"/>
          </p:cNvSpPr>
          <p:nvPr>
            <p:ph type="sldNum" idx="9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066B-E58F-4FF5-9E04-7026DBE6606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 type="dt" idx="9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 type="ftr" idx="9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 type="sldNum" idx="9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62A4-F263-4243-968D-CD5A0A89B21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1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 type="dt" idx="9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 type="ftr" idx="9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6" name="PlaceHolder 5"/>
          <p:cNvSpPr>
            <a:spLocks noGrp="1"/>
          </p:cNvSpPr>
          <p:nvPr>
            <p:ph type="sldNum" idx="9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0001-630E-4B7B-B396-6BB8CC12B74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 type="dt" idx="10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 type="ftr" idx="10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7" name="PlaceHolder 5"/>
          <p:cNvSpPr>
            <a:spLocks noGrp="1"/>
          </p:cNvSpPr>
          <p:nvPr>
            <p:ph type="sldNum" idx="10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608C-0EBD-4E24-93F8-620798B2093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4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1545" name="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6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547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8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 type="dt" idx="10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 type="ftr" idx="10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 type="sldNum" idx="10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98C3-E76E-4A4C-AE78-445150753C2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4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47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4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8E7B-EA97-46A5-8768-62294C2ADF0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94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95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97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24B4-D16D-47C1-9C87-307C572A295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4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43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4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47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248" name="Овал 12" descr=""/>
            <p:cNvPicPr/>
            <p:nvPr/>
          </p:nvPicPr>
          <p:blipFill>
            <a:blip r:embed="rId3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50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1060-D50B-4CE3-AD35-BEABC3EFFF8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94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295" name="Овал 15" descr=""/>
            <p:cNvPicPr/>
            <p:nvPr/>
          </p:nvPicPr>
          <p:blipFill>
            <a:blip r:embed="rId2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97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7B54-04D4-419D-BBF2-A7DE3DEE233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365C-AE6A-4287-AFA5-75DF85B82F9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799C-A408-4D20-A8C8-CF64F709E0B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aleks-alschool2.edu.tomsk.ru/?ur=1006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z999.ucoz.ru/load/fgos_noo/32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999720" y="1785600"/>
            <a:ext cx="79297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Corbel"/>
              </a:rPr>
              <a:t>ФОРМИРОВАНИЕ </a:t>
            </a:r>
            <a:br>
              <a:rPr sz="4300"/>
            </a:br>
            <a:r>
              <a:rPr b="1" lang="ru-RU" sz="4300" spc="-1" strike="noStrike">
                <a:solidFill>
                  <a:srgbClr val="000000"/>
                </a:solidFill>
                <a:latin typeface="Corbel"/>
              </a:rPr>
              <a:t>УНИВЕРСАЛЬНЫХ </a:t>
            </a:r>
            <a:br>
              <a:rPr sz="4300"/>
            </a:br>
            <a:r>
              <a:rPr b="1" lang="ru-RU" sz="4300" spc="-1" strike="noStrike">
                <a:solidFill>
                  <a:srgbClr val="000000"/>
                </a:solidFill>
                <a:latin typeface="Corbel"/>
              </a:rPr>
              <a:t>УЧЕБНЫХ ДЕЙСТВИЙ </a:t>
            </a:r>
            <a:br>
              <a:rPr sz="4300"/>
            </a:br>
            <a:r>
              <a:rPr b="1" lang="ru-RU" sz="4300" spc="-1" strike="noStrike">
                <a:solidFill>
                  <a:srgbClr val="000000"/>
                </a:solidFill>
                <a:latin typeface="Corbel"/>
              </a:rPr>
              <a:t>НА УРОКАХ В НАЧАЛЬНОЙ ШКОЛЕ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                         </a:t>
            </a:r>
            <a:br>
              <a:rPr sz="39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WordArt 2"/>
          <p:cNvSpPr txBox="1"/>
          <p:nvPr/>
        </p:nvSpPr>
        <p:spPr>
          <a:xfrm>
            <a:off x="900000" y="990720"/>
            <a:ext cx="4464000" cy="25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Регулятив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универсаль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учеб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действ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</p:txBody>
      </p:sp>
      <p:sp>
        <p:nvSpPr>
          <p:cNvPr id="1634" name="Text Box 6"/>
          <p:cNvSpPr/>
          <p:nvPr/>
        </p:nvSpPr>
        <p:spPr>
          <a:xfrm>
            <a:off x="4284720" y="2276640"/>
            <a:ext cx="2895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5" name="Rectangle 11"/>
          <p:cNvSpPr/>
          <p:nvPr/>
        </p:nvSpPr>
        <p:spPr>
          <a:xfrm>
            <a:off x="5508720" y="692280"/>
            <a:ext cx="2519280" cy="914400"/>
          </a:xfrm>
          <a:prstGeom prst="rect">
            <a:avLst/>
          </a:prstGeom>
          <a:solidFill>
            <a:srgbClr val="e7e7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Целеполагание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6" name="Rectangle 12"/>
          <p:cNvSpPr/>
          <p:nvPr/>
        </p:nvSpPr>
        <p:spPr>
          <a:xfrm>
            <a:off x="5435640" y="2565360"/>
            <a:ext cx="2521080" cy="914400"/>
          </a:xfrm>
          <a:prstGeom prst="rect">
            <a:avLst/>
          </a:prstGeom>
          <a:solidFill>
            <a:srgbClr val="e7e7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Планирование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7" name="Rectangle 13"/>
          <p:cNvSpPr/>
          <p:nvPr/>
        </p:nvSpPr>
        <p:spPr>
          <a:xfrm>
            <a:off x="5435640" y="4724280"/>
            <a:ext cx="2736720" cy="914400"/>
          </a:xfrm>
          <a:prstGeom prst="rect">
            <a:avLst/>
          </a:prstGeom>
          <a:solidFill>
            <a:srgbClr val="e7e7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Контроль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8" name="Rectangle 14"/>
          <p:cNvSpPr/>
          <p:nvPr/>
        </p:nvSpPr>
        <p:spPr>
          <a:xfrm>
            <a:off x="3851280" y="3645000"/>
            <a:ext cx="2808360" cy="914400"/>
          </a:xfrm>
          <a:prstGeom prst="rect">
            <a:avLst/>
          </a:prstGeom>
          <a:solidFill>
            <a:srgbClr val="e7e7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Прогнозирование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9" name="Rectangle 15"/>
          <p:cNvSpPr/>
          <p:nvPr/>
        </p:nvSpPr>
        <p:spPr>
          <a:xfrm>
            <a:off x="2843280" y="5661000"/>
            <a:ext cx="2376360" cy="914400"/>
          </a:xfrm>
          <a:prstGeom prst="rect">
            <a:avLst/>
          </a:prstGeom>
          <a:solidFill>
            <a:srgbClr val="e7e7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Коррекция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0" name="Rectangle 16"/>
          <p:cNvSpPr/>
          <p:nvPr/>
        </p:nvSpPr>
        <p:spPr>
          <a:xfrm>
            <a:off x="1042920" y="3716280"/>
            <a:ext cx="2376720" cy="914400"/>
          </a:xfrm>
          <a:prstGeom prst="rect">
            <a:avLst/>
          </a:prstGeom>
          <a:solidFill>
            <a:srgbClr val="e7e7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Волевая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саморегуляция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1" name="Rectangle 17"/>
          <p:cNvSpPr/>
          <p:nvPr/>
        </p:nvSpPr>
        <p:spPr>
          <a:xfrm>
            <a:off x="179280" y="5661000"/>
            <a:ext cx="2160720" cy="936720"/>
          </a:xfrm>
          <a:prstGeom prst="rect">
            <a:avLst/>
          </a:prstGeom>
          <a:solidFill>
            <a:srgbClr val="e7e7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Оценк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Регулятивные действ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еспечивают возможность управления познавательной и учебной деятельностью посредством постановки целей, планирования, контроля, коррекции своих действий и оценки успешности усвоения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644" name="Picture 4" descr="bd19980_[1]"/>
          <p:cNvPicPr/>
          <p:nvPr/>
        </p:nvPicPr>
        <p:blipFill>
          <a:blip r:embed="rId1"/>
          <a:stretch/>
        </p:blipFill>
        <p:spPr>
          <a:xfrm>
            <a:off x="5181480" y="4533840"/>
            <a:ext cx="2438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c00000"/>
                </a:solidFill>
                <a:latin typeface="Corbel"/>
              </a:rPr>
              <a:t>Познавательные универсальные действия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4400" spc="-1" strike="noStrike">
                <a:solidFill>
                  <a:srgbClr val="c00000"/>
                </a:solidFill>
                <a:latin typeface="Corbel"/>
              </a:rPr>
              <a:t>включают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53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1" i="1" lang="ru-RU" sz="4400" spc="-1" strike="noStrike">
                <a:solidFill>
                  <a:srgbClr val="000000"/>
                </a:solidFill>
                <a:latin typeface="Corbel"/>
              </a:rPr>
              <a:t>общеучебные действия,</a:t>
            </a:r>
            <a:r>
              <a:rPr b="0" i="1" lang="ru-RU" sz="4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Corbel"/>
              </a:rPr>
              <a:t>(знаково-символические действия)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Corbel"/>
              </a:rPr>
              <a:t>логические действия, 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1" i="1" lang="ru-RU" sz="4400" spc="-1" strike="noStrike">
                <a:solidFill>
                  <a:srgbClr val="000000"/>
                </a:solidFill>
                <a:latin typeface="Corbel"/>
              </a:rPr>
              <a:t>действия постановки 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1" i="1" lang="ru-RU" sz="4400" spc="-1" strike="noStrike">
                <a:solidFill>
                  <a:srgbClr val="000000"/>
                </a:solidFill>
                <a:latin typeface="Corbel"/>
              </a:rPr>
              <a:t>и решения проблем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647" name="Picture 2" descr="http://images-partners.google.com/images?q=tbn:ANd9GcTkJMmJjvR7X6zRurDc5ezml9wT9czavvcdDaRmi-a2cECGDzCDHUxoXw:https://lh3.googleusercontent.com/-dw8CykoXMm4/TW5bffU_FgI/AAAAAAAAAHc/M63uI02LHBk/s72-c/school0322.jpg"/>
          <p:cNvPicPr/>
          <p:nvPr/>
        </p:nvPicPr>
        <p:blipFill>
          <a:blip r:embed="rId1"/>
          <a:stretch/>
        </p:blipFill>
        <p:spPr>
          <a:xfrm>
            <a:off x="7643880" y="5357880"/>
            <a:ext cx="122868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Коммуникативные действ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0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еспечивают возможности сотрудничества – умение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лышать, слушать и понимать партнера, планировать и согласованно выполнять совместную деятельность, распределять роли, взаимно контролировать действия друг друга, уметь договариваться, вести дискуссию, правильно выражать свои мысли в речи, уважать в общении и сотрудничества партнера и самого себя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650" name="Picture 4" descr="j0343363[1]"/>
          <p:cNvPicPr/>
          <p:nvPr/>
        </p:nvPicPr>
        <p:blipFill>
          <a:blip r:embed="rId1"/>
          <a:stretch/>
        </p:blipFill>
        <p:spPr>
          <a:xfrm>
            <a:off x="7467480" y="857160"/>
            <a:ext cx="167652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1" name="Picture 7" descr="db823433aae2"/>
          <p:cNvPicPr/>
          <p:nvPr/>
        </p:nvPicPr>
        <p:blipFill>
          <a:blip r:embed="rId1"/>
          <a:stretch/>
        </p:blipFill>
        <p:spPr>
          <a:xfrm>
            <a:off x="571680" y="6072120"/>
            <a:ext cx="8207280" cy="647640"/>
          </a:xfrm>
          <a:prstGeom prst="rect">
            <a:avLst/>
          </a:prstGeom>
          <a:ln w="0">
            <a:noFill/>
          </a:ln>
        </p:spPr>
      </p:pic>
      <p:sp>
        <p:nvSpPr>
          <p:cNvPr id="1652" name="Содержимое 2"/>
          <p:cNvSpPr/>
          <p:nvPr/>
        </p:nvSpPr>
        <p:spPr>
          <a:xfrm>
            <a:off x="1928880" y="1785960"/>
            <a:ext cx="5429160" cy="450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80000"/>
              </a:lnSpc>
              <a:spcBef>
                <a:spcPts val="700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654c"/>
                </a:solidFill>
                <a:latin typeface="Corbel"/>
                <a:ea typeface="Times New Roman"/>
              </a:rPr>
              <a:t>любознательный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  <a:ea typeface="Times New Roman"/>
              </a:rPr>
              <a:t>, активно и заинтересованно познающий мир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654c"/>
                </a:solidFill>
                <a:latin typeface="Corbel"/>
                <a:ea typeface="Times New Roman"/>
              </a:rPr>
              <a:t>владеющий</a:t>
            </a:r>
            <a:r>
              <a:rPr b="0" lang="ru-RU" sz="1600" spc="-1" strike="noStrike">
                <a:solidFill>
                  <a:srgbClr val="c0654c"/>
                </a:solidFill>
                <a:latin typeface="Corbe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  <a:ea typeface="Times New Roman"/>
              </a:rPr>
              <a:t>основами умения учиться, способный  к организации собственной деятельности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654c"/>
                </a:solidFill>
                <a:latin typeface="Corbel"/>
                <a:ea typeface="Times New Roman"/>
              </a:rPr>
              <a:t>любящий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  <a:ea typeface="Times New Roman"/>
              </a:rPr>
              <a:t> свой народ, свой край и свою Родину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654c"/>
                </a:solidFill>
                <a:latin typeface="Corbel"/>
                <a:ea typeface="Times New Roman"/>
              </a:rPr>
              <a:t>уважающий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  <a:ea typeface="Times New Roman"/>
              </a:rPr>
              <a:t> и принимающий ценности семьи и общества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654c"/>
                </a:solidFill>
                <a:latin typeface="Corbel"/>
                <a:ea typeface="Times New Roman"/>
              </a:rPr>
              <a:t>готовый</a:t>
            </a:r>
            <a:r>
              <a:rPr b="0" lang="ru-RU" sz="1600" spc="-1" strike="noStrike">
                <a:solidFill>
                  <a:srgbClr val="c0654c"/>
                </a:solidFill>
                <a:latin typeface="Corbe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  <a:ea typeface="Times New Roman"/>
              </a:rPr>
              <a:t>самостоятельно действовать и отвечать за свои поступки перед семьей и обществом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654c"/>
                </a:solidFill>
                <a:latin typeface="Corbel"/>
                <a:ea typeface="Times New Roman"/>
              </a:rPr>
              <a:t>доброжелательный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  <a:ea typeface="Times New Roman"/>
              </a:rPr>
              <a:t>, умеющий слушать и слышать собеседника, обосновывать  свою позицию, высказывать свое мнение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654c"/>
                </a:solidFill>
                <a:latin typeface="Corbel"/>
                <a:ea typeface="Times New Roman"/>
              </a:rPr>
              <a:t>выполняющий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  <a:ea typeface="Times New Roman"/>
              </a:rPr>
              <a:t> правила здорового и безопасного для себя и окружающих образа жизни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  <a:ea typeface="Times New Roman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  <a:ea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  <a:ea typeface="Times New Roman"/>
              </a:rPr>
              <a:t>(ФГОС НОО, стр.7, раздел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  <a:ea typeface="Times New Roman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3" name="Заголовок 1"/>
          <p:cNvSpPr/>
          <p:nvPr/>
        </p:nvSpPr>
        <p:spPr>
          <a:xfrm>
            <a:off x="1285920" y="500040"/>
            <a:ext cx="7286760" cy="9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r>
              <a:rPr b="1" lang="ru-RU" sz="3200" spc="-1" strike="noStrike">
                <a:solidFill>
                  <a:srgbClr val="c0654c"/>
                </a:solidFill>
                <a:latin typeface="Corbel"/>
                <a:ea typeface="Times New Roman"/>
              </a:rPr>
              <a:t>«Портрет выпускника начальной школы»</a:t>
            </a:r>
            <a:br>
              <a:rPr sz="3600"/>
            </a:br>
            <a:br>
              <a:rPr sz="1000"/>
            </a:b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54" name="Рисунок 4" descr="Копия j0435841.wmf"/>
          <p:cNvPicPr/>
          <p:nvPr/>
        </p:nvPicPr>
        <p:blipFill>
          <a:blip r:embed="rId2"/>
          <a:stretch/>
        </p:blipFill>
        <p:spPr>
          <a:xfrm rot="21423000">
            <a:off x="244440" y="2257200"/>
            <a:ext cx="1800360" cy="4020840"/>
          </a:xfrm>
          <a:prstGeom prst="rect">
            <a:avLst/>
          </a:prstGeom>
          <a:ln w="0">
            <a:noFill/>
          </a:ln>
        </p:spPr>
      </p:pic>
      <p:pic>
        <p:nvPicPr>
          <p:cNvPr id="1655" name="Рисунок 5" descr="Копия j0435773.wmf"/>
          <p:cNvPicPr/>
          <p:nvPr/>
        </p:nvPicPr>
        <p:blipFill>
          <a:blip r:embed="rId3"/>
          <a:stretch/>
        </p:blipFill>
        <p:spPr>
          <a:xfrm rot="206400">
            <a:off x="7489800" y="2828880"/>
            <a:ext cx="15541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5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9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/>
          </p:nvPr>
        </p:nvSpPr>
        <p:spPr>
          <a:xfrm>
            <a:off x="3581280" y="762120"/>
            <a:ext cx="51055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Формирование УУД – это надежный путь кардинального повышения качества образования.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657" name="Picture 3" descr="j0343343[1]"/>
          <p:cNvPicPr/>
          <p:nvPr/>
        </p:nvPicPr>
        <p:blipFill>
          <a:blip r:embed="rId1"/>
          <a:stretch/>
        </p:blipFill>
        <p:spPr>
          <a:xfrm>
            <a:off x="228600" y="1600200"/>
            <a:ext cx="377676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В чем заключается задача школы?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57200" y="292860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Формирование у каждого ребенка умения учитьСЯ – учить СЕБЯ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600" name="Picture 114" descr="053"/>
          <p:cNvPicPr/>
          <p:nvPr/>
        </p:nvPicPr>
        <p:blipFill>
          <a:blip r:embed="rId1"/>
          <a:stretch/>
        </p:blipFill>
        <p:spPr>
          <a:xfrm>
            <a:off x="5572080" y="4643280"/>
            <a:ext cx="2554200" cy="1513080"/>
          </a:xfrm>
          <a:prstGeom prst="rect">
            <a:avLst/>
          </a:prstGeom>
          <a:ln w="28440">
            <a:solidFill>
              <a:srgbClr val="ff9933"/>
            </a:solidFill>
            <a:miter/>
          </a:ln>
        </p:spPr>
      </p:pic>
      <p:pic>
        <p:nvPicPr>
          <p:cNvPr id="1601" name="Picture 2" descr="http://aleks-alschool2.edu.tomsk.ru/files/sslki_9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643200" y="1714680"/>
            <a:ext cx="2571840" cy="1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rbel"/>
              </a:rPr>
              <a:t>Учащийся – </a:t>
            </a:r>
            <a:r>
              <a:rPr b="1" lang="ru-RU" sz="5400" spc="-1" strike="noStrike">
                <a:solidFill>
                  <a:srgbClr val="000000"/>
                </a:solidFill>
                <a:latin typeface="Corbel"/>
              </a:rPr>
              <a:t>«архитектор и строитель» </a:t>
            </a:r>
            <a:r>
              <a:rPr b="0" lang="ru-RU" sz="5400" spc="-1" strike="noStrike">
                <a:solidFill>
                  <a:srgbClr val="000000"/>
                </a:solidFill>
                <a:latin typeface="Corbel"/>
              </a:rPr>
              <a:t>образовательного процесса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603" name="Picture 3" descr="j0355323[1]"/>
          <p:cNvPicPr/>
          <p:nvPr/>
        </p:nvPicPr>
        <p:blipFill>
          <a:blip r:embed="rId1"/>
          <a:stretch/>
        </p:blipFill>
        <p:spPr>
          <a:xfrm>
            <a:off x="609480" y="4038480"/>
            <a:ext cx="219888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Приоритетная </a:t>
            </a: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цель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 школьного образования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развитие у ученика способности самостоятельно ставить учебную задачу,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проектировать пути их реализации,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контролировать и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оценивать свои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достижения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606" name="Picture 2" descr="http://az999.ucoz.ru/314027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43720" y="4000680"/>
            <a:ext cx="155232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Как достичь эту цель?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08" name=""/>
          <p:cNvSpPr txBox="1"/>
          <p:nvPr/>
        </p:nvSpPr>
        <p:spPr>
          <a:xfrm>
            <a:off x="457200" y="210348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Благодаря системе формирования </a:t>
            </a:r>
            <a:r>
              <a:rPr b="1" i="1" lang="ru-RU" sz="4400" spc="-1" strike="noStrike">
                <a:solidFill>
                  <a:srgbClr val="ff0000"/>
                </a:solidFill>
                <a:latin typeface="Corbel"/>
              </a:rPr>
              <a:t>универсальных учебных действий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1142640" y="51264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Corbel"/>
              </a:rPr>
              <a:t>Универсальные учебные действия</a:t>
            </a:r>
            <a:endParaRPr b="0" lang="en-US" sz="3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10" name="Скругленный прямоугольник 4"/>
          <p:cNvSpPr/>
          <p:nvPr/>
        </p:nvSpPr>
        <p:spPr>
          <a:xfrm>
            <a:off x="1214280" y="2357280"/>
            <a:ext cx="3643560" cy="4000680"/>
          </a:xfrm>
          <a:custGeom>
            <a:avLst/>
            <a:gdLst>
              <a:gd name="textAreaLeft" fmla="*/ 177840 w 3643560"/>
              <a:gd name="textAreaRight" fmla="*/ 3465720 w 3643560"/>
              <a:gd name="textAreaTop" fmla="*/ 177840 h 4000680"/>
              <a:gd name="textAreaBottom" fmla="*/ 3822840 h 4000680"/>
            </a:gdLst>
            <a:ahLst/>
            <a:rect l="textAreaLeft" t="textAreaTop" r="textAreaRight" b="textAreaBottom"/>
            <a:pathLst>
              <a:path w="21600" h="23717">
                <a:moveTo>
                  <a:pt x="3600" y="0"/>
                </a:moveTo>
                <a:arcTo wR="3600" hR="3600" stAng="16200000" swAng="-5400000"/>
                <a:lnTo>
                  <a:pt x="0" y="20117"/>
                </a:lnTo>
                <a:arcTo wR="3600" hR="3600" stAng="10800000" swAng="-5400000"/>
                <a:lnTo>
                  <a:pt x="18000" y="237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Corbel"/>
              </a:rPr>
              <a:t>в широком значении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умение учиться, т.е. способность субъекта к саморазвитию и самосовершенствованию путем сознательного и активного присвоения нового социального опыт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1" name="Скругленный прямоугольник 5"/>
          <p:cNvSpPr/>
          <p:nvPr/>
        </p:nvSpPr>
        <p:spPr>
          <a:xfrm>
            <a:off x="1071720" y="500040"/>
            <a:ext cx="8001000" cy="928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2" name="Скругленный прямоугольник 6"/>
          <p:cNvSpPr/>
          <p:nvPr/>
        </p:nvSpPr>
        <p:spPr>
          <a:xfrm>
            <a:off x="5143680" y="2357280"/>
            <a:ext cx="3714480" cy="4000680"/>
          </a:xfrm>
          <a:custGeom>
            <a:avLst/>
            <a:gdLst>
              <a:gd name="textAreaLeft" fmla="*/ 181080 w 3714480"/>
              <a:gd name="textAreaRight" fmla="*/ 3533400 w 3714480"/>
              <a:gd name="textAreaTop" fmla="*/ 181080 h 4000680"/>
              <a:gd name="textAreaBottom" fmla="*/ 3819600 h 4000680"/>
            </a:gdLst>
            <a:ahLst/>
            <a:rect l="textAreaLeft" t="textAreaTop" r="textAreaRight" b="textAreaBottom"/>
            <a:pathLst>
              <a:path w="21600" h="23264">
                <a:moveTo>
                  <a:pt x="3600" y="0"/>
                </a:moveTo>
                <a:arcTo wR="3600" hR="3600" stAng="16200000" swAng="-5400000"/>
                <a:lnTo>
                  <a:pt x="0" y="19664"/>
                </a:lnTo>
                <a:arcTo wR="3600" hR="3600" stAng="10800000" swAng="-5400000"/>
                <a:lnTo>
                  <a:pt x="18000" y="23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Corbel"/>
              </a:rPr>
              <a:t>в узком значении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овокупность способов действия учащегося (а также связанных с ними навыков учебной работы), обеспечивающих его способность к самостоятельному усвоению новых знаний и умений, включая организацию этого процесс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3" name="Прямая соединительная линия 8"/>
          <p:cNvSpPr/>
          <p:nvPr/>
        </p:nvSpPr>
        <p:spPr>
          <a:xfrm flipH="1">
            <a:off x="3035160" y="1428840"/>
            <a:ext cx="2036880" cy="9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4" name="Прямая соединительная линия 9"/>
          <p:cNvSpPr/>
          <p:nvPr/>
        </p:nvSpPr>
        <p:spPr>
          <a:xfrm>
            <a:off x="5072040" y="1428840"/>
            <a:ext cx="1928880" cy="9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1285560" y="428760"/>
            <a:ext cx="771516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en-US" sz="39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1" lang="ru-RU" sz="3900" spc="-1" strike="noStrike">
                <a:solidFill>
                  <a:srgbClr val="000000"/>
                </a:solidFill>
                <a:latin typeface="Corbel"/>
              </a:rPr>
              <a:t>Функции универсальных</a:t>
            </a:r>
            <a:br>
              <a:rPr sz="3900"/>
            </a:br>
            <a:r>
              <a:rPr b="1" lang="ru-RU" sz="39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1" lang="en-US" sz="39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1" lang="ru-RU" sz="3900" spc="-1" strike="noStrike">
                <a:solidFill>
                  <a:srgbClr val="000000"/>
                </a:solidFill>
                <a:latin typeface="Corbel"/>
              </a:rPr>
              <a:t>учебных действий:</a:t>
            </a:r>
            <a:br>
              <a:rPr sz="39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ru-RU" sz="2400" spc="-1" strike="noStrike">
                <a:solidFill>
                  <a:srgbClr val="c0654c"/>
                </a:solidFill>
                <a:latin typeface="Corbel"/>
              </a:rPr>
              <a:t>обеспечение возможностей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бучающегося самостоятельно осуществлять деятельность учения, ставить учебные цели, искать и использовать необходимые средства и способы их достижения, контролировать и оценивать процесс и результаты деятельност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ru-RU" sz="2400" spc="-1" strike="noStrike">
                <a:solidFill>
                  <a:srgbClr val="00b0f0"/>
                </a:solidFill>
                <a:latin typeface="Corbel"/>
              </a:rPr>
              <a:t> </a:t>
            </a:r>
            <a:r>
              <a:rPr b="0" i="1" lang="ru-RU" sz="2400" spc="-1" strike="noStrike">
                <a:solidFill>
                  <a:srgbClr val="c0654c"/>
                </a:solidFill>
                <a:latin typeface="Corbel"/>
              </a:rPr>
              <a:t>создание условий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для гармоничного развития личности и её самореализации на основе готовности к непрерывному образованию;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0" i="1" lang="ru-RU" sz="2400" spc="-1" strike="noStrike">
                <a:solidFill>
                  <a:srgbClr val="922223"/>
                </a:solidFill>
                <a:latin typeface="Corbel"/>
              </a:rPr>
              <a:t>обеспечение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успешного усвоения знаний, формирования умений, навыков и компетентностей в любой предметной области.</a:t>
            </a:r>
            <a:br>
              <a:rPr sz="3900"/>
            </a:b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10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Овал 6"/>
          <p:cNvSpPr/>
          <p:nvPr/>
        </p:nvSpPr>
        <p:spPr>
          <a:xfrm>
            <a:off x="6084720" y="3284640"/>
            <a:ext cx="2857680" cy="1428480"/>
          </a:xfrm>
          <a:prstGeom prst="ellipse">
            <a:avLst/>
          </a:prstGeom>
          <a:solidFill>
            <a:srgbClr val="fed46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2071440" y="713880"/>
            <a:ext cx="614340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Corbel"/>
              </a:rPr>
              <a:t>Виды </a:t>
            </a:r>
            <a:br>
              <a:rPr sz="3900"/>
            </a:br>
            <a:r>
              <a:rPr b="1" lang="ru-RU" sz="3900" spc="-1" strike="noStrike">
                <a:solidFill>
                  <a:srgbClr val="000000"/>
                </a:solidFill>
                <a:latin typeface="Corbel"/>
              </a:rPr>
              <a:t>универсальных </a:t>
            </a:r>
            <a:br>
              <a:rPr sz="3900"/>
            </a:br>
            <a:r>
              <a:rPr b="1" lang="ru-RU" sz="3900" spc="-1" strike="noStrike">
                <a:solidFill>
                  <a:srgbClr val="000000"/>
                </a:solidFill>
                <a:latin typeface="Corbel"/>
              </a:rPr>
              <a:t>учебных действий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18" name="Овал 4"/>
          <p:cNvSpPr/>
          <p:nvPr/>
        </p:nvSpPr>
        <p:spPr>
          <a:xfrm>
            <a:off x="1571760" y="357120"/>
            <a:ext cx="6786360" cy="2168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9" name="Овал 5"/>
          <p:cNvSpPr/>
          <p:nvPr/>
        </p:nvSpPr>
        <p:spPr>
          <a:xfrm>
            <a:off x="1187280" y="3284640"/>
            <a:ext cx="2928960" cy="1428480"/>
          </a:xfrm>
          <a:prstGeom prst="ellipse">
            <a:avLst/>
          </a:prstGeom>
          <a:solidFill>
            <a:srgbClr val="a9d7e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0" name="Овал 7"/>
          <p:cNvSpPr/>
          <p:nvPr/>
        </p:nvSpPr>
        <p:spPr>
          <a:xfrm>
            <a:off x="2500200" y="4500720"/>
            <a:ext cx="2857680" cy="1428480"/>
          </a:xfrm>
          <a:prstGeom prst="ellipse">
            <a:avLst/>
          </a:prstGeom>
          <a:solidFill>
            <a:srgbClr val="e17b7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1" name="Овал 8"/>
          <p:cNvSpPr/>
          <p:nvPr/>
        </p:nvSpPr>
        <p:spPr>
          <a:xfrm>
            <a:off x="4716360" y="4508640"/>
            <a:ext cx="2857680" cy="1428480"/>
          </a:xfrm>
          <a:prstGeom prst="ellipse">
            <a:avLst/>
          </a:prstGeom>
          <a:solidFill>
            <a:srgbClr val="b9d77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2" name="Прямая соединительная линия 10"/>
          <p:cNvSpPr/>
          <p:nvPr/>
        </p:nvSpPr>
        <p:spPr>
          <a:xfrm flipH="1">
            <a:off x="3687840" y="2525760"/>
            <a:ext cx="1278000" cy="96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3" name="Прямая соединительная линия 12"/>
          <p:cNvSpPr/>
          <p:nvPr/>
        </p:nvSpPr>
        <p:spPr>
          <a:xfrm flipH="1">
            <a:off x="3929040" y="2525760"/>
            <a:ext cx="1036800" cy="1974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4" name="Прямая соединительная линия 13"/>
          <p:cNvSpPr/>
          <p:nvPr/>
        </p:nvSpPr>
        <p:spPr>
          <a:xfrm>
            <a:off x="4965840" y="2525760"/>
            <a:ext cx="1179360" cy="198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5" name="Прямая соединительная линия 14"/>
          <p:cNvSpPr/>
          <p:nvPr/>
        </p:nvSpPr>
        <p:spPr>
          <a:xfrm>
            <a:off x="4965840" y="2525760"/>
            <a:ext cx="1536480" cy="96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6" name="Прямоугольник 58"/>
          <p:cNvSpPr/>
          <p:nvPr/>
        </p:nvSpPr>
        <p:spPr>
          <a:xfrm>
            <a:off x="6064200" y="3789360"/>
            <a:ext cx="29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ОММУНИКАТИВНЫЕ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7" name="Прямоугольник 59"/>
          <p:cNvSpPr/>
          <p:nvPr/>
        </p:nvSpPr>
        <p:spPr>
          <a:xfrm>
            <a:off x="4936320" y="5084640"/>
            <a:ext cx="25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ЗНАВАТЕЛЬНЫЕ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8" name="Прямоугольник 60"/>
          <p:cNvSpPr/>
          <p:nvPr/>
        </p:nvSpPr>
        <p:spPr>
          <a:xfrm>
            <a:off x="2640240" y="5084640"/>
            <a:ext cx="21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РЕГУЛЯТИВНЫЕ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9" name="Прямоугольник 61"/>
          <p:cNvSpPr/>
          <p:nvPr/>
        </p:nvSpPr>
        <p:spPr>
          <a:xfrm>
            <a:off x="1632960" y="3789360"/>
            <a:ext cx="197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ЛИЧНОСТНЫЕ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ff0000"/>
                </a:solidFill>
                <a:latin typeface="Corbel"/>
              </a:rPr>
              <a:t>Личностные</a:t>
            </a:r>
            <a:r>
              <a:rPr b="1" i="1" lang="ru-RU" sz="4300" spc="-1" strike="noStrike">
                <a:solidFill>
                  <a:srgbClr val="feb80a"/>
                </a:solidFill>
                <a:latin typeface="Corbel"/>
              </a:rPr>
              <a:t> </a:t>
            </a:r>
            <a:r>
              <a:rPr b="1" i="1" lang="ru-RU" sz="4300" spc="-1" strike="noStrike">
                <a:solidFill>
                  <a:srgbClr val="ff0000"/>
                </a:solidFill>
                <a:latin typeface="Corbel"/>
              </a:rPr>
              <a:t>УУД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2" name="Rectangle 4"/>
          <p:cNvSpPr/>
          <p:nvPr/>
        </p:nvSpPr>
        <p:spPr>
          <a:xfrm>
            <a:off x="324000" y="1197000"/>
            <a:ext cx="8569080" cy="5400720"/>
          </a:xfrm>
          <a:prstGeom prst="rect">
            <a:avLst/>
          </a:prstGeom>
          <a:solidFill>
            <a:srgbClr val="eaccc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Gill Sans MT"/>
              </a:rPr>
              <a:t>обеспечивают ценностно-смысловую ориентацию учащихся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Gill Sans MT"/>
              </a:rPr>
              <a:t> </a:t>
            </a:r>
            <a:r>
              <a:rPr b="1" lang="ru-RU" sz="2000" spc="-1" strike="noStrike">
                <a:solidFill>
                  <a:srgbClr val="0d0d0d"/>
                </a:solidFill>
                <a:latin typeface="Gill Sans MT"/>
              </a:rPr>
              <a:t>и ориентацию в социальных ролях и межличностных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Gill Sans MT"/>
              </a:rPr>
              <a:t>отношениях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d0d0d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Gill Sans MT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Gill Sans MT"/>
              </a:rPr>
              <a:t>личностное</a:t>
            </a:r>
            <a:r>
              <a:rPr b="0" lang="ru-RU" sz="2800" spc="-1" strike="noStrike">
                <a:solidFill>
                  <a:srgbClr val="ff0000"/>
                </a:solidFill>
                <a:latin typeface="Gill Sans MT"/>
              </a:rPr>
              <a:t>, </a:t>
            </a:r>
            <a:r>
              <a:rPr b="0" lang="ru-RU" sz="2800" spc="-1" strike="noStrike">
                <a:solidFill>
                  <a:srgbClr val="0d0d0d"/>
                </a:solidFill>
                <a:latin typeface="Gill Sans MT"/>
              </a:rPr>
              <a:t>(профессиональное) жизненное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ill Sans MT"/>
              </a:rPr>
              <a:t>самоопределение</a:t>
            </a:r>
            <a:r>
              <a:rPr b="0" lang="ru-RU" sz="2800" spc="-1" strike="noStrike">
                <a:solidFill>
                  <a:srgbClr val="0d0d0d"/>
                </a:solidFill>
                <a:latin typeface="Gill Sans MT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ff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ill Sans MT"/>
              </a:rPr>
              <a:t>смыслообразование</a:t>
            </a:r>
            <a:r>
              <a:rPr b="0" lang="ru-RU" sz="2800" spc="-1" strike="noStrike">
                <a:solidFill>
                  <a:srgbClr val="0d0d0d"/>
                </a:solidFill>
                <a:latin typeface="Gill Sans MT"/>
              </a:rPr>
              <a:t>, т.е. установление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Gill Sans MT"/>
              </a:rPr>
              <a:t>учащимися связи между целью учебной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Gill Sans MT"/>
              </a:rPr>
              <a:t>деятельности и ее мотивом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d0d0d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Gill Sans MT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Gill Sans MT"/>
              </a:rPr>
              <a:t>нравственно-этическая ориентация</a:t>
            </a:r>
            <a:r>
              <a:rPr b="0" lang="ru-RU" sz="2800" spc="-1" strike="noStrike">
                <a:solidFill>
                  <a:srgbClr val="0d0d0d"/>
                </a:solidFill>
                <a:latin typeface="Gill Sans MT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Gill Sans MT"/>
              </a:rPr>
              <a:t>в том числе и оценивание усваиваемого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Gill Sans MT"/>
              </a:rPr>
              <a:t>содержания, обеспечивающее личностный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Gill Sans MT"/>
              </a:rPr>
              <a:t>моральный выбор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6T01:40:29Z</dcterms:created>
  <dc:creator>Ольга</dc:creator>
  <dc:description/>
  <dc:language>en-US</dc:language>
  <cp:lastModifiedBy>1</cp:lastModifiedBy>
  <dcterms:modified xsi:type="dcterms:W3CDTF">2015-01-16T03:56:35Z</dcterms:modified>
  <cp:revision>17</cp:revision>
  <dc:subject/>
  <dc:title>ФОРМИРОВАНИЕ  УНИВЕРСАЛЬНЫХ  УЧЕБНЫХ ДЕЙСТВИЙ  И ИХ МЕСТО  В ОБРАЗОВАТЕЛЬНОЙ ПРОГРАММЕ ШКОЛЫ                                               </dc:title>
</cp:coreProperties>
</file>