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14.wmf" ContentType="image/x-wmf"/>
  <Override PartName="/ppt/media/image5.jpeg" ContentType="image/jpeg"/>
  <Override PartName="/ppt/media/image1.png" ContentType="image/png"/>
  <Override PartName="/ppt/media/image9.jpeg" ContentType="image/jpeg"/>
  <Override PartName="/ppt/media/image3.png" ContentType="image/png"/>
  <Override PartName="/ppt/media/image7.jpeg" ContentType="image/jpeg"/>
  <Override PartName="/ppt/media/image2.png" ContentType="image/png"/>
  <Override PartName="/ppt/media/image10.wmf" ContentType="image/x-wmf"/>
  <Override PartName="/ppt/media/image4.jpeg" ContentType="image/jpeg"/>
  <Override PartName="/ppt/media/image11.png" ContentType="image/png"/>
  <Override PartName="/ppt/media/image6.wmf" ContentType="image/x-wmf"/>
  <Override PartName="/ppt/media/image8.wmf" ContentType="image/x-wmf"/>
  <Override PartName="/ppt/media/image13.wmf" ContentType="image/x-wmf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</p:sldMasterIdLst>
  <p:notesMasterIdLst>
    <p:notesMasterId r:id="rId37"/>
  </p:notes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  <p:sldId id="265" r:id="rId47"/>
    <p:sldId id="266" r:id="rId48"/>
    <p:sldId id="267" r:id="rId49"/>
    <p:sldId id="268" r:id="rId50"/>
    <p:sldId id="269" r:id="rId51"/>
    <p:sldId id="270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notesMaster" Target="notesMasters/notesMaster1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slide" Target="slides/slide10.xml"/><Relationship Id="rId48" Type="http://schemas.openxmlformats.org/officeDocument/2006/relationships/slide" Target="slides/slide11.xml"/><Relationship Id="rId49" Type="http://schemas.openxmlformats.org/officeDocument/2006/relationships/slide" Target="slides/slide12.xml"/><Relationship Id="rId50" Type="http://schemas.openxmlformats.org/officeDocument/2006/relationships/slide" Target="slides/slide13.xml"/><Relationship Id="rId51" Type="http://schemas.openxmlformats.org/officeDocument/2006/relationships/slide" Target="slides/slide14.xml"/><Relationship Id="rId52" Type="http://schemas.openxmlformats.org/officeDocument/2006/relationships/slide" Target="slides/slide15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 type="dt" idx="10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 type="ftr" idx="10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PlaceHolder 6"/>
          <p:cNvSpPr>
            <a:spLocks noGrp="1"/>
          </p:cNvSpPr>
          <p:nvPr>
            <p:ph type="sldNum" idx="10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B37D-8D1B-4AEE-BC10-E0DCE2E4D51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9F3C-2B10-481A-810C-B0ED7342D69D}" type="slidenum">
              <a:rPr b="0" lang="ru-RU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3736-EABE-4159-AC61-8EE432A04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95DA-EAB7-4B51-80CE-1ADBEBAC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39E02-BFD1-4792-B096-2B7B060F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F95E99-A146-4BAE-9055-AFFA75CE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3433AE-733C-40AA-AEF9-0C6B54E8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47D748-6209-4579-8C7A-1D3DA215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93BC79-AA15-4653-B559-A6F9F97D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B90B70-632A-478F-9DF6-D20BA8A3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32FA6C-60E5-430D-9239-6D0FDE28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6E407C-3B8C-45A4-87A9-3D3B8623D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02DA76-6F78-424F-81FD-D07D48E7E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25EF45-0AEF-4278-96B4-C661BDE64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4E10-690A-41BA-A881-B227D1BEE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CB2BF6-8B27-4756-85C0-2CE1494D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6CE6F3-44E4-4803-98CD-58169DC4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020FB6-C950-40CC-90F7-5B640DE2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8B1AF3-5393-47DD-93A4-EA318ED8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87BD04-87D9-45D2-8F68-F5DEE7E3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4BE2AC-DA64-4CAE-9937-4DD938D6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BD5293-94CD-45D2-BF46-D3849B20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0997B1-8B84-48F6-BD3F-7D69CD5A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150B89-B368-490D-9498-563E1C1C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9FAE72-9DFB-42D4-B6D0-7832167EF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AA22-00ED-4019-A0D3-AE83BCAAB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BAC696-F2DD-4B8A-8E18-18962FA84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04E07-AB45-4807-BB61-DACE1BFB3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925D2D-BB95-4405-AC3D-0F4091F6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34A61C-20AF-4AA8-8666-6C780CC0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47F579-7091-4D9C-ADFF-BA5409D2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95529-A9E7-442A-B542-1B6DFE11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F96BA9-F921-4514-9718-53474A99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56FE6-C413-4F76-AB83-34D9B845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6CA46E-190A-4FD3-89A3-FD6B8F8B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49386-C837-4A09-8687-C5530A51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351C7-5A9E-4F86-9301-4CA37A0DA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83855B-5BD3-4613-AC7A-5157C795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A54F7-6D64-4EF8-8FD3-933DEDE9E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48BFA-BB15-4495-A283-83A82BCD5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346B81-3039-442A-AD60-834F1A332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99788E-6900-491B-9A60-7FE88C5A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1FEBA6-261B-4B50-A6CD-502ACD3E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6AD3A6-0734-4DD6-A6D7-F330DCDA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68DFFE-F9E9-426B-A0DD-9C0CADB5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69FCEA-83E4-40AF-BBEF-7A9E07AA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1856A7-F695-462F-8CCC-B673076A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8D20-0B08-4E09-9E0B-BC4EEF0A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AF9B94-E8E7-4720-9F54-D5941605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3B8603-23C5-412A-B374-1E7A4D30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0B2926-48D3-42D5-B50B-B2F16D40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A3D759-3F9C-49D9-A79F-AEF395102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BFDA84-70A0-4E65-B129-5150DEC5E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759FAF-1ECE-4B6C-BA76-BFB038FA6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B9CBD1-E7F9-44BA-BC46-70D4B004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802D34-C958-4565-ABA1-7BD6CD54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B528AB-5787-44E0-B593-A12BB594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C4962C-8DC9-4FF1-AB4D-431E4840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CE17-D4F8-4A18-BC4D-0F88B539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2109A4-17F7-47EC-AF8F-E0B9987E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FE8052-8912-4CD2-A046-AF1D4191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E5CBC6-ACF2-4CAF-8DFE-2C03EC97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6E8F44-6EA2-4007-A0BD-5D61F8AD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0B2180-29BF-44DB-87EE-73BE6200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E8B9E8-703E-4C64-B05F-BF1735411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9694D4-1993-4935-9851-D9412CEDC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159FE8-634E-4408-957E-6F7DB0C27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A75B49-7DAC-4452-89B7-8AB959A9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5EC14A-8E19-4759-A54F-25937FA2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ED72-0790-4A53-9E90-2DEDF809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B6E93E-DFC3-4EC2-A83F-9CECEA3F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F13E76-2979-41A3-908D-1F166FDD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DED86C-5DE3-448A-8B1E-99E84786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1A1E7B-14E2-48B5-9899-A750AFBC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668DB7-6E3C-4B90-99DF-F8ABF135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F7664A-46DC-4A25-AFEA-D66C8DA6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4753B3-3A3F-4FAE-8669-5F2C15E3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B0FFED-B496-4400-872B-D3046CFA8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B38682-EE51-43BE-B62E-DDE0B4FA6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8C7337-BA25-48DB-B258-F9EA50DF3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E02E-49D4-48CF-BAC1-79C42CF5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6F648D-9022-4381-8D54-CC7D1E8A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C9FEDD-65B1-43CE-9A21-C594C284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F8901D-3B2B-4E1E-92D9-13D52F9B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406577-6033-4C75-A50C-102195FA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279DFE-31AB-4B4B-84EC-9A630F24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40592A-79ED-4BF8-87DC-BB435A30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75CE74-FB24-49A8-A692-2631F47D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951677-E91C-4871-97D2-481AF3B2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D49CD5-7FE5-4669-A394-D17D3D64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E67067-F9B4-4A80-90C1-560581A28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59D3-686E-4156-95BD-9A6F9841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0C44A7-2856-4A00-B713-1E8239027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09440E-D01F-4A76-A805-73B6A932E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7C782B-BF09-47CA-A415-8316EBDE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05C92E-310F-4214-99B2-34568053E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74C229-185A-4D09-9F79-CE3F6ECC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ED59F8-B247-4613-AD71-D9CEDB22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C50538-D5A0-41A6-A72A-3CD1A84A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594B06-B005-44EA-9BCE-D0F0997C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4EAA75-58E6-4EFA-893C-4D87FA0B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31E962-1B08-4ADB-A90D-C37DF9E7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E61E-BAAD-4C6B-8B6B-196AD2A5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7EF582-1B00-4886-A00C-2671D0B9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3524B7-B0D7-4736-851D-EC854BE87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FF8991-57AE-4ACE-AAF3-095B0E928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55638D-123F-4013-8A3D-80FD09576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07D60C-58B7-48AD-86D3-8E587BA1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554D97-7DF9-40D2-B718-5B0A186C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A5C505-5C8C-4067-BB8A-C215F10C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1F2731-1DCE-40C0-9C7C-E5D3F073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E5C412-EB4A-4C8F-894D-F0449E8E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29DF8B-3076-41F8-9190-C80AE411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9E57-408C-4A28-B071-2B901411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77FF-61EC-4935-ADE5-7FC64796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240402-B32F-44D5-9D34-58AA1907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F78A22-200A-4B63-B67B-969FD31F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2A79E5-7D50-4E25-AC5E-E078BF0E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05ABC4-2CEE-406A-886B-6EE2E133D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3399AE-CBE6-43C9-A712-7164C7E29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690147-D652-4C67-B5A8-00179DEAB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A3E15B-3A52-4B42-872C-2E46306D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4798B9-727B-4805-934A-BE6D0508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7A0458-8370-450E-9680-E6DB0AC7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5F968C-0750-4600-901D-49468D9F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51B5-3174-46D1-934A-24A25E7A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95A269-92BC-4EDC-A128-C505E4F1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75E237-3B1A-4E01-ACE6-C6463A08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C0D0E5-5B21-447A-B7BA-AA2EC043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2DAEF1-62E7-4A10-8B3A-84140EA0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BF5FD6-11FA-4204-908C-5DDB6355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492847-40D2-4071-9EDB-496DB2FE6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FEE831-4E7F-4BBC-8A64-47244C760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2047C5-8F86-454E-8AE1-E6EAAD6B6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D9DD5A-6F25-4DDC-A62A-4DE595D4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C59594-F7D5-4042-B55D-66B31EBD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11017-94D2-4FF0-A055-190F3F51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6B3D27-B5B5-47A0-803A-FA4ADA56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00880B-09C1-4D85-B3CF-9CF3A897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A2D44F-18E2-453B-AE35-3A0B214A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1F7E86-9B7C-4936-B41E-6690CC66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58FA1F-868C-48B6-A853-AB1F595B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117B99-64F9-4AF8-9761-3D7939BE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912AFD-2A21-4221-BFA1-5B94F2D0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14D29A-ED7C-479A-A0BE-CA87E45F5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FDEBE8-A7BC-4F78-BADC-F4206572F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76AFC1-8494-4C5E-9953-13AD5C8BF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E271-9EC1-4CAF-B67A-2B827E151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CDA062-C823-42B8-A054-6B4E98D4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106CF4-4E8F-4FF1-9294-9DFD4F81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3F4415-B9E6-4C19-9E3C-4789FDB9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3E19F2-3344-4827-A9D7-03A0ECFD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FD1516-E7E0-4BB6-87FA-65C65695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DAB460-B173-4A4D-8EDC-67B3915B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624FCC-A287-4E3C-9AC7-14641374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6E670F-67A7-44A9-842E-82387E91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E205CC-709C-4025-AA57-FEA1CBF9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5397CF-D767-4D8F-9AE0-2289A7786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8B59-D004-4C09-8D8A-CE1763CC2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7FEFAC-9903-411A-BE78-A914E4519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17B297-B9D7-4B17-929E-FD76C9688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FBCF65-47E1-40B2-8565-D3FDD172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B1390E-A763-4880-8047-E3AC6C04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90D2C9-7E22-4362-A505-56525A05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0CB97A-678B-419A-A6CD-6898C1B6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9E7021-D905-4D87-844D-2A64B39C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97B466-735F-4278-891C-AD3F5518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B5E9E0-D918-48B9-8784-880D8009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98079B-131D-4B37-B7D2-380CC8F6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0333C-7046-4173-938F-2EE9B0B63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6704E8-6669-48D6-B7D6-88F4C99D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BEA85A-B5AC-4D83-8AB7-9057A974F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2BFD27-71F1-4564-AD9E-F6AA6F58C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A9C8B0-74EE-4599-A467-62425D0A8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DD9B62-9BCB-41AE-8FD5-89046D12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3912EE-9F02-4ED3-9259-88355073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3FC75B-77FF-4471-A188-49C333B5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6ECA10-7320-4125-983C-EDEAA279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D40064-03CF-4043-9A68-90C7B7D7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BF12B6-69BF-4579-B485-CDF1C75D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9CF76-9DAD-43BC-AC15-FA682CB4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5ECB0A-05BE-487E-8EE9-BF20F815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81F2C8-A0CB-4847-A261-F52E54EA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D99B5E-5AA4-4387-87D8-377927EF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443EE4-4A1B-4BC8-9060-51AE2598A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34899B-DC19-4152-8681-941C03B3D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61FC90-1BD9-49A2-BA47-EE5D91527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331859-D656-4AB5-8C29-51242ABB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F549B7-BF99-462C-8DF8-153CADEB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67A7A3-EF3C-4F0F-AAD9-C7B1D3AB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3B0817-0F8B-4A33-B678-95A5D088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2F88D-2A77-4061-9E68-0F4EBA42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096CC5-A8FF-4822-9810-E2B8E85B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185BAD-6C87-4357-A689-7E2901AD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2DC2AC-7BBC-4BD7-BF9B-EEAC4EFF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008389-9F4B-4D10-9B21-6B16BE96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9AFE3E-D45F-4305-B60E-62DBD8F9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B84431-7CF6-4DAD-9B0F-31840ADCE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2A9983-BB24-424C-A03E-759FC3975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B2DC2D6-D043-4455-843E-2603D2517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405DC2-7675-4A99-9BE4-F7F353D18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0686D07-0BF9-45C5-BF55-8F0FBDF8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849D9-843C-4529-A371-AB696948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822BAC-5109-415B-B218-5A244BB3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45B875C-D31D-4099-B8E0-CD63A3AA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78D46E-B929-4571-A278-E8F5B9BD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8E3EC1F-89C0-43FD-A9FC-3A57A8B0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E3D763-D9F0-438B-8303-B93EF627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52216FD-6929-4889-A1F0-93F041EA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12101D-4874-44F2-8571-6AFCB349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0A4A55A-640D-471A-83BF-B2D682A91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404476-7D8D-4DB0-97BB-AD56C8B80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A2DB8B9-E1C9-4177-8F84-79C97FB3F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957D5-9DAB-4B1B-93A7-378440F9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FD1517D-C9ED-4770-BCEF-5AEBDABA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A7FAEF6-1962-490B-8E95-3E408DA6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902B7CB-EB9C-4B37-9D49-23B4AD95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59AB8E0-C366-4256-B952-B49C8A86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E0F5CBC-13D7-434B-9996-96C949FE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F1C0CE3-CFAA-454A-9FBF-DDDF509F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F847088-3BF9-4335-84FB-18E70E6E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4BF8C51-D7F9-45DD-A2B5-15BF6D99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6DE5428-FBF9-4D24-B2DA-A2666FC6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4B624D3-C56D-4936-A104-5808ACAD8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8CB2-7864-4B29-BB98-121D8228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C59FE-76A3-4A64-8A97-E06202B8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307898E-EBD8-4E8B-A6B9-821D82680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FC53E43-5D56-4EE2-B679-233A2CAA4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5B57619-CDA1-4A69-9F66-159C4E6B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220F94F-011C-4C03-A9FD-3B04ADEE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F2A48A6-7072-40A2-BBEA-A05EC1CB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2EE4856-C199-40B3-81BF-8D6BBB78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147B288-E357-4DBD-9F42-1267C7F4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06919CE-7B40-43EB-9585-D06D5028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BA49782-B3B8-4401-A27A-340A2E81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D5CC13B-D805-4536-A785-CBF0556E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56B4E-EE7E-429E-B217-4CE992A2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EF5E82D-28C0-4CC6-B3D4-12D77B94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A9D0166-E890-4979-9F18-B5F4B46AF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1605C40-7ABB-4E56-8D76-714D5AC6D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30CE302-CEAF-4395-B67E-971F0BF19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F9B169D-BD97-4435-B7AF-CFA6E465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C9A5D9B-50F9-4231-914C-06059FE0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A9A6E3E-4D67-48AE-9694-847EBB7C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50D4216-FED5-4D72-9980-A8ACC1E8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AD0242D-1DB5-420E-8809-88E8B324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9C5184F-F4E1-4F9A-BB8B-9DB1CE16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97B79-DDCF-4964-8DDC-97B55AD2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E8F6993-F423-46DF-9F22-AEEF0A8F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115388B-7B0E-4B9A-B462-023AF608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99BC59C-97FD-4180-8647-E6EBEDD5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70F3BB1-7ACB-41D5-9003-720438D32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8CB925C-0B91-4736-82C0-72EBFFE68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429C2C5-DAC4-44A4-8F2D-027108AAD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1F72608-5CD3-414B-9E7B-91B9A8AF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7BE80EE-A289-4A63-808D-22149753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6439813-EEC7-4C0F-B93A-86EF9A0B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0218C9A-ACE7-4F9D-BC6A-B19E6A79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A282E-22E0-4658-B542-D545186A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AEAE90F-72EE-4629-96E6-69CE1D45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55DA4D6-32AA-4BD2-A6E0-E70A753E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A06ADAA-F5DA-42A9-BBCE-EF479B62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7443171-6F25-4D21-8C12-C3438E11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0452335-B7CB-4EBB-B1E6-01191816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A2D5169-4C4A-4682-B952-7DE716DD5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AA8A403-1394-424B-80B3-29B46C723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03ADE3F-0751-4A97-86A2-C442FC53C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03B9EEE-5084-4AC3-B57E-A139F0B4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C6A0D18-32F5-4237-A941-0CAD4901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2E137-78AE-4100-8CFF-8CCF14F0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31F7A16-DFE8-4AB3-AD7F-08AFA458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CB4ADEC-8647-48AA-A275-FBCD8D21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A2BC1A7-CA69-4A85-9CE4-7AB4DCED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C4EAB33-67A3-4E1E-893A-3B7649F8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9D5E83E-5367-422A-8058-5444CD76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474E838-4F1B-48B1-8ED3-CC1CCBF7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DB8ADB0-B43A-4799-BE38-89866547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CAE315A-360C-47AD-B5C3-BF8005019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02F036D-FD4D-4520-BC4E-E7971F04F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9054B2B-1B9B-4F9A-8889-B40B6435E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F54FC-9694-4DE3-A30D-0EA7B8559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3CF0220-7D85-4F8D-A579-E480BB9B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6A4BC5F-2AAD-4884-AC8A-1CDB8234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D1A5E0B-EDC0-4383-A42B-D0663059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025C54E-1A0F-41DF-B63A-C5B91727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4E783CE-0710-449A-8D17-C637DBA9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D29BB8F-760B-4848-8116-2B55FA6A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50E553B-D8CE-436F-BE72-F47AA3C1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22BAF82-0809-43BC-B4B9-CC37A3D4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2608175-66B6-42E2-BA6A-A9EF9F18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DCEA1EF-0234-4D53-B209-627BDD619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D733E-DC90-4AF1-9EC7-8B9FAC6CD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E584B45-07AA-4707-BBB7-2CD6FAEED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FB49ABD-5D06-4865-99CA-52B6B13C5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2E63A69-81C5-4BFD-A59D-81B13896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21EE8EA-347E-4195-ACDA-4D3F5649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24E819E-E82D-4B12-A42C-201A53F5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288087D-6E38-44D1-87CD-CBAB773B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A03D1FD-0E7E-42B2-A8E2-9ADB5C8E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AFAF6C1-895C-4BE7-963C-03AD1FD3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1BBBB9C-C045-40DF-844A-ACAA5571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9271B0F-60C8-4C2A-8ED7-CB1CC156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2A4E1-55A5-46EE-9593-37464D000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AE46B2E-2840-4120-BE85-93614E66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D8CBFA1-A663-46E3-815D-308262917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F1C49EA-1F15-45DE-AC8A-65EFA0A70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32AD96F-05B6-4A39-A438-C81043F23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BDB8112-8A3D-4411-9013-06BC77A4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F21C953-14BE-4753-B363-09F873AC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60E2E84-01B7-4688-864B-475D698E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F1125A1-8261-4E83-916D-598B39F1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1EAB0B9-93D0-43AC-A007-EBDDAF7B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02DA30B-6E81-405E-B6C6-BBE399AD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4F325-1499-45C1-B9E5-31FD385B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5A4A064-695D-4E08-A466-A708E803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4C96BED-9F28-49ED-AE80-2CE7F8AE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B664858-00E5-462F-9ABB-69CBACCC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430C50A-75F2-4C2F-B9BD-C695AF238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3096A99-2A89-44AA-9AD0-FEE13C124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EBC4FCF-6FA5-4953-A990-58C72422F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550ADC2-B8A4-4BE7-9BA6-7390C454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4CEE0C5-A7A8-4B7E-80D6-821BCBDF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02C7B5A-3FC5-4F35-9F1B-2A1AD621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248E3B2-FB42-48A8-885A-B8A08DC5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64617-5635-4D62-AAF4-4E4046EC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A01637F-B2D6-4E6C-BC00-0A110708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065F674-D74F-4A62-B9ED-06207B8E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634F473-44AF-46FC-B69C-383822DB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08B1700-D238-4191-AA31-3EE7CD37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A41B13D-1067-4A98-A6F4-C961D3A5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0494416-7429-4254-960C-CEBAED888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874B748-AA13-421A-A22E-20976D8AA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47E2316-A25D-46DB-BDC0-09B214FF6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18DC0D9-BE4F-472F-AD63-C17E476C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0DE0361-B744-49A7-B0FF-FAEE2872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405B-86CD-41C7-AD0C-2C3E5B8E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8AE43-BF65-4527-8858-AD36F066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7A638EA-B1DE-462B-8904-2350B636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EB1EBD3-79D7-4649-BFE6-FEF62929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1F9A6F6-887A-43CB-BD5B-50C1EFFF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C42F0C9-DE3F-43CB-94CB-5FF13EEC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16995F3-FDC7-4016-B53A-6B19472E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91D057E-721C-4FF7-B2CE-51FF9BDE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69C3278-36A0-4226-B6BB-FE911A25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6A5B8B8-36CF-4981-9457-6016B0DF9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B1A3323-0149-4096-B5BE-1AD07CBFF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799160F-1C58-4EC6-A62A-F69CF783E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0E811-9875-4DAA-833D-55FC3091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3478707-39D3-42C9-AB0E-67A6CEF5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3FB7303-8890-4861-B3CE-1F01B7EB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496BB22-2187-400D-B9F8-3D8F6E94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BBE91CA-BB78-4E9A-A31C-6D2BDBA3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D99D13C-C588-4F3B-87E9-82E2A9BC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CB49AEB-9919-4538-B118-8F7B1556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8F56D8B-A721-40DA-9E73-B91465D6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EF8D256-8CEC-4EA6-B9A5-1694A0FE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8BE936B-5D1A-480A-BA0D-CDFF34AC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65A00C2-9F4F-4DDF-9CBF-4C05C9448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E73D2-FC0B-4671-A2D9-DA9F08A6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1A2CDDE-E895-4DF7-A093-63A05BA96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A0B11-69A1-4778-9B86-FA0FDCE3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0EF26-62D9-4557-9016-5B21CD66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AA8D7-BBF5-4C69-9C68-982E0599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B33DA-C0F5-42E5-8012-B4C20791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2D720-E75F-4C4E-B027-F77590FC4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88478-DEE2-4D84-ACB4-D468151A7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93E9C-DB97-4191-BD64-D8ADE4BF9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6F0C-C76E-4F17-803B-9E1EF52C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833A4-24E0-4594-81BB-82D84670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6FD22-ACEA-4AB1-BD8D-D38A26D3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0364D-82D5-4031-A295-11827B75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1C86B-22FF-4DEC-BCC6-B39F2020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36D08-7BA4-4313-88E9-06FFB625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B8DB5-C55E-418A-83B7-0C7D32BC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D9A45-74BF-41EE-B18B-788D224D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A8DC7-7D5B-42C4-B488-5F1DF873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E8CD4-3EC8-44C0-B49C-C6E86F9A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A7446-4D9C-4CCB-90C5-E88E494CE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488A-5818-4A65-86FA-FD5792EF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5529A-B493-4B87-B095-1231827B8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86C3B-6024-4B17-95F4-114741E12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49D50-3742-42D7-821D-871A255B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0F1E6-C96A-4C06-BDC1-CEC3B86B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50FF4-AF6C-4F4E-BEE1-4A09CE98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9BACA-C751-4430-9AF8-252E5026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9060B-FEED-48B8-9F5A-9201CF82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C7F67-9539-4B66-B933-F6548E04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3A5F2-E3B0-42B2-AB6C-5B4771DF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38253-215B-457C-AE76-D2DD9DFC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5B16-91B2-484A-BB59-FD0B9E5D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915EE-3C0F-4F5E-BDCB-0665A59A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07671-DECD-418B-9492-0ACF35196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A8776-5A90-44DB-A371-DD8890A61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89B45-DC20-4786-8AD5-A5108EA6A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F654B-9D5E-4AE4-90C6-51109876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48191-5A5E-4579-A110-58E9F235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9201D-B391-46CD-B921-D5146784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AEC1A-82A9-465E-9981-8E7925D0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12199-2835-40F2-9E08-86F7AFC7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D5D4C-65A0-4775-AE41-9BEAF1DE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3144-4890-44E3-98DC-8AF1B9AC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6142F-FFCB-4C4F-99CF-C41289AD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3D81A-F36B-485A-B3A1-0132DB26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2D7B9-8027-46E3-994F-E689D5C4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676FA-D9C0-4F54-ACB0-7A88201FC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0D195-9884-46AE-A125-2FCAE54C3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FABA6-0E6C-47BA-9392-8EFFBA8BF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3E064-E12E-485E-913C-E0B81033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09C25-A311-4650-8DCE-C912FB19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49816-28C6-4DA7-BEB4-7005E868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44541-ABB3-49DC-A140-5A394E28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D52F-5E64-440E-8A8E-208390A0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8DFEF-8D4F-4EEB-8AA1-C5E11E4F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4C759-CE95-46C4-9FE9-C2FFF746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F944B-2A60-4F23-B616-0F518845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EAC9E-EEC8-49F3-8D0E-7DBA3D59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5309C-94E9-4656-B295-B86E1E41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68BA1-0EEE-4052-B025-F1C9A19CD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41EFF-2544-4CD9-9300-0DE568AA4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B4B89D-0CBB-4491-A144-614114034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104E79-8011-4514-832E-BBDB1B0E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86216A-8704-431E-BB7C-A786A145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66D1-6DE7-4090-92F0-DDA9A0990A2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1E90-7E30-4952-8949-337DF48093F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465" name="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67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9D01-660C-4C41-9F92-4819057D839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1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3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1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17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18" name="Овал 12" descr=""/>
            <p:cNvPicPr/>
            <p:nvPr/>
          </p:nvPicPr>
          <p:blipFill>
            <a:blip r:embed="rId3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20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87F9-B428-45BB-BDAC-2F12232382A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3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64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565" name="Овал 15" descr=""/>
            <p:cNvPicPr/>
            <p:nvPr/>
          </p:nvPicPr>
          <p:blipFill>
            <a:blip r:embed="rId2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67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4CC4-BA19-4FAE-8963-E0A2518D379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44C6-A359-4DDD-97A2-87149E27A8E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1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4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4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4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9EA0-5E87-4F3B-979C-7C2CDC916CA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4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4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4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4078-EA62-4E3D-9EB2-97DCC6E921B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4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735" name="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737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8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dt" idx="4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 type="ftr" idx="5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 type="sldNum" idx="5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9D68-B246-4D20-B577-3A91EE72726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78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783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78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787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788" name="Овал 12" descr=""/>
            <p:cNvPicPr/>
            <p:nvPr/>
          </p:nvPicPr>
          <p:blipFill>
            <a:blip r:embed="rId3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790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dt" idx="5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ftr" idx="5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sldNum" idx="5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1D0C-0142-48B0-A379-6162683F375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3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834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835" name="Овал 15" descr=""/>
            <p:cNvPicPr/>
            <p:nvPr/>
          </p:nvPicPr>
          <p:blipFill>
            <a:blip r:embed="rId2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837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 type="dt" idx="5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 type="ftr" idx="5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 type="sldNum" idx="5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F8D1-A94B-4564-999B-79960D22326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DFB0-0664-4282-916D-37EF45B3947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 type="dt" idx="5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 type="ftr" idx="5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 type="sldNum" idx="6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C6D2-52DF-488C-9BED-25489881D23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1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6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6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6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EDC3-1526-4993-94EF-6B8256D5FC8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dt" idx="6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 type="ftr" idx="6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 type="sldNum" idx="6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A6DD-C5E7-4FF7-9ED3-B6498429287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4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1005" name="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07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8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 type="dt" idx="6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 type="ftr" idx="6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 type="sldNum" idx="6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393C-4D81-4616-8B5E-2D22B87C7ED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5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53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57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1058" name="Овал 12" descr=""/>
            <p:cNvPicPr/>
            <p:nvPr/>
          </p:nvPicPr>
          <p:blipFill>
            <a:blip r:embed="rId3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9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60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 type="dt" idx="7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 type="ftr" idx="7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 type="sldNum" idx="7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9897-B9E9-41DA-960C-1D391E96652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3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104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105" name="Овал 15" descr=""/>
            <p:cNvPicPr/>
            <p:nvPr/>
          </p:nvPicPr>
          <p:blipFill>
            <a:blip r:embed="rId2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6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107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 type="dt" idx="7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 type="ftr" idx="7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 type="sldNum" idx="7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43CB-2C05-4F58-980B-90163D49A7B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 type="dt" idx="7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 type="ftr" idx="7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3" name="PlaceHolder 5"/>
          <p:cNvSpPr>
            <a:spLocks noGrp="1"/>
          </p:cNvSpPr>
          <p:nvPr>
            <p:ph type="sldNum" idx="7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E2ED-10CB-4897-9239-B11E738943F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1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 type="dt" idx="7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 type="ftr" idx="8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 type="sldNum" idx="8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4965-36E9-4E92-8837-646E0568220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 type="dt" idx="8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 type="ftr" idx="8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 type="sldNum" idx="8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96C9-6F07-4944-B56F-E2094C1E2F5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4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1275" name="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6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277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8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 type="dt" idx="8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 type="ftr" idx="8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 type="sldNum" idx="8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7541-0977-49E2-9E44-6697955D43C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98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99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1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BE46-B1C2-46C3-B66C-1D3A1134986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32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323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32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327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1328" name="Овал 12" descr=""/>
            <p:cNvPicPr/>
            <p:nvPr/>
          </p:nvPicPr>
          <p:blipFill>
            <a:blip r:embed="rId3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9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330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 type="dt" idx="8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 type="ftr" idx="8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5" name="PlaceHolder 5"/>
          <p:cNvSpPr>
            <a:spLocks noGrp="1"/>
          </p:cNvSpPr>
          <p:nvPr>
            <p:ph type="sldNum" idx="9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E636-61C2-47E0-94E7-CA78B38019C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3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374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375" name="Овал 15" descr=""/>
            <p:cNvPicPr/>
            <p:nvPr/>
          </p:nvPicPr>
          <p:blipFill>
            <a:blip r:embed="rId2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377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 type="dt" idx="9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 type="ftr" idx="9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2" name="PlaceHolder 5"/>
          <p:cNvSpPr>
            <a:spLocks noGrp="1"/>
          </p:cNvSpPr>
          <p:nvPr>
            <p:ph type="sldNum" idx="9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A9BF-26F9-4F7C-8B11-4751AE250E8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 type="dt" idx="9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 type="ftr" idx="9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 type="sldNum" idx="9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3794-D7E8-4D82-B893-D1E9778B37A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1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 type="dt" idx="9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 type="ftr" idx="9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6" name="PlaceHolder 5"/>
          <p:cNvSpPr>
            <a:spLocks noGrp="1"/>
          </p:cNvSpPr>
          <p:nvPr>
            <p:ph type="sldNum" idx="9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5121-1338-47DD-A0FE-B814A321811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 type="dt" idx="10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 type="ftr" idx="10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7" name="PlaceHolder 5"/>
          <p:cNvSpPr>
            <a:spLocks noGrp="1"/>
          </p:cNvSpPr>
          <p:nvPr>
            <p:ph type="sldNum" idx="10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DD86-0F23-4BEE-9AD9-63A5C04DC36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4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1545" name="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6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547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8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 type="dt" idx="10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 type="ftr" idx="10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 type="sldNum" idx="10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A525-5920-485A-ADE8-68783154233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4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47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4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E78C-7E20-4CD5-9092-2693163E6AF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94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95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97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CB5A-82B5-401F-9B6D-11094F41F3F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4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43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4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47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248" name="Овал 12" descr=""/>
            <p:cNvPicPr/>
            <p:nvPr/>
          </p:nvPicPr>
          <p:blipFill>
            <a:blip r:embed="rId3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50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48F5-7FB9-44EC-9D25-C421A8A5042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94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295" name="Овал 15" descr=""/>
            <p:cNvPicPr/>
            <p:nvPr/>
          </p:nvPicPr>
          <p:blipFill>
            <a:blip r:embed="rId2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97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521B-9E1F-45A3-8DA6-47B40234170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E26B-61B0-4212-A453-83C0AB204FA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5B5D-5E31-4DEF-B0D1-AD6DB09AE2E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aleks-alschool2.edu.tomsk.ru/?ur=1006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z999.ucoz.ru/load/fgos_noo/32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999720" y="1785600"/>
            <a:ext cx="79297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Corbel"/>
              </a:rPr>
              <a:t>ФОРМИРОВАНИЕ </a:t>
            </a:r>
            <a:br>
              <a:rPr sz="4300"/>
            </a:br>
            <a:r>
              <a:rPr b="1" lang="ru-RU" sz="4300" spc="-1" strike="noStrike">
                <a:solidFill>
                  <a:srgbClr val="000000"/>
                </a:solidFill>
                <a:latin typeface="Corbel"/>
              </a:rPr>
              <a:t>УНИВЕРСАЛЬНЫХ </a:t>
            </a:r>
            <a:br>
              <a:rPr sz="4300"/>
            </a:br>
            <a:r>
              <a:rPr b="1" lang="ru-RU" sz="4300" spc="-1" strike="noStrike">
                <a:solidFill>
                  <a:srgbClr val="000000"/>
                </a:solidFill>
                <a:latin typeface="Corbel"/>
              </a:rPr>
              <a:t>УЧЕБНЫХ ДЕЙСТВИЙ </a:t>
            </a:r>
            <a:br>
              <a:rPr sz="4300"/>
            </a:br>
            <a:r>
              <a:rPr b="1" lang="ru-RU" sz="4300" spc="-1" strike="noStrike">
                <a:solidFill>
                  <a:srgbClr val="000000"/>
                </a:solidFill>
                <a:latin typeface="Corbel"/>
              </a:rPr>
              <a:t>НА УРОКАХ В НАЧАЛЬНОЙ ШКОЛЕ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                         </a:t>
            </a:r>
            <a:br>
              <a:rPr sz="39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WordArt 2"/>
          <p:cNvSpPr txBox="1"/>
          <p:nvPr/>
        </p:nvSpPr>
        <p:spPr>
          <a:xfrm>
            <a:off x="900000" y="990720"/>
            <a:ext cx="4464000" cy="25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Регулятив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универсаль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учеб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действ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</p:txBody>
      </p:sp>
      <p:sp>
        <p:nvSpPr>
          <p:cNvPr id="1634" name="Text Box 6"/>
          <p:cNvSpPr/>
          <p:nvPr/>
        </p:nvSpPr>
        <p:spPr>
          <a:xfrm>
            <a:off x="4284720" y="2276640"/>
            <a:ext cx="2895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5" name="Rectangle 11"/>
          <p:cNvSpPr/>
          <p:nvPr/>
        </p:nvSpPr>
        <p:spPr>
          <a:xfrm>
            <a:off x="5508720" y="692280"/>
            <a:ext cx="2519280" cy="914400"/>
          </a:xfrm>
          <a:prstGeom prst="rect">
            <a:avLst/>
          </a:prstGeom>
          <a:solidFill>
            <a:srgbClr val="e7e7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Целеполагание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6" name="Rectangle 12"/>
          <p:cNvSpPr/>
          <p:nvPr/>
        </p:nvSpPr>
        <p:spPr>
          <a:xfrm>
            <a:off x="5435640" y="2565360"/>
            <a:ext cx="2521080" cy="914400"/>
          </a:xfrm>
          <a:prstGeom prst="rect">
            <a:avLst/>
          </a:prstGeom>
          <a:solidFill>
            <a:srgbClr val="e7e7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Планирование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7" name="Rectangle 13"/>
          <p:cNvSpPr/>
          <p:nvPr/>
        </p:nvSpPr>
        <p:spPr>
          <a:xfrm>
            <a:off x="5435640" y="4724280"/>
            <a:ext cx="2736720" cy="914400"/>
          </a:xfrm>
          <a:prstGeom prst="rect">
            <a:avLst/>
          </a:prstGeom>
          <a:solidFill>
            <a:srgbClr val="e7e7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Контроль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8" name="Rectangle 14"/>
          <p:cNvSpPr/>
          <p:nvPr/>
        </p:nvSpPr>
        <p:spPr>
          <a:xfrm>
            <a:off x="3851280" y="3645000"/>
            <a:ext cx="2808360" cy="914400"/>
          </a:xfrm>
          <a:prstGeom prst="rect">
            <a:avLst/>
          </a:prstGeom>
          <a:solidFill>
            <a:srgbClr val="e7e7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Прогнозирование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9" name="Rectangle 15"/>
          <p:cNvSpPr/>
          <p:nvPr/>
        </p:nvSpPr>
        <p:spPr>
          <a:xfrm>
            <a:off x="2843280" y="5661000"/>
            <a:ext cx="2376360" cy="914400"/>
          </a:xfrm>
          <a:prstGeom prst="rect">
            <a:avLst/>
          </a:prstGeom>
          <a:solidFill>
            <a:srgbClr val="e7e7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Коррекция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0" name="Rectangle 16"/>
          <p:cNvSpPr/>
          <p:nvPr/>
        </p:nvSpPr>
        <p:spPr>
          <a:xfrm>
            <a:off x="1042920" y="3716280"/>
            <a:ext cx="2376720" cy="914400"/>
          </a:xfrm>
          <a:prstGeom prst="rect">
            <a:avLst/>
          </a:prstGeom>
          <a:solidFill>
            <a:srgbClr val="e7e7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Волевая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саморегуляция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1" name="Rectangle 17"/>
          <p:cNvSpPr/>
          <p:nvPr/>
        </p:nvSpPr>
        <p:spPr>
          <a:xfrm>
            <a:off x="179280" y="5661000"/>
            <a:ext cx="2160720" cy="936720"/>
          </a:xfrm>
          <a:prstGeom prst="rect">
            <a:avLst/>
          </a:prstGeom>
          <a:solidFill>
            <a:srgbClr val="e7e7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Оценк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Регулятивные действ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еспечивают возможность управления познавательной и учебной деятельностью посредством постановки целей, планирования, контроля, коррекции своих действий и оценки успешности усвоения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644" name="Picture 4" descr="bd19980_[1]"/>
          <p:cNvPicPr/>
          <p:nvPr/>
        </p:nvPicPr>
        <p:blipFill>
          <a:blip r:embed="rId1"/>
          <a:stretch/>
        </p:blipFill>
        <p:spPr>
          <a:xfrm>
            <a:off x="5181480" y="4533840"/>
            <a:ext cx="2438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c00000"/>
                </a:solidFill>
                <a:latin typeface="Corbel"/>
              </a:rPr>
              <a:t>Познавательные универсальные действия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4400" spc="-1" strike="noStrike">
                <a:solidFill>
                  <a:srgbClr val="c00000"/>
                </a:solidFill>
                <a:latin typeface="Corbel"/>
              </a:rPr>
              <a:t>включают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53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1" i="1" lang="ru-RU" sz="4400" spc="-1" strike="noStrike">
                <a:solidFill>
                  <a:srgbClr val="000000"/>
                </a:solidFill>
                <a:latin typeface="Corbel"/>
              </a:rPr>
              <a:t>общеучебные действия,</a:t>
            </a:r>
            <a:r>
              <a:rPr b="0" i="1" lang="ru-RU" sz="4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Corbel"/>
              </a:rPr>
              <a:t>(знаково-символические действия)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Corbel"/>
              </a:rPr>
              <a:t>логические действия, 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1" i="1" lang="ru-RU" sz="4400" spc="-1" strike="noStrike">
                <a:solidFill>
                  <a:srgbClr val="000000"/>
                </a:solidFill>
                <a:latin typeface="Corbel"/>
              </a:rPr>
              <a:t>действия постановки 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1" i="1" lang="ru-RU" sz="4400" spc="-1" strike="noStrike">
                <a:solidFill>
                  <a:srgbClr val="000000"/>
                </a:solidFill>
                <a:latin typeface="Corbel"/>
              </a:rPr>
              <a:t>и решения проблем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647" name="Picture 2" descr="http://images-partners.google.com/images?q=tbn:ANd9GcTkJMmJjvR7X6zRurDc5ezml9wT9czavvcdDaRmi-a2cECGDzCDHUxoXw:https://lh3.googleusercontent.com/-dw8CykoXMm4/TW5bffU_FgI/AAAAAAAAAHc/M63uI02LHBk/s72-c/school0322.jpg"/>
          <p:cNvPicPr/>
          <p:nvPr/>
        </p:nvPicPr>
        <p:blipFill>
          <a:blip r:embed="rId1"/>
          <a:stretch/>
        </p:blipFill>
        <p:spPr>
          <a:xfrm>
            <a:off x="7643880" y="5357880"/>
            <a:ext cx="122868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Коммуникативные действ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0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еспечивают возможности сотрудничества – умение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лышать, слушать и понимать партнера, планировать и согласованно выполнять совместную деятельность, распределять роли, взаимно контролировать действия друг друга, уметь договариваться, вести дискуссию, правильно выражать свои мысли в речи, уважать в общении и сотрудничества партнера и самого себя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650" name="Picture 4" descr="j0343363[1]"/>
          <p:cNvPicPr/>
          <p:nvPr/>
        </p:nvPicPr>
        <p:blipFill>
          <a:blip r:embed="rId1"/>
          <a:stretch/>
        </p:blipFill>
        <p:spPr>
          <a:xfrm>
            <a:off x="7467480" y="857160"/>
            <a:ext cx="167652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1" name="Picture 7" descr="db823433aae2"/>
          <p:cNvPicPr/>
          <p:nvPr/>
        </p:nvPicPr>
        <p:blipFill>
          <a:blip r:embed="rId1"/>
          <a:stretch/>
        </p:blipFill>
        <p:spPr>
          <a:xfrm>
            <a:off x="571680" y="6072120"/>
            <a:ext cx="8207280" cy="647640"/>
          </a:xfrm>
          <a:prstGeom prst="rect">
            <a:avLst/>
          </a:prstGeom>
          <a:ln w="0">
            <a:noFill/>
          </a:ln>
        </p:spPr>
      </p:pic>
      <p:sp>
        <p:nvSpPr>
          <p:cNvPr id="1652" name="Содержимое 2"/>
          <p:cNvSpPr/>
          <p:nvPr/>
        </p:nvSpPr>
        <p:spPr>
          <a:xfrm>
            <a:off x="1928880" y="1785960"/>
            <a:ext cx="5429160" cy="450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80000"/>
              </a:lnSpc>
              <a:spcBef>
                <a:spcPts val="700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654c"/>
                </a:solidFill>
                <a:latin typeface="Corbel"/>
                <a:ea typeface="Times New Roman"/>
              </a:rPr>
              <a:t>любознательный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  <a:ea typeface="Times New Roman"/>
              </a:rPr>
              <a:t>, активно и заинтересованно познающий мир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654c"/>
                </a:solidFill>
                <a:latin typeface="Corbel"/>
                <a:ea typeface="Times New Roman"/>
              </a:rPr>
              <a:t>владеющий</a:t>
            </a:r>
            <a:r>
              <a:rPr b="0" lang="ru-RU" sz="1600" spc="-1" strike="noStrike">
                <a:solidFill>
                  <a:srgbClr val="c0654c"/>
                </a:solidFill>
                <a:latin typeface="Corbe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  <a:ea typeface="Times New Roman"/>
              </a:rPr>
              <a:t>основами умения учиться, способный  к организации собственной деятельности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654c"/>
                </a:solidFill>
                <a:latin typeface="Corbel"/>
                <a:ea typeface="Times New Roman"/>
              </a:rPr>
              <a:t>любящий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  <a:ea typeface="Times New Roman"/>
              </a:rPr>
              <a:t> свой народ, свой край и свою Родину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654c"/>
                </a:solidFill>
                <a:latin typeface="Corbel"/>
                <a:ea typeface="Times New Roman"/>
              </a:rPr>
              <a:t>уважающий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  <a:ea typeface="Times New Roman"/>
              </a:rPr>
              <a:t> и принимающий ценности семьи и общества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654c"/>
                </a:solidFill>
                <a:latin typeface="Corbel"/>
                <a:ea typeface="Times New Roman"/>
              </a:rPr>
              <a:t>готовый</a:t>
            </a:r>
            <a:r>
              <a:rPr b="0" lang="ru-RU" sz="1600" spc="-1" strike="noStrike">
                <a:solidFill>
                  <a:srgbClr val="c0654c"/>
                </a:solidFill>
                <a:latin typeface="Corbe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  <a:ea typeface="Times New Roman"/>
              </a:rPr>
              <a:t>самостоятельно действовать и отвечать за свои поступки перед семьей и обществом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654c"/>
                </a:solidFill>
                <a:latin typeface="Corbel"/>
                <a:ea typeface="Times New Roman"/>
              </a:rPr>
              <a:t>доброжелательный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  <a:ea typeface="Times New Roman"/>
              </a:rPr>
              <a:t>, умеющий слушать и слышать собеседника, обосновывать  свою позицию, высказывать свое мнение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654c"/>
                </a:solidFill>
                <a:latin typeface="Corbel"/>
                <a:ea typeface="Times New Roman"/>
              </a:rPr>
              <a:t>выполняющий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  <a:ea typeface="Times New Roman"/>
              </a:rPr>
              <a:t> правила здорового и безопасного для себя и окружающих образа жизни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  <a:ea typeface="Times New Roman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  <a:ea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  <a:ea typeface="Times New Roman"/>
              </a:rPr>
              <a:t>(ФГОС НОО, стр.7, раздел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  <a:ea typeface="Times New Roman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3" name="Заголовок 1"/>
          <p:cNvSpPr/>
          <p:nvPr/>
        </p:nvSpPr>
        <p:spPr>
          <a:xfrm>
            <a:off x="1285920" y="500040"/>
            <a:ext cx="7286760" cy="9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r>
              <a:rPr b="1" lang="ru-RU" sz="3200" spc="-1" strike="noStrike">
                <a:solidFill>
                  <a:srgbClr val="c0654c"/>
                </a:solidFill>
                <a:latin typeface="Corbel"/>
                <a:ea typeface="Times New Roman"/>
              </a:rPr>
              <a:t>«Портрет выпускника начальной школы»</a:t>
            </a:r>
            <a:br>
              <a:rPr sz="3600"/>
            </a:br>
            <a:br>
              <a:rPr sz="1000"/>
            </a:b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54" name="Рисунок 4" descr="Копия j0435841.wmf"/>
          <p:cNvPicPr/>
          <p:nvPr/>
        </p:nvPicPr>
        <p:blipFill>
          <a:blip r:embed="rId2"/>
          <a:stretch/>
        </p:blipFill>
        <p:spPr>
          <a:xfrm rot="21423000">
            <a:off x="244440" y="2257200"/>
            <a:ext cx="1800360" cy="4020840"/>
          </a:xfrm>
          <a:prstGeom prst="rect">
            <a:avLst/>
          </a:prstGeom>
          <a:ln w="0">
            <a:noFill/>
          </a:ln>
        </p:spPr>
      </p:pic>
      <p:pic>
        <p:nvPicPr>
          <p:cNvPr id="1655" name="Рисунок 5" descr="Копия j0435773.wmf"/>
          <p:cNvPicPr/>
          <p:nvPr/>
        </p:nvPicPr>
        <p:blipFill>
          <a:blip r:embed="rId3"/>
          <a:stretch/>
        </p:blipFill>
        <p:spPr>
          <a:xfrm rot="206400">
            <a:off x="7489800" y="2828880"/>
            <a:ext cx="15541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5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9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/>
          </p:nvPr>
        </p:nvSpPr>
        <p:spPr>
          <a:xfrm>
            <a:off x="3581280" y="762120"/>
            <a:ext cx="51055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Формирование УУД – это надежный путь кардинального повышения качества образования.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657" name="Picture 3" descr="j0343343[1]"/>
          <p:cNvPicPr/>
          <p:nvPr/>
        </p:nvPicPr>
        <p:blipFill>
          <a:blip r:embed="rId1"/>
          <a:stretch/>
        </p:blipFill>
        <p:spPr>
          <a:xfrm>
            <a:off x="228600" y="1600200"/>
            <a:ext cx="377676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В чем заключается задача школы?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57200" y="292860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Формирование у каждого ребенка умения учитьСЯ – учить СЕБЯ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600" name="Picture 114" descr="053"/>
          <p:cNvPicPr/>
          <p:nvPr/>
        </p:nvPicPr>
        <p:blipFill>
          <a:blip r:embed="rId1"/>
          <a:stretch/>
        </p:blipFill>
        <p:spPr>
          <a:xfrm>
            <a:off x="5572080" y="4643280"/>
            <a:ext cx="2554200" cy="1513080"/>
          </a:xfrm>
          <a:prstGeom prst="rect">
            <a:avLst/>
          </a:prstGeom>
          <a:ln w="28440">
            <a:solidFill>
              <a:srgbClr val="ff9933"/>
            </a:solidFill>
            <a:miter/>
          </a:ln>
        </p:spPr>
      </p:pic>
      <p:pic>
        <p:nvPicPr>
          <p:cNvPr id="1601" name="Picture 2" descr="http://aleks-alschool2.edu.tomsk.ru/files/sslki_9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643200" y="1714680"/>
            <a:ext cx="2571840" cy="1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rbel"/>
              </a:rPr>
              <a:t>Учащийся – </a:t>
            </a:r>
            <a:r>
              <a:rPr b="1" lang="ru-RU" sz="5400" spc="-1" strike="noStrike">
                <a:solidFill>
                  <a:srgbClr val="000000"/>
                </a:solidFill>
                <a:latin typeface="Corbel"/>
              </a:rPr>
              <a:t>«архитектор и строитель» </a:t>
            </a:r>
            <a:r>
              <a:rPr b="0" lang="ru-RU" sz="5400" spc="-1" strike="noStrike">
                <a:solidFill>
                  <a:srgbClr val="000000"/>
                </a:solidFill>
                <a:latin typeface="Corbel"/>
              </a:rPr>
              <a:t>образовательного процесса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603" name="Picture 3" descr="j0355323[1]"/>
          <p:cNvPicPr/>
          <p:nvPr/>
        </p:nvPicPr>
        <p:blipFill>
          <a:blip r:embed="rId1"/>
          <a:stretch/>
        </p:blipFill>
        <p:spPr>
          <a:xfrm>
            <a:off x="609480" y="4038480"/>
            <a:ext cx="219888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Приоритетная </a:t>
            </a: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цель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 школьного образования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развитие у ученика способности самостоятельно ставить учебную задачу,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проектировать пути их реализации,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контролировать и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оценивать свои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достижения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606" name="Picture 2" descr="http://az999.ucoz.ru/314027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43720" y="4000680"/>
            <a:ext cx="155232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Как достичь эту цель?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08" name=""/>
          <p:cNvSpPr txBox="1"/>
          <p:nvPr/>
        </p:nvSpPr>
        <p:spPr>
          <a:xfrm>
            <a:off x="457200" y="210348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Благодаря системе формирования </a:t>
            </a:r>
            <a:r>
              <a:rPr b="1" i="1" lang="ru-RU" sz="4400" spc="-1" strike="noStrike">
                <a:solidFill>
                  <a:srgbClr val="ff0000"/>
                </a:solidFill>
                <a:latin typeface="Corbel"/>
              </a:rPr>
              <a:t>универсальных учебных действий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1142640" y="51264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Corbel"/>
              </a:rPr>
              <a:t>Универсальные учебные действия</a:t>
            </a:r>
            <a:endParaRPr b="0" lang="en-US" sz="3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10" name="Скругленный прямоугольник 4"/>
          <p:cNvSpPr/>
          <p:nvPr/>
        </p:nvSpPr>
        <p:spPr>
          <a:xfrm>
            <a:off x="1214280" y="2357280"/>
            <a:ext cx="3643560" cy="4000680"/>
          </a:xfrm>
          <a:custGeom>
            <a:avLst/>
            <a:gdLst>
              <a:gd name="textAreaLeft" fmla="*/ 177840 w 3643560"/>
              <a:gd name="textAreaRight" fmla="*/ 3465720 w 3643560"/>
              <a:gd name="textAreaTop" fmla="*/ 177840 h 4000680"/>
              <a:gd name="textAreaBottom" fmla="*/ 3822840 h 4000680"/>
            </a:gdLst>
            <a:ahLst/>
            <a:rect l="textAreaLeft" t="textAreaTop" r="textAreaRight" b="textAreaBottom"/>
            <a:pathLst>
              <a:path w="21600" h="23717">
                <a:moveTo>
                  <a:pt x="3600" y="0"/>
                </a:moveTo>
                <a:arcTo wR="3600" hR="3600" stAng="16200000" swAng="-5400000"/>
                <a:lnTo>
                  <a:pt x="0" y="20117"/>
                </a:lnTo>
                <a:arcTo wR="3600" hR="3600" stAng="10800000" swAng="-5400000"/>
                <a:lnTo>
                  <a:pt x="18000" y="237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Corbel"/>
              </a:rPr>
              <a:t>в широком значении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умение учиться, т.е. способность субъекта к саморазвитию и самосовершенствованию путем сознательного и активного присвоения нового социального опыт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1" name="Скругленный прямоугольник 5"/>
          <p:cNvSpPr/>
          <p:nvPr/>
        </p:nvSpPr>
        <p:spPr>
          <a:xfrm>
            <a:off x="1071720" y="500040"/>
            <a:ext cx="8001000" cy="928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2" name="Скругленный прямоугольник 6"/>
          <p:cNvSpPr/>
          <p:nvPr/>
        </p:nvSpPr>
        <p:spPr>
          <a:xfrm>
            <a:off x="5143680" y="2357280"/>
            <a:ext cx="3714480" cy="4000680"/>
          </a:xfrm>
          <a:custGeom>
            <a:avLst/>
            <a:gdLst>
              <a:gd name="textAreaLeft" fmla="*/ 181080 w 3714480"/>
              <a:gd name="textAreaRight" fmla="*/ 3533400 w 3714480"/>
              <a:gd name="textAreaTop" fmla="*/ 181080 h 4000680"/>
              <a:gd name="textAreaBottom" fmla="*/ 3819600 h 4000680"/>
            </a:gdLst>
            <a:ahLst/>
            <a:rect l="textAreaLeft" t="textAreaTop" r="textAreaRight" b="textAreaBottom"/>
            <a:pathLst>
              <a:path w="21600" h="23264">
                <a:moveTo>
                  <a:pt x="3600" y="0"/>
                </a:moveTo>
                <a:arcTo wR="3600" hR="3600" stAng="16200000" swAng="-5400000"/>
                <a:lnTo>
                  <a:pt x="0" y="19664"/>
                </a:lnTo>
                <a:arcTo wR="3600" hR="3600" stAng="10800000" swAng="-5400000"/>
                <a:lnTo>
                  <a:pt x="18000" y="23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Corbel"/>
              </a:rPr>
              <a:t>в узком значении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овокупность способов действия учащегося (а также связанных с ними навыков учебной работы), обеспечивающих его способность к самостоятельному усвоению новых знаний и умений, включая организацию этого процесс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3" name="Прямая соединительная линия 8"/>
          <p:cNvSpPr/>
          <p:nvPr/>
        </p:nvSpPr>
        <p:spPr>
          <a:xfrm flipH="1">
            <a:off x="3035160" y="1428840"/>
            <a:ext cx="2036880" cy="9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4" name="Прямая соединительная линия 9"/>
          <p:cNvSpPr/>
          <p:nvPr/>
        </p:nvSpPr>
        <p:spPr>
          <a:xfrm>
            <a:off x="5072040" y="1428840"/>
            <a:ext cx="1928880" cy="9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1285560" y="428760"/>
            <a:ext cx="771516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en-US" sz="39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1" lang="ru-RU" sz="3900" spc="-1" strike="noStrike">
                <a:solidFill>
                  <a:srgbClr val="000000"/>
                </a:solidFill>
                <a:latin typeface="Corbel"/>
              </a:rPr>
              <a:t>Функции универсальных</a:t>
            </a:r>
            <a:br>
              <a:rPr sz="3900"/>
            </a:br>
            <a:r>
              <a:rPr b="1" lang="ru-RU" sz="39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1" lang="en-US" sz="39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1" lang="ru-RU" sz="3900" spc="-1" strike="noStrike">
                <a:solidFill>
                  <a:srgbClr val="000000"/>
                </a:solidFill>
                <a:latin typeface="Corbel"/>
              </a:rPr>
              <a:t>учебных действий:</a:t>
            </a:r>
            <a:br>
              <a:rPr sz="39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ru-RU" sz="2400" spc="-1" strike="noStrike">
                <a:solidFill>
                  <a:srgbClr val="c0654c"/>
                </a:solidFill>
                <a:latin typeface="Corbel"/>
              </a:rPr>
              <a:t>обеспечение возможностей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бучающегося самостоятельно осуществлять деятельность учения, ставить учебные цели, искать и использовать необходимые средства и способы их достижения, контролировать и оценивать процесс и результаты деятельност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ru-RU" sz="2400" spc="-1" strike="noStrike">
                <a:solidFill>
                  <a:srgbClr val="00b0f0"/>
                </a:solidFill>
                <a:latin typeface="Corbel"/>
              </a:rPr>
              <a:t> </a:t>
            </a:r>
            <a:r>
              <a:rPr b="0" i="1" lang="ru-RU" sz="2400" spc="-1" strike="noStrike">
                <a:solidFill>
                  <a:srgbClr val="c0654c"/>
                </a:solidFill>
                <a:latin typeface="Corbel"/>
              </a:rPr>
              <a:t>создание условий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для гармоничного развития личности и её самореализации на основе готовности к непрерывному образованию;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0" i="1" lang="ru-RU" sz="2400" spc="-1" strike="noStrike">
                <a:solidFill>
                  <a:srgbClr val="922223"/>
                </a:solidFill>
                <a:latin typeface="Corbel"/>
              </a:rPr>
              <a:t>обеспечение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успешного усвоения знаний, формирования умений, навыков и компетентностей в любой предметной области.</a:t>
            </a:r>
            <a:br>
              <a:rPr sz="3900"/>
            </a:b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10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Овал 6"/>
          <p:cNvSpPr/>
          <p:nvPr/>
        </p:nvSpPr>
        <p:spPr>
          <a:xfrm>
            <a:off x="6084720" y="3284640"/>
            <a:ext cx="2857680" cy="1428480"/>
          </a:xfrm>
          <a:prstGeom prst="ellipse">
            <a:avLst/>
          </a:prstGeom>
          <a:solidFill>
            <a:srgbClr val="fed46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2071440" y="713880"/>
            <a:ext cx="614340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Corbel"/>
              </a:rPr>
              <a:t>Виды </a:t>
            </a:r>
            <a:br>
              <a:rPr sz="3900"/>
            </a:br>
            <a:r>
              <a:rPr b="1" lang="ru-RU" sz="3900" spc="-1" strike="noStrike">
                <a:solidFill>
                  <a:srgbClr val="000000"/>
                </a:solidFill>
                <a:latin typeface="Corbel"/>
              </a:rPr>
              <a:t>универсальных </a:t>
            </a:r>
            <a:br>
              <a:rPr sz="3900"/>
            </a:br>
            <a:r>
              <a:rPr b="1" lang="ru-RU" sz="3900" spc="-1" strike="noStrike">
                <a:solidFill>
                  <a:srgbClr val="000000"/>
                </a:solidFill>
                <a:latin typeface="Corbel"/>
              </a:rPr>
              <a:t>учебных действий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18" name="Овал 4"/>
          <p:cNvSpPr/>
          <p:nvPr/>
        </p:nvSpPr>
        <p:spPr>
          <a:xfrm>
            <a:off x="1571760" y="357120"/>
            <a:ext cx="6786360" cy="2168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9" name="Овал 5"/>
          <p:cNvSpPr/>
          <p:nvPr/>
        </p:nvSpPr>
        <p:spPr>
          <a:xfrm>
            <a:off x="1187280" y="3284640"/>
            <a:ext cx="2928960" cy="1428480"/>
          </a:xfrm>
          <a:prstGeom prst="ellipse">
            <a:avLst/>
          </a:prstGeom>
          <a:solidFill>
            <a:srgbClr val="a9d7e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0" name="Овал 7"/>
          <p:cNvSpPr/>
          <p:nvPr/>
        </p:nvSpPr>
        <p:spPr>
          <a:xfrm>
            <a:off x="2500200" y="4500720"/>
            <a:ext cx="2857680" cy="1428480"/>
          </a:xfrm>
          <a:prstGeom prst="ellipse">
            <a:avLst/>
          </a:prstGeom>
          <a:solidFill>
            <a:srgbClr val="e17b7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1" name="Овал 8"/>
          <p:cNvSpPr/>
          <p:nvPr/>
        </p:nvSpPr>
        <p:spPr>
          <a:xfrm>
            <a:off x="4716360" y="4508640"/>
            <a:ext cx="2857680" cy="1428480"/>
          </a:xfrm>
          <a:prstGeom prst="ellipse">
            <a:avLst/>
          </a:prstGeom>
          <a:solidFill>
            <a:srgbClr val="b9d77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2" name="Прямая соединительная линия 10"/>
          <p:cNvSpPr/>
          <p:nvPr/>
        </p:nvSpPr>
        <p:spPr>
          <a:xfrm flipH="1">
            <a:off x="3687840" y="2525760"/>
            <a:ext cx="1278000" cy="96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3" name="Прямая соединительная линия 12"/>
          <p:cNvSpPr/>
          <p:nvPr/>
        </p:nvSpPr>
        <p:spPr>
          <a:xfrm flipH="1">
            <a:off x="3929040" y="2525760"/>
            <a:ext cx="1036800" cy="1974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4" name="Прямая соединительная линия 13"/>
          <p:cNvSpPr/>
          <p:nvPr/>
        </p:nvSpPr>
        <p:spPr>
          <a:xfrm>
            <a:off x="4965840" y="2525760"/>
            <a:ext cx="1179360" cy="198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5" name="Прямая соединительная линия 14"/>
          <p:cNvSpPr/>
          <p:nvPr/>
        </p:nvSpPr>
        <p:spPr>
          <a:xfrm>
            <a:off x="4965840" y="2525760"/>
            <a:ext cx="1536480" cy="96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6" name="Прямоугольник 58"/>
          <p:cNvSpPr/>
          <p:nvPr/>
        </p:nvSpPr>
        <p:spPr>
          <a:xfrm>
            <a:off x="6064200" y="3789360"/>
            <a:ext cx="29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ОММУНИКАТИВНЫЕ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7" name="Прямоугольник 59"/>
          <p:cNvSpPr/>
          <p:nvPr/>
        </p:nvSpPr>
        <p:spPr>
          <a:xfrm>
            <a:off x="4936320" y="5084640"/>
            <a:ext cx="25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ЗНАВАТЕЛЬНЫЕ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8" name="Прямоугольник 60"/>
          <p:cNvSpPr/>
          <p:nvPr/>
        </p:nvSpPr>
        <p:spPr>
          <a:xfrm>
            <a:off x="2640240" y="5084640"/>
            <a:ext cx="21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РЕГУЛЯТИВНЫЕ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9" name="Прямоугольник 61"/>
          <p:cNvSpPr/>
          <p:nvPr/>
        </p:nvSpPr>
        <p:spPr>
          <a:xfrm>
            <a:off x="1632960" y="3789360"/>
            <a:ext cx="197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ЛИЧНОСТНЫЕ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ff0000"/>
                </a:solidFill>
                <a:latin typeface="Corbel"/>
              </a:rPr>
              <a:t>Личностные</a:t>
            </a:r>
            <a:r>
              <a:rPr b="1" i="1" lang="ru-RU" sz="4300" spc="-1" strike="noStrike">
                <a:solidFill>
                  <a:srgbClr val="feb80a"/>
                </a:solidFill>
                <a:latin typeface="Corbel"/>
              </a:rPr>
              <a:t> </a:t>
            </a:r>
            <a:r>
              <a:rPr b="1" i="1" lang="ru-RU" sz="4300" spc="-1" strike="noStrike">
                <a:solidFill>
                  <a:srgbClr val="ff0000"/>
                </a:solidFill>
                <a:latin typeface="Corbel"/>
              </a:rPr>
              <a:t>УУД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2" name="Rectangle 4"/>
          <p:cNvSpPr/>
          <p:nvPr/>
        </p:nvSpPr>
        <p:spPr>
          <a:xfrm>
            <a:off x="324000" y="1197000"/>
            <a:ext cx="8569080" cy="5400720"/>
          </a:xfrm>
          <a:prstGeom prst="rect">
            <a:avLst/>
          </a:prstGeom>
          <a:solidFill>
            <a:srgbClr val="eaccc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Gill Sans MT"/>
              </a:rPr>
              <a:t>обеспечивают ценностно-смысловую ориентацию учащихся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Gill Sans MT"/>
              </a:rPr>
              <a:t> </a:t>
            </a:r>
            <a:r>
              <a:rPr b="1" lang="ru-RU" sz="2000" spc="-1" strike="noStrike">
                <a:solidFill>
                  <a:srgbClr val="0d0d0d"/>
                </a:solidFill>
                <a:latin typeface="Gill Sans MT"/>
              </a:rPr>
              <a:t>и ориентацию в социальных ролях и межличностных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Gill Sans MT"/>
              </a:rPr>
              <a:t>отношениях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d0d0d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Gill Sans MT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Gill Sans MT"/>
              </a:rPr>
              <a:t>личностное</a:t>
            </a:r>
            <a:r>
              <a:rPr b="0" lang="ru-RU" sz="2800" spc="-1" strike="noStrike">
                <a:solidFill>
                  <a:srgbClr val="ff0000"/>
                </a:solidFill>
                <a:latin typeface="Gill Sans MT"/>
              </a:rPr>
              <a:t>, </a:t>
            </a:r>
            <a:r>
              <a:rPr b="0" lang="ru-RU" sz="2800" spc="-1" strike="noStrike">
                <a:solidFill>
                  <a:srgbClr val="0d0d0d"/>
                </a:solidFill>
                <a:latin typeface="Gill Sans MT"/>
              </a:rPr>
              <a:t>(профессиональное) жизненное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ill Sans MT"/>
              </a:rPr>
              <a:t>самоопределение</a:t>
            </a:r>
            <a:r>
              <a:rPr b="0" lang="ru-RU" sz="2800" spc="-1" strike="noStrike">
                <a:solidFill>
                  <a:srgbClr val="0d0d0d"/>
                </a:solidFill>
                <a:latin typeface="Gill Sans MT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ff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ill Sans MT"/>
              </a:rPr>
              <a:t>смыслообразование</a:t>
            </a:r>
            <a:r>
              <a:rPr b="0" lang="ru-RU" sz="2800" spc="-1" strike="noStrike">
                <a:solidFill>
                  <a:srgbClr val="0d0d0d"/>
                </a:solidFill>
                <a:latin typeface="Gill Sans MT"/>
              </a:rPr>
              <a:t>, т.е. установление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Gill Sans MT"/>
              </a:rPr>
              <a:t>учащимися связи между целью учебной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Gill Sans MT"/>
              </a:rPr>
              <a:t>деятельности и ее мотивом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d0d0d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Gill Sans MT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Gill Sans MT"/>
              </a:rPr>
              <a:t>нравственно-этическая ориентация</a:t>
            </a:r>
            <a:r>
              <a:rPr b="0" lang="ru-RU" sz="2800" spc="-1" strike="noStrike">
                <a:solidFill>
                  <a:srgbClr val="0d0d0d"/>
                </a:solidFill>
                <a:latin typeface="Gill Sans MT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Gill Sans MT"/>
              </a:rPr>
              <a:t>в том числе и оценивание усваиваемого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Gill Sans MT"/>
              </a:rPr>
              <a:t>содержания, обеспечивающее личностный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Gill Sans MT"/>
              </a:rPr>
              <a:t>моральный выбор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6T01:40:29Z</dcterms:created>
  <dc:creator>Ольга</dc:creator>
  <dc:description/>
  <dc:language>en-US</dc:language>
  <cp:lastModifiedBy>1</cp:lastModifiedBy>
  <dcterms:modified xsi:type="dcterms:W3CDTF">2015-01-16T03:56:35Z</dcterms:modified>
  <cp:revision>17</cp:revision>
  <dc:subject/>
  <dc:title>ФОРМИРОВАНИЕ  УНИВЕРСАЛЬНЫХ  УЧЕБНЫХ ДЕЙСТВИЙ  И ИХ МЕСТО  В ОБРАЗОВАТЕЛЬНОЙ ПРОГРАММЕ ШКОЛЫ                                               </dc:title>
</cp:coreProperties>
</file>