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1.jpeg" ContentType="image/jpeg"/>
  <Override PartName="/ppt/media/image36.gif" ContentType="image/gif"/>
  <Override PartName="/ppt/media/image19.gif" ContentType="image/gif"/>
  <Override PartName="/ppt/media/image41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2.gif" ContentType="image/gif"/>
  <Override PartName="/ppt/media/image4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18.gif" ContentType="image/gif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395E-B1EB-4C7F-ABCA-4907DB2EF4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91F6-12CB-45A3-8683-483BFCB677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93C4-DFEF-4E7A-8AE7-5A0B888C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7FB4-42E3-48E6-9985-6D78CA25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0962-77D7-43A6-A884-6C08A609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5B8-655A-4798-8B02-E4693E4E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1246-83CC-45DD-9547-AD446FA3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D98D-3D47-44DB-9E17-1458A7C5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D0B0-59AE-43C8-8455-485CB2B9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7166-2525-4F90-9205-2CFFB016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AC23-F2B5-4162-9476-70FCEF65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2B90-FC20-4859-A264-F7F71BD3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B158-FBA5-4215-B494-C79BA253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CE1-3C14-4F53-8142-DB450D4F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D5BC-C590-4DDD-8975-4AC437A9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9795-7F1A-4CBE-BEDE-2DC62725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3694-BC40-4939-955C-74906B12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C91E-380C-4CBD-B9A8-A1509E77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0644-BDA2-4D5A-8966-049020A9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5AA-75A7-40CC-9F92-1DAD62A3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401-52F5-4CA1-856F-7FD35B0E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DFD5-2AAC-4B10-8B0B-FF249D15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51D2-E0B9-43C3-A6BB-D5F08327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35C0-9A2F-4115-909F-7341A8D5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B3E-89BA-42F7-A2B4-283A991A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4DD-39DB-4B2C-9698-89F0E2F0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b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FA1C-16F3-4A0A-8311-297760DCBD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b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EBF2-DBC3-4615-8686-CABBAFE047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31.jpeg"/><Relationship Id="rId17" Type="http://schemas.openxmlformats.org/officeDocument/2006/relationships/image" Target="../media/image32.jpeg"/><Relationship Id="rId18" Type="http://schemas.openxmlformats.org/officeDocument/2006/relationships/image" Target="../media/image33.jpeg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eokorolev.ru/sprav3/object_med_hospital_0.html" TargetMode="External"/><Relationship Id="rId2" Type="http://schemas.openxmlformats.org/officeDocument/2006/relationships/hyperlink" Target="http://www.geokorolev.ru/sprav3/object_kultura_doski_44.html" TargetMode="External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image" Target="../media/image51.jpeg"/><Relationship Id="rId11" Type="http://schemas.openxmlformats.org/officeDocument/2006/relationships/image" Target="../media/image52.jpeg"/><Relationship Id="rId12" Type="http://schemas.openxmlformats.org/officeDocument/2006/relationships/image" Target="../media/image53.jpeg"/><Relationship Id="rId13" Type="http://schemas.openxmlformats.org/officeDocument/2006/relationships/image" Target="../media/image54.jpeg"/><Relationship Id="rId14" Type="http://schemas.openxmlformats.org/officeDocument/2006/relationships/image" Target="../media/image5.jpeg"/><Relationship Id="rId15" Type="http://schemas.openxmlformats.org/officeDocument/2006/relationships/image" Target="../media/image55.jpeg"/><Relationship Id="rId16" Type="http://schemas.openxmlformats.org/officeDocument/2006/relationships/image" Target="../media/image56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115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125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126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2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133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1" name="Group 40"/>
          <p:cNvGrpSpPr/>
          <p:nvPr/>
        </p:nvGrpSpPr>
        <p:grpSpPr>
          <a:xfrm>
            <a:off x="7184160" y="-87480"/>
            <a:ext cx="2427480" cy="2247120"/>
            <a:chOff x="7184160" y="-87480"/>
            <a:chExt cx="2427480" cy="2247120"/>
          </a:xfrm>
        </p:grpSpPr>
        <p:grpSp>
          <p:nvGrpSpPr>
            <p:cNvPr id="142" name="Group 41"/>
            <p:cNvGrpSpPr/>
            <p:nvPr/>
          </p:nvGrpSpPr>
          <p:grpSpPr>
            <a:xfrm>
              <a:off x="7184160" y="-87480"/>
              <a:ext cx="2427480" cy="2247120"/>
              <a:chOff x="7184160" y="-87480"/>
              <a:chExt cx="2427480" cy="2247120"/>
            </a:xfrm>
          </p:grpSpPr>
          <p:sp>
            <p:nvSpPr>
              <p:cNvPr id="143" name="Freeform 42"/>
              <p:cNvSpPr/>
              <p:nvPr/>
            </p:nvSpPr>
            <p:spPr>
              <a:xfrm rot="18427200">
                <a:off x="86324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4" name="Group 43"/>
              <p:cNvGrpSpPr/>
              <p:nvPr/>
            </p:nvGrpSpPr>
            <p:grpSpPr>
              <a:xfrm>
                <a:off x="7184160" y="-87480"/>
                <a:ext cx="2427480" cy="2247120"/>
                <a:chOff x="7184160" y="-87480"/>
                <a:chExt cx="2427480" cy="2247120"/>
              </a:xfrm>
            </p:grpSpPr>
            <p:sp>
              <p:nvSpPr>
                <p:cNvPr id="145" name="Freeform 44"/>
                <p:cNvSpPr/>
                <p:nvPr/>
              </p:nvSpPr>
              <p:spPr>
                <a:xfrm rot="18427200">
                  <a:off x="78962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5"/>
                <p:cNvSpPr/>
                <p:nvPr/>
              </p:nvSpPr>
              <p:spPr>
                <a:xfrm rot="18427200">
                  <a:off x="80269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6"/>
                <p:cNvSpPr/>
                <p:nvPr/>
              </p:nvSpPr>
              <p:spPr>
                <a:xfrm rot="18427200">
                  <a:off x="77256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7"/>
                <p:cNvSpPr/>
                <p:nvPr/>
              </p:nvSpPr>
              <p:spPr>
                <a:xfrm rot="18427200">
                  <a:off x="77958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8"/>
                <p:cNvSpPr/>
                <p:nvPr/>
              </p:nvSpPr>
              <p:spPr>
                <a:xfrm rot="18427200">
                  <a:off x="84222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49"/>
                <p:cNvSpPr/>
                <p:nvPr/>
              </p:nvSpPr>
              <p:spPr>
                <a:xfrm rot="18427200">
                  <a:off x="83520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50"/>
                <p:cNvSpPr/>
                <p:nvPr/>
              </p:nvSpPr>
              <p:spPr>
                <a:xfrm rot="18427200">
                  <a:off x="79261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51"/>
                <p:cNvSpPr/>
                <p:nvPr/>
              </p:nvSpPr>
              <p:spPr>
                <a:xfrm rot="18427200">
                  <a:off x="78681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" name="Line 52"/>
            <p:cNvSpPr/>
            <p:nvPr/>
          </p:nvSpPr>
          <p:spPr>
            <a:xfrm>
              <a:off x="77436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51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«Ведь если смеются товарищи дети, становится сразу светлее на свете»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ffb7"/>
                </a:solidFill>
                <a:latin typeface="Arial Black"/>
              </a:rPr>
              <a:t>Биография и творчество                                   Б. В. Заходера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43000" y="434988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99"/>
                </a:solidFill>
                <a:latin typeface="Monotype Corsiva"/>
              </a:rPr>
              <a:t>Подготовил:             ученик  1 д класса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99"/>
                </a:solidFill>
                <a:latin typeface="Monotype Corsiva"/>
              </a:rPr>
              <a:t>МБОУ «СОШ №4»    Поляков Прох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99"/>
                </a:solidFill>
                <a:latin typeface="Monotype Corsiva"/>
              </a:rPr>
              <a:t>Классный руководитель:   Снегирёва О. 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99"/>
                </a:solidFill>
                <a:latin typeface="Monotype Corsiva"/>
              </a:rPr>
              <a:t>2013-14 уч.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2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2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2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535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4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545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546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2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553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6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4" name=""/>
          <p:cNvSpPr txBox="1"/>
          <p:nvPr/>
        </p:nvSpPr>
        <p:spPr>
          <a:xfrm>
            <a:off x="1981080" y="1069560"/>
            <a:ext cx="656136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Б. Заходер пользуется всей палитрой комического – от мягкого юмора до иронии и сатиры, - смешивая их во всевозможных пропорциях. К тому же речь от лица ребенка сообщает стихотворному повествованию энергию детского оптимизма, а воображению – раскован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реди героев Заходера не только  животные. Есть цикл стихов о школьниках – «На задней парт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роме «родных» есть у Бориса Владимировича и «иностранные» книжки. Заходер не перевел все эти книги, он их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пересказал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или, вернее, как выразился один поэт, «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написал их по-русски»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о его произведениям ставили спектакли и снимали мультфильмы, причем пьесы и сценарии он писал в основном сам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1320" y="239400"/>
            <a:ext cx="8537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«Веселые стихи» в творчестве детского  поэта</a:t>
            </a:r>
            <a:br>
              <a:rPr sz="24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66" name="Picture 6" descr="knigi-143"/>
          <p:cNvPicPr/>
          <p:nvPr/>
        </p:nvPicPr>
        <p:blipFill>
          <a:blip r:embed="rId4"/>
          <a:stretch/>
        </p:blipFill>
        <p:spPr>
          <a:xfrm>
            <a:off x="324000" y="698400"/>
            <a:ext cx="121896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6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7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7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7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584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3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594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595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1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602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0" name="Прямоугольник 2"/>
          <p:cNvSpPr/>
          <p:nvPr/>
        </p:nvSpPr>
        <p:spPr>
          <a:xfrm>
            <a:off x="1338120" y="701640"/>
            <a:ext cx="7377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Жизнь Бориса Заходера в Комаровке протекала в тишине и уединении, которые были ему необходимы. Здесь он много и плодотворно работал. Именно в Комаровке создаётся большая часть переводов немецкого классика, пересказ "Алисы в Стране Чудес" Л. Кэрролла, сокращённый перевод книги П. Трэверс "Мэри Поппинс". В этот же период жизни Заходер сотрудничает с режиссёром Фёдором Хитруком, который готовит к выпуску мультфильмы про Винни-Пуха (в 1973 г. Заходер вступил в Союз кинематографистов СССР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23640" y="209160"/>
            <a:ext cx="8537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Творчество детского  поэта</a:t>
            </a:r>
            <a:br>
              <a:rPr sz="24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612" name="Picture 4" descr="http://data12.gallery.ru/albums/gallery/201015-909d1-34422140-.jpg"/>
          <p:cNvPicPr/>
          <p:nvPr/>
        </p:nvPicPr>
        <p:blipFill>
          <a:blip r:embed="rId1"/>
          <a:stretch/>
        </p:blipFill>
        <p:spPr>
          <a:xfrm rot="20791200">
            <a:off x="714240" y="4352400"/>
            <a:ext cx="2382840" cy="19069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http://kiev-club.com.ua/components/com_virtuemart/shop_image/product/100014.jpg"/>
          <p:cNvPicPr/>
          <p:nvPr/>
        </p:nvPicPr>
        <p:blipFill>
          <a:blip r:embed="rId2"/>
          <a:stretch/>
        </p:blipFill>
        <p:spPr>
          <a:xfrm rot="21078000">
            <a:off x="3549600" y="4613040"/>
            <a:ext cx="2570040" cy="17859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8" descr="http://firepic.org/images/12-2010/4c9d88ddde91.jpg"/>
          <p:cNvPicPr/>
          <p:nvPr/>
        </p:nvPicPr>
        <p:blipFill>
          <a:blip r:embed="rId3"/>
          <a:stretch/>
        </p:blipFill>
        <p:spPr>
          <a:xfrm rot="21042000">
            <a:off x="6576840" y="4457520"/>
            <a:ext cx="20988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1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2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2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1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632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1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642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643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6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650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8" name=""/>
          <p:cNvSpPr txBox="1"/>
          <p:nvPr/>
        </p:nvSpPr>
        <p:spPr>
          <a:xfrm>
            <a:off x="304920" y="304920"/>
            <a:ext cx="8540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Перевод Заходера: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Алиса в стране чуд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Математик и Козлик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Делили пирог.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Козлик скромно сказал: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--Раздели его вдоль!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--Тривиально!— сказал Математик.—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 Позволь,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Я уж лучше его разделю поперек!—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Первым он ухватил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Первый кус пирога.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Но не плачьте,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Был тут же наказан порок: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«Пи» досталось ему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(А какой в этом прок?!)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А козленку…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Козленку достались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Рога!</a:t>
            </a: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еревод Заходера – яркий пример функционального перевода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н воспроизвел эффект комичности с помощью аналог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оспринимаемых на русском язы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9" name="Picture 7" descr="knigi-146"/>
          <p:cNvPicPr/>
          <p:nvPr/>
        </p:nvPicPr>
        <p:blipFill>
          <a:blip r:embed="rId1"/>
          <a:stretch/>
        </p:blipFill>
        <p:spPr>
          <a:xfrm>
            <a:off x="331920" y="152280"/>
            <a:ext cx="11188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6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6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6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6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6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61372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«Веселые стихи» в творчестве детского  поэта</a:t>
            </a:r>
            <a:br>
              <a:rPr sz="24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04920" y="380880"/>
            <a:ext cx="86104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В общем, получилось так, что в литературе оказалось как бы несколько Борисов Заходеров. Ну разве мог поэт не написать об этом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Смотрите сами: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Вот есть, например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детский писатель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Борис Заходер;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Есть переводчики —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Взрослый и детский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Тот знает английский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этот — немецкий..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У всех у них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Разные интересы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Хотя они все как один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Борисы: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Один Заходер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Сочиняет пьесы —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(Его, очевидно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Волнуют актрисы!)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Тот пишет сказки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про разных тварей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Тот норовит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Смастерить сценарий;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Есть среди них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Даже автор либретто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Тут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Monotype Corsiva"/>
              </a:rPr>
              <a:t>не хватало только поэта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4" descr="book"/>
          <p:cNvPicPr/>
          <p:nvPr/>
        </p:nvPicPr>
        <p:blipFill>
          <a:blip r:embed="rId2"/>
          <a:stretch/>
        </p:blipFill>
        <p:spPr>
          <a:xfrm rot="20793600">
            <a:off x="609120" y="1295280"/>
            <a:ext cx="2032200" cy="2438640"/>
          </a:xfrm>
          <a:prstGeom prst="rect">
            <a:avLst/>
          </a:prstGeom>
          <a:ln w="12600">
            <a:solidFill>
              <a:srgbClr val="66ff66"/>
            </a:solidFill>
            <a:miter/>
          </a:ln>
        </p:spPr>
      </p:pic>
      <p:pic>
        <p:nvPicPr>
          <p:cNvPr id="706" name="Picture 6" descr="portret1"/>
          <p:cNvPicPr/>
          <p:nvPr/>
        </p:nvPicPr>
        <p:blipFill>
          <a:blip r:embed="rId3"/>
          <a:stretch/>
        </p:blipFill>
        <p:spPr>
          <a:xfrm rot="628800">
            <a:off x="6649560" y="3881520"/>
            <a:ext cx="2257560" cy="2409840"/>
          </a:xfrm>
          <a:prstGeom prst="rect">
            <a:avLst/>
          </a:prstGeom>
          <a:ln w="9360">
            <a:solidFill>
              <a:srgbClr val="ccff33"/>
            </a:solidFill>
            <a:miter/>
          </a:ln>
        </p:spPr>
      </p:pic>
      <p:pic>
        <p:nvPicPr>
          <p:cNvPr id="707" name="Рисунок 2" descr=""/>
          <p:cNvPicPr/>
          <p:nvPr/>
        </p:nvPicPr>
        <p:blipFill>
          <a:blip r:embed="rId4"/>
          <a:stretch/>
        </p:blipFill>
        <p:spPr>
          <a:xfrm rot="20760600">
            <a:off x="855720" y="4389120"/>
            <a:ext cx="2628720" cy="1839960"/>
          </a:xfrm>
          <a:prstGeom prst="rect">
            <a:avLst/>
          </a:prstGeom>
          <a:ln w="12600">
            <a:solidFill>
              <a:srgbClr val="7dff7d"/>
            </a:solidFill>
            <a:miter/>
          </a:ln>
        </p:spPr>
      </p:pic>
      <p:pic>
        <p:nvPicPr>
          <p:cNvPr id="708" name="Рисунок 3" descr=""/>
          <p:cNvPicPr/>
          <p:nvPr/>
        </p:nvPicPr>
        <p:blipFill>
          <a:blip r:embed="rId5"/>
          <a:stretch/>
        </p:blipFill>
        <p:spPr>
          <a:xfrm rot="681000">
            <a:off x="6578640" y="939960"/>
            <a:ext cx="206064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77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1" dur="770" fill="hold"/>
                                        <p:tgtEl>
                                          <p:spTgt spid="7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3" dur="77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77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770" fill="hold"/>
                                        <p:tgtEl>
                                          <p:spTgt spid="7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77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2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7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1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2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713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2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723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724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7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0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731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3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4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4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4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4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ЭКРАНИЗАЦИИ ПРОИЗВЕДЕНИЙ Б.</a:t>
            </a:r>
            <a:r>
              <a:rPr b="1" lang="en-US" sz="24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В.</a:t>
            </a:r>
            <a:r>
              <a:rPr b="1" lang="en-US" sz="24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ЗАХОДЕР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75960" y="609120"/>
            <a:ext cx="6172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Винни-Пух. По мотивам сказки А.Милна. СССР, 1969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Винни-Пух идет в гости. По мотивам сказки А.Милна. СССР, 1971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Винни-Пух и день забот. По мотивам сказки А.Милна. СССР, 1972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Волчок. Реж. СССР, 1985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Как несли стол. По мотивам стихотворения Б.Заходера «Муравей». СССР, 1979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Кит и кот. СССР, 1969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«Кто ж такие птички…» СССР, 1978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Морской бой. Россия, 2005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Отшельник и Роза. СССР, 1980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Про всех на свете. СССР, 1984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Птичка Тари. СССР, 1976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Сказка про доброго носорога. СССР, 1970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Страна Считалия. СССР, 1982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Топчумба. СССР, 1980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Фантик (Первобытная история). СССР, 1975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4" name="Picture 4" descr="топчумба"/>
          <p:cNvPicPr/>
          <p:nvPr/>
        </p:nvPicPr>
        <p:blipFill>
          <a:blip r:embed="rId16"/>
          <a:stretch/>
        </p:blipFill>
        <p:spPr>
          <a:xfrm>
            <a:off x="6035760" y="64764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755" name="Text Box 5"/>
          <p:cNvSpPr/>
          <p:nvPr/>
        </p:nvSpPr>
        <p:spPr>
          <a:xfrm>
            <a:off x="6248520" y="281304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пчум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Picture 6" descr="Кадр из мультфильма «Винни Пух». Реж. Ф.Хитрук. СССР, 1969"/>
          <p:cNvPicPr/>
          <p:nvPr/>
        </p:nvPicPr>
        <p:blipFill>
          <a:blip r:embed="rId17"/>
          <a:stretch/>
        </p:blipFill>
        <p:spPr>
          <a:xfrm>
            <a:off x="6669000" y="3282840"/>
            <a:ext cx="2476440" cy="18702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" descr=""/>
          <p:cNvPicPr/>
          <p:nvPr/>
        </p:nvPicPr>
        <p:blipFill>
          <a:blip r:embed="rId18"/>
          <a:stretch/>
        </p:blipFill>
        <p:spPr>
          <a:xfrm>
            <a:off x="5473800" y="3587760"/>
            <a:ext cx="1811160" cy="2743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58" name="Text Box 8"/>
          <p:cNvSpPr/>
          <p:nvPr/>
        </p:nvSpPr>
        <p:spPr>
          <a:xfrm>
            <a:off x="7373880" y="5715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нни-Пу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2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5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0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7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7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7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6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6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6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6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6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5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776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5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786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787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93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794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«Сказки для людей»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0880" y="456840"/>
            <a:ext cx="6477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Прозаические сказки Б.Заходера 60-70-х годов («Русачок», «Серая Звездочка», «Отшельник и Роза», «Сказка про все на свете», «Жил-был Фип» и др.) вошли в цикл под названием «Сказки для людей». Беря за основу научный факт из зоологии, писатель подводил под нравственное , т.е. человеческое, обобщ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В предисловии к «Сказкам для людей» Заходер писал, что эти сказки рассказывают сами звери: «Всем людям – и взрослым, и детям. Звери ведь очень уважают людей, считают, что они сильнее и умнее всех на свете. И хотят, чтобы люди относились к ним хорошо. Чтобы были к ним добрее. И они надеются, что, когда люди их лучше узнают, они станут к ним добрее, именно затем звери и рассказывают о своей жизни, о своих радостях и печалях, о своих веселых приключениях…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Экология и нравственность объединяются в миропонимании Заходе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4" name="Picture 4" descr="72b5fcdd6984"/>
          <p:cNvPicPr/>
          <p:nvPr/>
        </p:nvPicPr>
        <p:blipFill>
          <a:blip r:embed="rId1"/>
          <a:stretch/>
        </p:blipFill>
        <p:spPr>
          <a:xfrm>
            <a:off x="6831000" y="3706920"/>
            <a:ext cx="2332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0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8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809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8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819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820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3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6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827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3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3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7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Monotype Corsiva"/>
              </a:rPr>
              <a:t>Цикл стихотворений «В моей Вообразилии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228600" y="838080"/>
            <a:ext cx="86169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Страна Б. Заходера «Вообразилия» -происходит от слова «воображение»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b7"/>
                </a:solidFill>
                <a:latin typeface="Monotype Corsiva"/>
              </a:rPr>
              <a:t>	</a:t>
            </a:r>
            <a:r>
              <a:rPr b="0" lang="ru-RU" sz="2200" spc="-1" strike="noStrike">
                <a:solidFill>
                  <a:srgbClr val="ffffb7"/>
                </a:solidFill>
                <a:latin typeface="Monotype Corsiva"/>
              </a:rPr>
              <a:t>	</a:t>
            </a:r>
            <a:r>
              <a:rPr b="0" lang="ru-RU" sz="2200" spc="-1" strike="noStrike">
                <a:solidFill>
                  <a:srgbClr val="ffffb7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В моей Вообразил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В моей Вообразил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Болтают с вами запрос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Настурции и лили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Там царствует фантаз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Во всем своем всесил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В этой удивительной стране «львы косматые» скачут на палочках и мраморные статуи играют в салочки. В этой стране у всех «вырастают крылья» и каждый становится волшебник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Здесь сочувствуют людям, лишенным воображения, потому что они никогда не смогут побывать в этой стране, которая «удобно расположена» прямо у нас в голов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0" name="Picture 4" descr="p1175310"/>
          <p:cNvPicPr/>
          <p:nvPr/>
        </p:nvPicPr>
        <p:blipFill>
          <a:blip r:embed="rId4"/>
          <a:stretch/>
        </p:blipFill>
        <p:spPr>
          <a:xfrm>
            <a:off x="6019920" y="1143000"/>
            <a:ext cx="2427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6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8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8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8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8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8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8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852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1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862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863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6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9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870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7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8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8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8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461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Monotype Corsiva"/>
              </a:rPr>
              <a:t>Цикл стихотворений «В моей Вообразилии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145800" y="685440"/>
            <a:ext cx="5645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тихотворение цикла очень ритмичное, легко сканируется, для передачи восторженного отношения автора к чудесной стране используются повторы «в моей Вообразил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 этой чудесной стране живут удивительные животны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Чуженица. К. Чуковский «Муха-Цокотуха» : «А теперь, краса-девица,  на тебе хо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чу жениться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…». Так автор  вплетает в стихи детское умение переставлять  слоги в словах, образуя новые, нелепые сл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гра со словами, буквами – основа творчества Б. Заходера. Он обладает языковым чутьем, виртуозностью смысловой и семантической иг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3" name="Picture 4" descr="54000039187"/>
          <p:cNvPicPr/>
          <p:nvPr/>
        </p:nvPicPr>
        <p:blipFill>
          <a:blip r:embed="rId4"/>
          <a:stretch/>
        </p:blipFill>
        <p:spPr>
          <a:xfrm rot="800400">
            <a:off x="5913360" y="2469960"/>
            <a:ext cx="25704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89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9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6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9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0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901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0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911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912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5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8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919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2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2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2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3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Monotype Corsiva"/>
              </a:rPr>
              <a:t>Цикл стихотворений «В моей Вообразилии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380520" y="1294920"/>
            <a:ext cx="846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спользуются слова из детской этимологии и в стихотворении «Кавот и Камут». Эти звери образованы от звучания слов «кого-то» и «кому-т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b7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b7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У меня под кроватью жи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Симпатичнейший в мире Кавот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 трудно это чудо накормить, потому ч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b7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b7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Каждый кусок почему-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Попадает в желудок Камута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А еще живут в Вообразилии  веселый синий Себеха, Бука и Бяка и даже «чудо природы» Мним (никем никогда не виданное животное, от слова «мнимый» – несуществующий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2" name="Picture 5" descr="knigi-176"/>
          <p:cNvPicPr/>
          <p:nvPr/>
        </p:nvPicPr>
        <p:blipFill>
          <a:blip r:embed="rId4"/>
          <a:stretch/>
        </p:blipFill>
        <p:spPr>
          <a:xfrm>
            <a:off x="6332400" y="4433760"/>
            <a:ext cx="22100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9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9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9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944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3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954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955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61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962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7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7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7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7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7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6" name=""/>
          <p:cNvSpPr txBox="1"/>
          <p:nvPr/>
        </p:nvSpPr>
        <p:spPr>
          <a:xfrm>
            <a:off x="456840" y="228600"/>
            <a:ext cx="83883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449000" y="4198680"/>
            <a:ext cx="6808680" cy="16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b7"/>
                </a:solidFill>
                <a:latin typeface="Arial Black"/>
              </a:rPr>
              <a:t>В ночь с 6-го на 7-е ноября 2000 г., на 83-м году жизни, Борис Заходер скончался в </a:t>
            </a:r>
            <a:r>
              <a:rPr b="1" lang="ru-RU" sz="14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Центральной городской больнице г. Королёва</a:t>
            </a:r>
            <a:r>
              <a:rPr b="1" lang="ru-RU" sz="1400" spc="-1" strike="noStrike">
                <a:solidFill>
                  <a:srgbClr val="ffffb7"/>
                </a:solidFill>
                <a:latin typeface="Arial Black"/>
              </a:rPr>
              <a:t>. Похоронен на Троекуровском кладбище в Москве.                      В 2002 г. Решением Совета депутатов г. Королёва Московской области на доме в Комаровке, где жил Борис Заходер, </a:t>
            </a:r>
            <a:r>
              <a:rPr b="1" lang="ru-RU" sz="1400" spc="-1" strike="noStrike" u="sng">
                <a:solidFill>
                  <a:srgbClr val="99ff66"/>
                </a:solidFill>
                <a:uFillTx/>
                <a:latin typeface="Arial Black"/>
                <a:hlinkClick r:id="rId2"/>
              </a:rPr>
              <a:t>установлена мемориальная доска</a:t>
            </a:r>
            <a:r>
              <a:rPr b="1" lang="ru-RU" sz="1400" spc="-1" strike="noStrike">
                <a:solidFill>
                  <a:srgbClr val="ffffb7"/>
                </a:solidFill>
                <a:latin typeface="Arial Black"/>
              </a:rPr>
              <a:t>.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8" name="Рисунок 2" descr=""/>
          <p:cNvPicPr/>
          <p:nvPr/>
        </p:nvPicPr>
        <p:blipFill>
          <a:blip r:embed="rId3"/>
          <a:stretch/>
        </p:blipFill>
        <p:spPr>
          <a:xfrm>
            <a:off x="4336920" y="252360"/>
            <a:ext cx="2197080" cy="2724120"/>
          </a:xfrm>
          <a:prstGeom prst="rect">
            <a:avLst/>
          </a:prstGeom>
          <a:ln w="0">
            <a:noFill/>
          </a:ln>
        </p:spPr>
      </p:pic>
      <p:pic>
        <p:nvPicPr>
          <p:cNvPr id="989" name="Рисунок 3" descr=""/>
          <p:cNvPicPr/>
          <p:nvPr/>
        </p:nvPicPr>
        <p:blipFill>
          <a:blip r:embed="rId4"/>
          <a:stretch/>
        </p:blipFill>
        <p:spPr>
          <a:xfrm>
            <a:off x="6485040" y="1076400"/>
            <a:ext cx="2263680" cy="3195720"/>
          </a:xfrm>
          <a:prstGeom prst="rect">
            <a:avLst/>
          </a:prstGeom>
          <a:ln w="0">
            <a:noFill/>
          </a:ln>
        </p:spPr>
      </p:pic>
      <p:pic>
        <p:nvPicPr>
          <p:cNvPr id="990" name="Рисунок 4" descr=""/>
          <p:cNvPicPr/>
          <p:nvPr/>
        </p:nvPicPr>
        <p:blipFill>
          <a:blip r:embed="rId5"/>
          <a:stretch/>
        </p:blipFill>
        <p:spPr>
          <a:xfrm>
            <a:off x="155520" y="334800"/>
            <a:ext cx="2124000" cy="3049920"/>
          </a:xfrm>
          <a:prstGeom prst="rect">
            <a:avLst/>
          </a:prstGeom>
          <a:ln w="0">
            <a:noFill/>
          </a:ln>
        </p:spPr>
      </p:pic>
      <p:pic>
        <p:nvPicPr>
          <p:cNvPr id="991" name="Рисунок 5" descr=""/>
          <p:cNvPicPr/>
          <p:nvPr/>
        </p:nvPicPr>
        <p:blipFill>
          <a:blip r:embed="rId6"/>
          <a:stretch/>
        </p:blipFill>
        <p:spPr>
          <a:xfrm>
            <a:off x="6746760" y="5567400"/>
            <a:ext cx="1693800" cy="1185840"/>
          </a:xfrm>
          <a:prstGeom prst="rect">
            <a:avLst/>
          </a:prstGeom>
          <a:ln w="0">
            <a:noFill/>
          </a:ln>
        </p:spPr>
      </p:pic>
      <p:pic>
        <p:nvPicPr>
          <p:cNvPr id="992" name="Рисунок 50" descr="Заходер Борис Владимирович"/>
          <p:cNvPicPr/>
          <p:nvPr/>
        </p:nvPicPr>
        <p:blipFill>
          <a:blip r:embed="rId7"/>
          <a:stretch/>
        </p:blipFill>
        <p:spPr>
          <a:xfrm>
            <a:off x="2060640" y="1238400"/>
            <a:ext cx="2276280" cy="297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8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03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08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13" dur="2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5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176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186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187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194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2" name="WordArt 4"/>
          <p:cNvSpPr txBox="1"/>
          <p:nvPr/>
        </p:nvSpPr>
        <p:spPr>
          <a:xfrm>
            <a:off x="762120" y="228600"/>
            <a:ext cx="70866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ffff66">
                    <a:alpha val="9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"Смотрите сами:</a:t>
            </a:r>
            <a:endParaRPr b="1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ffff66">
                  <a:alpha val="9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ffff66">
                    <a:alpha val="9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Вот есть, например,</a:t>
            </a:r>
            <a:endParaRPr b="1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ffff66">
                  <a:alpha val="9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ffff66">
                    <a:alpha val="9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Детский писатель</a:t>
            </a:r>
            <a:endParaRPr b="1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ffff66">
                  <a:alpha val="9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ffff66">
                    <a:alpha val="9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Борис Заходер".</a:t>
            </a:r>
            <a:endParaRPr b="1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ffff66">
                  <a:alpha val="9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03" name="Picture 5" descr="p875415"/>
          <p:cNvPicPr/>
          <p:nvPr/>
        </p:nvPicPr>
        <p:blipFill>
          <a:blip r:embed="rId1"/>
          <a:stretch/>
        </p:blipFill>
        <p:spPr>
          <a:xfrm rot="969000">
            <a:off x="4935240" y="2511360"/>
            <a:ext cx="1681200" cy="2286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01_77"/>
          <p:cNvPicPr/>
          <p:nvPr/>
        </p:nvPicPr>
        <p:blipFill>
          <a:blip r:embed="rId2"/>
          <a:stretch/>
        </p:blipFill>
        <p:spPr>
          <a:xfrm>
            <a:off x="7615080" y="4948200"/>
            <a:ext cx="1379520" cy="1770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1001401711"/>
          <p:cNvPicPr/>
          <p:nvPr/>
        </p:nvPicPr>
        <p:blipFill>
          <a:blip r:embed="rId3"/>
          <a:stretch/>
        </p:blipFill>
        <p:spPr>
          <a:xfrm>
            <a:off x="4062240" y="4782960"/>
            <a:ext cx="1905120" cy="189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1000452016"/>
          <p:cNvPicPr/>
          <p:nvPr/>
        </p:nvPicPr>
        <p:blipFill>
          <a:blip r:embed="rId4"/>
          <a:stretch/>
        </p:blipFill>
        <p:spPr>
          <a:xfrm rot="1012200">
            <a:off x="7033680" y="2320920"/>
            <a:ext cx="1573560" cy="1603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54000039187"/>
          <p:cNvPicPr/>
          <p:nvPr/>
        </p:nvPicPr>
        <p:blipFill>
          <a:blip r:embed="rId5"/>
          <a:stretch/>
        </p:blipFill>
        <p:spPr>
          <a:xfrm rot="1072800">
            <a:off x="6222960" y="3882960"/>
            <a:ext cx="1600200" cy="2562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678062"/>
          <p:cNvPicPr/>
          <p:nvPr/>
        </p:nvPicPr>
        <p:blipFill>
          <a:blip r:embed="rId6"/>
          <a:stretch/>
        </p:blipFill>
        <p:spPr>
          <a:xfrm rot="20809200">
            <a:off x="2066760" y="4267080"/>
            <a:ext cx="1586160" cy="23623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" descr=""/>
          <p:cNvPicPr/>
          <p:nvPr/>
        </p:nvPicPr>
        <p:blipFill>
          <a:blip r:embed="rId7"/>
          <a:stretch/>
        </p:blipFill>
        <p:spPr>
          <a:xfrm rot="20688000">
            <a:off x="279360" y="2473200"/>
            <a:ext cx="1932120" cy="227196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2" descr=""/>
          <p:cNvPicPr/>
          <p:nvPr/>
        </p:nvPicPr>
        <p:blipFill>
          <a:blip r:embed="rId8"/>
          <a:stretch/>
        </p:blipFill>
        <p:spPr>
          <a:xfrm rot="20921400">
            <a:off x="2822400" y="2480760"/>
            <a:ext cx="164160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Picture 17" descr="rusachok"/>
          <p:cNvPicPr/>
          <p:nvPr/>
        </p:nvPicPr>
        <p:blipFill>
          <a:blip r:embed="rId1"/>
          <a:stretch/>
        </p:blipFill>
        <p:spPr>
          <a:xfrm>
            <a:off x="1295280" y="4767120"/>
            <a:ext cx="1881360" cy="209088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8" descr="p766980"/>
          <p:cNvPicPr/>
          <p:nvPr/>
        </p:nvPicPr>
        <p:blipFill>
          <a:blip r:embed="rId2"/>
          <a:stretch/>
        </p:blipFill>
        <p:spPr>
          <a:xfrm>
            <a:off x="4952880" y="714240"/>
            <a:ext cx="1492200" cy="2314800"/>
          </a:xfrm>
          <a:prstGeom prst="rect">
            <a:avLst/>
          </a:prstGeom>
          <a:ln w="0">
            <a:noFill/>
          </a:ln>
        </p:spPr>
      </p:pic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Детский поэт на все времен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6" name="Picture 4" descr="9"/>
          <p:cNvPicPr/>
          <p:nvPr/>
        </p:nvPicPr>
        <p:blipFill>
          <a:blip r:embed="rId3"/>
          <a:stretch/>
        </p:blipFill>
        <p:spPr>
          <a:xfrm>
            <a:off x="228600" y="685800"/>
            <a:ext cx="1984320" cy="272412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5" descr="180716"/>
          <p:cNvPicPr/>
          <p:nvPr/>
        </p:nvPicPr>
        <p:blipFill>
          <a:blip r:embed="rId4"/>
          <a:stretch/>
        </p:blipFill>
        <p:spPr>
          <a:xfrm>
            <a:off x="1905120" y="685800"/>
            <a:ext cx="1906560" cy="263844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6" descr="309218"/>
          <p:cNvPicPr/>
          <p:nvPr/>
        </p:nvPicPr>
        <p:blipFill>
          <a:blip r:embed="rId5"/>
          <a:stretch/>
        </p:blipFill>
        <p:spPr>
          <a:xfrm>
            <a:off x="3657600" y="762120"/>
            <a:ext cx="1452600" cy="236700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7" descr="big"/>
          <p:cNvPicPr/>
          <p:nvPr/>
        </p:nvPicPr>
        <p:blipFill>
          <a:blip r:embed="rId6"/>
          <a:stretch/>
        </p:blipFill>
        <p:spPr>
          <a:xfrm>
            <a:off x="3733920" y="2286000"/>
            <a:ext cx="1787400" cy="276228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9" descr="p1204910"/>
          <p:cNvPicPr/>
          <p:nvPr/>
        </p:nvPicPr>
        <p:blipFill>
          <a:blip r:embed="rId7"/>
          <a:stretch/>
        </p:blipFill>
        <p:spPr>
          <a:xfrm>
            <a:off x="228600" y="2971800"/>
            <a:ext cx="1654200" cy="266688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0" descr="p1304065"/>
          <p:cNvPicPr/>
          <p:nvPr/>
        </p:nvPicPr>
        <p:blipFill>
          <a:blip r:embed="rId8"/>
          <a:stretch/>
        </p:blipFill>
        <p:spPr>
          <a:xfrm>
            <a:off x="5537160" y="2590920"/>
            <a:ext cx="2335320" cy="373356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1" descr="p159180"/>
          <p:cNvPicPr/>
          <p:nvPr/>
        </p:nvPicPr>
        <p:blipFill>
          <a:blip r:embed="rId9"/>
          <a:stretch/>
        </p:blipFill>
        <p:spPr>
          <a:xfrm>
            <a:off x="1828800" y="3124080"/>
            <a:ext cx="1889280" cy="25146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2" descr="1acf5"/>
          <p:cNvPicPr/>
          <p:nvPr/>
        </p:nvPicPr>
        <p:blipFill>
          <a:blip r:embed="rId10"/>
          <a:stretch/>
        </p:blipFill>
        <p:spPr>
          <a:xfrm>
            <a:off x="5943600" y="4552920"/>
            <a:ext cx="1724040" cy="230508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3" descr="361c"/>
          <p:cNvPicPr/>
          <p:nvPr/>
        </p:nvPicPr>
        <p:blipFill>
          <a:blip r:embed="rId11"/>
          <a:stretch/>
        </p:blipFill>
        <p:spPr>
          <a:xfrm>
            <a:off x="7097760" y="4114800"/>
            <a:ext cx="2046240" cy="274320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4" descr="20329"/>
          <p:cNvPicPr/>
          <p:nvPr/>
        </p:nvPicPr>
        <p:blipFill>
          <a:blip r:embed="rId12"/>
          <a:stretch/>
        </p:blipFill>
        <p:spPr>
          <a:xfrm>
            <a:off x="5943600" y="673200"/>
            <a:ext cx="1666800" cy="22287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5" descr="1000505195"/>
          <p:cNvPicPr/>
          <p:nvPr/>
        </p:nvPicPr>
        <p:blipFill>
          <a:blip r:embed="rId13"/>
          <a:stretch/>
        </p:blipFill>
        <p:spPr>
          <a:xfrm>
            <a:off x="4572000" y="4826160"/>
            <a:ext cx="1522440" cy="20318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6" descr="54000039187"/>
          <p:cNvPicPr/>
          <p:nvPr/>
        </p:nvPicPr>
        <p:blipFill>
          <a:blip r:embed="rId14"/>
          <a:stretch/>
        </p:blipFill>
        <p:spPr>
          <a:xfrm>
            <a:off x="3171960" y="4767120"/>
            <a:ext cx="1485720" cy="21067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8" descr="zahoder1"/>
          <p:cNvPicPr/>
          <p:nvPr/>
        </p:nvPicPr>
        <p:blipFill>
          <a:blip r:embed="rId15"/>
          <a:stretch/>
        </p:blipFill>
        <p:spPr>
          <a:xfrm>
            <a:off x="7237440" y="762120"/>
            <a:ext cx="1906560" cy="33526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9" descr="p950795"/>
          <p:cNvPicPr/>
          <p:nvPr/>
        </p:nvPicPr>
        <p:blipFill>
          <a:blip r:embed="rId16"/>
          <a:stretch/>
        </p:blipFill>
        <p:spPr>
          <a:xfrm>
            <a:off x="219240" y="5410080"/>
            <a:ext cx="1082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77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3" dur="770" fill="hold"/>
                                        <p:tgtEl>
                                          <p:spTgt spid="9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5" dur="77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7" dur="77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77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3" dur="770" fill="hold"/>
                                        <p:tgtEl>
                                          <p:spTgt spid="10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5" dur="77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7" dur="77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212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1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222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223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9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230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6920" y="-592200"/>
            <a:ext cx="640224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ff66"/>
                </a:solidFill>
                <a:latin typeface="Monotype Corsiva"/>
              </a:rPr>
              <a:t>Борис </a:t>
            </a:r>
            <a:br>
              <a:rPr sz="4800"/>
            </a:br>
            <a:r>
              <a:rPr b="1" lang="ru-RU" sz="4800" spc="-1" strike="noStrike">
                <a:solidFill>
                  <a:srgbClr val="ffff66"/>
                </a:solidFill>
                <a:latin typeface="Monotype Corsiva"/>
              </a:rPr>
              <a:t>Владимирович </a:t>
            </a:r>
            <a:br>
              <a:rPr sz="4800"/>
            </a:br>
            <a:r>
              <a:rPr b="1" lang="ru-RU" sz="4800" spc="-1" strike="noStrike">
                <a:solidFill>
                  <a:srgbClr val="ffff66"/>
                </a:solidFill>
                <a:latin typeface="Monotype Corsiva"/>
              </a:rPr>
              <a:t>Заходер</a:t>
            </a:r>
            <a:br>
              <a:rPr sz="4800"/>
            </a:b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9 сентября 1918 – 7 ноября 2000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986280" y="429588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усский, советский поэт, детский писатель, переводчик, популяризатор мировой детской класс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1" descr="дом в комаровке"/>
          <p:cNvPicPr/>
          <p:nvPr/>
        </p:nvPicPr>
        <p:blipFill>
          <a:blip r:embed="rId1"/>
          <a:stretch/>
        </p:blipFill>
        <p:spPr>
          <a:xfrm>
            <a:off x="441360" y="3381480"/>
            <a:ext cx="3048120" cy="20113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2"/>
          <p:cNvSpPr/>
          <p:nvPr/>
        </p:nvSpPr>
        <p:spPr>
          <a:xfrm>
            <a:off x="982800" y="581184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м в Комаров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Рисунок 3" descr=""/>
          <p:cNvPicPr/>
          <p:nvPr/>
        </p:nvPicPr>
        <p:blipFill>
          <a:blip r:embed="rId2"/>
          <a:stretch/>
        </p:blipFill>
        <p:spPr>
          <a:xfrm>
            <a:off x="6248520" y="457200"/>
            <a:ext cx="2682720" cy="34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4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4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4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257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267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268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4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275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3" name=""/>
          <p:cNvSpPr txBox="1"/>
          <p:nvPr/>
        </p:nvSpPr>
        <p:spPr>
          <a:xfrm>
            <a:off x="304920" y="60948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Борис Заходер родился в городе Кагуле (Молдавия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тец Бориса Заходера работал юристконсу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Мать Заходера занималась техническими переводами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 детстве Борис Заходер, по собственному признанию, был очень «приличным мальчиком». Он не только не играл в футбол, но даже почти не дрался. Драться он не любил, зато все время читал и еще... очень любил животны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Жизненный и творческий путь Бориса Заходер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1846440" cy="2944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86" name="Picture 5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1852560" cy="3028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87" name="Picture 6" descr=""/>
          <p:cNvPicPr/>
          <p:nvPr/>
        </p:nvPicPr>
        <p:blipFill>
          <a:blip r:embed="rId3"/>
          <a:stretch/>
        </p:blipFill>
        <p:spPr>
          <a:xfrm>
            <a:off x="6788160" y="3505320"/>
            <a:ext cx="1654200" cy="3041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pSp>
        <p:nvGrpSpPr>
          <p:cNvPr id="28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8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9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295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305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306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2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313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2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2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2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" name=""/>
          <p:cNvSpPr txBox="1"/>
          <p:nvPr/>
        </p:nvSpPr>
        <p:spPr>
          <a:xfrm>
            <a:off x="152280" y="304920"/>
            <a:ext cx="6553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onotype Corsiva"/>
              </a:rPr>
              <a:t>В Москве прошло детство писателя. Его очевидная одаренность проявилась рано. В детстве освоил немецкий язык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onotype Corsiva"/>
              </a:rPr>
              <a:t>Борис рано заинтересовался литературой, придумывал сказки и загадки, рассказывал их товарищам, и те слушали его с интересом. Начал  свое творчество Б.Заходер с переводов. Мальчишкой, решив </a:t>
            </a:r>
            <a:r>
              <a:rPr b="0" i="1" lang="ru-RU" sz="2300" spc="-1" strike="noStrike">
                <a:solidFill>
                  <a:srgbClr val="ffffff"/>
                </a:solidFill>
                <a:latin typeface="Monotype Corsiva"/>
              </a:rPr>
              <a:t>«утереть нос Жуковскому»</a:t>
            </a:r>
            <a:r>
              <a:rPr b="0" lang="ru-RU" sz="2300" spc="-1" strike="noStrike">
                <a:solidFill>
                  <a:srgbClr val="ffffff"/>
                </a:solidFill>
                <a:latin typeface="Monotype Corsiva"/>
              </a:rPr>
              <a:t>, он перевел «Лесного царя» Гете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Monotype Corsiva"/>
              </a:rPr>
              <a:t>В 1935 году Заходер окончил школу. Сначала работал                                                   на заводе учеником токаря, учился в Московском авиационном институте, потом на биологическом факультете сперва Казанского, потом Московского университетов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onotype Corsiva"/>
              </a:rPr>
              <a:t>Он писал стихи, и поэзия постепенно занимала все большее место в его жизни. Борис Владимирович поступает в Литературный институт имени                                                         М. Горького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onotype Corsiva"/>
              </a:rPr>
              <a:t>Борис Заходер с группой студентов-добровольцев в                                 1939 году уходит на финскую войну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6"/>
          <a:stretch/>
        </p:blipFill>
        <p:spPr>
          <a:xfrm>
            <a:off x="6600960" y="3174840"/>
            <a:ext cx="2404800" cy="3581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340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9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350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351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7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358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6" name=""/>
          <p:cNvSpPr txBox="1"/>
          <p:nvPr/>
        </p:nvSpPr>
        <p:spPr>
          <a:xfrm>
            <a:off x="304560" y="380880"/>
            <a:ext cx="61722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 марта по 22 июня 1941 года он продолжает учебу в Ленинституте, пишет стихи, очерки.   На Великую Отечественную войну Заходер             тоже ушел добровольцем – в первые же д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 1946 году вернулся в Москву. И уже через год  с отличием окончил Литературный инстит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ак детский поэт Заходер дебютировал в журнале «Затейник» в 1947 году с веселым стихотворением «Морской бой» под псевдонимом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Борис Ве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1955 году вышел первый сборник поэта для ребят «На задней парт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 1958 году принят в Союз пис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кончался Борис Владимирович Заходер                                    7 ноября 2000 г. в Моск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5" descr="Большая яма"/>
          <p:cNvPicPr/>
          <p:nvPr/>
        </p:nvPicPr>
        <p:blipFill>
          <a:blip r:embed="rId7"/>
          <a:stretch/>
        </p:blipFill>
        <p:spPr>
          <a:xfrm>
            <a:off x="5807160" y="2876400"/>
            <a:ext cx="2852640" cy="361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6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7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7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8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8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8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395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4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405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406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2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413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21" name=""/>
          <p:cNvSpPr txBox="1"/>
          <p:nvPr/>
        </p:nvSpPr>
        <p:spPr>
          <a:xfrm>
            <a:off x="4267080" y="304920"/>
            <a:ext cx="47246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Произведения, написанные в проз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книга сказок "Мартышкино завтра" (1956), "Добрый носорог" (1977), "Жил-был Фип" (1977), сказки "Серая звездочка" (1963), "Русачок" (1967), "Отшельник и Роза" (1969), "История Гусеницы" (1970), "Почему рыбы молчат" (1970), "Ма-Тари-Кари" (1970), "Сказка про всех на свете" (1976) и многие другие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Переводы известных зарубежных детских сказок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повести-сказки А.А.Милна "Винни-Пух и все-все-все" (другой вариант – "Винни-Пух и все остальные", 1960), П.Трэверс "Мэри Поппинс" (1968), Л.Кэррола "Приключения Алисы в Стране Чудес" (1971–1972), сказок Карела Чапека, братьев Гримм ("Бременские музыканты", 1982, и др.), пьесы Дж.М.Барри "Питер Пэн" (1967), стихотворений Л.Керна, Ю.Тувима, У.Дж.Смита, Я.Бжехвы и др.</a:t>
            </a: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«Веселые стихи» в творчестве детского  поэта</a:t>
            </a:r>
            <a:br>
              <a:rPr sz="24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33280" y="603360"/>
            <a:ext cx="419112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Сборники сти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"На задней парте" (1955), "Мартышкино завтра" (1956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"Никто и другие" (1958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"Кто на кого похож" (1960), "Товарищам детям (1966)"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"Школа для птенцов" (1970), "Считалия" (1979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"Моя Вообразилия" (1980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"Если мне подарят лодку" (1981)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Пьесы для детского теат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"Ростик в Дремучем Лесу"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"Мэри Поппинс" (обе 1976),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"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Крылья Дюймовочки" (1978; две последние в соавторстве с В. Климовским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"Приключения Алисы в Стране Чудес" (1982); Заходер автор либретто к опере "Лопушок у Лукоморья" (1977), пьесы для кукольного театра "Очень умные игрушки" (1976)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7" descr="knigi-159"/>
          <p:cNvPicPr/>
          <p:nvPr/>
        </p:nvPicPr>
        <p:blipFill>
          <a:blip r:embed="rId5"/>
          <a:stretch/>
        </p:blipFill>
        <p:spPr>
          <a:xfrm rot="1292400">
            <a:off x="31320" y="234720"/>
            <a:ext cx="1093680" cy="804600"/>
          </a:xfrm>
          <a:prstGeom prst="rect">
            <a:avLst/>
          </a:prstGeom>
          <a:ln w="0">
            <a:noFill/>
          </a:ln>
        </p:spPr>
      </p:pic>
      <p:grpSp>
        <p:nvGrpSpPr>
          <p:cNvPr id="4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1" name="Group 10"/>
          <p:cNvGrpSpPr/>
          <p:nvPr/>
        </p:nvGrpSpPr>
        <p:grpSpPr>
          <a:xfrm>
            <a:off x="36360" y="5470560"/>
            <a:ext cx="1784520" cy="1246320"/>
            <a:chOff x="36360" y="5470560"/>
            <a:chExt cx="1784520" cy="1246320"/>
          </a:xfrm>
        </p:grpSpPr>
        <p:sp>
          <p:nvSpPr>
            <p:cNvPr id="432" name="Freeform 11"/>
            <p:cNvSpPr/>
            <p:nvPr/>
          </p:nvSpPr>
          <p:spPr>
            <a:xfrm>
              <a:off x="66600" y="549432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12"/>
            <p:cNvSpPr/>
            <p:nvPr/>
          </p:nvSpPr>
          <p:spPr>
            <a:xfrm>
              <a:off x="1650960" y="561672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13"/>
            <p:cNvSpPr/>
            <p:nvPr/>
          </p:nvSpPr>
          <p:spPr>
            <a:xfrm>
              <a:off x="60120" y="592128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14"/>
            <p:cNvSpPr/>
            <p:nvPr/>
          </p:nvSpPr>
          <p:spPr>
            <a:xfrm>
              <a:off x="233280" y="597528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15"/>
            <p:cNvSpPr/>
            <p:nvPr/>
          </p:nvSpPr>
          <p:spPr>
            <a:xfrm>
              <a:off x="798480" y="553716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16"/>
            <p:cNvSpPr/>
            <p:nvPr/>
          </p:nvSpPr>
          <p:spPr>
            <a:xfrm>
              <a:off x="1046160" y="653904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17"/>
            <p:cNvSpPr/>
            <p:nvPr/>
          </p:nvSpPr>
          <p:spPr>
            <a:xfrm>
              <a:off x="828720" y="565632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18"/>
            <p:cNvSpPr/>
            <p:nvPr/>
          </p:nvSpPr>
          <p:spPr>
            <a:xfrm>
              <a:off x="1089000" y="562932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19"/>
            <p:cNvSpPr/>
            <p:nvPr/>
          </p:nvSpPr>
          <p:spPr>
            <a:xfrm>
              <a:off x="579240" y="579276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1" name="Group 20"/>
            <p:cNvGrpSpPr/>
            <p:nvPr/>
          </p:nvGrpSpPr>
          <p:grpSpPr>
            <a:xfrm>
              <a:off x="36360" y="5470560"/>
              <a:ext cx="1784520" cy="1238400"/>
              <a:chOff x="36360" y="5470560"/>
              <a:chExt cx="1784520" cy="123840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820440" y="5584680"/>
                <a:ext cx="870120" cy="1124280"/>
                <a:chOff x="820440" y="5584680"/>
                <a:chExt cx="870120" cy="1124280"/>
              </a:xfrm>
            </p:grpSpPr>
            <p:sp>
              <p:nvSpPr>
                <p:cNvPr id="443" name="Freeform 22"/>
                <p:cNvSpPr/>
                <p:nvPr/>
              </p:nvSpPr>
              <p:spPr>
                <a:xfrm>
                  <a:off x="820440" y="562464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3"/>
                <p:cNvSpPr/>
                <p:nvPr/>
              </p:nvSpPr>
              <p:spPr>
                <a:xfrm>
                  <a:off x="1038240" y="649764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24"/>
                <p:cNvSpPr/>
                <p:nvPr/>
              </p:nvSpPr>
              <p:spPr>
                <a:xfrm>
                  <a:off x="1622160" y="55846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Freeform 25"/>
              <p:cNvSpPr/>
              <p:nvPr/>
            </p:nvSpPr>
            <p:spPr>
              <a:xfrm>
                <a:off x="149040" y="585468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41360" y="609912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925200" y="577224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9" name="Group 28"/>
              <p:cNvGrpSpPr/>
              <p:nvPr/>
            </p:nvGrpSpPr>
            <p:grpSpPr>
              <a:xfrm>
                <a:off x="36360" y="5470560"/>
                <a:ext cx="1784520" cy="1076400"/>
                <a:chOff x="36360" y="5470560"/>
                <a:chExt cx="1784520" cy="1076400"/>
              </a:xfrm>
            </p:grpSpPr>
            <p:sp>
              <p:nvSpPr>
                <p:cNvPr id="450" name="Freeform 29"/>
                <p:cNvSpPr/>
                <p:nvPr/>
              </p:nvSpPr>
              <p:spPr>
                <a:xfrm>
                  <a:off x="1090440" y="635652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30"/>
                <p:cNvSpPr/>
                <p:nvPr/>
              </p:nvSpPr>
              <p:spPr>
                <a:xfrm>
                  <a:off x="36360" y="584820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31"/>
                <p:cNvSpPr/>
                <p:nvPr/>
              </p:nvSpPr>
              <p:spPr>
                <a:xfrm>
                  <a:off x="196560" y="591516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32"/>
                <p:cNvSpPr/>
                <p:nvPr/>
              </p:nvSpPr>
              <p:spPr>
                <a:xfrm>
                  <a:off x="741240" y="547056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33"/>
                <p:cNvSpPr/>
                <p:nvPr/>
              </p:nvSpPr>
              <p:spPr>
                <a:xfrm>
                  <a:off x="946080" y="572436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34"/>
                <p:cNvSpPr/>
                <p:nvPr/>
              </p:nvSpPr>
              <p:spPr>
                <a:xfrm>
                  <a:off x="549000" y="569268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35"/>
                <p:cNvSpPr/>
                <p:nvPr/>
              </p:nvSpPr>
              <p:spPr>
                <a:xfrm>
                  <a:off x="1073160" y="554688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36"/>
                <p:cNvSpPr/>
                <p:nvPr/>
              </p:nvSpPr>
              <p:spPr>
                <a:xfrm>
                  <a:off x="1166760" y="565452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5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6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61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«Веселые стихи» в творчестве детского  поэта</a:t>
            </a:r>
            <a:br>
              <a:rPr sz="24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317600" y="793800"/>
            <a:ext cx="63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сновная тема детской поэзии Заходера — мир животных, среди которых со своими убедительными и яркими, индивидуализированными характерами и повадками предстают как хорошо известные персонажи (кенгурята, антилопы, верблюды, хорьки, страусы), вызывающие не только умиление, но и раздражение такими чертами, как дикость, невежество, самолюбование, глупость (это кабаны, носороги, павлины, попугаи), так и невиданные звери. То или иное качество присваивается животному в момент знакомства с ним, тогда как характер аллегорического персонажа закреплен за ним традицией. Спонтанность мышления отличает «поэта» Заход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9" descr="bibl-ml"/>
          <p:cNvPicPr/>
          <p:nvPr/>
        </p:nvPicPr>
        <p:blipFill>
          <a:blip r:embed="rId2"/>
          <a:stretch/>
        </p:blipFill>
        <p:spPr>
          <a:xfrm>
            <a:off x="7313760" y="4979880"/>
            <a:ext cx="175248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10"/>
          <p:cNvGrpSpPr/>
          <p:nvPr/>
        </p:nvGrpSpPr>
        <p:grpSpPr>
          <a:xfrm>
            <a:off x="155520" y="5499000"/>
            <a:ext cx="1784520" cy="1246320"/>
            <a:chOff x="155520" y="5499000"/>
            <a:chExt cx="1784520" cy="1246320"/>
          </a:xfrm>
        </p:grpSpPr>
        <p:sp>
          <p:nvSpPr>
            <p:cNvPr id="475" name="Freeform 11"/>
            <p:cNvSpPr/>
            <p:nvPr/>
          </p:nvSpPr>
          <p:spPr>
            <a:xfrm>
              <a:off x="185760" y="55227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Freeform 12"/>
            <p:cNvSpPr/>
            <p:nvPr/>
          </p:nvSpPr>
          <p:spPr>
            <a:xfrm>
              <a:off x="1770120" y="56451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13"/>
            <p:cNvSpPr/>
            <p:nvPr/>
          </p:nvSpPr>
          <p:spPr>
            <a:xfrm>
              <a:off x="179280" y="59497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14"/>
            <p:cNvSpPr/>
            <p:nvPr/>
          </p:nvSpPr>
          <p:spPr>
            <a:xfrm>
              <a:off x="352440" y="60037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15"/>
            <p:cNvSpPr/>
            <p:nvPr/>
          </p:nvSpPr>
          <p:spPr>
            <a:xfrm>
              <a:off x="917640" y="55656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16"/>
            <p:cNvSpPr/>
            <p:nvPr/>
          </p:nvSpPr>
          <p:spPr>
            <a:xfrm>
              <a:off x="1165320" y="65674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Freeform 17"/>
            <p:cNvSpPr/>
            <p:nvPr/>
          </p:nvSpPr>
          <p:spPr>
            <a:xfrm>
              <a:off x="947880" y="56847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1208160" y="56577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Freeform 19"/>
            <p:cNvSpPr/>
            <p:nvPr/>
          </p:nvSpPr>
          <p:spPr>
            <a:xfrm>
              <a:off x="698400" y="58212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4" name="Group 20"/>
            <p:cNvGrpSpPr/>
            <p:nvPr/>
          </p:nvGrpSpPr>
          <p:grpSpPr>
            <a:xfrm>
              <a:off x="155520" y="5499000"/>
              <a:ext cx="1784520" cy="1238400"/>
              <a:chOff x="155520" y="5499000"/>
              <a:chExt cx="1784520" cy="1238400"/>
            </a:xfrm>
          </p:grpSpPr>
          <p:grpSp>
            <p:nvGrpSpPr>
              <p:cNvPr id="485" name="Group 21"/>
              <p:cNvGrpSpPr/>
              <p:nvPr/>
            </p:nvGrpSpPr>
            <p:grpSpPr>
              <a:xfrm>
                <a:off x="939600" y="5613120"/>
                <a:ext cx="870120" cy="1124280"/>
                <a:chOff x="939600" y="5613120"/>
                <a:chExt cx="870120" cy="1124280"/>
              </a:xfrm>
            </p:grpSpPr>
            <p:sp>
              <p:nvSpPr>
                <p:cNvPr id="486" name="Freeform 22"/>
                <p:cNvSpPr/>
                <p:nvPr/>
              </p:nvSpPr>
              <p:spPr>
                <a:xfrm>
                  <a:off x="939600" y="56530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23"/>
                <p:cNvSpPr/>
                <p:nvPr/>
              </p:nvSpPr>
              <p:spPr>
                <a:xfrm>
                  <a:off x="1157400" y="65260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24"/>
                <p:cNvSpPr/>
                <p:nvPr/>
              </p:nvSpPr>
              <p:spPr>
                <a:xfrm>
                  <a:off x="1741320" y="56131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" name="Freeform 25"/>
              <p:cNvSpPr/>
              <p:nvPr/>
            </p:nvSpPr>
            <p:spPr>
              <a:xfrm>
                <a:off x="268200" y="58831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26"/>
              <p:cNvSpPr/>
              <p:nvPr/>
            </p:nvSpPr>
            <p:spPr>
              <a:xfrm>
                <a:off x="560520" y="61275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27"/>
              <p:cNvSpPr/>
              <p:nvPr/>
            </p:nvSpPr>
            <p:spPr>
              <a:xfrm>
                <a:off x="1044360" y="58006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2" name="Group 28"/>
              <p:cNvGrpSpPr/>
              <p:nvPr/>
            </p:nvGrpSpPr>
            <p:grpSpPr>
              <a:xfrm>
                <a:off x="155520" y="5499000"/>
                <a:ext cx="1784520" cy="1076400"/>
                <a:chOff x="155520" y="5499000"/>
                <a:chExt cx="1784520" cy="1076400"/>
              </a:xfrm>
            </p:grpSpPr>
            <p:sp>
              <p:nvSpPr>
                <p:cNvPr id="493" name="Freeform 29"/>
                <p:cNvSpPr/>
                <p:nvPr/>
              </p:nvSpPr>
              <p:spPr>
                <a:xfrm>
                  <a:off x="1209600" y="63849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30"/>
                <p:cNvSpPr/>
                <p:nvPr/>
              </p:nvSpPr>
              <p:spPr>
                <a:xfrm>
                  <a:off x="155520" y="58766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31"/>
                <p:cNvSpPr/>
                <p:nvPr/>
              </p:nvSpPr>
              <p:spPr>
                <a:xfrm>
                  <a:off x="315720" y="59436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32"/>
                <p:cNvSpPr/>
                <p:nvPr/>
              </p:nvSpPr>
              <p:spPr>
                <a:xfrm>
                  <a:off x="860400" y="54990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3"/>
                <p:cNvSpPr/>
                <p:nvPr/>
              </p:nvSpPr>
              <p:spPr>
                <a:xfrm>
                  <a:off x="1065240" y="57528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34"/>
                <p:cNvSpPr/>
                <p:nvPr/>
              </p:nvSpPr>
              <p:spPr>
                <a:xfrm>
                  <a:off x="668160" y="57211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35"/>
                <p:cNvSpPr/>
                <p:nvPr/>
              </p:nvSpPr>
              <p:spPr>
                <a:xfrm>
                  <a:off x="1192320" y="55753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36"/>
                <p:cNvSpPr/>
                <p:nvPr/>
              </p:nvSpPr>
              <p:spPr>
                <a:xfrm>
                  <a:off x="1285920" y="56829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0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0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0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0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«Веселые стихи» в творчестве детского  поэта</a:t>
            </a:r>
            <a:br>
              <a:rPr sz="24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51920" y="38052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Ассоциации, каламбуры, перевертыши, логические игры рождаются будто на бегу и застывают в стихах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Под собой не чуя ног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Скачет резвый рапун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Игра в слово – основа сказочного вымысла в творчестве Заходера – и не только в стихах, а и в прозе, и в переводах. Играя в слова-омонимы, поэт совершает чудес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Вихрем мчится под вод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Головастик молод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А за ним – еще пя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Monotype Corsiva"/>
              </a:rPr>
              <a:t>А за ним – сплошной поток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В его книжках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Умеют Львы косматые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Скакать верхом на палочке,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А мраморные статуи</a:t>
            </a:r>
            <a:br>
              <a:rPr sz="2400"/>
            </a:br>
            <a:r>
              <a:rPr b="0" i="1" lang="ru-RU" sz="2400" spc="-1" strike="noStrike">
                <a:solidFill>
                  <a:srgbClr val="ffff66"/>
                </a:solidFill>
                <a:latin typeface="Monotype Corsiva"/>
              </a:rPr>
              <a:t>Сыграют с вами в салочк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4"/>
          <a:stretch/>
        </p:blipFill>
        <p:spPr>
          <a:xfrm>
            <a:off x="6400800" y="2590920"/>
            <a:ext cx="2590920" cy="17985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"/>
          <p:cNvPicPr/>
          <p:nvPr/>
        </p:nvPicPr>
        <p:blipFill>
          <a:blip r:embed="rId5"/>
          <a:stretch/>
        </p:blipFill>
        <p:spPr>
          <a:xfrm>
            <a:off x="6586560" y="4753080"/>
            <a:ext cx="1828800" cy="1760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якова Татьяна Евгеньевна</dc:creator>
  <dc:description/>
  <dc:language>en-US</dc:language>
  <cp:lastModifiedBy>Марочкин Василий Викторович</cp:lastModifiedBy>
  <dcterms:modified xsi:type="dcterms:W3CDTF">2014-03-13T05:54:30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