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E84-13F3-4B92-9F9C-E4DB41F6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5EA-8A17-4B29-817D-A06A340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453-FEB8-40D6-8052-A134BDB0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12F-2101-414A-8F04-C9AD3544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4DE-AC22-4F56-94E0-B11A843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22E-1C0A-4480-8362-7E49FC7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791-7C42-4B75-9CAD-B29C4FA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96F-5D43-4FB3-B458-46E6DA0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E0E-5D77-48FB-968E-B765ACE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450-88BF-47FB-97B4-D051253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121-1C44-4CAF-BEE8-9328D92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996-DEA1-4146-B859-A569715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779-4E1C-4DFB-9230-D6156BFF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useum-guide.livejournal.com/" TargetMode="External"/><Relationship Id="rId2" Type="http://schemas.openxmlformats.org/officeDocument/2006/relationships/hyperlink" Target="http://www.akhmatova.spb.ru/" TargetMode="External"/><Relationship Id="rId3" Type="http://schemas.openxmlformats.org/officeDocument/2006/relationships/hyperlink" Target="http://www.museum.ru/" TargetMode="External"/><Relationship Id="rId4" Type="http://schemas.openxmlformats.org/officeDocument/2006/relationships/hyperlink" Target="http://paperpaper.ru/http:/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427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очная экскурсия в кабинет Иосифа Бродского в музее Анны Ахмат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868640"/>
            <a:ext cx="5580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СОШ № 27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ковская Ир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12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40384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ий вес контейнера, который прибыл в Россию - около 700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3492360" cy="233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336920"/>
            <a:ext cx="378000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До того как музей-квартира Бродского откроется, все вещи будут храниться в Музее Ахматовой. Фото: Александр Демьянчук/ РИА Новости www.ria.ru"/>
          <p:cNvPicPr/>
          <p:nvPr/>
        </p:nvPicPr>
        <p:blipFill>
          <a:blip r:embed="rId4"/>
          <a:stretch/>
        </p:blipFill>
        <p:spPr>
          <a:xfrm>
            <a:off x="0" y="126828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995640" y="4859280"/>
            <a:ext cx="29955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useum-guide.livejournal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khmatova.spb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useum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aperpaper.ru/http: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.1september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сиф Александрович Бродский (1940 - 1996) — один из крупнейших русских поэтов XX века, а также признанный американский поэт, эссеист, драматург, переводчик, лауреат Нобелевской премии по литературе 1987 года.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2427120"/>
            <a:ext cx="7885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рес музе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31478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51440"/>
            <a:ext cx="52927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йный пр., 53 (под арку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зд до станций метро – «Владимирская», «Достоевская»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Гостиный двор», «Невский проспект», «Маяковская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ей открыт с 10.30 до 18.30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редам с 12.00 до 20.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са закрывается на час раньш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ной день – 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86720" y="0"/>
            <a:ext cx="235728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3924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195640" y="3284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сиф Бродский никогда не жил в Фонтанном Доме и даже никогда не бывал здесь.. В 2003 году Фонд наследственного имущества И. Бродского и вдова поэта Мария Бродская передали Музею Анны Ахматовой в Фонтанном Д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вом этаже Фонтанного дома есть музейная экспозиция — кабинет Иосифа Бродского. Он жил по соседству — на Литейном, 24. Но его духовная связь с Анной Ахматовой, начавшаяся еще в 1960-е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7280" y="2205000"/>
            <a:ext cx="273672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638520"/>
            <a:ext cx="4859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64000" y="3644640"/>
            <a:ext cx="3456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коллекции музея более 2600 экспонатов, связанных с жизнью и творчеством поэта. На формирование этой коллекции у музея ушло около 2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387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вещей, некогда окружавших И. Бродского, можно увидеть в Музее Анны Ахматовой в Фонтанном доме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470400"/>
            <a:ext cx="5076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бинете такж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еть филь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Бродском, где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ышляет о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и, об одино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а в мире, о су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го покол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ослушать голос поэта, читающего свои сти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Продолжение воды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Н. Федоровский, Харальд Людерс. 1991. – 3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Прогулки с Бродским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О. Шорох. 1994 г. — 2 части по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«Иосиф Бродский. Немного о себе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ссёр-оператор Е. Поротов. 1996 г. – 50 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Фильм, сделанный в домашних условиях другом Иосифа Бродского Бенгтом Янгфельдом в своем доме в Швеции. – 3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«Ниоткуда с любовью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А. Шишов. 1996 г. –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амяти Иосифа Бродског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ТВ. Программа Л. Парфёнова. 1997. – 40 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«Иосиф Бродский. Страницы жизни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Стефанович. 1997 г. – 45 мин. 8. «Поэт о поэтах». Фильм снят шведским и московским телевидением. 1992 г. –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«Нобелевские лауреаты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сценария Г. Чхартишвили, реж. А. Торстенсен. 1997 г. – 4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«Поэт в Петербурге». 1996 г. 11. «У самовара я и И. Бродский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 с И. Бродским, сделанное в Паоло-Алто, Калифор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 «Полтора кота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А. Хржановский. 2002 г. – 30 ми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вещи - дар вдовы поэта Марии Соццани-Бродской. Решение передать вещи в Музей Анны Ахматовой в Фонтанном Доме она приняла летом 2014 го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й Анны Ахматовой в Фонтанном Доме прибыл груз из Нью-Йорка - предметы обстановки, книги, фотографии из последней квартиры Иосифа Бродского в Бруклине (Нью-Йорк) - 22, Pierrepont Street, куда поэт с женой и дочерью переехал в 1993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Предметы из последней квартиры Иосифа Бродского в Бруклине "/>
          <p:cNvPicPr/>
          <p:nvPr/>
        </p:nvPicPr>
        <p:blipFill>
          <a:blip r:embed="rId1"/>
          <a:stretch/>
        </p:blipFill>
        <p:spPr>
          <a:xfrm>
            <a:off x="4211640" y="2357280"/>
            <a:ext cx="2844720" cy="22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Предметы из последней квартиры Иосифа Бродского в Бруклине "/>
          <p:cNvPicPr/>
          <p:nvPr/>
        </p:nvPicPr>
        <p:blipFill>
          <a:blip r:embed="rId2"/>
          <a:stretch/>
        </p:blipFill>
        <p:spPr>
          <a:xfrm>
            <a:off x="7656480" y="119700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редметы из последней квартиры Иосифа Бродского в Бруклине "/>
          <p:cNvPicPr/>
          <p:nvPr/>
        </p:nvPicPr>
        <p:blipFill>
          <a:blip r:embed="rId3"/>
          <a:stretch/>
        </p:blipFill>
        <p:spPr>
          <a:xfrm>
            <a:off x="3492360" y="494172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Предметы из последней квартиры Иосифа Бродского в Бруклине "/>
          <p:cNvPicPr/>
          <p:nvPr/>
        </p:nvPicPr>
        <p:blipFill>
          <a:blip r:embed="rId4"/>
          <a:stretch/>
        </p:blipFill>
        <p:spPr>
          <a:xfrm>
            <a:off x="6659640" y="4941720"/>
            <a:ext cx="2484360" cy="16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5:50:04Z</dcterms:created>
  <dc:creator>mazda</dc:creator>
  <dc:description/>
  <dc:language>en-US</dc:language>
  <cp:lastModifiedBy>mazda</cp:lastModifiedBy>
  <dcterms:modified xsi:type="dcterms:W3CDTF">2015-08-18T17:59:02Z</dcterms:modified>
  <cp:revision>4</cp:revision>
  <dc:subject/>
  <dc:title>Слайд 1</dc:title>
</cp:coreProperties>
</file>