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7CD-25D7-45DE-B7E5-CB70225F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19A-5C61-4ABC-A04E-725CD446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6DD-1179-4D93-804D-3B247446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2D2-10F5-4E42-8F14-A3E0252A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4BE-92F2-49DA-A518-BB4EC118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98F-8744-483E-831D-8824D895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233-FE28-496A-8339-097BDD46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826-4AE1-4A68-8C21-BE34B029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B77-FBC0-425A-AB06-FCE4C2C0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655-E6A6-4A44-8E53-085314BF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C86-BA07-4151-8B13-2D0214C7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C6F-3300-4885-9734-AB5ABB8A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0C79-1C94-4D9A-B3B6-AE452090F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useum-guide.livejournal.com/" TargetMode="External"/><Relationship Id="rId2" Type="http://schemas.openxmlformats.org/officeDocument/2006/relationships/hyperlink" Target="http://www.akhmatova.spb.ru/" TargetMode="External"/><Relationship Id="rId3" Type="http://schemas.openxmlformats.org/officeDocument/2006/relationships/hyperlink" Target="http://www.museum.ru/" TargetMode="External"/><Relationship Id="rId4" Type="http://schemas.openxmlformats.org/officeDocument/2006/relationships/hyperlink" Target="http://paperpaper.ru/http:/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427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очная экскурсия в кабинет Иосифа Бродского в музее Анны Ахмато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4000" y="4868640"/>
            <a:ext cx="5580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СОШ № 27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ковская Ирин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12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403848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ий вес контейнера, который прибыл в Россию - около 700 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237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3492360" cy="233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4336920"/>
            <a:ext cx="378000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До того как музей-квартира Бродского откроется, все вещи будут храниться в Музее Ахматовой. Фото: Александр Демьянчук/ РИА Новости www.ria.ru"/>
          <p:cNvPicPr/>
          <p:nvPr/>
        </p:nvPicPr>
        <p:blipFill>
          <a:blip r:embed="rId4"/>
          <a:stretch/>
        </p:blipFill>
        <p:spPr>
          <a:xfrm>
            <a:off x="0" y="1268280"/>
            <a:ext cx="3635280" cy="242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995640" y="4859280"/>
            <a:ext cx="29955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useum-guide.livejournal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khmatova.spb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useum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aperpaper.ru/http:/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.1september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803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осиф Александрович Бродский (1940 - 1996) — один из крупнейших русских поэтов XX века, а также признанный американский поэт, эссеист, драматург, переводчик, лауреат Нобелевской премии по литературе 1987 года.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2427120"/>
            <a:ext cx="78850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рес музе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314784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51440"/>
            <a:ext cx="529272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йный пр., 53 (под арку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зд до станций метро – «Владимирская», «Достоевская»,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Гостиный двор», «Невский проспект», «Маяковская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зей открыт с 10.30 до 18.30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редам с 12.00 до 20.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сса закрывается на час раньш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ходной день – понед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86720" y="0"/>
            <a:ext cx="2357280" cy="3141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19640" y="3645000"/>
            <a:ext cx="39243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195640" y="328428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осиф Бродский никогда не жил в Фонтанном Доме и даже никогда не бывал здесь.. В 2003 году Фонд наследственного имущества И. Бродского и вдова поэта Мария Бродская передали Музею Анны Ахматовой в Фонтанном Д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ервом этаже Фонтанного дома есть музейная экспозиция — кабинет Иосифа Бродского. Он жил по соседству — на Литейном, 24. Но его духовная связь с Анной Ахматовой, начавшаяся еще в 1960-е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7280" y="2205000"/>
            <a:ext cx="2736720" cy="3645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638520"/>
            <a:ext cx="4859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64000" y="3644640"/>
            <a:ext cx="34560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го в коллекции музея более 2600 экспонатов, связанных с жизнью и творчеством поэта. На формирование этой коллекции у музея ушло около 24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3387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03848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вещей, некогда окружавших И. Бродского, можно увидеть в Музее Анны Ахматовой в Фонтанном доме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470400"/>
            <a:ext cx="50767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бинете такж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еть филь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Бродском, где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ышляет о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и, об одино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а в мире, о судь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го покол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ослушать голос поэта, читающего свои сти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Продолжение воды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Н. Федоровский, Харальд Людерс. 1991. – 30 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Прогулки с Бродским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О. Шорох. 1994 г. — 2 части по 4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«Иосиф Бродский. Немного о себе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ссёр-оператор Е. Поротов. 1996 г. – 50 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Фильм, сделанный в домашних условиях другом Иосифа Бродского Бенгтом Янгфельдом в своем доме в Швеции. – 30 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«Ниоткуда с любовью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А. Шишов. 1996 г. – 4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амяти Иосифа Бродского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ТВ. Программа Л. Парфёнова. 1997. – 40 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«Иосиф Бродский. Страницы жизни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Стефанович. 1997 г. – 45 мин. 8. «Поэт о поэтах». Фильм снят шведским и московским телевидением. 1992 г. – 4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«Нобелевские лауреаты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сценария Г. Чхартишвили, реж. А. Торстенсен. 1997 г. – 4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«Поэт в Петербурге». 1996 г. 11. «У самовара я и И. Бродский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ью с И. Бродским, сделанное в Паоло-Алто, Калифор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 «Полтора кота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. А. Хржановский. 2002 г. – 30 ми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вещи - дар вдовы поэта Марии Соццани-Бродской. Решение передать вещи в Музей Анны Ахматовой в Фонтанном Доме она приняла летом 2014 год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ей Анны Ахматовой в Фонтанном Доме прибыл груз из Нью-Йорка - предметы обстановки, книги, фотографии из последней квартиры Иосифа Бродского в Бруклине (Нью-Йорк) - 22, Pierrepont Street, куда поэт с женой и дочерью переехал в 1993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Предметы из последней квартиры Иосифа Бродского в Бруклине "/>
          <p:cNvPicPr/>
          <p:nvPr/>
        </p:nvPicPr>
        <p:blipFill>
          <a:blip r:embed="rId1"/>
          <a:stretch/>
        </p:blipFill>
        <p:spPr>
          <a:xfrm>
            <a:off x="4211640" y="2357280"/>
            <a:ext cx="2844720" cy="220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Предметы из последней квартиры Иосифа Бродского в Бруклине "/>
          <p:cNvPicPr/>
          <p:nvPr/>
        </p:nvPicPr>
        <p:blipFill>
          <a:blip r:embed="rId2"/>
          <a:stretch/>
        </p:blipFill>
        <p:spPr>
          <a:xfrm>
            <a:off x="7656480" y="119700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редметы из последней квартиры Иосифа Бродского в Бруклине "/>
          <p:cNvPicPr/>
          <p:nvPr/>
        </p:nvPicPr>
        <p:blipFill>
          <a:blip r:embed="rId3"/>
          <a:stretch/>
        </p:blipFill>
        <p:spPr>
          <a:xfrm>
            <a:off x="3492360" y="4941720"/>
            <a:ext cx="2880000" cy="191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Предметы из последней квартиры Иосифа Бродского в Бруклине "/>
          <p:cNvPicPr/>
          <p:nvPr/>
        </p:nvPicPr>
        <p:blipFill>
          <a:blip r:embed="rId4"/>
          <a:stretch/>
        </p:blipFill>
        <p:spPr>
          <a:xfrm>
            <a:off x="6659640" y="4941720"/>
            <a:ext cx="2484360" cy="1652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5:50:04Z</dcterms:created>
  <dc:creator>mazda</dc:creator>
  <dc:description/>
  <dc:language>en-US</dc:language>
  <cp:lastModifiedBy>mazda</cp:lastModifiedBy>
  <dcterms:modified xsi:type="dcterms:W3CDTF">2015-08-18T17:59:02Z</dcterms:modified>
  <cp:revision>4</cp:revision>
  <dc:subject/>
  <dc:title>Слайд 1</dc:title>
</cp:coreProperties>
</file>