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C23-1B61-4EDD-92A6-FB48C206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3D9-B705-4186-88AD-AE964316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445-83C3-43ED-A029-C274790A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5C1-0147-4910-BC6D-9594D25E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7BD9-8128-41E3-BE7E-26966CEF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B437-D48B-4ABC-831A-E12C9082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32A0-AD37-4F52-8984-6DB9F707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E7B2-AD92-4FFC-8008-1C3D7A07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5D90-4DE0-41BF-B7D2-238AE54D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65A8-40F3-41A8-BB68-B4BA1225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A614-8DF1-4600-B1F9-10EA423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B89-A598-4B7C-A675-2EEB699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1696-87FA-4F9B-ACFB-90C858C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2E1F-48D2-4CD3-B619-E3CECED4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1282-5E28-4A0D-B24F-CF4B142B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E0D3-03BF-4199-866E-120A9DAC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2059-36DD-430A-A557-2070F9DC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D63-5B11-48DA-B4AF-62444CE6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9D8-0474-45C1-9B50-C89481FF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85C-75D7-4B91-8CC6-149E4DD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23E-AC81-4A3D-AE63-A4CF7C15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5D9-B3F3-4F90-B298-76DA35A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32A-1152-44D1-A5CD-815AB0EA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CF7-CFAC-4028-9CAC-866B66F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EA0E-5495-4519-8961-5BAAF730EF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F392-9D40-46CD-B3D2-C7C619E69D0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ДДТ\Desktop\Сценарий мероприятия, посвященного 70 летию Сталинградской битвы\026052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57150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52480" y="4593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50800"/>
                </a:solidFill>
                <a:latin typeface="Arial"/>
                <a:ea typeface="Times New Roman"/>
              </a:rPr>
              <a:t>«Город военной славы»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057400" y="1144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ценарий познавательно-развлекательного мероприятия, посвященного 70-летию со дня Победы в 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676520" y="182880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  <a:ea typeface="Arial"/>
              </a:rPr>
              <a:t>Важный день для всей план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  <a:ea typeface="Arial"/>
              </a:rPr>
              <a:t>Вечен он, непобедим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  <a:ea typeface="Arial"/>
              </a:rPr>
              <a:t>Отмечаем День Побед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  <a:ea typeface="Arial"/>
              </a:rPr>
              <a:t>Знаем, Помним и Скорбим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941_88"/>
          <p:cNvPicPr/>
          <p:nvPr/>
        </p:nvPicPr>
        <p:blipFill>
          <a:blip r:embed="rId2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ДДТ\Desktop\Сталининградская битва\127263-050-CD91829C.jp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4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страх и ужас детей войны.jpg"/>
          <p:cNvPicPr/>
          <p:nvPr/>
        </p:nvPicPr>
        <p:blipFill>
          <a:blip r:embed="rId3"/>
          <a:stretch/>
        </p:blipFill>
        <p:spPr>
          <a:xfrm>
            <a:off x="380880" y="4114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ДДТ\Desktop\000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C:\Users\ДДТ\Desktop\822972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05740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447920" y="0"/>
            <a:ext cx="6705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447920" y="0"/>
            <a:ext cx="6010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ДДТ\Desktop\Сценарий мероприятия, посвященного 70 летию Сталинградской битвы\0_648c8_1d196226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438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752480" y="0"/>
            <a:ext cx="5410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Fot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Users\ДДТ\Desktop\Сценарий мероприятия, посвященного 70 летию Сталинградской битвы\026052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rcRect l="26506" t="0" r="0" b="0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1943_42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6673" r="0" b="66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8-19T10:52:05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