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251-E984-4AA1-B413-33E453CA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B50-A1A0-40B6-AB38-D8039BCA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9DD-3516-411E-B72E-1C7B05DD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E8B-CD61-478F-8130-7EBF5060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CD08-8CC5-42D7-9A35-B8655039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E446-2C4E-434F-B3ED-30227CA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AD17-547F-4CE8-90CC-3B64D201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5CF6-E98E-4F3C-B4BA-5DC0A4D1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08A7-8027-49D0-8ADF-BD162152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AD0D-F3FA-44C5-B091-85009D28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AE94-35EF-48CE-B5F1-C34906C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6C3-43CF-4E7A-9714-E63A80C6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A8EA-3A0D-4E4F-BC8A-3C77B91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A979-99E6-4937-BA5C-7E0F333B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117D-F91C-44DA-85E5-E55BB79C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0DFE-74D1-446E-8D43-2A537B2E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24AD-1A34-402D-ABDF-56BB24AC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249-6F09-4D1D-B239-CCBFFFA8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188-BC51-4D35-9402-C7B88387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137-8A9E-4B71-944A-3F12AB98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C60-78F4-43DE-89E3-6896E0D2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18B-5946-48DA-B538-D32DDF9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CAD-F1DB-48C1-B32C-0509991C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135-74B9-4D2F-8CBB-E74EB81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FC6F-0D76-4C92-8295-21E1D238A1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062B-34F1-4EBE-97B6-1EC846AA36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ДДТ\Desktop\Сценарий мероприятия, посвященного 70 летию Сталинградской битвы\026052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57150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52480" y="4593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50800"/>
                </a:solidFill>
                <a:latin typeface="Arial"/>
                <a:ea typeface="Times New Roman"/>
              </a:rPr>
              <a:t>«Город военной славы»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057400" y="1144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ценарий познавательно-развлекательного мероприятия, посвященного 70-летию со дня Победы в 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676520" y="182880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  <a:ea typeface="Arial"/>
              </a:rPr>
              <a:t>Важный день для всей план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  <a:ea typeface="Arial"/>
              </a:rPr>
              <a:t>Вечен он, непобедим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  <a:ea typeface="Arial"/>
              </a:rPr>
              <a:t>Отмечаем День Побед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  <a:ea typeface="Arial"/>
              </a:rPr>
              <a:t>Знаем, Помним и Скорбим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941_88"/>
          <p:cNvPicPr/>
          <p:nvPr/>
        </p:nvPicPr>
        <p:blipFill>
          <a:blip r:embed="rId2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ДДТ\Desktop\Сталининградская битва\127263-050-CD91829C.jp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4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страх и ужас детей войны.jpg"/>
          <p:cNvPicPr/>
          <p:nvPr/>
        </p:nvPicPr>
        <p:blipFill>
          <a:blip r:embed="rId3"/>
          <a:stretch/>
        </p:blipFill>
        <p:spPr>
          <a:xfrm>
            <a:off x="380880" y="4114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ДДТ\Desktop\000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C:\Users\ДДТ\Desktop\822972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05740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447920" y="0"/>
            <a:ext cx="6705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447920" y="0"/>
            <a:ext cx="6010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ДДТ\Desktop\Сценарий мероприятия, посвященного 70 летию Сталинградской битвы\0_648c8_1d196226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438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752480" y="0"/>
            <a:ext cx="5410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Fot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Users\ДДТ\Desktop\Сценарий мероприятия, посвященного 70 летию Сталинградской битвы\026052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rcRect l="26506" t="0" r="0" b="0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1943_42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6673" r="0" b="66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8-19T10:52:05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