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6D1-E8E1-4FAB-B059-684CCAFE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FC4-D0D3-44F6-93F1-21498D55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E07-464A-40A2-B5E6-9E453731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8AF-C344-4D39-BC42-4C84405B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6198-DA31-43C5-AB16-E5EF7823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C41B-5752-411A-976C-328C33A8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EB74-7E88-4694-9163-647B8161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2166-07C5-4572-BACA-C8D89A63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37F4-E556-4766-9B23-8630FD71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246D-AE58-4CB2-99D0-FFBB9C03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8927-682D-4F7B-B3E1-3AF8DB83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2F4-6C05-4365-B83B-13588ABA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34EC-34F2-4034-95C6-EB49B636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F433-7172-4F1A-AAC2-F97D28C1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D2DE-5E15-4B2E-8CA6-A1CAE08C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46A9-03C4-4C09-915C-0705E56C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E0A2-A6BB-435A-92FF-F48E99DA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C42-476F-42EF-A6A0-EFAB538B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56D-2F42-4932-B11F-53EF8523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0F7-1C28-40C4-B80D-61B2BCA3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D6C-819A-43F0-B37E-31CD6923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5ED-687E-4FBF-BFCD-F5AA630E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FBF-2FC4-424A-964E-6B988E17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9FE-0A7B-42F2-88CB-006004F0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E97A-A8FF-4E8C-B274-9FF591C1FBF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B3B2-F404-4286-A646-9103F07D3B4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eethove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artlib.ru/objects/gallery_112/artlib_gallery-56127-b.jp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katolog.gorod.tomsk.ru/uploads/28460/1252902136/10_Tridtsattribogatyrja_vcheshue_kakzhargorja_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87&amp;ed=1&amp;text=&#1074;&#1086;&#1088;&#1086;&#1085;%20-%20&#1087;&#1090;&#1080;&#1094;&#1072;&amp;spsite=demiart.ru&amp;img_url=i020.radikal.ru%2F0910%2F4f%2Fe181d7e01190.jpg&amp;rpt=simag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yandsearch?p=7&amp;ed=1&amp;text=&#1074;&#1086;&#1088;&#1086;&#1085;&#1072;%20-%20&#1087;&#1090;&#1080;&#1094;&#1072;&amp;spsite=fake-014-1102488.ru&amp;img_url=ptici.narod.ru%2Ffoto_max%2Fvorona.jpg&amp;rpt=simage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yandsearch?p=39&amp;ed=1&amp;text=&#1075;&#1072;&#1083;&#1082;&#1072;%20&#1087;&#1090;&#1080;&#1094;&#1072;&amp;spsite=fictionbook.ru&amp;img_url=fictionbook.ru%2Fstatic%2Fbookimages%2F00%2F15%2F58%2F00155836.bin.dir%2Fh%2Fg_004.jpg&amp;rpt=simage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8&amp;ed=1&amp;text=&#1089;&#1086;&#1081;&#1082;&#1072;%20&#1087;&#1090;&#1080;&#1094;&#1072;&amp;spsite=sbajdak.narod.ru&amp;img_url=sbajdak.narod.ru%2Fbirds%2Fpicture7%2Fbird009.gif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p=8&amp;ed=1&amp;text=&#1089;&#1074;&#1103;&#1097;&#1077;&#1085;&#1085;&#1072;&#1103;%20&#1052;&#1040;&#1049;&#1053;&#1040;%20&#1087;&#1090;&#1080;&#1094;&#1072;&amp;spsite=old.worldofanimals.ru&amp;img_url=old.worldofanimals.ru%2FstLmenu%2F19%2Fpictst4%2F1.jpg&amp;rpt=simag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yandsearch?p=19&amp;ed=1&amp;text=&#1050;&#1040;&#1053;&#1040;&#1056;&#1045;&#1049;&#1050;&#1040;&amp;spsite=www.e1.ru&amp;img_url=www.e1.ru%2Ffun%2Fphoto%2Fview_pic.php%2Fp%2F9dc79f30e39837a5e05e44e5af648114%2Fview.pic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0&amp;ed=1&amp;text=&#1078;&#1077;&#1083;&#1090;&#1086;&#1075;&#1086;&#1083;&#1086;&#1074;&#1099;&#1081;%20&#1072;&#1084;&#1072;&#1079;&#1086;&#1085;&amp;spsite=www.popygaichik.ru&amp;img_url=www.popygaichik.ru%2F0710%2F01%2Fd1956531b47b.jpg&amp;rpt=simage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yandsearch?p=8&amp;ed=1&amp;text=&#1089;&#1080;&#1085;&#1077;&#1083;&#1086;&#1073;&#1099;&#1081;%20&#1072;&#1084;&#1072;&#1079;&#1086;&#1085;&amp;spsite=pets.academ.org&amp;img_url=www.superpopugai.ru%2Fforum%2Ffiles%2Fthumbs%2Ft_petey_resize_442.jpg&amp;rpt=simage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yandex.ru/yandsearch?p=1&amp;ed=1&amp;text=&#1078;&#1072;&#1082;&#1086;&amp;spsite=o-noble.ya.ru&amp;img_url=i072.radikal.ru%2F0904%2F22%2F0ad04b893fa6.png&amp;rpt=simage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Муниципальное бюджетное 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дополнительного образования детей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 «Котовская детская школа искусств»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295280" y="2438280"/>
            <a:ext cx="6477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семью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чатями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486400" y="4800600"/>
            <a:ext cx="3276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Разработали: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педагог Лукошина Т.Д. 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и учащиеся 3 класса Д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4572000" y="14479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866880" y="4773600"/>
            <a:ext cx="34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06800" y="277920"/>
            <a:ext cx="45734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00"/>
                </a:solidFill>
                <a:latin typeface="Garamond"/>
              </a:rPr>
              <a:t>«Загадки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8" descr="Bird Painting ~ Animal Paintings ~ Wildlife Art ~ Animal Paintings &amp; Animal Artwork~ Paintings of Wildlife ~ Smoky Mountains Tennessee"/>
          <p:cNvPicPr/>
          <p:nvPr/>
        </p:nvPicPr>
        <p:blipFill>
          <a:blip r:embed="rId1"/>
          <a:stretch/>
        </p:blipFill>
        <p:spPr>
          <a:xfrm>
            <a:off x="609480" y="1295280"/>
            <a:ext cx="2895840" cy="24051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3581280" y="10825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Первая часть слова - соединительный союз.</a:t>
            </a: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Вторая  - река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А в целом – певчая птица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3753000" y="269784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Ив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80880" y="45406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Первая часть слова – предлог.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Остальное – знак препинания.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В целом – водоплавающая пт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i?id=78984063&amp;tov=5"/>
          <p:cNvPicPr/>
          <p:nvPr/>
        </p:nvPicPr>
        <p:blipFill>
          <a:blip r:embed="rId2"/>
          <a:stretch/>
        </p:blipFill>
        <p:spPr>
          <a:xfrm>
            <a:off x="5791320" y="3048120"/>
            <a:ext cx="3047760" cy="2193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6"/>
          <p:cNvSpPr/>
          <p:nvPr/>
        </p:nvSpPr>
        <p:spPr>
          <a:xfrm>
            <a:off x="6124320" y="551700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У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россворд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1800"/>
                <a:gridCol w="633600"/>
                <a:gridCol w="633240"/>
                <a:gridCol w="633240"/>
                <a:gridCol w="632160"/>
                <a:gridCol w="633240"/>
                <a:gridCol w="633240"/>
                <a:gridCol w="633600"/>
                <a:gridCol w="631800"/>
                <a:gridCol w="633600"/>
                <a:gridCol w="63324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http://im7-tub.yandex.net/i?id=16890822&amp;tov=7"/>
          <p:cNvPicPr/>
          <p:nvPr/>
        </p:nvPicPr>
        <p:blipFill>
          <a:blip r:embed="rId1"/>
          <a:stretch/>
        </p:blipFill>
        <p:spPr>
          <a:xfrm>
            <a:off x="838080" y="457200"/>
            <a:ext cx="1490760" cy="198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http://im2-tub.yandex.net/i?id=49120478&amp;tov=2"/>
          <p:cNvPicPr/>
          <p:nvPr/>
        </p:nvPicPr>
        <p:blipFill>
          <a:blip r:embed="rId2"/>
          <a:stretch/>
        </p:blipFill>
        <p:spPr>
          <a:xfrm>
            <a:off x="3657600" y="685800"/>
            <a:ext cx="138924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im5-tub.yandex.net/i?id=113059252&amp;tov=5"/>
          <p:cNvPicPr/>
          <p:nvPr/>
        </p:nvPicPr>
        <p:blipFill>
          <a:blip r:embed="rId3"/>
          <a:stretch/>
        </p:blipFill>
        <p:spPr>
          <a:xfrm>
            <a:off x="6019920" y="533520"/>
            <a:ext cx="2057400" cy="1793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i?id=94226038&amp;tov=5"/>
          <p:cNvPicPr/>
          <p:nvPr/>
        </p:nvPicPr>
        <p:blipFill>
          <a:blip r:embed="rId4"/>
          <a:stretch/>
        </p:blipFill>
        <p:spPr>
          <a:xfrm rot="2084400">
            <a:off x="914040" y="3504960"/>
            <a:ext cx="1216080" cy="1904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?id=88715024&amp;tov=4"/>
          <p:cNvPicPr/>
          <p:nvPr/>
        </p:nvPicPr>
        <p:blipFill>
          <a:blip r:embed="rId5"/>
          <a:stretch/>
        </p:blipFill>
        <p:spPr>
          <a:xfrm>
            <a:off x="3200400" y="4191120"/>
            <a:ext cx="1981080" cy="1114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i?id=9058996&amp;tov=3"/>
          <p:cNvPicPr/>
          <p:nvPr/>
        </p:nvPicPr>
        <p:blipFill>
          <a:blip r:embed="rId6"/>
          <a:stretch/>
        </p:blipFill>
        <p:spPr>
          <a:xfrm>
            <a:off x="6172200" y="3733920"/>
            <a:ext cx="2400480" cy="1330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0"/>
          <p:cNvSpPr/>
          <p:nvPr/>
        </p:nvSpPr>
        <p:spPr>
          <a:xfrm>
            <a:off x="992880" y="2665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та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809880" y="2665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усли</a:t>
            </a:r>
            <a:r>
              <a:rPr b="1" lang="ru-RU" sz="2400" spc="-1" strike="noStrike">
                <a:solidFill>
                  <a:srgbClr val="110ea7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6477120" y="25898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765000" y="556164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лал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3278880" y="556164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ле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 flipV="1" rot="10800000">
            <a:off x="6248160" y="5561280"/>
            <a:ext cx="20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е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7040" y="277920"/>
            <a:ext cx="66294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5319f"/>
                </a:solidFill>
                <a:latin typeface="Garamond"/>
              </a:rPr>
              <a:t>«Все слова на одну букву»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7" descr="http://im3-tub.mail.ru/i?id=27376142&amp;tov=3"/>
          <p:cNvPicPr/>
          <p:nvPr/>
        </p:nvPicPr>
        <p:blipFill>
          <a:blip r:embed="rId1"/>
          <a:stretch/>
        </p:blipFill>
        <p:spPr>
          <a:xfrm>
            <a:off x="3581280" y="1143000"/>
            <a:ext cx="3048120" cy="2131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http://virtus-ensemble.ru/img/foto_glav.jpg"/>
          <p:cNvPicPr/>
          <p:nvPr/>
        </p:nvPicPr>
        <p:blipFill>
          <a:blip r:embed="rId2"/>
          <a:stretch/>
        </p:blipFill>
        <p:spPr>
          <a:xfrm>
            <a:off x="609480" y="2209680"/>
            <a:ext cx="1954440" cy="3048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://im4-tub.mail.ru/i?id=79529159&amp;tov=4"/>
          <p:cNvPicPr/>
          <p:nvPr/>
        </p:nvPicPr>
        <p:blipFill>
          <a:blip r:embed="rId3"/>
          <a:stretch/>
        </p:blipFill>
        <p:spPr>
          <a:xfrm>
            <a:off x="6019920" y="38098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3505320" y="332136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319f"/>
                </a:solidFill>
                <a:latin typeface="Arial"/>
                <a:ea typeface="Times New Roman"/>
              </a:rPr>
              <a:t>Дуэ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57200" y="5256720"/>
            <a:ext cx="419112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292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инструмент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дуэ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031760" y="5725080"/>
            <a:ext cx="20095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42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5486400" y="2971080"/>
            <a:ext cx="34020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292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вокальный дуэ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1031760" y="5725080"/>
            <a:ext cx="20095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42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114800" y="1035360"/>
            <a:ext cx="1523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319f"/>
                </a:solidFill>
                <a:latin typeface="Arial"/>
                <a:ea typeface="Times New Roman"/>
              </a:rPr>
              <a:t>Дж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Что такое джаз?"/>
          <p:cNvPicPr/>
          <p:nvPr/>
        </p:nvPicPr>
        <p:blipFill>
          <a:blip r:embed="rId1"/>
          <a:stretch/>
        </p:blipFill>
        <p:spPr>
          <a:xfrm>
            <a:off x="838080" y="380880"/>
            <a:ext cx="3124440" cy="2125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3624120" y="433620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i?id=100383172&amp;tov=6"/>
          <p:cNvPicPr/>
          <p:nvPr/>
        </p:nvPicPr>
        <p:blipFill>
          <a:blip r:embed="rId2"/>
          <a:stretch/>
        </p:blipFill>
        <p:spPr>
          <a:xfrm>
            <a:off x="5791320" y="3049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0"/>
          <p:cNvSpPr/>
          <p:nvPr/>
        </p:nvSpPr>
        <p:spPr>
          <a:xfrm>
            <a:off x="1447920" y="4555800"/>
            <a:ext cx="13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a5319f"/>
                </a:solidFill>
                <a:latin typeface="Arial"/>
                <a:ea typeface="Times New Roman"/>
              </a:rPr>
              <a:t>Дробь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До открытия остаются считанные минуты. Звучит барабанная дробь..."/>
          <p:cNvPicPr/>
          <p:nvPr/>
        </p:nvPicPr>
        <p:blipFill>
          <a:blip r:embed="rId3"/>
          <a:stretch/>
        </p:blipFill>
        <p:spPr>
          <a:xfrm>
            <a:off x="2971800" y="2743200"/>
            <a:ext cx="3638520" cy="3386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4"/>
          <p:cNvSpPr/>
          <p:nvPr/>
        </p:nvSpPr>
        <p:spPr>
          <a:xfrm>
            <a:off x="1295280" y="4237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990720" y="1476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319f"/>
                </a:solidFill>
                <a:latin typeface="Arial"/>
                <a:ea typeface="Times New Roman"/>
              </a:rPr>
              <a:t>        </a:t>
            </a:r>
            <a:r>
              <a:rPr b="1" i="1" lang="ru-RU" sz="2400" spc="-1" strike="noStrike">
                <a:solidFill>
                  <a:srgbClr val="a5319f"/>
                </a:solidFill>
                <a:latin typeface="Arial"/>
                <a:ea typeface="Times New Roman"/>
              </a:rPr>
              <a:t>Дудка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609480" y="685800"/>
            <a:ext cx="3505320" cy="230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www.musical-market.ru/img/duduk.jpg"/>
          <p:cNvPicPr/>
          <p:nvPr/>
        </p:nvPicPr>
        <p:blipFill>
          <a:blip r:embed="rId2"/>
          <a:stretch/>
        </p:blipFill>
        <p:spPr>
          <a:xfrm>
            <a:off x="1662120" y="3124080"/>
            <a:ext cx="1747800" cy="3095640"/>
          </a:xfrm>
          <a:prstGeom prst="rect">
            <a:avLst/>
          </a:prstGeom>
          <a:ln w="0">
            <a:noFill/>
          </a:ln>
        </p:spPr>
      </p:pic>
      <p:pic>
        <p:nvPicPr>
          <p:cNvPr id="173" name="im-156915477" descr="Испанский дирижер Инма Шара"/>
          <p:cNvPicPr/>
          <p:nvPr/>
        </p:nvPicPr>
        <p:blipFill>
          <a:blip r:embed="rId3"/>
          <a:stretch/>
        </p:blipFill>
        <p:spPr>
          <a:xfrm>
            <a:off x="5105520" y="914400"/>
            <a:ext cx="3429000" cy="1933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777280" y="3307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319f"/>
                </a:solidFill>
                <a:latin typeface="Arial"/>
              </a:rPr>
              <a:t>Дири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i?id=154717349&amp;tov=0"/>
          <p:cNvPicPr/>
          <p:nvPr/>
        </p:nvPicPr>
        <p:blipFill>
          <a:blip r:embed="rId4"/>
          <a:stretch/>
        </p:blipFill>
        <p:spPr>
          <a:xfrm>
            <a:off x="5181480" y="4033800"/>
            <a:ext cx="31244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5"/>
          <p:cNvSpPr txBox="1"/>
          <p:nvPr/>
        </p:nvSpPr>
        <p:spPr>
          <a:xfrm>
            <a:off x="1523880" y="1905120"/>
            <a:ext cx="6400800" cy="17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свида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5143680" cy="5867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760" y="1294920"/>
            <a:ext cx="19047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Людвиг ван Бетховен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1770 - 1827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5840" y="732960"/>
            <a:ext cx="198108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М.И. Глинка 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опера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 «Руслан и Людмила»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Picture 4" descr="http://content.foto.mail.ru/mail/p.s.l/1493/i-1558.jpg"/>
          <p:cNvPicPr/>
          <p:nvPr/>
        </p:nvPicPr>
        <p:blipFill>
          <a:blip r:embed="rId1"/>
          <a:stretch/>
        </p:blipFill>
        <p:spPr>
          <a:xfrm>
            <a:off x="609480" y="228600"/>
            <a:ext cx="249552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afisha.infomsk.ru/images/poster/2f7d385a55013909578a1db4e549446e.jpg"/>
          <p:cNvPicPr/>
          <p:nvPr/>
        </p:nvPicPr>
        <p:blipFill>
          <a:blip r:embed="rId2"/>
          <a:stretch/>
        </p:blipFill>
        <p:spPr>
          <a:xfrm>
            <a:off x="6324480" y="228600"/>
            <a:ext cx="2489400" cy="312408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1 из 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819520"/>
            <a:ext cx="33526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http://p.foto.radikal.ru/0701/931f8fd99fa4.jpg"/>
          <p:cNvPicPr/>
          <p:nvPr/>
        </p:nvPicPr>
        <p:blipFill>
          <a:blip r:embed="rId1"/>
          <a:stretch/>
        </p:blipFill>
        <p:spPr>
          <a:xfrm>
            <a:off x="1981080" y="380880"/>
            <a:ext cx="6400800" cy="3032280"/>
          </a:xfrm>
          <a:prstGeom prst="rect">
            <a:avLst/>
          </a:prstGeom>
          <a:ln w="0">
            <a:noFill/>
          </a:ln>
        </p:spPr>
      </p:pic>
      <p:pic>
        <p:nvPicPr>
          <p:cNvPr id="96" name="i-main-pic" descr="Картинка 1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3048120"/>
            <a:ext cx="2993760" cy="3360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4496400" y="4495680"/>
            <a:ext cx="39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Н.А. Римский – Корсаков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опера  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«Сказка о царе Салтан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Птицы имитаторы. Кто они?»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Picture 5" descr="http://im3-tub.yandex.net/i?id=19759243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352680"/>
            <a:ext cx="3200400" cy="2378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im4-tub.yandex.net/i?id=5508802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1371600"/>
            <a:ext cx="2209680" cy="197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ttp://im5-tub.yandex.net/i?id=133913864&amp;tov=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1676520"/>
            <a:ext cx="1886040" cy="1693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6400800" y="525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00"/>
                </a:solidFill>
                <a:latin typeface="Arial"/>
              </a:rPr>
              <a:t>В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33520" y="33516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6600"/>
                </a:solidFill>
                <a:latin typeface="Arial"/>
              </a:rPr>
              <a:t>Вор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4952880" y="19040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00"/>
                </a:solidFill>
                <a:latin typeface="Arial"/>
              </a:rPr>
              <a:t>Г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897280" y="4951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Сойка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im8-tub.yandex.net/i?id=40408691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962520"/>
            <a:ext cx="1981080" cy="1492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305280" y="2406960"/>
            <a:ext cx="351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Свяще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или индийская май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http://im6-tub.yandex.net/i?id=1746056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533520"/>
            <a:ext cx="1905120" cy="1798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6402960" y="4342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Канарей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http://im7-tub.yandex.net/i?id=82768328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838080"/>
            <a:ext cx="3124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im3-tub.yandex.net/i?id=3171459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3048120" cy="20397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685800" y="2436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тоголовый ама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http://im6-tub.yandex.net/i?id=128316762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380880"/>
            <a:ext cx="213048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ttp://im5-tub.yandex.net/i?id=152796390&amp;tov=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3276720"/>
            <a:ext cx="2255760" cy="2819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640480" y="342792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елобый амаз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4879080" y="518040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1649520"/>
            <a:ext cx="76230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Что за «хвостик» есть </a:t>
            </a:r>
            <a:br>
              <a:rPr sz="5000"/>
            </a:b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у пьесы?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7543800" cy="17524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С точки зрения музыкальной терминологии этот «хвостик» назыв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b812f"/>
                </a:solidFill>
                <a:latin typeface="Arial"/>
              </a:rPr>
              <a:t>«ко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685800" y="12949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Первая часть слова – мажор или мин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Вторая – орган слуха у ребенк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В целом – детская иг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скидки на книгу Ладушки"/>
          <p:cNvPicPr/>
          <p:nvPr/>
        </p:nvPicPr>
        <p:blipFill>
          <a:blip r:embed="rId1"/>
          <a:stretch/>
        </p:blipFill>
        <p:spPr>
          <a:xfrm>
            <a:off x="7086600" y="457200"/>
            <a:ext cx="1428840" cy="19810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3505320" y="26668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Начало моё – нота, потом – краса ол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А в целом – это место оживлённого движен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1560" y="307800"/>
            <a:ext cx="4573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Загадки»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84640" y="4647960"/>
            <a:ext cx="526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Первый слог мой нота, и второй слог – т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Вместе оба слога на бобы пох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685800" y="3840840"/>
            <a:ext cx="259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812f"/>
                </a:solidFill>
                <a:latin typeface="Arial"/>
              </a:rPr>
              <a:t>До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6324480" y="5364720"/>
            <a:ext cx="1905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812f"/>
                </a:solidFill>
                <a:latin typeface="Arial"/>
              </a:rPr>
              <a:t>фас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557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5-07-31T09:50:1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