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3A2-CD90-48D1-A7A7-E15D9607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558-A707-4F9F-8C79-4DBF6002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F3A-2513-4EF1-800D-CA69E587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A56-0AC8-4D73-87AA-CCEC92D9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D0EF-0476-4740-9927-FCC78E6B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5E84-1A41-4116-A9E3-058F287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B27B-D1FF-409B-86DD-E8C0485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5866-6693-424C-9455-A114FD7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291-D58D-462A-A30A-65F79C55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40B-F4C8-4F61-B384-6F327F5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193F-3CE1-47A6-9CC6-E310E2A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FC-D9C3-4DEF-A28D-1C6E13F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508-7BC5-4455-9D73-80E0FFB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D5C-8AC8-4EBC-9039-FCAE1AD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90B-CF82-4DF2-8D92-FAF3CE83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D0A-77BB-4D17-83FF-8E4DC35D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B33-0847-40E4-92F1-01BDD28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124-B205-4E93-AB69-69B37A5A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F8D-8DBC-4244-AE8A-CB88A149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426-23BB-4C41-BC8C-BDADEAC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3F2-15DA-45D5-BC5C-9F342F34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2F7-D08E-4C9C-91A7-5EE85CB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BB5-5E50-45CA-8BCC-F96CFB1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ED1-B3D5-479D-BAC4-7794D75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2D5B-CD6E-446E-A57B-E8DCCC6DA3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B3A-0638-4AD9-A5B5-B8FC19DBC0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ethove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artlib.ru/objects/gallery_112/artlib_gallery-56127-b.jp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katolog.gorod.tomsk.ru/uploads/28460/1252902136/10_Tridtsattribogatyrja_vcheshue_kakzhargorja_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7&amp;ed=1&amp;text=&#1074;&#1086;&#1088;&#1086;&#1085;%20-%20&#1087;&#1090;&#1080;&#1094;&#1072;&amp;spsite=demiart.ru&amp;img_url=i020.radikal.ru%2F0910%2F4f%2Fe181d7e01190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p=7&amp;ed=1&amp;text=&#1074;&#1086;&#1088;&#1086;&#1085;&#1072;%20-%20&#1087;&#1090;&#1080;&#1094;&#1072;&amp;spsite=fake-014-1102488.ru&amp;img_url=ptici.narod.ru%2Ffoto_max%2Fvorona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p=39&amp;ed=1&amp;text=&#1075;&#1072;&#1083;&#1082;&#1072;%20&#1087;&#1090;&#1080;&#1094;&#1072;&amp;spsite=fictionbook.ru&amp;img_url=fictionbook.ru%2Fstatic%2Fbookimages%2F00%2F15%2F58%2F00155836.bin.dir%2Fh%2Fg_004.jpg&amp;rpt=simage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8&amp;ed=1&amp;text=&#1089;&#1086;&#1081;&#1082;&#1072;%20&#1087;&#1090;&#1080;&#1094;&#1072;&amp;spsite=sbajdak.narod.ru&amp;img_url=sbajdak.narod.ru%2Fbirds%2Fpicture7%2Fbird009.gif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8&amp;ed=1&amp;text=&#1089;&#1074;&#1103;&#1097;&#1077;&#1085;&#1085;&#1072;&#1103;%20&#1052;&#1040;&#1049;&#1053;&#1040;%20&#1087;&#1090;&#1080;&#1094;&#1072;&amp;spsite=old.worldofanimals.ru&amp;img_url=old.worldofanimals.ru%2FstLmenu%2F19%2Fpictst4%2F1.jpg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p=19&amp;ed=1&amp;text=&#1050;&#1040;&#1053;&#1040;&#1056;&#1045;&#1049;&#1050;&#1040;&amp;spsite=www.e1.ru&amp;img_url=www.e1.ru%2Ffun%2Fphoto%2Fview_pic.php%2Fp%2F9dc79f30e39837a5e05e44e5af648114%2Fview.pic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78;&#1077;&#1083;&#1090;&#1086;&#1075;&#1086;&#1083;&#1086;&#1074;&#1099;&#1081;%20&#1072;&#1084;&#1072;&#1079;&#1086;&#1085;&amp;spsite=www.popygaichik.ru&amp;img_url=www.popygaichik.ru%2F0710%2F01%2Fd1956531b47b.jpg&amp;rpt=simage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p=8&amp;ed=1&amp;text=&#1089;&#1080;&#1085;&#1077;&#1083;&#1086;&#1073;&#1099;&#1081;%20&#1072;&#1084;&#1072;&#1079;&#1086;&#1085;&amp;spsite=pets.academ.org&amp;img_url=www.superpopugai.ru%2Fforum%2Ffiles%2Fthumbs%2Ft_petey_resize_442.jpg&amp;rpt=simag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p=1&amp;ed=1&amp;text=&#1078;&#1072;&#1082;&#1086;&amp;spsite=o-noble.ya.ru&amp;img_url=i072.radikal.ru%2F0904%2F22%2F0ad04b893fa6.png&amp;rpt=simag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Муниципальное бюджет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дополнительного образования детей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 «Котовская детская школа искусств»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295280" y="243828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семью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чатями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486400" y="4800600"/>
            <a:ext cx="327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Разработали: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едагог Лукошина Т.Д.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и учащиеся 3 класса Д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72000" y="1447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66880" y="4773600"/>
            <a:ext cx="34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6800" y="277920"/>
            <a:ext cx="4573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00"/>
                </a:solidFill>
                <a:latin typeface="Garamond"/>
              </a:rPr>
              <a:t>«Загадк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8" descr="Bird Painting ~ Animal Paintings ~ Wildlife Art ~ Animal Paintings &amp; Animal Artwork~ Paintings of Wildlife ~ Smoky Mountains Tennessee"/>
          <p:cNvPicPr/>
          <p:nvPr/>
        </p:nvPicPr>
        <p:blipFill>
          <a:blip r:embed="rId1"/>
          <a:stretch/>
        </p:blipFill>
        <p:spPr>
          <a:xfrm>
            <a:off x="609480" y="1295280"/>
            <a:ext cx="2895840" cy="2405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3581280" y="1082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ервая часть слова - соединительный союз.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Вторая  - река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А в целом – певчая птица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753000" y="26978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И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0880" y="45406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Первая часть слова – предлог.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Остальное – знак препинания.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В целом – водоплавающая пт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i?id=78984063&amp;tov=5"/>
          <p:cNvPicPr/>
          <p:nvPr/>
        </p:nvPicPr>
        <p:blipFill>
          <a:blip r:embed="rId2"/>
          <a:stretch/>
        </p:blipFill>
        <p:spPr>
          <a:xfrm>
            <a:off x="5791320" y="3048120"/>
            <a:ext cx="3047760" cy="2193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6124320" y="5517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У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россвор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1800"/>
                <a:gridCol w="633600"/>
                <a:gridCol w="633240"/>
                <a:gridCol w="633240"/>
                <a:gridCol w="632160"/>
                <a:gridCol w="633240"/>
                <a:gridCol w="633240"/>
                <a:gridCol w="633600"/>
                <a:gridCol w="631800"/>
                <a:gridCol w="633600"/>
                <a:gridCol w="63324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im7-tub.yandex.net/i?id=16890822&amp;tov=7"/>
          <p:cNvPicPr/>
          <p:nvPr/>
        </p:nvPicPr>
        <p:blipFill>
          <a:blip r:embed="rId1"/>
          <a:stretch/>
        </p:blipFill>
        <p:spPr>
          <a:xfrm>
            <a:off x="838080" y="457200"/>
            <a:ext cx="149076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http://im2-tub.yandex.net/i?id=49120478&amp;tov=2"/>
          <p:cNvPicPr/>
          <p:nvPr/>
        </p:nvPicPr>
        <p:blipFill>
          <a:blip r:embed="rId2"/>
          <a:stretch/>
        </p:blipFill>
        <p:spPr>
          <a:xfrm>
            <a:off x="3657600" y="685800"/>
            <a:ext cx="138924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5-tub.yandex.net/i?id=113059252&amp;tov=5"/>
          <p:cNvPicPr/>
          <p:nvPr/>
        </p:nvPicPr>
        <p:blipFill>
          <a:blip r:embed="rId3"/>
          <a:stretch/>
        </p:blipFill>
        <p:spPr>
          <a:xfrm>
            <a:off x="6019920" y="533520"/>
            <a:ext cx="2057400" cy="179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i?id=94226038&amp;tov=5"/>
          <p:cNvPicPr/>
          <p:nvPr/>
        </p:nvPicPr>
        <p:blipFill>
          <a:blip r:embed="rId4"/>
          <a:stretch/>
        </p:blipFill>
        <p:spPr>
          <a:xfrm rot="2084400">
            <a:off x="914040" y="350496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?id=88715024&amp;tov=4"/>
          <p:cNvPicPr/>
          <p:nvPr/>
        </p:nvPicPr>
        <p:blipFill>
          <a:blip r:embed="rId5"/>
          <a:stretch/>
        </p:blipFill>
        <p:spPr>
          <a:xfrm>
            <a:off x="3200400" y="4191120"/>
            <a:ext cx="1981080" cy="1114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?id=9058996&amp;tov=3"/>
          <p:cNvPicPr/>
          <p:nvPr/>
        </p:nvPicPr>
        <p:blipFill>
          <a:blip r:embed="rId6"/>
          <a:stretch/>
        </p:blipFill>
        <p:spPr>
          <a:xfrm>
            <a:off x="6172200" y="3733920"/>
            <a:ext cx="2400480" cy="133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992880" y="2665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та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09880" y="2665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усли</a:t>
            </a:r>
            <a:r>
              <a:rPr b="1" lang="ru-RU" sz="24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6477120" y="25898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765000" y="55616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3278880" y="55616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 flipV="1" rot="10800000">
            <a:off x="6248160" y="556128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277920"/>
            <a:ext cx="66294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319f"/>
                </a:solidFill>
                <a:latin typeface="Garamond"/>
              </a:rPr>
              <a:t>«Все слова на одну букву»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7" descr="http://im3-tub.mail.ru/i?id=27376142&amp;tov=3"/>
          <p:cNvPicPr/>
          <p:nvPr/>
        </p:nvPicPr>
        <p:blipFill>
          <a:blip r:embed="rId1"/>
          <a:stretch/>
        </p:blipFill>
        <p:spPr>
          <a:xfrm>
            <a:off x="3581280" y="1143000"/>
            <a:ext cx="3048120" cy="213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virtus-ensemble.ru/img/foto_glav.jpg"/>
          <p:cNvPicPr/>
          <p:nvPr/>
        </p:nvPicPr>
        <p:blipFill>
          <a:blip r:embed="rId2"/>
          <a:stretch/>
        </p:blipFill>
        <p:spPr>
          <a:xfrm>
            <a:off x="609480" y="2209680"/>
            <a:ext cx="195444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im4-tub.mail.ru/i?id=79529159&amp;tov=4"/>
          <p:cNvPicPr/>
          <p:nvPr/>
        </p:nvPicPr>
        <p:blipFill>
          <a:blip r:embed="rId3"/>
          <a:stretch/>
        </p:blipFill>
        <p:spPr>
          <a:xfrm>
            <a:off x="6019920" y="38098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3505320" y="33213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у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57200" y="5256720"/>
            <a:ext cx="419112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292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нструмент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дуэ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031760" y="5725080"/>
            <a:ext cx="2009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42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5486400" y="2971080"/>
            <a:ext cx="3402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292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вокальный ду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031760" y="5725080"/>
            <a:ext cx="2009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42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114800" y="1035360"/>
            <a:ext cx="1523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ж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Что такое джаз?"/>
          <p:cNvPicPr/>
          <p:nvPr/>
        </p:nvPicPr>
        <p:blipFill>
          <a:blip r:embed="rId1"/>
          <a:stretch/>
        </p:blipFill>
        <p:spPr>
          <a:xfrm>
            <a:off x="838080" y="380880"/>
            <a:ext cx="3124440" cy="2125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3624120" y="433620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100383172&amp;tov=6"/>
          <p:cNvPicPr/>
          <p:nvPr/>
        </p:nvPicPr>
        <p:blipFill>
          <a:blip r:embed="rId2"/>
          <a:stretch/>
        </p:blipFill>
        <p:spPr>
          <a:xfrm>
            <a:off x="5791320" y="3049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1447920" y="4555800"/>
            <a:ext cx="13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робь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До открытия остаются считанные минуты. Звучит барабанная дробь..."/>
          <p:cNvPicPr/>
          <p:nvPr/>
        </p:nvPicPr>
        <p:blipFill>
          <a:blip r:embed="rId3"/>
          <a:stretch/>
        </p:blipFill>
        <p:spPr>
          <a:xfrm>
            <a:off x="2971800" y="2743200"/>
            <a:ext cx="3638520" cy="338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4"/>
          <p:cNvSpPr/>
          <p:nvPr/>
        </p:nvSpPr>
        <p:spPr>
          <a:xfrm>
            <a:off x="1295280" y="423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990720" y="1476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удка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609480" y="685800"/>
            <a:ext cx="350532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www.musical-market.ru/img/duduk.jpg"/>
          <p:cNvPicPr/>
          <p:nvPr/>
        </p:nvPicPr>
        <p:blipFill>
          <a:blip r:embed="rId2"/>
          <a:stretch/>
        </p:blipFill>
        <p:spPr>
          <a:xfrm>
            <a:off x="1662120" y="3124080"/>
            <a:ext cx="174780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im-156915477" descr="Испанский дирижер Инма Шара"/>
          <p:cNvPicPr/>
          <p:nvPr/>
        </p:nvPicPr>
        <p:blipFill>
          <a:blip r:embed="rId3"/>
          <a:stretch/>
        </p:blipFill>
        <p:spPr>
          <a:xfrm>
            <a:off x="5105520" y="914400"/>
            <a:ext cx="3429000" cy="1933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777280" y="3307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</a:rPr>
              <a:t>Дири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i?id=154717349&amp;tov=0"/>
          <p:cNvPicPr/>
          <p:nvPr/>
        </p:nvPicPr>
        <p:blipFill>
          <a:blip r:embed="rId4"/>
          <a:stretch/>
        </p:blipFill>
        <p:spPr>
          <a:xfrm>
            <a:off x="5181480" y="4033800"/>
            <a:ext cx="3124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1523880" y="1905120"/>
            <a:ext cx="640080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514368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760" y="1294920"/>
            <a:ext cx="1904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1770 - 1827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5840" y="732960"/>
            <a:ext cx="198108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М.И. Глинка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пе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«Руслан и Людмила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Picture 4" descr="http://content.foto.mail.ru/mail/p.s.l/1493/i-1558.jpg"/>
          <p:cNvPicPr/>
          <p:nvPr/>
        </p:nvPicPr>
        <p:blipFill>
          <a:blip r:embed="rId1"/>
          <a:stretch/>
        </p:blipFill>
        <p:spPr>
          <a:xfrm>
            <a:off x="609480" y="228600"/>
            <a:ext cx="249552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afisha.infomsk.ru/images/poster/2f7d385a55013909578a1db4e549446e.jpg"/>
          <p:cNvPicPr/>
          <p:nvPr/>
        </p:nvPicPr>
        <p:blipFill>
          <a:blip r:embed="rId2"/>
          <a:stretch/>
        </p:blipFill>
        <p:spPr>
          <a:xfrm>
            <a:off x="6324480" y="228600"/>
            <a:ext cx="2489400" cy="312408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1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19520"/>
            <a:ext cx="3352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p.foto.radikal.ru/0701/931f8fd99fa4.jpg"/>
          <p:cNvPicPr/>
          <p:nvPr/>
        </p:nvPicPr>
        <p:blipFill>
          <a:blip r:embed="rId1"/>
          <a:stretch/>
        </p:blipFill>
        <p:spPr>
          <a:xfrm>
            <a:off x="1981080" y="380880"/>
            <a:ext cx="6400800" cy="3032280"/>
          </a:xfrm>
          <a:prstGeom prst="rect">
            <a:avLst/>
          </a:prstGeom>
          <a:ln w="0">
            <a:noFill/>
          </a:ln>
        </p:spPr>
      </p:pic>
      <p:pic>
        <p:nvPicPr>
          <p:cNvPr id="96" name="i-main-pic" descr="Картинка 1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3048120"/>
            <a:ext cx="2993760" cy="3360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4496400" y="449568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Н.А. Римский – Корсаков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опера 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«Сказка о царе Салта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тицы имитаторы. Кто они?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5" descr="http://im3-tub.yandex.net/i?id=19759243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352680"/>
            <a:ext cx="3200400" cy="237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4-tub.yandex.net/i?id=5508802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371600"/>
            <a:ext cx="2209680" cy="197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im5-tub.yandex.net/i?id=133913864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676520"/>
            <a:ext cx="1886040" cy="1693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400800" y="525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33520" y="3351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Вор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4952880" y="19040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897280" y="495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ойка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8-tub.yandex.net/i?id=40408691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05280" y="2406960"/>
            <a:ext cx="35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вящ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или индийская ма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://im6-tub.yandex.net/i?id=1746056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533520"/>
            <a:ext cx="1905120" cy="179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402960" y="4342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Канаре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http://im7-tub.yandex.net/i?id=82768328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8380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im3-tub.yandex.net/i?id=317145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048120" cy="2039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85800" y="2436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оголовый ам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im6-tub.yandex.net/i?id=128316762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380880"/>
            <a:ext cx="213048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im5-tub.yandex.net/i?id=152796390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3276720"/>
            <a:ext cx="2255760" cy="2819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640480" y="34279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лобый амаз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879080" y="518040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649520"/>
            <a:ext cx="76230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Что за «хвостик» есть </a:t>
            </a:r>
            <a:br>
              <a:rPr sz="5000"/>
            </a:b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у пьесы?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543800" cy="17524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С точки зрения музыкальной терминологии этот «хвостик» назы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b812f"/>
                </a:solidFill>
                <a:latin typeface="Arial"/>
              </a:rPr>
              <a:t>«к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685800" y="129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ервая часть слова – мажор или мин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торая – орган слуха у ребен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 целом – детская иг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скидки на книгу Ладушки"/>
          <p:cNvPicPr/>
          <p:nvPr/>
        </p:nvPicPr>
        <p:blipFill>
          <a:blip r:embed="rId1"/>
          <a:stretch/>
        </p:blipFill>
        <p:spPr>
          <a:xfrm>
            <a:off x="7086600" y="4572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505320" y="26668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Начало моё – нота, потом – краса ол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А в целом – это место оживлённого движен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1560" y="307800"/>
            <a:ext cx="4573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Загадки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84640" y="4647960"/>
            <a:ext cx="52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ервый слог мой нота, и второй слог –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месте оба слога на бобы пох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85800" y="3840840"/>
            <a:ext cx="259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Д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324480" y="5364720"/>
            <a:ext cx="1905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фа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557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5-07-31T09:50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