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D18-C239-48FF-9EA1-2308F815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539-4AFB-46BA-9422-FAB71CAE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368-88EC-4793-AAAD-E3A4D596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41E-BA40-49F9-83E8-D54EE26C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774D7-0565-4840-8576-480E82E3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0C2B5-1DFA-47E5-9BF5-24D2B6D7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258F6-6B95-4401-89D3-66513CE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CD4CF-735E-4B2C-B895-68F9257F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FAC7C-DABA-41AA-92B0-F76FFEF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7533A-D87A-4FAB-BCA8-BB115F9F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BEC7A-5780-4F57-9597-6C748EB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E31-34F2-493D-856D-41F6210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B492E-F572-4C26-B620-B9E586E4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2790B-EB8D-4525-B5FF-0951206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78CD1-0620-42CF-A04A-F1D01C7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B105B-7EA1-4931-9810-A810B1EF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4693-1D51-4F2F-9776-7DF2D5B7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116-2EDB-434B-9597-DB5B4B5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901-7F74-484C-9D2D-F1DCA26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B76-41E9-47E7-8893-D217FA2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670-28CD-4459-9FCF-B220AA19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686-8F4E-4293-B653-371A40C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493-9123-473F-BEEF-7746C06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B4C-4D4A-4DC4-B126-0ADAA4D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F501-865E-472C-B1A8-E0C438229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56E-6586-4AF5-BA6E-88AF08CA6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676520"/>
            <a:ext cx="81057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тригонометрических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й с помощью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я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огательного угла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00200" y="2362320"/>
            <a:ext cx="6200640" cy="22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Блиц-опрос</a:t>
            </a:r>
            <a:endParaRPr b="0" lang="en-US" sz="96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ь уравн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√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ентарий к решению у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им почленно левую и правую части уравнения на 2, получи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м вспомогательный угол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Имеем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ь уравнение самостоятель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4120" y="3371760"/>
          <a:ext cx="1676160" cy="5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371760"/>
                    <a:ext cx="16761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4335480"/>
          <a:ext cx="342900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4335480"/>
                    <a:ext cx="3429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752480" y="4916520"/>
          <a:ext cx="4191120" cy="6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916520"/>
                    <a:ext cx="41911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Решить самостоятельно урав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43400" y="2286000"/>
          <a:ext cx="403848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403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762120"/>
          <a:ext cx="624816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762120"/>
                    <a:ext cx="6248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57200" y="19051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образуем левую часть урав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438280"/>
          <a:ext cx="7238880" cy="384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438280"/>
                    <a:ext cx="72388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ь уравн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447920"/>
          <a:ext cx="4952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49528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ь уравн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47920"/>
          <a:ext cx="609588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60958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1:47:13Z</dcterms:created>
  <dc:creator>Stanislav</dc:creator>
  <dc:description/>
  <dc:language>en-US</dc:language>
  <cp:lastModifiedBy>Stanislav</cp:lastModifiedBy>
  <dcterms:modified xsi:type="dcterms:W3CDTF">2008-12-15T03:55:35Z</dcterms:modified>
  <cp:revision>2</cp:revision>
  <dc:subject/>
  <dc:title>Слайд 1</dc:title>
</cp:coreProperties>
</file>