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275-F6A5-4E74-B8E3-BC77AF58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11C-291D-4B0D-BB70-22E6EDB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844-F736-45F4-90B9-FB93A614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767-B0C0-4340-9DDE-C86A2031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4499-C486-4511-9843-3E7CD6D4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2B4A2-D908-41DD-98A7-33136150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03C4A-1B96-4CFC-9707-250C3B4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DAFF0-2040-441D-84A6-C0519D4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393B-5D6B-414D-94E9-07062175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AA47E-56C4-4BFB-B52B-7830E6E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C8654-74BE-4A63-8F3B-4D30F439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911-53DE-4AE9-80DD-3756A69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1A8D-D943-42DD-B351-5747A9B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4EC33-2AB2-4156-B738-B03DC96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D1A74-2E1F-4FA1-B5F7-2103D9A4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48743-30AD-4C10-BD2B-DE8B4A61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B3BF6-EF19-48C5-BDA7-124D9E1E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85C-E195-419B-914F-0295FB8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EAC-19CA-4B62-95FA-3DA4EE91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FC7-B4C1-4A14-8957-7ED2A82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42D-2715-48BB-ADE7-1BA8DCB6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C02-605F-48C8-86CD-623DA19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C49-4BEE-4388-ADAD-23D0240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290-69AC-48C5-9E24-E4413A4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C52-B903-4FC0-A033-82BDD380F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0C2D-2F78-4870-B330-D15AFA3B5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676520"/>
            <a:ext cx="81057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тригонометрических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й с помощью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я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огательного угла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00200" y="2362320"/>
            <a:ext cx="6200640" cy="22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Блиц-опрос</a:t>
            </a:r>
            <a:endParaRPr b="0" lang="en-US" sz="96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√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ентарий к решению у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им почленно левую и правую части уравнения на 2, получи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м вспомогательный угол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Имее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ь уравнение самостоятель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4120" y="3371760"/>
          <a:ext cx="1676160" cy="5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371760"/>
                    <a:ext cx="16761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4335480"/>
          <a:ext cx="342900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4335480"/>
                    <a:ext cx="3429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752480" y="4916520"/>
          <a:ext cx="419112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16520"/>
                    <a:ext cx="41911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Решить самостоятельно урав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43400" y="2286000"/>
          <a:ext cx="403848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403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762120"/>
          <a:ext cx="624816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762120"/>
                    <a:ext cx="6248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57200" y="19051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образуем левую часть урав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438280"/>
          <a:ext cx="7238880" cy="384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438280"/>
                    <a:ext cx="72388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447920"/>
          <a:ext cx="4952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49528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47920"/>
          <a:ext cx="60958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60958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47:13Z</dcterms:created>
  <dc:creator>Stanislav</dc:creator>
  <dc:description/>
  <dc:language>en-US</dc:language>
  <cp:lastModifiedBy>Stanislav</cp:lastModifiedBy>
  <dcterms:modified xsi:type="dcterms:W3CDTF">2008-12-15T03:55:35Z</dcterms:modified>
  <cp:revision>2</cp:revision>
  <dc:subject/>
  <dc:title>Слайд 1</dc:title>
</cp:coreProperties>
</file>