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FC5E-B726-41D1-A5CA-7EDBD81A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7746-EAD6-432E-A3CC-6656D4CB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BA09-82C9-4F15-8DA4-955FD1FE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AA5A-B7D5-47AD-A5FE-9CC894737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167F-5503-42ED-9EF4-44AF23E39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67FB-B959-4455-972D-6BFFFC77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1779-AA29-440C-9EBF-A1C46413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D9B1-E474-4134-85C8-6ABF616F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774D-A447-48B8-A92D-FC4B7EA9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CB4B-784E-4BD9-95A0-37928C96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E561-E452-446D-BFBD-63A12204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DD00-6362-41A8-A5F8-BF8FB6BE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7C6F-B937-4C0D-9E61-6C0D9C6E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D9D7-A844-4C77-AF74-8D7F7E06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BA64-5ECE-415D-9CDA-B6D65AC7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C4DF-2D2F-452D-9187-13BCE372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D364-67C3-4242-AE40-20FC25DB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2344C-07ED-4360-A857-46932041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52B5C-0D03-4558-860E-7CB32216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10AA6-DBF1-44CA-A98D-F0F32FD6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A416E-76CA-4B18-A04C-A2230D1D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85442-BB79-4197-9FD8-20F2C6DC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A49C-3F18-4641-B653-8B24B64C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38CEA-5583-4493-B056-2B91FC0C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FB7AE-D0EA-4F66-AEB3-6C329885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C8501-F5B9-4543-87A0-9DAAE19A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D22BE-4B58-40BB-BFFB-02E3AFB8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126AA-4108-47BB-BA7C-B903D60D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154F0-406A-4C76-9086-FB999EA0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127A4-209F-4103-9C7B-F6EF179C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1F4DB-FF43-45F7-8FB8-83337EBF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6D321-0515-4A24-973A-A5C53934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7CC96-119F-4E37-A7C5-95C879BD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F6AF-3BB9-424D-8D2F-79BE1C6D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AA71F-3AF5-440D-81AA-7ED46A35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5D715-3E01-47E0-AEEB-A73832E7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E503C-3878-4CBA-8DB7-7C03D42B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13F76-AA7E-4BAC-960B-BC0DDFF0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0A089-A650-484D-8724-0F0B9286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C921D-AE36-4B27-8848-42151EDD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C7686-FE8B-46D3-9E9D-93CC6E36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5BE29-19CE-45B8-8254-037F5465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50083-FDA9-47DB-A96E-AC8EA5B7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74E9F-0827-4C85-AC38-C1E32354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8E3C-970F-4312-8FA9-0BEC7863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B4BE7-2065-4824-BBB1-3A47ABB9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98C50-7EAF-46EA-943F-DDD315DF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AE7EE-0A7B-4E61-ABFE-11C17DEE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93D50-02E6-4820-BE63-E2B40E0F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9B8EB-C040-425A-AE57-0E29E346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DEA5D-DB83-4C7D-8772-C8D28933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D4A46-C5A4-40EA-8DB6-EFCA81A3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32F23-1E46-44BF-BFF4-36DC0916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ED787-83B5-4205-9820-DB899A5E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69F4D-8E78-439A-A803-DA59B5E0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9F28-A78C-4F70-93C2-D23D0273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025C4-3D3B-4590-B3C3-FC3E1C37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582F6-8184-46C8-970C-3F6B6BC4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736D2-EB8E-45D0-BFDA-6CEC27F4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E5373-F28C-4BC5-800C-F0B79398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AB5BB-E7C2-44C6-9CD8-74F82DD6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771FE-7D75-4069-90A8-607F7105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7AC3E-5F43-4672-8894-11584D44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7BA86-29A5-4DBF-8E97-2BB8559C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49CA7-2F8D-4322-87EF-7C580F5D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3BF46-8AA4-4B3C-86B6-B4410E95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56C4-1D5D-49CB-9331-49854A3F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E49C6-A2D6-488C-A86B-50CB07BF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B8B25-DA70-44DB-9C03-F8488DF6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52EBF-A0BA-4DD8-86DA-514B0BF1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31A8D-4D48-42C3-ADE4-89534117A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32E56-7514-49C8-A998-07B8A184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0F05C-41A6-4BDF-9A51-D22A609E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ADA6E-BA05-4232-8C6B-194A23B6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4D793-9706-4699-8128-F527F86B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BA89D-D7E0-446C-A4F2-59330AAB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612EA-71E6-482F-9FBA-B8182824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8F27-1CCB-4816-A60D-EB9E952C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A015A-A866-44CD-BCF6-4DDD3FC5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E8CE5-F00F-4811-9C09-EEF9054C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192CE-4DBC-4D03-8725-A6FF80F3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14D2D-4743-4805-9857-0EB9B595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FF8B2-2853-4EFF-97ED-58D88B65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A9CC-1538-4A84-B04C-8C41FCA8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7F26-E9DB-41DA-AAB9-CF0EFF2CED2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E954-E32C-4331-9AF0-993EAB42754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3737-0FA5-4F58-875B-1405722B7D3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7B39-A150-48B1-80C9-422F8894C69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3B77-5830-43E7-889E-7D3D5942C36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1A34-84FC-4E5C-A66C-E66F626BCA2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FBB3-6FD4-448D-9E57-BD467B23411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572314"/>
                </a:solidFill>
                <a:latin typeface="Century Schoolbook"/>
              </a:rPr>
              <a:t>Что увидел художник из окна?</a:t>
            </a:r>
            <a:endParaRPr b="0" lang="en-US" sz="4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0" name="Рисунок 3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359892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entury Schoolbook"/>
              </a:rPr>
              <a:t>С. Горохова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entury Schoolbook"/>
              </a:rPr>
              <a:t>«Вид с садом из окна»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2" name="Содержимое 3" descr=""/>
          <p:cNvPicPr/>
          <p:nvPr/>
        </p:nvPicPr>
        <p:blipFill>
          <a:blip r:embed="rId1"/>
          <a:stretch/>
        </p:blipFill>
        <p:spPr>
          <a:xfrm>
            <a:off x="2340000" y="1125360"/>
            <a:ext cx="4896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артина неизвестного художник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4" name="Содержимое 3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43894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Е. Юшева. «Осколки лета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Рисунок 3" descr="http://img-fotki.yandex.ru/get/9346/116075328.3d/0_ce184_f8e518e8_XXL.jpg"/>
          <p:cNvPicPr/>
          <p:nvPr/>
        </p:nvPicPr>
        <p:blipFill>
          <a:blip r:embed="rId1"/>
          <a:stretch/>
        </p:blipFill>
        <p:spPr>
          <a:xfrm>
            <a:off x="2916360" y="1341360"/>
            <a:ext cx="43196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З. Серебрякова «Вид из окна»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Содержимое 3" descr=""/>
          <p:cNvPicPr/>
          <p:nvPr/>
        </p:nvPicPr>
        <p:blipFill>
          <a:blip r:embed="rId1"/>
          <a:stretch/>
        </p:blipFill>
        <p:spPr>
          <a:xfrm>
            <a:off x="3203640" y="1557360"/>
            <a:ext cx="432108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Е.Юшева «К утру дорогу заметет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Содержимое 3" descr="http://img-fotki.yandex.ru/get/9153/116075328.3e/0_ce2ad_bea536d_XXL.jpg"/>
          <p:cNvPicPr/>
          <p:nvPr/>
        </p:nvPicPr>
        <p:blipFill>
          <a:blip r:embed="rId1"/>
          <a:stretch/>
        </p:blipFill>
        <p:spPr>
          <a:xfrm>
            <a:off x="2340000" y="1268280"/>
            <a:ext cx="54579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16:08:57Z</dcterms:created>
  <dc:creator>User</dc:creator>
  <dc:description/>
  <dc:language>en-US</dc:language>
  <cp:lastModifiedBy>User</cp:lastModifiedBy>
  <dcterms:modified xsi:type="dcterms:W3CDTF">2014-06-09T16:43:12Z</dcterms:modified>
  <cp:revision>7</cp:revision>
  <dc:subject/>
  <dc:title>Что увидел художник из окна?</dc:title>
</cp:coreProperties>
</file>