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629-2F2C-4EC8-A03D-72D550D6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D36-312E-49F6-8A49-1226FEF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B51-6B47-45DE-920F-F0C0BCA1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F9C-7569-4754-B1D1-E4B8D50E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AFA5-F1F9-4F01-9CA0-B4C46870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1B7D-CA51-4DE4-96C0-8B1E19F0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F739-905E-4512-911F-F7B9EE72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9C68-8BAA-47B7-AF78-C2F094EA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FDA3-E2D2-4B95-A985-458C970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EDAD-0202-4B45-872C-D18A3F3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BE97-22B7-45B2-81D3-C35CC2A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2FC-DA4A-496D-B193-F0EE90F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DA23-2EB9-4FD0-B80E-4F9B752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9D51-01AE-4B45-AE6A-B98EC95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DBB-9F83-4B67-8178-4C52F193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C92C-A876-472A-91FC-4BA671F3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E1CA-F02C-4C36-A8AB-87362C7D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C7F1-2AA5-4DA8-9A68-F087EC7E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756A-A889-48DD-8188-DB6B639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D2E2-4FA0-4A1D-8259-B5D2D405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8C19-0AC7-4CED-99A2-A88EEA2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42CF-8722-4309-9D99-6BA17B1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9A7-4935-44BA-80EA-518DE9F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280E-D083-4C21-B763-800D87E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3EFB-E3B5-4497-8769-8AD59AD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F1CF-AF6B-4DF2-B949-F759380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B59F-9238-4FC8-9D11-B33442D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3FE0-33B5-46ED-B899-0973AD8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5393-8FFF-4787-A91D-DE931CBA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A0A3-964B-4A9F-A2CA-7D0F951F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9FAC-F876-46CD-A2B4-1B553BCD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2E4B-3270-4378-B0CC-6E30BFF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01D5-B01C-43E4-A0B2-FE293B0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7FB-9A27-4C43-A538-3581A64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42C2-7D25-46DD-82C9-BBFE8C1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177D-7C4F-44E1-92F1-EC18636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633F-2FB1-4ED8-BF55-5A81139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DF27-1348-41FA-809B-B2B40CB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30FC-A806-446C-9A85-41AF0CB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BAC6-7AC0-4D05-BB37-75FB8F2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93F5-C870-47DF-95DD-76EBA5EC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F04F-4261-4508-8112-24980A40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FD48-5761-4C89-9A4D-129EB8E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B584-E1C3-4609-BB18-BE09A68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A30-84A8-410B-987F-5E0788D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C1FA6-80AA-4C0A-ADE8-6723554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4B75-5231-4C27-9EF3-0849BC3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42D1-46AB-4771-99C2-54E961C8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6207-FC71-4F57-978A-AE796FE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9269-FA94-4248-8CA8-88CF238B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2E99-7C01-422D-AD31-47BD107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0447-624E-48E3-8F8C-198B9AC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4FE6-BDDD-491D-B7F3-AD11B82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FB3E-FF81-4BD8-9A0C-1AF2971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3646-E892-48F4-BFBF-E0BA97F2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133-82AA-4BED-AC8F-63783001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8E5C-76F9-4B18-A519-F4039377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04DC-D839-4F17-AC0E-75D6413A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D3F9-1DD2-460F-89D8-FCE0E33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94D3A-1969-4F68-90D5-723B0ED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C480-4124-4BEA-85E8-5A113CC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EE53-14D2-4C09-AD8F-1E7718A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C699-D7B4-4695-BBED-71ABB8E7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ED67-963A-4422-9D42-5DFE314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9163-1DEE-41F8-81CC-C0E1845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823C-6E75-4CC9-A32A-A16F387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A6D-8556-4DC1-906C-61B151B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CF2E-4260-422C-BB30-2F30EB96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D8F2-3CE0-4A2F-8064-0C340BD2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D7C2-D47B-41EE-B4D1-2AAFEE9C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8CCC-D622-484B-9985-C4E69ABC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AD15-A8CB-44C8-9418-FAC3343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13B9-0CFA-4C16-BB97-238A1D6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0C620-D60E-4B69-B19B-EFA00340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F434-50E7-466A-9C72-CCE0408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4520C-FA78-4423-A938-1D4D8773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BABD-F388-42F8-8140-C793754E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E3F-1D6E-4A58-A684-69E714C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39D2-6CC7-49D4-9390-BED872C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305B-BAA4-43B1-938D-DED3012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FA8A-42B8-49A8-8A58-CFFACB3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9729D-2268-4291-B264-4D0233D6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8610-158C-4F6E-B013-73B71D28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C71-31A0-4BCF-B9DB-B4E6884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594-ACA2-4960-A70A-E9EE8AD917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E18-4CC8-44A3-96E0-4AC68E7EE6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B31-1DFD-4EE0-B3ED-1A55935CFF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BD0-299E-47C9-A972-03DD617ABF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B0CB-9929-46D5-8801-E17FE94EEC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E86-F943-47CE-B3FA-D5EFB77AD6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65C-AD15-4BBE-849C-6BEB3F305D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entury Schoolbook"/>
              </a:rPr>
              <a:t>Что увидел художник из окна?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359892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entury Schoolbook"/>
              </a:rPr>
              <a:t>С. Горохов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entury Schoolbook"/>
              </a:rPr>
              <a:t>«Вид с садом из окна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8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ртина неизвестного художни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4389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Е. Юшева. «Осколки лета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http://img-fotki.yandex.ru/get/9346/116075328.3d/0_ce184_f8e518e8_XXL.jpg"/>
          <p:cNvPicPr/>
          <p:nvPr/>
        </p:nvPicPr>
        <p:blipFill>
          <a:blip r:embed="rId1"/>
          <a:stretch/>
        </p:blipFill>
        <p:spPr>
          <a:xfrm>
            <a:off x="291636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. Серебрякова «Вид из окна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321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Е.Юшева «К утру дорогу заметет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http://img-fotki.yandex.ru/get/9153/116075328.3e/0_ce2ad_bea536d_XXL.jpg"/>
          <p:cNvPicPr/>
          <p:nvPr/>
        </p:nvPicPr>
        <p:blipFill>
          <a:blip r:embed="rId1"/>
          <a:stretch/>
        </p:blipFill>
        <p:spPr>
          <a:xfrm>
            <a:off x="2340000" y="1268280"/>
            <a:ext cx="5457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6:08:57Z</dcterms:created>
  <dc:creator>User</dc:creator>
  <dc:description/>
  <dc:language>en-US</dc:language>
  <cp:lastModifiedBy>User</cp:lastModifiedBy>
  <dcterms:modified xsi:type="dcterms:W3CDTF">2014-06-09T16:43:12Z</dcterms:modified>
  <cp:revision>7</cp:revision>
  <dc:subject/>
  <dc:title>Что увидел художник из окна?</dc:title>
</cp:coreProperties>
</file>