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D94-0026-4ECD-BB64-EAD13519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930-7E70-4DAB-BB99-FF1ECD0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12-A8E6-48F4-AC1D-893D3997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01F-BAF7-4CFA-9E8D-8F09AF88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5D8-C47F-4201-8C0E-AEF36F4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053-CD38-4322-8F93-A504AC2B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856-E8C9-4EA1-9B14-8E11152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E6F-8A81-49F1-B6EC-CD1B3C77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FEB-FB82-4DAA-831F-7F1AC85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853-8305-451E-A826-2A2ECC0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E1B-F76D-4A9E-A42E-7CCB0DA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B17-C122-43F3-9A53-3C6A2A2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AC0-58A2-4B19-A11B-2AE5401F6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Звуки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 [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376092"/>
                </a:solidFill>
                <a:latin typeface="Bookman Old Style"/>
              </a:rPr>
              <a:t>к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]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008000"/>
                </a:solidFill>
                <a:latin typeface="Bookman Old Style"/>
              </a:rPr>
              <a:t>к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77933c"/>
                </a:solidFill>
                <a:latin typeface="Calibri"/>
              </a:rPr>
              <a:t>'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]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.</a:t>
            </a:r>
            <a:br>
              <a:rPr sz="4300"/>
            </a:b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Буквы К, к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обучения грам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0692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Чуйкина Эльвира Анато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9528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МКОУ Сортавальского МР Республики Карелия Средняя общеобразовательная школа №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14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>
              <a:gd name="textAreaLeft" fmla="*/ 0 w 958680"/>
              <a:gd name="textAreaRight" fmla="*/ 959040 w 958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54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c050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158" name="Freeform 13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9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11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8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9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rot="12875400">
            <a:off x="2506680" y="14443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2 C -0.00504 0.00231 0.08333 -0.12416 0.09514 -0.11931 C 0.10694 -0.11445 0.06632 -0.01434 0.04601 0.05618 C 0.02569 0.1267 -0.00486 0.22913 -0.02708 0.30335 C -0.04931 0.37757 -0.07118 0.48301 -0.08733 0.50196 C -0.10347 0.52069 -0.1375 0.46335 -0.12379 0.41526 C -0.11007 0.36763 -0.05938 0.29942 -0.00486 0.21457 C 0.04965 0.12971 0.1592 -0.04671 0.20312 -0.09387 C 0.24705 -0.14104 0.24705 -0.07399 0.25868 -0.06867 E">
                                      <p:cBhvr>
                                        <p:cTn id="261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21896 C 0.01979 0.22312 0.08611 0.19561 0.09514 0.24416 C 0.10417 0.29272 0.05069 0.47306 0.05868 0.51052 C 0.06667 0.54798 0.12048 0.48416 0.14288 0.46844 C 0.16528 0.45272 0.18298 0.42659 0.19358 0.41549 E">
                                      <p:cBhvr>
                                        <p:cTn id="264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8 0.19561 C 0.39236 0.23584 0.34201 0.38405 0.32378 0.43653 C 0.30555 0.48902 0.30243 0.49503 0.29687 0.51052 E">
                                      <p:cBhvr>
                                        <p:cTn id="267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399 0.35006 C 0.37483 0.32393 0.45555 0.20971 0.47934 0.19353 C 0.50312 0.17734 0.49323 0.24046 0.49687 0.25272 E">
                                      <p:cBhvr>
                                        <p:cTn id="270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24 0.35006 C 0.39635 0.33225 0.43246 0.31468 0.44288 0.33295 C 0.4533 0.35121 0.42517 0.42959 0.42222 0.45988 C 0.41927 0.49017 0.40816 0.51977 0.42535 0.51491 C 0.44253 0.51006 0.50677 0.44694 0.52535 0.43029 C 0.54392 0.41364 0.5401 0.41457 0.53646 0.41549 E">
                                      <p:cBhvr>
                                        <p:cTn id="273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611280" y="26028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Bookman Old Style"/>
              </a:rPr>
              <a:t>Задач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ПОЗНАКОМИТЬСЯ С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УЧИТЬСЯ ОТЛИЧА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УЧИТЬСЯ ЧИТА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бим1.png"/>
          <p:cNvPicPr/>
          <p:nvPr/>
        </p:nvPicPr>
        <p:blipFill>
          <a:blip r:embed="rId1"/>
          <a:stretch/>
        </p:blipFill>
        <p:spPr>
          <a:xfrm>
            <a:off x="6732720" y="2997360"/>
            <a:ext cx="1368360" cy="2403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бом2.png"/>
          <p:cNvPicPr/>
          <p:nvPr/>
        </p:nvPicPr>
        <p:blipFill>
          <a:blip r:embed="rId2"/>
          <a:stretch/>
        </p:blipFill>
        <p:spPr>
          <a:xfrm>
            <a:off x="4788000" y="3933720"/>
            <a:ext cx="1368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0" y="620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Мордочка усата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Шубка полосата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асто умываетс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А с водой не зн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003640" y="620640"/>
            <a:ext cx="51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ерез море-океан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Плывёт чудо-великан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Прячет ус во рту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Растянулся на вер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http://img-fotki.yandex.ru/get/6439/981986.36/0_85280_1a55ba4_orig"/>
          <p:cNvPicPr/>
          <p:nvPr/>
        </p:nvPicPr>
        <p:blipFill>
          <a:blip r:embed="rId1"/>
          <a:stretch/>
        </p:blipFill>
        <p:spPr>
          <a:xfrm>
            <a:off x="6084720" y="2349360"/>
            <a:ext cx="254664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th03.deviantart.net/fs71/PRE/i/2012/340/0/6/png_cat_by_moonglowlilly-d5n7zqm.png"/>
          <p:cNvPicPr/>
          <p:nvPr/>
        </p:nvPicPr>
        <p:blipFill>
          <a:blip r:embed="rId2"/>
          <a:stretch/>
        </p:blipFill>
        <p:spPr>
          <a:xfrm>
            <a:off x="324000" y="2133720"/>
            <a:ext cx="2160360" cy="2139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45360" y="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Выделение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ый треугольник 10"/>
          <p:cNvSpPr/>
          <p:nvPr/>
        </p:nvSpPr>
        <p:spPr>
          <a:xfrm rot="10800000">
            <a:off x="755280" y="4437000"/>
            <a:ext cx="1081080" cy="574560"/>
          </a:xfrm>
          <a:prstGeom prst="rtTriangle">
            <a:avLst/>
          </a:prstGeom>
          <a:noFill/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755640" y="4437000"/>
            <a:ext cx="1655640" cy="576360"/>
          </a:xfrm>
          <a:prstGeom prst="rect">
            <a:avLst/>
          </a:prstGeom>
          <a:noFill/>
          <a:ln w="63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ый треугольник 12"/>
          <p:cNvSpPr/>
          <p:nvPr/>
        </p:nvSpPr>
        <p:spPr>
          <a:xfrm>
            <a:off x="755640" y="4437000"/>
            <a:ext cx="1079640" cy="574560"/>
          </a:xfrm>
          <a:prstGeom prst="rtTriangle">
            <a:avLst/>
          </a:prstGeom>
          <a:solidFill>
            <a:srgbClr val="376092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ый треугольник 13"/>
          <p:cNvSpPr/>
          <p:nvPr/>
        </p:nvSpPr>
        <p:spPr>
          <a:xfrm rot="10800000">
            <a:off x="755280" y="4436640"/>
            <a:ext cx="1079640" cy="5763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1835280" y="4437000"/>
            <a:ext cx="576000" cy="576360"/>
          </a:xfrm>
          <a:prstGeom prst="rect">
            <a:avLst/>
          </a:prstGeom>
          <a:solidFill>
            <a:srgbClr val="376092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ый треугольник 15"/>
          <p:cNvSpPr/>
          <p:nvPr/>
        </p:nvSpPr>
        <p:spPr>
          <a:xfrm>
            <a:off x="6443640" y="4508640"/>
            <a:ext cx="1081080" cy="574560"/>
          </a:xfrm>
          <a:prstGeom prst="rtTriangle">
            <a:avLst/>
          </a:prstGeom>
          <a:solidFill>
            <a:srgbClr val="00800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ый треугольник 16"/>
          <p:cNvSpPr/>
          <p:nvPr/>
        </p:nvSpPr>
        <p:spPr>
          <a:xfrm rot="10800000">
            <a:off x="6443280" y="4508640"/>
            <a:ext cx="1079640" cy="5760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7"/>
          <p:cNvSpPr/>
          <p:nvPr/>
        </p:nvSpPr>
        <p:spPr>
          <a:xfrm rot="10800000">
            <a:off x="6443280" y="4508640"/>
            <a:ext cx="1081080" cy="574560"/>
          </a:xfrm>
          <a:prstGeom prst="rtTriangle">
            <a:avLst/>
          </a:prstGeom>
          <a:noFill/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6443640" y="4508640"/>
            <a:ext cx="1655640" cy="576000"/>
          </a:xfrm>
          <a:prstGeom prst="rect">
            <a:avLst/>
          </a:prstGeom>
          <a:noFill/>
          <a:ln w="63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7524720" y="4508640"/>
            <a:ext cx="576360" cy="576000"/>
          </a:xfrm>
          <a:prstGeom prst="rect">
            <a:avLst/>
          </a:prstGeom>
          <a:solidFill>
            <a:srgbClr val="376092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9"/>
          <p:cNvGrpSpPr/>
          <p:nvPr/>
        </p:nvGrpSpPr>
        <p:grpSpPr>
          <a:xfrm>
            <a:off x="3780000" y="5013360"/>
            <a:ext cx="1439640" cy="1319040"/>
            <a:chOff x="3780000" y="5013360"/>
            <a:chExt cx="1439640" cy="1319040"/>
          </a:xfrm>
        </p:grpSpPr>
        <p:grpSp>
          <p:nvGrpSpPr>
            <p:cNvPr id="64" name="Группа 12"/>
            <p:cNvGrpSpPr/>
            <p:nvPr/>
          </p:nvGrpSpPr>
          <p:grpSpPr>
            <a:xfrm>
              <a:off x="3780000" y="5013360"/>
              <a:ext cx="1367640" cy="1319040"/>
              <a:chOff x="3780000" y="5013360"/>
              <a:chExt cx="1367640" cy="1319040"/>
            </a:xfrm>
          </p:grpSpPr>
          <p:pic>
            <p:nvPicPr>
              <p:cNvPr id="65" name="Рисунок 9" descr="гласный.png"/>
              <p:cNvPicPr/>
              <p:nvPr/>
            </p:nvPicPr>
            <p:blipFill>
              <a:blip r:embed="rId3"/>
              <a:stretch/>
            </p:blipFill>
            <p:spPr>
              <a:xfrm>
                <a:off x="3780000" y="5013360"/>
                <a:ext cx="1367640" cy="131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Oval 5"/>
              <p:cNvSpPr/>
              <p:nvPr/>
            </p:nvSpPr>
            <p:spPr>
              <a:xfrm>
                <a:off x="4062960" y="6081840"/>
                <a:ext cx="282960" cy="118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5"/>
              <p:cNvSpPr/>
              <p:nvPr/>
            </p:nvSpPr>
            <p:spPr>
              <a:xfrm>
                <a:off x="4581720" y="6081840"/>
                <a:ext cx="235800" cy="118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Прямоугольник 28"/>
            <p:cNvSpPr/>
            <p:nvPr/>
          </p:nvSpPr>
          <p:spPr>
            <a:xfrm>
              <a:off x="3780000" y="5085000"/>
              <a:ext cx="14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Bookman Old Style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2"/>
          <p:cNvSpPr/>
          <p:nvPr/>
        </p:nvSpPr>
        <p:spPr>
          <a:xfrm>
            <a:off x="4068720" y="6021360"/>
            <a:ext cx="287280" cy="216000"/>
          </a:xfrm>
          <a:prstGeom prst="ellipse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4572000" y="6021360"/>
            <a:ext cx="36036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8"/>
          <p:cNvGrpSpPr/>
          <p:nvPr/>
        </p:nvGrpSpPr>
        <p:grpSpPr>
          <a:xfrm>
            <a:off x="3780000" y="4869000"/>
            <a:ext cx="1295280" cy="1422360"/>
            <a:chOff x="3780000" y="4869000"/>
            <a:chExt cx="1295280" cy="1422360"/>
          </a:xfrm>
        </p:grpSpPr>
        <p:grpSp>
          <p:nvGrpSpPr>
            <p:cNvPr id="72" name="Группа 8"/>
            <p:cNvGrpSpPr/>
            <p:nvPr/>
          </p:nvGrpSpPr>
          <p:grpSpPr>
            <a:xfrm>
              <a:off x="3780000" y="4869000"/>
              <a:ext cx="1295280" cy="1422360"/>
              <a:chOff x="3780000" y="4869000"/>
              <a:chExt cx="1295280" cy="1422360"/>
            </a:xfrm>
          </p:grpSpPr>
          <p:pic>
            <p:nvPicPr>
              <p:cNvPr id="73" name="Рисунок 7" descr="C:\Users\ASUS\Desktop\глухой.png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869000"/>
                <a:ext cx="1295280" cy="14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Oval 3"/>
              <p:cNvSpPr/>
              <p:nvPr/>
            </p:nvSpPr>
            <p:spPr>
              <a:xfrm>
                <a:off x="4099680" y="6099480"/>
                <a:ext cx="213120" cy="11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"/>
              <p:cNvSpPr/>
              <p:nvPr/>
            </p:nvSpPr>
            <p:spPr>
              <a:xfrm>
                <a:off x="4554000" y="6079680"/>
                <a:ext cx="20088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"/>
            <p:cNvSpPr/>
            <p:nvPr/>
          </p:nvSpPr>
          <p:spPr>
            <a:xfrm>
              <a:off x="3995640" y="6031080"/>
              <a:ext cx="360360" cy="260280"/>
            </a:xfrm>
            <a:prstGeom prst="ellipse">
              <a:avLst/>
            </a:prstGeom>
            <a:solidFill>
              <a:srgbClr val="3760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"/>
            <p:cNvSpPr/>
            <p:nvPr/>
          </p:nvSpPr>
          <p:spPr>
            <a:xfrm>
              <a:off x="4499640" y="6030720"/>
              <a:ext cx="359640" cy="260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Прямоугольник 42"/>
          <p:cNvSpPr/>
          <p:nvPr/>
        </p:nvSpPr>
        <p:spPr>
          <a:xfrm>
            <a:off x="611280" y="5084640"/>
            <a:ext cx="11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6300720" y="508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1" lang="ru-RU" sz="3500" spc="-1" strike="noStrike">
                <a:solidFill>
                  <a:srgbClr val="008000"/>
                </a:solidFill>
                <a:latin typeface="Bookman Old Style"/>
              </a:rPr>
              <a:t> к</a:t>
            </a:r>
            <a:r>
              <a:rPr b="0" lang="ru-RU" sz="3600" spc="-1" strike="noStrike">
                <a:solidFill>
                  <a:srgbClr val="77933c"/>
                </a:solidFill>
                <a:latin typeface="Calibri"/>
              </a:rPr>
              <a:t> ‘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2" descr="бим1.png"/>
          <p:cNvPicPr/>
          <p:nvPr/>
        </p:nvPicPr>
        <p:blipFill>
          <a:blip r:embed="rId5"/>
          <a:stretch/>
        </p:blipFill>
        <p:spPr>
          <a:xfrm>
            <a:off x="6588000" y="5589720"/>
            <a:ext cx="72252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" descr="бом2.png"/>
          <p:cNvPicPr/>
          <p:nvPr/>
        </p:nvPicPr>
        <p:blipFill>
          <a:blip r:embed="rId6"/>
          <a:stretch/>
        </p:blipFill>
        <p:spPr>
          <a:xfrm>
            <a:off x="900000" y="5732640"/>
            <a:ext cx="652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Группа 1"/>
          <p:cNvGrpSpPr/>
          <p:nvPr/>
        </p:nvGrpSpPr>
        <p:grpSpPr>
          <a:xfrm>
            <a:off x="324000" y="549360"/>
            <a:ext cx="1295280" cy="1422360"/>
            <a:chOff x="324000" y="549360"/>
            <a:chExt cx="1295280" cy="1422360"/>
          </a:xfrm>
        </p:grpSpPr>
        <p:grpSp>
          <p:nvGrpSpPr>
            <p:cNvPr id="83" name="Группа 8"/>
            <p:cNvGrpSpPr/>
            <p:nvPr/>
          </p:nvGrpSpPr>
          <p:grpSpPr>
            <a:xfrm>
              <a:off x="324000" y="549360"/>
              <a:ext cx="1295280" cy="1422360"/>
              <a:chOff x="324000" y="549360"/>
              <a:chExt cx="1295280" cy="1422360"/>
            </a:xfrm>
          </p:grpSpPr>
          <p:pic>
            <p:nvPicPr>
              <p:cNvPr id="84" name="Рисунок 7" descr="C:\Users\ASUS\Desktop\глухой.png"/>
              <p:cNvPicPr/>
              <p:nvPr/>
            </p:nvPicPr>
            <p:blipFill>
              <a:blip r:embed="rId1"/>
              <a:stretch/>
            </p:blipFill>
            <p:spPr>
              <a:xfrm>
                <a:off x="324000" y="549360"/>
                <a:ext cx="1295280" cy="14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Oval 3"/>
              <p:cNvSpPr/>
              <p:nvPr/>
            </p:nvSpPr>
            <p:spPr>
              <a:xfrm>
                <a:off x="643680" y="1779840"/>
                <a:ext cx="213120" cy="11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"/>
              <p:cNvSpPr/>
              <p:nvPr/>
            </p:nvSpPr>
            <p:spPr>
              <a:xfrm>
                <a:off x="1098000" y="1760040"/>
                <a:ext cx="20088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2"/>
            <p:cNvSpPr/>
            <p:nvPr/>
          </p:nvSpPr>
          <p:spPr>
            <a:xfrm>
              <a:off x="539640" y="1711440"/>
              <a:ext cx="360360" cy="260280"/>
            </a:xfrm>
            <a:prstGeom prst="ellipse">
              <a:avLst/>
            </a:prstGeom>
            <a:solidFill>
              <a:srgbClr val="3760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"/>
            <p:cNvSpPr/>
            <p:nvPr/>
          </p:nvSpPr>
          <p:spPr>
            <a:xfrm>
              <a:off x="1043640" y="1711080"/>
              <a:ext cx="359640" cy="260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Прямоугольник 8"/>
          <p:cNvSpPr/>
          <p:nvPr/>
        </p:nvSpPr>
        <p:spPr>
          <a:xfrm>
            <a:off x="1692360" y="620640"/>
            <a:ext cx="11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2771640" y="62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1" lang="ru-RU" sz="3500" spc="-1" strike="noStrike">
                <a:solidFill>
                  <a:srgbClr val="008000"/>
                </a:solidFill>
                <a:latin typeface="Bookman Old Style"/>
              </a:rPr>
              <a:t> к</a:t>
            </a:r>
            <a:r>
              <a:rPr b="0" lang="ru-RU" sz="3600" spc="-1" strike="noStrike">
                <a:solidFill>
                  <a:srgbClr val="77933c"/>
                </a:solidFill>
                <a:latin typeface="Calibri"/>
              </a:rPr>
              <a:t> ‘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4758120" y="189000"/>
            <a:ext cx="2072160" cy="1557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54061"/>
                </a:solidFill>
                <a:latin typeface="바탕"/>
                <a:ea typeface="바탕"/>
              </a:rPr>
              <a:t>К 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96120" y="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Знакомство с бу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0" y="234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Bookman Old Style"/>
              </a:rPr>
              <a:t>На что похожа буква </a:t>
            </a:r>
            <a:r>
              <a:rPr b="1" lang="ru-RU" sz="3600" spc="-1" strike="noStrike">
                <a:solidFill>
                  <a:srgbClr val="254061"/>
                </a:solidFill>
                <a:latin typeface="Book Antiqu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376092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llustrators.ru/illustrations/481653_original.jpg"/>
          <p:cNvPicPr/>
          <p:nvPr/>
        </p:nvPicPr>
        <p:blipFill>
          <a:blip r:embed="rId2"/>
          <a:stretch/>
        </p:blipFill>
        <p:spPr>
          <a:xfrm>
            <a:off x="250920" y="3068640"/>
            <a:ext cx="197784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baby-scool.narod.ru/media/book/metod/gramota/bukvi/06_k_l.jpg"/>
          <p:cNvPicPr/>
          <p:nvPr/>
        </p:nvPicPr>
        <p:blipFill>
          <a:blip r:embed="rId3"/>
          <a:stretch/>
        </p:blipFill>
        <p:spPr>
          <a:xfrm>
            <a:off x="5724360" y="3357720"/>
            <a:ext cx="2160720" cy="2796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5"/>
          <p:cNvSpPr/>
          <p:nvPr/>
        </p:nvSpPr>
        <p:spPr>
          <a:xfrm>
            <a:off x="4390920" y="614988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Сигнальщик держит два флаж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С флажками он как буква </a:t>
            </a:r>
            <a:r>
              <a:rPr b="1" lang="ru-RU" sz="20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www.solnet.ee/sol/019/pic/az/az12.jpg"/>
          <p:cNvPicPr/>
          <p:nvPr/>
        </p:nvPicPr>
        <p:blipFill>
          <a:blip r:embed="rId4"/>
          <a:stretch/>
        </p:blipFill>
        <p:spPr>
          <a:xfrm>
            <a:off x="7164360" y="1268280"/>
            <a:ext cx="197964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s://encrypted-tbn0.gstatic.com/images?q=tbn:ANd9GcTIai-mOR9dEm606up_LCA8LJm8S4rFVf9toNIYwAREUZBdbbTNDQ"/>
          <p:cNvPicPr/>
          <p:nvPr/>
        </p:nvPicPr>
        <p:blipFill>
          <a:blip r:embed="rId5"/>
          <a:stretch/>
        </p:blipFill>
        <p:spPr>
          <a:xfrm>
            <a:off x="2627280" y="3357720"/>
            <a:ext cx="1728720" cy="2336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8"/>
          <p:cNvSpPr/>
          <p:nvPr/>
        </p:nvSpPr>
        <p:spPr>
          <a:xfrm>
            <a:off x="179280" y="5732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Буква </a:t>
            </a:r>
            <a:r>
              <a:rPr b="1" lang="ru-RU" sz="2000" spc="-1" strike="noStrike">
                <a:solidFill>
                  <a:srgbClr val="254061"/>
                </a:solidFill>
                <a:latin typeface="Bookman Old Style"/>
              </a:rPr>
              <a:t>К</a:t>
            </a: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 вперёд шагает,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Руку кверху подним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260280"/>
            <a:ext cx="543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Жеребенок с каждым д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подрастал и стал…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Что за скрип, что за хрус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Это что еще за куст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ак же быть без хруста, если я-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ругла, рассыпчата, б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на стол с полей она пришла 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Ты посоли ее немножко, ведь правда, вкусная ..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то альбом раскрасит наш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Ну конечно- ..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Мчусь, как пуля, я впере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лишь поскрипывает лед. 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Да мелькают огонь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то несет меня?..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70200" y="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</a:rPr>
              <a:t>Доскажи словечк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s2.pic4you.ru/allimage/y2013/08-27/12216/3754656.png"/>
          <p:cNvPicPr/>
          <p:nvPr/>
        </p:nvPicPr>
        <p:blipFill>
          <a:blip r:embed="rId1"/>
          <a:stretch/>
        </p:blipFill>
        <p:spPr>
          <a:xfrm>
            <a:off x="5148360" y="260280"/>
            <a:ext cx="1600200" cy="154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www.omsklekar.ru/fck_editor_files/Image/3(54)/kapusta.gif"/>
          <p:cNvPicPr/>
          <p:nvPr/>
        </p:nvPicPr>
        <p:blipFill>
          <a:blip r:embed="rId2"/>
          <a:stretch/>
        </p:blipFill>
        <p:spPr>
          <a:xfrm>
            <a:off x="6804000" y="1268280"/>
            <a:ext cx="1739880" cy="170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kartofel.com.ua/images/stories/kartofan1.png"/>
          <p:cNvPicPr/>
          <p:nvPr/>
        </p:nvPicPr>
        <p:blipFill>
          <a:blip r:embed="rId3"/>
          <a:stretch/>
        </p:blipFill>
        <p:spPr>
          <a:xfrm>
            <a:off x="4427640" y="2349360"/>
            <a:ext cx="2143080" cy="14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s://img-fotki.yandex.ru/get/5108/kur-valentina.61/0_77dc3_65846cbf_M.jpg"/>
          <p:cNvPicPr/>
          <p:nvPr/>
        </p:nvPicPr>
        <p:blipFill>
          <a:blip r:embed="rId4"/>
          <a:stretch/>
        </p:blipFill>
        <p:spPr>
          <a:xfrm rot="1374600">
            <a:off x="5451120" y="3733560"/>
            <a:ext cx="1495440" cy="149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allpng.ru/cliparts/k/konjki-figurnye33-1500x1405.png"/>
          <p:cNvPicPr/>
          <p:nvPr/>
        </p:nvPicPr>
        <p:blipFill>
          <a:blip r:embed="rId5"/>
          <a:stretch/>
        </p:blipFill>
        <p:spPr>
          <a:xfrm>
            <a:off x="4643280" y="4941720"/>
            <a:ext cx="21607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93960" y="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тение (кликни по букве </a:t>
            </a:r>
            <a:r>
              <a:rPr b="1" lang="ru-RU" sz="2400" spc="-1" strike="noStrike">
                <a:solidFill>
                  <a:srgbClr val="254061"/>
                </a:solidFill>
                <a:latin typeface="Bookman Old Style"/>
              </a:rPr>
              <a:t>к</a:t>
            </a: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804000" y="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971640" y="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"/>
          <p:cNvSpPr/>
          <p:nvPr/>
        </p:nvSpPr>
        <p:spPr>
          <a:xfrm>
            <a:off x="468360" y="122400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875640" y="836640"/>
            <a:ext cx="64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042920" y="83664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539640" y="206064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875640" y="1628640"/>
            <a:ext cx="64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042920" y="162864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>
            <a:off x="539640" y="285264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6804000" y="270828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971640" y="270828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4"/>
          <p:cNvSpPr/>
          <p:nvPr/>
        </p:nvSpPr>
        <p:spPr>
          <a:xfrm>
            <a:off x="468360" y="393372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6804000" y="3645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971640" y="3645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7"/>
          <p:cNvSpPr/>
          <p:nvPr/>
        </p:nvSpPr>
        <p:spPr>
          <a:xfrm>
            <a:off x="468360" y="486900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8"/>
          <p:cNvSpPr/>
          <p:nvPr/>
        </p:nvSpPr>
        <p:spPr>
          <a:xfrm>
            <a:off x="250920" y="55897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76092"/>
                </a:solidFill>
                <a:latin typeface="Bookman Old Style"/>
              </a:rPr>
              <a:t>ка    ко    ку    кы    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2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4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6603840"/>
            <a:ext cx="896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school.xvatit.com/index.php?title=%D0%A3%D1%80%D0%BE%D0%BA_7._%D0%98%D0%B7%D1%83%D1%87%D0%B0%D0%B5%D0%BC_%D0%B1%D1%83%D0%BA%D0%B2%D1%83_%D0%9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6"/>
          <p:cNvGrpSpPr/>
          <p:nvPr/>
        </p:nvGrpSpPr>
        <p:grpSpPr>
          <a:xfrm>
            <a:off x="0" y="765000"/>
            <a:ext cx="8820000" cy="5688360"/>
            <a:chOff x="0" y="765000"/>
            <a:chExt cx="8820000" cy="5688360"/>
          </a:xfrm>
        </p:grpSpPr>
        <p:pic>
          <p:nvPicPr>
            <p:cNvPr id="126" name="Picture 2" descr="Russian language 1 1 53h.jpg"/>
            <p:cNvPicPr/>
            <p:nvPr/>
          </p:nvPicPr>
          <p:blipFill>
            <a:blip r:embed="rId1"/>
            <a:stretch/>
          </p:blipFill>
          <p:spPr>
            <a:xfrm>
              <a:off x="4177800" y="765000"/>
              <a:ext cx="464220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Russian language 1 1 52e.jpg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4177080" cy="56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Прямоугольник 5"/>
          <p:cNvSpPr/>
          <p:nvPr/>
        </p:nvSpPr>
        <p:spPr>
          <a:xfrm>
            <a:off x="97920" y="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Азбука с.52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4"/>
          <p:cNvGrpSpPr/>
          <p:nvPr/>
        </p:nvGrpSpPr>
        <p:grpSpPr>
          <a:xfrm>
            <a:off x="539640" y="0"/>
            <a:ext cx="7848720" cy="5113440"/>
            <a:chOff x="539640" y="0"/>
            <a:chExt cx="7848720" cy="5113440"/>
          </a:xfrm>
        </p:grpSpPr>
        <p:pic>
          <p:nvPicPr>
            <p:cNvPr id="130" name="Picture 2" descr="Russian language 1 1 53h.jpg"/>
            <p:cNvPicPr/>
            <p:nvPr/>
          </p:nvPicPr>
          <p:blipFill>
            <a:blip r:embed="rId1"/>
            <a:stretch/>
          </p:blipFill>
          <p:spPr>
            <a:xfrm>
              <a:off x="5139720" y="0"/>
              <a:ext cx="3248640" cy="51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Russian language 1 1 52e.jpg"/>
            <p:cNvPicPr/>
            <p:nvPr/>
          </p:nvPicPr>
          <p:blipFill>
            <a:blip r:embed="rId2"/>
            <a:stretch/>
          </p:blipFill>
          <p:spPr>
            <a:xfrm>
              <a:off x="539640" y="0"/>
              <a:ext cx="4599360" cy="51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5"/>
          <p:cNvSpPr/>
          <p:nvPr/>
        </p:nvSpPr>
        <p:spPr>
          <a:xfrm>
            <a:off x="5508720" y="4869000"/>
            <a:ext cx="45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Кто кос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Антон к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Никита к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си, к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school.xvatit.com/index.php?title=%D0%A3%D1%80%D0%BE%D0%BA_9._%D0%98%D0%B7%D1%83%D1%87%D0%B0%D0%B5%D0%BC_%D0%B1%D1%83%D0%BA%D0%B2%D1%83_%D0%9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9"/>
          <p:cNvGrpSpPr/>
          <p:nvPr/>
        </p:nvGrpSpPr>
        <p:grpSpPr>
          <a:xfrm>
            <a:off x="250920" y="5086440"/>
            <a:ext cx="4095720" cy="703440"/>
            <a:chOff x="250920" y="5086440"/>
            <a:chExt cx="4095720" cy="703440"/>
          </a:xfrm>
        </p:grpSpPr>
        <p:grpSp>
          <p:nvGrpSpPr>
            <p:cNvPr id="135" name="Группа 9"/>
            <p:cNvGrpSpPr/>
            <p:nvPr/>
          </p:nvGrpSpPr>
          <p:grpSpPr>
            <a:xfrm>
              <a:off x="250920" y="5198040"/>
              <a:ext cx="1152000" cy="335160"/>
              <a:chOff x="250920" y="5198040"/>
              <a:chExt cx="1152000" cy="335160"/>
            </a:xfrm>
          </p:grpSpPr>
          <p:sp>
            <p:nvSpPr>
              <p:cNvPr id="136" name="Прямоугольник 12"/>
              <p:cNvSpPr/>
              <p:nvPr/>
            </p:nvSpPr>
            <p:spPr>
              <a:xfrm>
                <a:off x="250920" y="5365440"/>
                <a:ext cx="1152000" cy="1674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ая соединительная линия 13"/>
              <p:cNvSpPr/>
              <p:nvPr/>
            </p:nvSpPr>
            <p:spPr>
              <a:xfrm>
                <a:off x="250920" y="5198040"/>
                <a:ext cx="0" cy="335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9"/>
            <p:cNvSpPr/>
            <p:nvPr/>
          </p:nvSpPr>
          <p:spPr>
            <a:xfrm>
              <a:off x="4067280" y="5086440"/>
              <a:ext cx="27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76092"/>
                  </a:solidFill>
                  <a:latin typeface="Calibri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оугольник 10"/>
            <p:cNvSpPr/>
            <p:nvPr/>
          </p:nvSpPr>
          <p:spPr>
            <a:xfrm>
              <a:off x="1546200" y="536580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оугольник 11"/>
            <p:cNvSpPr/>
            <p:nvPr/>
          </p:nvSpPr>
          <p:spPr>
            <a:xfrm>
              <a:off x="2914920" y="536580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17"/>
          <p:cNvGrpSpPr/>
          <p:nvPr/>
        </p:nvGrpSpPr>
        <p:grpSpPr>
          <a:xfrm>
            <a:off x="250920" y="5589720"/>
            <a:ext cx="5248080" cy="703440"/>
            <a:chOff x="250920" y="5589720"/>
            <a:chExt cx="5248080" cy="703440"/>
          </a:xfrm>
        </p:grpSpPr>
        <p:grpSp>
          <p:nvGrpSpPr>
            <p:cNvPr id="142" name="Группа 15"/>
            <p:cNvGrpSpPr/>
            <p:nvPr/>
          </p:nvGrpSpPr>
          <p:grpSpPr>
            <a:xfrm>
              <a:off x="250920" y="5701320"/>
              <a:ext cx="1152000" cy="335160"/>
              <a:chOff x="250920" y="5701320"/>
              <a:chExt cx="1152000" cy="335160"/>
            </a:xfrm>
          </p:grpSpPr>
          <p:sp>
            <p:nvSpPr>
              <p:cNvPr id="143" name="Прямоугольник 20"/>
              <p:cNvSpPr/>
              <p:nvPr/>
            </p:nvSpPr>
            <p:spPr>
              <a:xfrm>
                <a:off x="250920" y="5868720"/>
                <a:ext cx="1152000" cy="1674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21"/>
              <p:cNvSpPr/>
              <p:nvPr/>
            </p:nvSpPr>
            <p:spPr>
              <a:xfrm>
                <a:off x="250920" y="5701320"/>
                <a:ext cx="0" cy="335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Box 16"/>
            <p:cNvSpPr/>
            <p:nvPr/>
          </p:nvSpPr>
          <p:spPr>
            <a:xfrm>
              <a:off x="5219640" y="5589720"/>
              <a:ext cx="27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76092"/>
                  </a:solidFill>
                  <a:latin typeface="Calibri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оугольник 17"/>
            <p:cNvSpPr/>
            <p:nvPr/>
          </p:nvSpPr>
          <p:spPr>
            <a:xfrm>
              <a:off x="2771640" y="5869080"/>
              <a:ext cx="115092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ольник 18"/>
            <p:cNvSpPr/>
            <p:nvPr/>
          </p:nvSpPr>
          <p:spPr>
            <a:xfrm>
              <a:off x="3995640" y="586908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19"/>
            <p:cNvSpPr/>
            <p:nvPr/>
          </p:nvSpPr>
          <p:spPr>
            <a:xfrm>
              <a:off x="1546200" y="586908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5klass.net/datas/russkij-jazyk/Russkij-jazyk-2-klass/0007-007-Russkij-jazyk-2-klass.jpg"/>
          <p:cNvPicPr/>
          <p:nvPr/>
        </p:nvPicPr>
        <p:blipFill>
          <a:blip r:embed="rId1"/>
          <a:stretch/>
        </p:blipFill>
        <p:spPr>
          <a:xfrm>
            <a:off x="171360" y="328680"/>
            <a:ext cx="4692600" cy="360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llustrators.ru/illustrations/481653_original.jpg"/>
          <p:cNvPicPr/>
          <p:nvPr/>
        </p:nvPicPr>
        <p:blipFill>
          <a:blip r:embed="rId2"/>
          <a:stretch/>
        </p:blipFill>
        <p:spPr>
          <a:xfrm>
            <a:off x="1619280" y="4140360"/>
            <a:ext cx="2409840" cy="245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s://encrypted-tbn0.gstatic.com/images?q=tbn:ANd9GcTIai-mOR9dEm606up_LCA8LJm8S4rFVf9toNIYwAREUZBdbbTNDQ"/>
          <p:cNvPicPr/>
          <p:nvPr/>
        </p:nvPicPr>
        <p:blipFill>
          <a:blip r:embed="rId3"/>
          <a:stretch/>
        </p:blipFill>
        <p:spPr>
          <a:xfrm>
            <a:off x="5435640" y="3978360"/>
            <a:ext cx="213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9:43:04Z</dcterms:created>
  <dc:creator>ASUS</dc:creator>
  <dc:description/>
  <dc:language>en-US</dc:language>
  <cp:lastModifiedBy>ASUS</cp:lastModifiedBy>
  <dcterms:modified xsi:type="dcterms:W3CDTF">2015-08-20T19:59:49Z</dcterms:modified>
  <cp:revision>2</cp:revision>
  <dc:subject/>
  <dc:title>Звуки [ к ] [ к '] . Буквы К, к. </dc:title>
</cp:coreProperties>
</file>