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565-092D-40A0-97DD-67DD8451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0A1-AA1F-4F64-9B30-DDA06E1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26A-4E82-4981-8DA7-AAAD455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19E-18EE-4231-B1B9-9685E02D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B63-D46D-4257-88C9-B326604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4B6-D1DB-47DB-83EB-8ED8F0B6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47C-DB5B-40FC-BF46-02B74D5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1BC-C708-41A2-A0DA-00883DC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EED-EDBE-4AF3-ACC7-A92EB3B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436-5593-4680-B49A-5D6443B3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8FD-E7C1-4CC0-BDFA-3FEEF30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893-0E25-4180-AA84-8468FA5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667-E6C7-4AC3-A461-5B3129DED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143000" y="150012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энергет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142920" y="3571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ейшие аварии на АЭ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57120" y="1285920"/>
            <a:ext cx="61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марта 1979 АЭС Три-Майл-Айленд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214960" y="328608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апреля 198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лок  Чернобыльской  АЭ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6" descr="36896.jpg"/>
          <p:cNvPicPr/>
          <p:nvPr/>
        </p:nvPicPr>
        <p:blipFill>
          <a:blip r:embed="rId1"/>
          <a:stretch/>
        </p:blipFill>
        <p:spPr>
          <a:xfrm>
            <a:off x="214200" y="2571840"/>
            <a:ext cx="4953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14200" y="500040"/>
            <a:ext cx="85726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ый  глубокий фундамент науки—это уверенность в том ,что в природе одинаковые явления наступают при одинаковых услови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Б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томная физика и человеческое познание» 196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сканирование0006.jpg"/>
          <p:cNvPicPr/>
          <p:nvPr/>
        </p:nvPicPr>
        <p:blipFill>
          <a:blip r:embed="rId1"/>
          <a:srcRect l="9374" t="56479" r="52084" b="12768"/>
          <a:stretch/>
        </p:blipFill>
        <p:spPr>
          <a:xfrm>
            <a:off x="214200" y="1000080"/>
            <a:ext cx="8643960" cy="550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14200" y="14292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 энергии на Т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214200" y="14292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 энергии на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сканирование0006.jpg"/>
          <p:cNvPicPr/>
          <p:nvPr/>
        </p:nvPicPr>
        <p:blipFill>
          <a:blip r:embed="rId1"/>
          <a:srcRect l="55210" t="58098" r="6252" b="12774"/>
          <a:stretch/>
        </p:blipFill>
        <p:spPr>
          <a:xfrm>
            <a:off x="214200" y="11430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28760" y="1428840"/>
            <a:ext cx="835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ов угля хватит на 350 л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и- на 40 л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го газа - на 60 л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71508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14200" y="5000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ядерные реа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1143000" y="3929040"/>
            <a:ext cx="692928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23" t="4181" r="4898" b="20404"/>
          <a:stretch/>
        </p:blipFill>
        <p:spPr>
          <a:xfrm>
            <a:off x="285840" y="1143000"/>
            <a:ext cx="8715240" cy="5214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14200" y="14292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кторы воздействия энергии на окружающую сре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е потепление. Таяние л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200" y="62866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Pasterze в Австрии в 1875 г.                                    200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Рисунок4.jpg"/>
          <p:cNvPicPr/>
          <p:nvPr/>
        </p:nvPicPr>
        <p:blipFill>
          <a:blip r:embed="rId1"/>
          <a:stretch/>
        </p:blipFill>
        <p:spPr>
          <a:xfrm>
            <a:off x="428760" y="1000080"/>
            <a:ext cx="83581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142920" y="357120"/>
            <a:ext cx="8572320" cy="5929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214200" y="635796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Grinnell в Национальном парке ледников (Канада) в 1938 и 2005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Рисунок3.jpg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14200" y="614376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 Agassiz в Национальном парке ледников (Канада) в 1913г.      и  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30:08Z</dcterms:created>
  <dc:creator>Наталья</dc:creator>
  <dc:description/>
  <dc:language>en-US</dc:language>
  <cp:lastModifiedBy>Наталья</cp:lastModifiedBy>
  <dcterms:modified xsi:type="dcterms:W3CDTF">2010-03-24T09:20:52Z</dcterms:modified>
  <cp:revision>13</cp:revision>
  <dc:subject/>
  <dc:title>Проблемы энергетики</dc:title>
</cp:coreProperties>
</file>