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741240" y="600120"/>
            <a:ext cx="860904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660066"/>
                </a:solidFill>
                <a:latin typeface="Times New Roman"/>
              </a:rPr>
              <a:t>Город Мудрецов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741240" y="600120"/>
            <a:ext cx="8609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тели Абхазии (абхазц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ый человек несёт мир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040360" y="2519280"/>
            <a:ext cx="431172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тели осетии (осетины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о и собака не забывает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567400" y="1979640"/>
            <a:ext cx="3971880" cy="488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тели Ирана (иранцы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ота рождает доброту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497560" y="2101680"/>
            <a:ext cx="3862440" cy="4918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тели Карачаево-Черкесии (карачаевцы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делаешь добро, добро найдёшь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659560" y="2101680"/>
            <a:ext cx="3700440" cy="509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тели России (русские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знь дана на добрые дела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170320" y="2101680"/>
            <a:ext cx="4370400" cy="509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словицы и поговорки народов мир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ый человек нес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и собака не заб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та рождает добр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ешь добро, добро найд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дана на добрые д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741240" y="600120"/>
            <a:ext cx="860904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7e0021"/>
                </a:solidFill>
                <a:latin typeface="Times New Roman"/>
              </a:rPr>
              <a:t>МОЛОДЦЫ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36:17Z</dcterms:created>
  <dc:creator>Мария </dc:creator>
  <dc:description/>
  <dc:language>en-US</dc:language>
  <cp:lastModifiedBy>Мария</cp:lastModifiedBy>
  <dcterms:modified xsi:type="dcterms:W3CDTF">2012-01-09T17:53:07Z</dcterms:modified>
  <cp:revision>3</cp:revision>
  <dc:subject/>
  <dc:title>Слайд 1</dc:title>
</cp:coreProperties>
</file>