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2.jpeg" ContentType="image/jpeg"/>
  <Override PartName="/ppt/media/image39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294-CBA8-45EA-AE08-D3044A47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C259-E1C1-4925-A30D-B4419301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F96-7221-4BD2-8BF4-D8A4A012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AE6-D824-4AF7-869B-AAE1C82A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CDDA-4C88-4BA9-BA4E-F72383F8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304F-8898-4FE8-8C6B-1ECEBCCB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2D1F-73DF-498B-8E31-1A31C07A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849F-F86E-4855-A4FA-F417DD6F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E807-039F-4EFA-B1D4-59D17B37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A3F8-5930-4EDB-A585-F7A2534A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47F2-59ED-4791-BD7A-82A8CE5B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41C-6FB8-4CB0-9F36-128F5A5A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5FB8-848C-4427-9529-2C21D5D2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814E-B84F-46F4-8C43-A72A057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2005-0F6C-4048-BFDC-DCF4E8A5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B73C-F400-407F-B8DB-C386770D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9C3F-1F64-4C57-A1AC-A8BA8162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FA0-6B9B-441A-9A4B-D7985D28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019-1C7D-4B73-BA05-A08109D1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CB8-B08F-4EAC-B933-E8931137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6FF-D661-456A-8CE4-0F8E7D78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98D-71FB-4E6F-A862-0C59E3E8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3C1-E25C-4B88-87EB-78755864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22A-9B7A-42D4-A20A-AE546E3F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FBBC-F4E8-4560-BBAC-57231ECA0A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771A-6104-4EA5-99CC-E87D41D9B3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javascript:%20MM_openBrWindow(&apos;015.htm&apos;,&apos;&apos;,&apos;scrollbars=yes,width=500,height=500&apos;)" TargetMode="External"/><Relationship Id="rId3" Type="http://schemas.openxmlformats.org/officeDocument/2006/relationships/image" Target="../media/image19.png"/><Relationship Id="rId4" Type="http://schemas.openxmlformats.org/officeDocument/2006/relationships/hyperlink" Target="http://go.mail.ru/search_images?q=%DD%E4%E2%E0%F0%E4+%E4%E5+%C1%EE%ED%EE.+%D8%E5%F1%F2%FC+%D8%EB%FF%EF+%CC%FB%F8%EB%E5%ED%E8%FF&amp;rch=l&amp;jsa=1&amp;fr=rc" TargetMode="External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thestar.blogs.com/.a/6a00d8341bf8f353ef0120a5e68904970b-800wi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Муниципальное бюджетное общеобразовательное учреждение Кайдаковская средняя общеобразовательная школа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42560" y="1341360"/>
            <a:ext cx="77043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Использование ИКТ на уроках технологии для повышения качества и эффективности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учебно-воспитательного процесс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Учитель технологии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Дворянчикова Ирина Александровн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Кайдаково 2015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03280" y="115920"/>
            <a:ext cx="594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роект «Народные промыслы в деревне Кайдаково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813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роект готовился для Всероссийского краеведческого конкурса «Красота родного края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«Народные промыслы и ремёсла моего села». Творческая работа направлялась на конкурс в электронном вариант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2519280" cy="338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348000" y="3068640"/>
            <a:ext cx="2324160" cy="345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73528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720" y="115920"/>
            <a:ext cx="5688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Преимущества использования ИКТ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Мы участвуем в выставках, организуемых школьным музеем. Экспонаты, изготовленные учениками, не только демонстрируются в музее, но и используются учителями на уроках. В музее проводятся классные часы, беседы на патриотические и этнокультурные тем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Совместно с музеем в октябре 2014 года принимали участие в заочном областном конкурсе «Лучший школьный музей», в котором заняли 1-е мест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2492280"/>
            <a:ext cx="3419280" cy="4076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446400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Проект как метод интегрирования уроков технологии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ыполняя учебный проект, обучающиеся опираются на знания  и умения, полученные на занятиях по технологии и на уроках обществознания, истории, литературы и других предмето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Питание в культуре и повседневной жизни"/>
          <p:cNvPicPr/>
          <p:nvPr/>
        </p:nvPicPr>
        <p:blipFill>
          <a:blip r:embed="rId1"/>
          <a:stretch/>
        </p:blipFill>
        <p:spPr>
          <a:xfrm>
            <a:off x="179280" y="2492280"/>
            <a:ext cx="3168720" cy="246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4941720"/>
            <a:ext cx="32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Кулинарная книга. Литературные трапез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Содержимое 3" descr="Фото М.Наппельбаума. 19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0000" y="2492280"/>
            <a:ext cx="1655640" cy="21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64000" y="4581360"/>
            <a:ext cx="216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сё дело в шляпе. Шляпы в литературных произведения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Рисунок 4" descr="http://go.imgsmail.ru/imgpreview?u=http%3A//debono.ru/images/sixhat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2421000"/>
            <a:ext cx="2357640" cy="2857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84720" y="5516640"/>
            <a:ext cx="26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нтегрированный проект по технологии и экономик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7715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 библии рассказывается, как Иисус Христос накормил пятью ячменными хлебами и двумя рыбами пять тысяч челове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Содержимое 3" descr="coptictanta_com_jesus-0%20(65).jpg"/>
          <p:cNvPicPr/>
          <p:nvPr/>
        </p:nvPicPr>
        <p:blipFill>
          <a:blip r:embed="rId1"/>
          <a:stretch/>
        </p:blipFill>
        <p:spPr>
          <a:xfrm>
            <a:off x="1187280" y="3141720"/>
            <a:ext cx="3854520" cy="309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Картинка 18 из 3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3141720"/>
            <a:ext cx="2738520" cy="3311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64000" y="649116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Хлеб жизни вечно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0"/>
            <a:ext cx="8748720" cy="9169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оект «Кулинарные рекорды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-е место в районной конференции «Учитель – ученик: совместная деятельность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4160" y="1052640"/>
            <a:ext cx="45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улинарные рекорды в мифах, легендах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356000" cy="765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 ИСТОРИИ ПИРОВ НА РУСИ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Рисунок 3" descr="Немного из истории проведения банкетов"/>
          <p:cNvPicPr/>
          <p:nvPr/>
        </p:nvPicPr>
        <p:blipFill>
          <a:blip r:embed="rId1"/>
          <a:stretch/>
        </p:blipFill>
        <p:spPr>
          <a:xfrm>
            <a:off x="900000" y="2421000"/>
            <a:ext cx="3567240" cy="201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Поздравления с праздниками - Форум"/>
          <p:cNvPicPr/>
          <p:nvPr/>
        </p:nvPicPr>
        <p:blipFill>
          <a:blip r:embed="rId2"/>
          <a:stretch/>
        </p:blipFill>
        <p:spPr>
          <a:xfrm>
            <a:off x="4859280" y="907920"/>
            <a:ext cx="374328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786880" cy="9288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УЛИНАРНЫЕ РЕКОРДЫ СВОЕЙ МЕСТНОСТИ</a:t>
            </a:r>
            <a:br>
              <a:rPr sz="20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ЯЗЕМСКИЙ ПРЯНИК – ПРЯНИК С БОЛЬШОЙ БУКВ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Рисунок 4" descr="http://vyazma.info/2009/main/pics/Pryanik.jpg"/>
          <p:cNvPicPr/>
          <p:nvPr/>
        </p:nvPicPr>
        <p:blipFill>
          <a:blip r:embed="rId1"/>
          <a:stretch/>
        </p:blipFill>
        <p:spPr>
          <a:xfrm>
            <a:off x="4643280" y="1052640"/>
            <a:ext cx="3888000" cy="26636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5"/>
          <p:cNvSpPr/>
          <p:nvPr/>
        </p:nvSpPr>
        <p:spPr>
          <a:xfrm>
            <a:off x="500040" y="3786120"/>
            <a:ext cx="7643880" cy="2562840"/>
          </a:xfrm>
          <a:prstGeom prst="rect">
            <a:avLst/>
          </a:prstGeom>
          <a:solidFill>
            <a:srgbClr val="fd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Century Schoolbook"/>
              </a:rPr>
              <a:t>Это был Пряник из рода пряников! Будучи Пряником, он имел мало общего с тульским и московским сородичами. А уж с современными беспородными его вообще грех сравнивать. Маленький, золотистого цвета прямоугольничек, на один-два укуса,с нанесенным формой-печатью ободком и тремя буквами — ВЯЗ, подтверждающими благородное происхождение Пряника. Он благоухал, начиненный орехами, медом и десятью видами пряностей. — Он таял во рту, — вздыхали старожилы, помнящие вкус Прян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352872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Презентации-опрос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Технология 8 класс творческий проект - Скачать программы"/>
          <p:cNvPicPr/>
          <p:nvPr/>
        </p:nvPicPr>
        <p:blipFill>
          <a:blip r:embed="rId1"/>
          <a:stretch/>
        </p:blipFill>
        <p:spPr>
          <a:xfrm>
            <a:off x="179280" y="2421000"/>
            <a:ext cx="2371680" cy="3039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2737080" cy="2447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411280" y="530064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Какие стежки изображены на рисунке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7340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зовите мер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Тестовые задания для девочек (номинация &quot;Обслуживающий труд&quot;) 10-11 класс Кулинария"/>
          <p:cNvPicPr/>
          <p:nvPr/>
        </p:nvPicPr>
        <p:blipFill>
          <a:blip r:embed="rId3"/>
          <a:stretch/>
        </p:blipFill>
        <p:spPr>
          <a:xfrm>
            <a:off x="5651640" y="1628640"/>
            <a:ext cx="3241440" cy="3095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580000" y="4869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Запишите названия ли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853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Применения ИКТ при составлении кроссвордов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9629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обственная практика показала, что использование кроссвордов расширяет кругозор, развивает логическое мышление и памят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4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Их составляют и дети, применяя при этом Microsoft Word, Microsoft Excel, Microsoft PowerPoint. Преследую при этом цель повышения мотивации учащихся к обучению и возможность самореализации личности школьник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Образовательная программа по кулинарии - Все учебники на одном сайте"/>
          <p:cNvPicPr/>
          <p:nvPr/>
        </p:nvPicPr>
        <p:blipFill>
          <a:blip r:embed="rId1"/>
          <a:stretch/>
        </p:blipFill>
        <p:spPr>
          <a:xfrm>
            <a:off x="0" y="3141720"/>
            <a:ext cx="3024360" cy="371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Порешаем. - Кулинарный форум ПОВАРЫ.РУ"/>
          <p:cNvPicPr/>
          <p:nvPr/>
        </p:nvPicPr>
        <p:blipFill>
          <a:blip r:embed="rId2"/>
          <a:srcRect l="0" t="0" r="12599" b="18353"/>
          <a:stretch/>
        </p:blipFill>
        <p:spPr>
          <a:xfrm>
            <a:off x="6156360" y="3141720"/>
            <a:ext cx="2736720" cy="32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Форум волонтёров благотворительного фонда Подари Жизнь - Напишите Даше Калининой"/>
          <p:cNvPicPr/>
          <p:nvPr/>
        </p:nvPicPr>
        <p:blipFill>
          <a:blip r:embed="rId3"/>
          <a:stretch/>
        </p:blipFill>
        <p:spPr>
          <a:xfrm>
            <a:off x="3059280" y="3716280"/>
            <a:ext cx="288108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507520" cy="1143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Мультимедиа 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3000"/>
            <a:ext cx="8640720" cy="5113080"/>
          </a:xfrm>
          <a:prstGeom prst="rect">
            <a:avLst/>
          </a:prstGeom>
          <a:solidFill>
            <a:srgbClr val="f8e2d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Демонстрация шляп учащимися и учителями школ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3" descr="F:\1\P1000924.JPG"/>
          <p:cNvPicPr/>
          <p:nvPr/>
        </p:nvPicPr>
        <p:blipFill>
          <a:blip r:embed="rId1"/>
          <a:stretch/>
        </p:blipFill>
        <p:spPr>
          <a:xfrm>
            <a:off x="971640" y="1628640"/>
            <a:ext cx="4538520" cy="4680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F:\1\P1000926.JPG"/>
          <p:cNvPicPr/>
          <p:nvPr/>
        </p:nvPicPr>
        <p:blipFill>
          <a:blip r:embed="rId2"/>
          <a:stretch/>
        </p:blipFill>
        <p:spPr>
          <a:xfrm>
            <a:off x="2195640" y="1989000"/>
            <a:ext cx="4824360" cy="4172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F:\1\P1000921.JPG"/>
          <p:cNvPicPr/>
          <p:nvPr/>
        </p:nvPicPr>
        <p:blipFill>
          <a:blip r:embed="rId3"/>
          <a:stretch/>
        </p:blipFill>
        <p:spPr>
          <a:xfrm>
            <a:off x="1835280" y="1844640"/>
            <a:ext cx="5832360" cy="426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F:\1\P1000916.JPG"/>
          <p:cNvPicPr/>
          <p:nvPr/>
        </p:nvPicPr>
        <p:blipFill>
          <a:blip r:embed="rId4"/>
          <a:stretch/>
        </p:blipFill>
        <p:spPr>
          <a:xfrm>
            <a:off x="2411280" y="2060640"/>
            <a:ext cx="4896000" cy="4173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F:\1\Копия P1000915.JPG"/>
          <p:cNvPicPr/>
          <p:nvPr/>
        </p:nvPicPr>
        <p:blipFill>
          <a:blip r:embed="rId5"/>
          <a:stretch/>
        </p:blipFill>
        <p:spPr>
          <a:xfrm>
            <a:off x="2195640" y="1484280"/>
            <a:ext cx="5005440" cy="4854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92360" y="115560"/>
            <a:ext cx="38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68680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Бесспорно, что в современной школе компьютер не решает всех проблем, он остается всего лишь многофункциональным техническим средством обучения. Не менее важны и другие современные педагогические технологии и инновации в процессе обучения, которые позволяют не просто “вложить” в каждого обучаемого некий запас знаний, но, в первую очередь, создать условия для проявления познавательной активности учащихся. Информационные технологии, в совокупности с правильно подобранными технологиями обучения, бесспорно, содействуют формированию активного интереса у детей к изучению традиционных технологий, создают необходимый уровень качества, вариативности и индивидуализации обучения и воспита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321080" cy="2660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«Учи показом, а не рассказом»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(народная мудрость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Использование компьютерных технологий – это не влияние моды, а необходимость, диктуемая сегодняшним уровнем развития образова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Современный урок нельзя представить без использования современных мультимедиа-технологий, которые предоставляют уникальные возможности для реализации творческих инициатив учителя и ученика. Доказано, что одновременное воздействие на различные органы чувств человека во много раз увеличивает эффективность обуч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о данным учёных человек запоминает 20% услышанного и 30% увиденного, и более 50% того, что он видит и слышит одновременно.          Таким образом, облегчение процесса восприятия и запоминания информации с помощью ярких образов - это основа любой современной презентац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Английская пословица гласит: «Я услышал – и забыл, я увидел – и запомнил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Как писал великий педагог К.Д.Ушинский: «Если вы входите в класс, от которого трудно добиться слова, начните показывать картинки, и класс заговорит, а главное, заговорит свободно…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3640" y="0"/>
            <a:ext cx="294624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Список литератур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63280" y="1197000"/>
            <a:ext cx="8280360" cy="44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едагогический дизайн мультимедийного урока / Г.Аствацатуров. - (Урок:        опыт, методика) //Учитель. - 2006. - N 6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Бабич, И.Н. Новые образовательные технологии в век информации /  И.Н. Бабич // Материалы XIV Международной конференции «Применение новых технологий в образовании». – Троицк: Фонд новых технологий в образовании «Байтик». – 2003. – С. 68-70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КТ в образовании – система федеральных образовательных порталов.  [Электронный ресурс] – Режим доступа: http://www.ict.edu.ru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нтерактивные технические средства обучения: практическое руководство /сост. Суковатый А.Г., Захарьин К.Н., Казанцев А.В., Сарафанов А.В.. – Красноярск: ИПК СФУ , 2009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онгресс конференций «Информационные технологии в образовании» -  [Электронный ресурс] – Режим доступа: http://ito.edu.ru/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ашинцева Л.Н.. Изучение методов создания кроссворда на уроке информатики / Информатика и образование/  2008 - №1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Маркова А.К. и др. Формирование мотивации учения - М.: Просвещение, 1990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e-crossword.ru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epochtimes.ru/content/view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fizik.bos.ru/kross/metod.ht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mif106.narod.ru/p162aa1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Georgia"/>
              </a:rPr>
              <a:t>Спасибо 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Georgia"/>
              </a:rPr>
              <a:t>за внимание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Роль ИКТ на урок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3468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Использование информационных технологий в данной образовательной области помогает учителю повышать мотивацию обучения детей традиционным технологиям и приводит к целому ряду положительных следствий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358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сихологически облегчает процесс усвоения материала школьника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358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озбуждает живой интерес к предмету позн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358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расширяет общий кругозор детей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358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озрастает уровень использования наглядности на урок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358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овышается производительность труда учителя и учащихся на урок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74472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Основные направления моей работ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здание презентаци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нтроль знани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ектная работ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бота с готовыми ЦОР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здание методической копилк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актическая работа на П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9250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оздание презентаций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80596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Материалы презентаций могут быть использованы как для проведения уроков обслуживающего труда, так и во внеклассной работе: кружки, факультативы, элективные курсы, курсы по выбору, на классных часах по профориентации и на уроках «Твоя профессиональная карьера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ознавательный интерес в педагогической практике рассматривают часто как средство активизации познавательной деятельности учащихся, эффективный инструмент учителя, позволяющий ему сделать процесс обучения привлекательным, выделить в обучении те аспекты, которые могут привлечь к себе непроизвольно внимание учеников, заставят активизировать их мышление, волноваться, переживат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резентации открывают широкие возможности для школьников. С  их помощью обучающиеся знакомятся с новым материалом, отвечают на контрольные вопросы в конце каждой темы чтобы проверить, насколько успешно они усвоили пройденный материа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Презентации могут быть использованы при объяснении нового материал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456000" cy="2544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4365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сновные и составные цве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276720" cy="2552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12000" y="3860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Блюда к Пасх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3024000" cy="260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59280" y="638172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рожай с моего огоро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резентация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классных часах по профориентации и на уроках «Твоя профессиональная карьера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81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4353120" cy="2457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0920" y="4941720"/>
            <a:ext cx="8589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Опережающее обучение является важнейшей идеей дальнейшего развития общего и профессионального образования. Примером можно привести то, что учащиеся уже с 5 класса знакомятся с рядом профессий. Без электронных информативных программ представление о профессиях возможны были только по редким и обычно старым  фотография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03640" y="189000"/>
            <a:ext cx="4749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Урок – экскурсия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. 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834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Сделать урок более интересным можно с помощью виртуальной экскурсии по залам Музеев, проходящей в режиме on-line или выполненной преподавателем или ученицей, как творческий проект,  презентации.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14374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eorgia"/>
              </a:rPr>
              <a:t>Музей шоколада в Москве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724360" y="2421000"/>
            <a:ext cx="3059280" cy="290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50920" y="3357720"/>
            <a:ext cx="2878200" cy="306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771640" y="2924280"/>
            <a:ext cx="3240360" cy="3195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2751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Урок</a:t>
            </a:r>
            <a:r>
              <a:rPr b="1" lang="en-US" sz="32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–</a:t>
            </a:r>
            <a:r>
              <a:rPr b="1" lang="en-US" sz="3200" spc="-1" strike="noStrike">
                <a:solidFill>
                  <a:srgbClr val="0066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99cc99"/>
                </a:solidFill>
                <a:latin typeface="Georgia"/>
              </a:rPr>
              <a:t>экскурсия.</a:t>
            </a:r>
            <a:br>
              <a:rPr sz="3200"/>
            </a:br>
            <a:r>
              <a:rPr b="1" lang="en-US" sz="3200" spc="-1" strike="noStrike">
                <a:solidFill>
                  <a:srgbClr val="99cc99"/>
                </a:solidFill>
                <a:latin typeface="Georgia"/>
              </a:rPr>
              <a:t> "Продуктовые музеи"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   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50920" y="1557360"/>
            <a:ext cx="2448000" cy="2521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132000" y="2133720"/>
            <a:ext cx="2664000" cy="252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5084640"/>
            <a:ext cx="56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арма, Музей саля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84720" y="3500280"/>
            <a:ext cx="280836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7:40:00Z</dcterms:created>
  <dc:creator>Vlada</dc:creator>
  <dc:description/>
  <dc:language>en-US</dc:language>
  <cp:lastModifiedBy>Vlada</cp:lastModifiedBy>
  <dcterms:modified xsi:type="dcterms:W3CDTF">2015-08-21T09:51:10Z</dcterms:modified>
  <cp:revision>19</cp:revision>
  <dc:subject/>
  <dc:title>Слайд 1</dc:title>
</cp:coreProperties>
</file>