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633-7EFD-4521-A4EC-E5CEA986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7F7-771B-4288-8236-F5E1CF8F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57E-FB66-44C4-A000-62BE4910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386-6781-4B95-AF76-5EB10433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0238-B2E9-4B59-B11F-3E8EACB2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7794-CEA6-4374-B353-6ECFC421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E829-CFCF-4B9B-BE05-2B1925A7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EEE5-3434-4523-B2EA-8A602A46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E2FF-3D80-4597-BDD1-DC7C93BA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BED7-0813-4D0B-8C66-7313C959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6A98-FF41-4641-97FE-686CA013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63A-07CD-4C37-B032-C3135DFD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D8AB-9CEB-4291-A1BA-823D9A7D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8BDB-C271-430D-98AF-4093534A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E59A-126B-44AE-89E5-C7C23149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F820-87B2-4C26-8392-418DB149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9A21-AAD9-4758-BECE-A1184FFD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806-3BC0-4B2A-B62F-09876E69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2CEC-B27B-4E10-B521-F1F0DAAE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A2A-2DBD-435F-AEE4-5E6B93EE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0B1-0A43-49E6-BD66-418DE8A0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247-5818-4B09-B4AB-BB663BD6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0BE-3F38-4E9E-9409-A34A28CE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09CA-FE80-412F-A23E-D2E16780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DAC2-C74C-441E-8D9C-DEF87C5A1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5AF0-D591-48D8-9921-18AFDC365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«Предметно-пространственная развивающая среда ДОУ, в соответствии с ФГОС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Цел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остижение современного качества дошкольного образования, его соответствия актуальным и перспективным потребностям личности, общества и государства  на основе организации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нформационно-методических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атериально-технических, организационно-содержательных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условий для развития личностных качеств детей (активности, инициативности и др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беспечить цикличный, целенаправленный характер инновационным процессам в посредством создания условий для повышения профессионального уровня педагогов в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опросах инновационного подхода к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рганизаци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едметно-развивающей среды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в группе на основе реализации принципа интеграции образовательных област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здать условия для развития ключевых профессиональных компетентностей педагогов (коммуникативной, информационной, регуляторной, интеллектуально- педагогической как базовой) в ходе методических мероприятий по развитию умений у педагогов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роить предметно-развивающее образовательное пространство групп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пособствовать развитию профессиональной коммуникации в едином культурно-образовательном сообществе, на основе удовлетворения спроса педагогов на педагогические и методические услуги, обеспечить тесное сотрудничество с педагогической наукой, организовать распространение опыта и достижений педагогического коллекти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ланируемый результат для воспитанников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ктивно развиваются, усваивая информацию об окружающем мире в ходе игр и др. видов детской деятельности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ходят через закономерные стадии развития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еспечены социальным взаимодействием направленным на эмоциональное и всестороннее развитие ребенка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повторимо индивидуальны и развиваются каждый в своем темп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21:47:02Z</dcterms:created>
  <dc:creator>Я</dc:creator>
  <dc:description/>
  <dc:language>en-US</dc:language>
  <cp:lastModifiedBy>Я</cp:lastModifiedBy>
  <dcterms:modified xsi:type="dcterms:W3CDTF">2012-12-15T22:00:37Z</dcterms:modified>
  <cp:revision>2</cp:revision>
  <dc:subject/>
  <dc:title>«Предметно-пространственная развивающая среда ДОУ, в соответствии с ФГОС»</dc:title>
</cp:coreProperties>
</file>