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0FE5-0E03-45A2-8D68-67BD198C4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3F3C-213C-46C0-BB6F-80E00581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C584-C6AE-48B7-9DB2-76E762112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7268-77AF-4CEF-B139-73AE8A94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2E2F-848F-45BD-9E6C-F08F37CDC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966C-A121-4010-AC0A-677A0EB2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766F-50B7-4E45-9A78-AE6C9B57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3022-78A6-4678-86B8-3F6C44CC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D8F9-387E-428B-8835-E02EFD2E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43CD-AF88-413B-BFD9-26E29031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3C51-452F-4500-B821-5638A33A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3AB2-7288-4001-ADC2-7AF08975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AFA2-11A2-4ABD-BC5D-AFB42D9A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02B3-3A5A-45A6-9A4C-1538374D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5531-572B-4393-8FBE-CEA668AE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2C69-31D8-4BA6-B5E5-855C42F1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7E87-9960-4F93-A682-781FA89F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5FD9-9777-4F42-A728-6129916C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349B-608B-409A-9610-9EF4CE52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EC0E-E4E4-46D1-A069-6CB86933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2A6C-066E-4AFC-853B-1E3D869A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E2CF-E03D-4462-B0E8-F2CFE9FC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EF33-0358-4C50-AED9-A6E1776E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D09E-3B85-4C68-A540-D723D37A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B97C-EBF0-4054-BE08-F1AE29CDC1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C0AE-B8CC-4609-A6A2-42063C7389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«Предметно-пространственная развивающая среда ДОУ, в соответствии с ФГОС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Цел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остижение современного качества дошкольного образования, его соответствия актуальным и перспективным потребностям личности, общества и государства  на основе организации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информационно-методических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материально-технических, организационно-содержательных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условий для развития личностных качеств детей (активности, инициативности и др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Задач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беспечить цикличный, целенаправленный характер инновационным процессам в посредством создания условий для повышения профессионального уровня педагогов в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опросах инновационного подхода к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рганизаци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едметно-развивающей среды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в группе на основе реализации принципа интеграции образовательных областей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оздать условия для развития ключевых профессиональных компетентностей педагогов (коммуникативной, информационной, регуляторной, интеллектуально- педагогической как базовой) в ходе методических мероприятий по развитию умений у педагогов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троить предметно-развивающее образовательное пространство группы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пособствовать развитию профессиональной коммуникации в едином культурно-образовательном сообществе, на основе удовлетворения спроса педагогов на педагогические и методические услуги, обеспечить тесное сотрудничество с педагогической наукой, организовать распространение опыта и достижений педагогического коллектив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229600" cy="10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ланируемый результат для воспитанников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ктивно развиваются, усваивая информацию об окружающем мире в ходе игр и др. видов детской деятельности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оходят через закономерные стадии развития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беспечены социальным взаимодействием направленным на эмоциональное и всестороннее развитие ребенка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повторимо индивидуальны и развиваются каждый в своем темп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572000" cy="6096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5T21:47:02Z</dcterms:created>
  <dc:creator>Я</dc:creator>
  <dc:description/>
  <dc:language>en-US</dc:language>
  <cp:lastModifiedBy>Я</cp:lastModifiedBy>
  <dcterms:modified xsi:type="dcterms:W3CDTF">2012-12-15T22:00:37Z</dcterms:modified>
  <cp:revision>2</cp:revision>
  <dc:subject/>
  <dc:title>«Предметно-пространственная развивающая среда ДОУ, в соответствии с ФГОС»</dc:title>
</cp:coreProperties>
</file>