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741240" y="744480"/>
            <a:ext cx="8607600" cy="61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056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0" spc="-1" strike="noStrike">
                <a:solidFill>
                  <a:srgbClr val="00cccc"/>
                </a:solidFill>
                <a:latin typeface="Arial"/>
              </a:rPr>
              <a:t>Там,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0" spc="-1" strike="noStrike">
                <a:solidFill>
                  <a:srgbClr val="00cccc"/>
                </a:solidFill>
                <a:latin typeface="Arial"/>
              </a:rPr>
              <a:t>на неведомых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0" spc="-1" strike="noStrike">
                <a:solidFill>
                  <a:srgbClr val="00cccc"/>
                </a:solidFill>
                <a:latin typeface="Arial"/>
              </a:rPr>
              <a:t>дорожках..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1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1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1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1240" y="744120"/>
            <a:ext cx="860760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№ </a:t>
            </a: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9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539640" y="2340000"/>
            <a:ext cx="4389480" cy="38336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219640" y="2160360"/>
            <a:ext cx="4106880" cy="46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Водяной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41240" y="744120"/>
            <a:ext cx="860760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№ </a:t>
            </a: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10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900000" y="2138400"/>
            <a:ext cx="3691080" cy="47624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135400" y="2138400"/>
            <a:ext cx="410688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Баба - Яга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1240" y="744120"/>
            <a:ext cx="860760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№ </a:t>
            </a: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11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822240" y="2160720"/>
            <a:ext cx="4106880" cy="44002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135400" y="2138400"/>
            <a:ext cx="410688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Морозко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41240" y="744120"/>
            <a:ext cx="860760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№ </a:t>
            </a: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12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1009800" y="2138400"/>
            <a:ext cx="3732120" cy="47624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135400" y="2138400"/>
            <a:ext cx="410688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Мальвина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99284c"/>
                </a:solidFill>
                <a:latin typeface="Arial"/>
              </a:rPr>
              <a:t>Толерантные              нетолерантные</a:t>
            </a:r>
            <a:endParaRPr b="1" i="1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41068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-Золотая рыбка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- Дюймовочка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- Золушка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- Красная шапочка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- Водяной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- Морозко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- Мальвина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- Иван царевич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35400" y="2138400"/>
            <a:ext cx="410688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-Кощей бессмертный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-Карабас Барабас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- Гуси — лебеди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- Баба — Яга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2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2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2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20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2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2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41240" y="744120"/>
            <a:ext cx="860760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ru-RU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821880" y="2182680"/>
            <a:ext cx="841860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583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99284c"/>
                </a:solidFill>
                <a:latin typeface="Arial"/>
              </a:rPr>
              <a:t>МОЛОДЦЫ! </a:t>
            </a:r>
            <a:endParaRPr b="0" lang="en-US" sz="6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1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1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№</a:t>
            </a: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1 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824040" y="2138400"/>
            <a:ext cx="4105080" cy="47624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135400" y="2138040"/>
            <a:ext cx="41068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Иван царевич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41240" y="744120"/>
            <a:ext cx="860760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№ </a:t>
            </a: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2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900000" y="2340000"/>
            <a:ext cx="4218120" cy="4140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135400" y="2138400"/>
            <a:ext cx="410688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Кощей Бессмертный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1240" y="744120"/>
            <a:ext cx="860760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№ </a:t>
            </a: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3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720720" y="2340000"/>
            <a:ext cx="4210200" cy="4140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135400" y="2138400"/>
            <a:ext cx="410688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Золотая рыбка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1240" y="744120"/>
            <a:ext cx="860760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№ </a:t>
            </a: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4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720720" y="2519280"/>
            <a:ext cx="4210200" cy="3780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135400" y="2138400"/>
            <a:ext cx="410688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Дюймовочка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1240" y="744120"/>
            <a:ext cx="860760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№ </a:t>
            </a: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5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014480" y="2138400"/>
            <a:ext cx="3722760" cy="47624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72040" y="2160360"/>
            <a:ext cx="4106880" cy="46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Карабас Барабас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1240" y="744120"/>
            <a:ext cx="860760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№ </a:t>
            </a: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6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539640" y="2519280"/>
            <a:ext cx="4389480" cy="3780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135400" y="2138400"/>
            <a:ext cx="410688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Золушка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1240" y="744120"/>
            <a:ext cx="860760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№ </a:t>
            </a: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7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139760" y="2138400"/>
            <a:ext cx="3471840" cy="47624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135400" y="2138400"/>
            <a:ext cx="410688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Красная шапочка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1240" y="744120"/>
            <a:ext cx="860760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№ </a:t>
            </a: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8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720720" y="2519280"/>
            <a:ext cx="4319640" cy="3959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135400" y="2138400"/>
            <a:ext cx="410688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Гуси - лебеди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17:14:55Z</dcterms:created>
  <dc:creator>Мария </dc:creator>
  <dc:description/>
  <dc:language>en-US</dc:language>
  <cp:lastModifiedBy>Мария</cp:lastModifiedBy>
  <dcterms:modified xsi:type="dcterms:W3CDTF">2012-01-09T17:53:44Z</dcterms:modified>
  <cp:revision>5</cp:revision>
  <dc:subject/>
  <dc:title>Слайд 1</dc:title>
</cp:coreProperties>
</file>