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33A-030E-4C09-8AA9-70B88E2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0D7-0CD7-4E99-B9A5-8C07AAE0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B3A-5CB0-4D2F-BE2C-57717039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2F0-6A5D-44DA-9775-4F355F23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30CD-BA06-4C1F-B1D6-40335D76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440D-73D2-44C9-8FFB-CE593D8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DDD2-8D04-4C08-B0F2-5711F26B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3E7-26A4-4D23-95B3-DA38D1F6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6DD3-6297-4275-AB85-679B5880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725-A51A-4E79-B522-866D1AC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FEF-969E-4847-9FE6-B246934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B5B-9AB4-40ED-B705-4D970876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E03D-6D03-4E11-9F51-31BFB20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640-96CA-41FD-AE61-FEBFF45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4488-5558-49E5-8677-4C5D953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CD7-5A62-4A2B-A7FD-C8988E1A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4FAB-FBE6-43A8-9CA4-C2EE2E25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2B0-CFFE-44D8-9BA6-26AE3A8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220-2B60-447F-B6DE-871CE6D6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27D-9054-4570-A28A-1EF39C9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C5E-FA52-4875-ADD9-93E5B50C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76D-E43F-4EA1-9C5A-B62A6EE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AE4-AB15-4797-9E70-9854FFF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D62-D045-455D-8533-A5EA276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1AA-5693-4E3E-82C7-2366838F5F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98DA-991F-4251-9ABA-222AFED6DA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571240" cy="64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Муниципальное бюджетное образовательное учреждение Кайдаковская средняя общеобразовательная школа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1052280"/>
            <a:ext cx="73771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фер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 технолог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с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ц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е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та</a:t>
            </a:r>
            <a:r>
              <a:rPr b="1" lang="en-US" sz="2400" spc="-1" strike="noStrike">
                <a:solidFill>
                  <a:srgbClr val="62c3da"/>
                </a:solidFill>
                <a:latin typeface="Comic Sans MS"/>
              </a:rPr>
              <a:t> ра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ду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г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176720" y="38476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орянчикова И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0880" y="60206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йдаково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9 0.017 0.08394 0 0.08394 C -0.017 0.08394 -0.031 0.1026 -0.031 0.12525 C -0.031 0.1479 -0.017 0.16655 0 0.16655 C 0.017 0.16655 0.031 0.1852 0.031 0.20786 C 0.031 0.23051 0.017 0.24916 0 0.24916 C -0.017 0.24916 -0.031 0.26781 -0.031 0.2918 C -0.031 0.31445 -0.017 0.3331 0 0.3331 C 0.017 0.3331 0.031 0.31445 0.031 0.2918 C 0.031 0.26781 0.017 0.24916 0 0.24916 C -0.017 0.24916 -0.031 0.23051 -0.031 0.20786 C -0.031 0.1852 -0.017 0.16655 0 0.16655 C 0.017 0.16655 0.031 0.1479 0.031 0.12525 C 0.031 0.1026 0.017 0.08394 0 0.08394 C -0.017 0.08394 -0.031 0.06529 -0.031 0.0413 C -0.031 0.01865 -0.017 0 0 0 Z">
                                      <p:cBhvr>
                                        <p:cTn id="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60487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Диета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по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цвета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радуг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10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казывается, цвет продукта влияет на здоровье! Данная диета предлагает целый день есть продукты лишь одного цве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413000"/>
          <a:ext cx="9036000" cy="525600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5000"/>
                <a:gridCol w="1308240"/>
                <a:gridCol w="1305000"/>
                <a:gridCol w="1304640"/>
                <a:gridCol w="12002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кресе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зра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ной картофель, бананы, ячмень, рис, молоко, сыр белого цвета, спагетти, мякоть кокоса, белое мясо курицы, каштаны, цветная кап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ая фасоль, томаты, вишня, красная смородина, красный сладкий перец, клюква, свекла, красный вин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овые овощи, зеленые пряные травы, киви, зеленый чай, ревень, огурцы, морская капуста, брюссельская капуста и брокк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ковь, папайя, лосось, манго, облепиха, тыква, абрикосы, персики, помидоры, апельсины, мандарины, дыня, ху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лажаны, темный виноград, ежевика, голубика, черная смородина, слива, эстраг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нас, персики, абрикосы, желтый перец, кабачки, желтые яблоки, кукуруза, зрелый сыр, мед, яичный жел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ается пить только минеральную воду (негазированную). Суточная норма для прозрачного дня – не меньше 3 л жидк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цвет охлаждает. Полезен для легких и толстого киш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ща красноватых и оранжевых тонов полезна для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успокаивает, расслаб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повышает аппетит, защищает от прост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защищает почки, мочевой пузы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– самый жаропонижаю-щий цвет. улучшает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а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ю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ч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е</a:t>
            </a: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56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творчеств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ножество разных «радуг» можно сделать самим: нарисовать, вырезать, наклеить, сши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нас в школе был объявлен конкурс на лучшую эмблему и значок детской организации. Большинством голосов была принята эмблема с изображением радуги – семь цветов радуги в виде тонких ленточек помешается на галсту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233440" cy="3240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8"/>
          <p:cNvSpPr/>
          <p:nvPr/>
        </p:nvSpPr>
        <p:spPr>
          <a:xfrm flipV="1">
            <a:off x="2987640" y="4076280"/>
            <a:ext cx="86364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"/>
          <p:cNvSpPr/>
          <p:nvPr/>
        </p:nvSpPr>
        <p:spPr>
          <a:xfrm flipV="1">
            <a:off x="2987640" y="4149720"/>
            <a:ext cx="863640" cy="5745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4"/>
          <p:cNvSpPr/>
          <p:nvPr/>
        </p:nvSpPr>
        <p:spPr>
          <a:xfrm flipV="1">
            <a:off x="2987640" y="4220640"/>
            <a:ext cx="86364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5"/>
          <p:cNvSpPr/>
          <p:nvPr/>
        </p:nvSpPr>
        <p:spPr>
          <a:xfrm flipV="1">
            <a:off x="2987640" y="4292280"/>
            <a:ext cx="863640" cy="577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6"/>
          <p:cNvSpPr/>
          <p:nvPr/>
        </p:nvSpPr>
        <p:spPr>
          <a:xfrm flipV="1">
            <a:off x="2987640" y="4365720"/>
            <a:ext cx="863640" cy="576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9"/>
          <p:cNvSpPr/>
          <p:nvPr/>
        </p:nvSpPr>
        <p:spPr>
          <a:xfrm flipV="1">
            <a:off x="2987640" y="4436640"/>
            <a:ext cx="863640" cy="577800"/>
          </a:xfrm>
          <a:prstGeom prst="line">
            <a:avLst/>
          </a:prstGeom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7"/>
          <p:cNvSpPr/>
          <p:nvPr/>
        </p:nvSpPr>
        <p:spPr>
          <a:xfrm flipV="1">
            <a:off x="2987640" y="4508280"/>
            <a:ext cx="863640" cy="577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зительное искусство: предметная неделя в школе/ сост. О.В. Свиридова. Волгоград: Учитель,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лякина В.И. Методика организации уроков коллективного творчества.-М.:Владос,200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raskizhizni.com/edu/verse/101-stihi-pro-cv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ookcolor.ru/teoriya-cveta/cveta-radug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ebesite.ru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нциклопедия русского быта XIX века. Ю. А. Федосюк. 198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egoe Print"/>
              </a:rPr>
              <a:t>Цели рабо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05800" cy="4681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бы на уроках изобразительного искусства, обслуживающего труда было интересно знакомиться с основными и составными цветами возникла идея выполнить творческий проект на тему: «Все цвета радуги». При создании проекта пришлось решить следующие зада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учение цветов и цветовых гармоний по цветовому кругу или спектр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читься правильно подбирать цветовую гамму при оформлении художественного издел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вивать эстетический вку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спитывать терпеливость, аккуратность, потребность в стремлении принести пользу и радость окружающим люд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агодаря творческому проекту другим ребятам будет интересно и главное несложно запоминать цвета радуги, и каждый больше узнает о том какой он наш разноцветный мир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5b2a"/>
                </a:solidFill>
                <a:latin typeface="Comic Sans MS"/>
              </a:rPr>
              <a:t>Радуга и её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65440" cy="3443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00720" y="1773360"/>
            <a:ext cx="4032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ждый из нас хотя бы раз видел радугу и может с легкостью назвать цвета радуги по порядку. Запоминать цвета радуги очень легко, надо знать одну простую фразу: Каждый Охотник Желает Знать Где Сидит Фазан. Первая буква каждого слова этой фразы соответствует первой букве в названии цвета. Цвета радуги по порядку звучат так: красный, оранжевый, желтый, зеленый, голубой, синий, фиолетов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5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5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новные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составны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: красный, желтый, синий. Они составляют основу цветового круг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торостепенные цвета — составные: зеленый, фиолетовый, оранжевый. Чтобы их получить нужно попарно смешивать три основные цвета: красный, желтый и синий. При смешении желтого и синего получается зеленый, если смешать желтый и красный — получим оранжевый, смешаем красный и синий — имеем фиолетовы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95928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Символика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6360" y="1052280"/>
            <a:ext cx="7812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мволика каждого государственного флага несет в себе глубокий смысл. Потому что национальное прошлое народа, его история и культура нашли свое отражение в соответствующих цветах знамени. В настоящее время чаще всего используется следующая трактовка значений цветов флага России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елый означает мир, чистоту, непорочность, совершенство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ний — цвет веры, верности и правды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расный символизирует постоянство, энергию, силу, отвагу и кровь, пролитую за Отечеств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ональные костюмы всегда соответствуют цветам национальных флагов, и в этом нет ничего удивительно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3313440" cy="2492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5272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Влияние цвета на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Цвет способен на всё: он может родить свет, успокоение или возбуждение. Он может создать гармонию или вызвать потрясение; от него можно ждать чудес, но он может вызвать и катастрофу». Ж. Вье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гния Барто в своем стихотворении прямо пише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мотрю сквозь стекляш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еленого цвет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разу зи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вращается в ле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832200"/>
            <a:ext cx="8424720" cy="27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5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5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5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5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5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5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612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акого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цвет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наш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жизн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 – незаменимая составная часть нашей жизни. Как часто жизнь сравнивают с зеброй, где чёрная и белая полоса чередуются друг с друго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ша жизнь с цветною лентой схож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радугой за облачным предело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сы меняются, но все 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х цвета - не только черный с белым. (Е.Е.Остапов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озовый считается цветом девочек, голубой - мальч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57200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Королевский си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828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онный королевский синий был открыт портными из Сомерсета, сшившими для королевы Великобритании Шарлотты Мекленбург-Стрелицкой платье именно такого цвета. Синий — цвет королевской власти и благородного происхожд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дужная королева –Елизавет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нглийская королева. За годы своего правления Елизавета II появлялась на людях в бесчисленном количестве разных платьев и костюмов. Ее Величество предпочитает синие и голубые оттенк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623736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арлотта Мекленбург-Стрелицкая.19 мая 17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248000" cy="266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148440" y="3260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453360"/>
            <a:ext cx="42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ролевский стиль: радужные на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3640" y="115920"/>
            <a:ext cx="5472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вкус и цвет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066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бор любимого цвета не зависит от пола человека! Синий цвет – самый популярный среди мужчин и женщин. Его признали любимым 35% женщин и более половины опрошенных мужчин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47200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92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92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2:40:26Z</dcterms:created>
  <dc:creator>Admin</dc:creator>
  <dc:description/>
  <dc:language>en-US</dc:language>
  <cp:lastModifiedBy>Vlada</cp:lastModifiedBy>
  <dcterms:modified xsi:type="dcterms:W3CDTF">2015-08-21T09:36:33Z</dcterms:modified>
  <cp:revision>22</cp:revision>
  <dc:subject/>
  <dc:title>Муниципальное бюджетное общеобразовательное учреждение Кайдаковская средняя общеобразовательная школа</dc:title>
</cp:coreProperties>
</file>