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46B-B545-4235-AD80-D583F223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283-DB02-494C-8040-33E01BDC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6D0-A40D-41A5-8774-2C94C596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F43-6059-4B02-927B-35F93B2C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4C94-BFFB-4936-BAF3-9C9414FA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FCBA-0B6A-4C27-ACEE-1808708C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DFAD-C17A-42BC-979D-FF6F19A3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302F-4866-442D-84B2-870EEC28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1D3C-6454-4AE2-80B0-7A589125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DCBE-FA0B-4843-B7E9-9055EA47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7B42-8794-44B3-841A-C4C6E3A5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102-C5E6-447C-91EF-F7FA935B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95B6-3CA2-4575-8D2B-D02BB848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B5AE-9C05-4F83-AE3F-32D4159F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9CE8-6AA6-445B-9725-F6A82489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9C5D-2342-499C-8DF8-5BB99509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8FED-3432-450A-B053-A736C291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417-3275-4243-A634-2A5C7AC0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FA4-82A0-4609-B498-A0E6CE7C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136-4429-4385-A2EC-96841F6C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EF3-A3BC-4FC0-851A-A3630899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F1E-4278-4371-B6DF-5F2AB7FE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969-D726-4568-8F35-7E047322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487-695C-43B7-A004-2D1FEF10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F950-D6A0-487A-B266-410914300C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C235-5BCC-4994-8801-1BC4ABE47CF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571240" cy="647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Муниципальное бюджетное образовательное учреждение Кайдаковская средняя общеобразовательная школа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32000" y="1052280"/>
            <a:ext cx="737712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ефера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 технолог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с</a:t>
            </a:r>
            <a:r>
              <a:rPr b="1" lang="en-US" sz="2400" spc="-1" strike="noStrike">
                <a:solidFill>
                  <a:srgbClr val="ffb800"/>
                </a:solidFill>
                <a:latin typeface="Comic Sans MS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b800"/>
                </a:solidFill>
                <a:latin typeface="Comic Sans MS"/>
              </a:rPr>
              <a:t>ц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ве</a:t>
            </a: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та</a:t>
            </a:r>
            <a:r>
              <a:rPr b="1" lang="en-US" sz="2400" spc="-1" strike="noStrike">
                <a:solidFill>
                  <a:srgbClr val="62c3da"/>
                </a:solidFill>
                <a:latin typeface="Comic Sans MS"/>
              </a:rPr>
              <a:t> ра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ду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г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176720" y="3847680"/>
            <a:ext cx="49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ворянчикова И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0880" y="602064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йдаково 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5 0.031 0.0413 C 0.031 0.06529 0.017 0.08394 0 0.08394 C -0.017 0.08394 -0.031 0.1026 -0.031 0.12525 C -0.031 0.1479 -0.017 0.16655 0 0.16655 C 0.017 0.16655 0.031 0.1852 0.031 0.20786 C 0.031 0.23051 0.017 0.24916 0 0.24916 C -0.017 0.24916 -0.031 0.26781 -0.031 0.2918 C -0.031 0.31445 -0.017 0.3331 0 0.3331 C 0.017 0.3331 0.031 0.31445 0.031 0.2918 C 0.031 0.26781 0.017 0.24916 0 0.24916 C -0.017 0.24916 -0.031 0.23051 -0.031 0.20786 C -0.031 0.1852 -0.017 0.16655 0 0.16655 C 0.017 0.16655 0.031 0.1479 0.031 0.12525 C 0.031 0.1026 0.017 0.08394 0 0.08394 C -0.017 0.08394 -0.031 0.06529 -0.031 0.0413 C -0.031 0.01865 -0.017 0 0 0 Z">
                                      <p:cBhvr>
                                        <p:cTn id="6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60487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Диета </a:t>
            </a:r>
            <a:r>
              <a:rPr b="1" lang="en-US" sz="2400" spc="-1" strike="noStrike">
                <a:solidFill>
                  <a:srgbClr val="ffb800"/>
                </a:solidFill>
                <a:latin typeface="Comic Sans MS"/>
              </a:rPr>
              <a:t>по </a:t>
            </a: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цвета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радуг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10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казывается, цвет продукта влияет на здоровье! Данная диета предлагает целый день есть продукты лишь одного цвет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413000"/>
          <a:ext cx="9036000" cy="525600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5000"/>
                <a:gridCol w="1308240"/>
                <a:gridCol w="1305000"/>
                <a:gridCol w="1304640"/>
                <a:gridCol w="120024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еде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лен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анжев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олетов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т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кресен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зрач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арной картофель, бананы, ячмень, рис, молоко, сыр белого цвета, спагетти, мякоть кокоса, белое мясо курицы, каштаны, цветная капу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ая фасоль, томаты, вишня, красная смородина, красный сладкий перец, клюква, свекла, красный вин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стовые овощи, зеленые пряные травы, киви, зеленый чай, ревень, огурцы, морская капуста, брюссельская капуста и брокко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ковь, папайя, лосось, манго, облепиха, тыква, абрикосы, персики, помидоры, апельсины, мандарины, дыня, ху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лажаны, темный виноград, ежевика, голубика, черная смородина, слива, эстраг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нас, персики, абрикосы, желтый перец, кабачки, желтые яблоки, кукуруза, зрелый сыр, мед, яичный жел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ается пить только минеральную воду (негазированную). Суточная норма для прозрачного дня – не меньше 3 л жидк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ый цвет охлаждает. Полезен для легких и толстого кишеч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ща красноватых и оранжевых тонов полезна для серд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леный успокаивает, расслабля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анжевый повышает аппетит, защищает от просту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олетовый защищает почки, мочевой пузы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тый – самый жаропонижаю-щий цвет. улучшает настро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5975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З</a:t>
            </a:r>
            <a:r>
              <a:rPr b="1" lang="en-US" sz="2400" spc="-1" strike="noStrike">
                <a:solidFill>
                  <a:srgbClr val="ffb800"/>
                </a:solidFill>
                <a:latin typeface="Comic Sans MS"/>
              </a:rPr>
              <a:t>а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к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л</a:t>
            </a:r>
            <a:r>
              <a:rPr b="1" lang="en-US" sz="2400" spc="-1" strike="noStrike">
                <a:solidFill>
                  <a:srgbClr val="0099cc"/>
                </a:solidFill>
                <a:latin typeface="Comic Sans MS"/>
              </a:rPr>
              <a:t>ю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ч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е</a:t>
            </a:r>
            <a:r>
              <a:rPr b="1" lang="en-US" sz="2400" spc="-1" strike="noStrike">
                <a:solidFill>
                  <a:srgbClr val="4d4d4d"/>
                </a:solidFill>
                <a:latin typeface="Comic Sans MS"/>
              </a:rPr>
              <a:t>н</a:t>
            </a: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5694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дуга творчества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ножество разных «радуг» можно сделать самим: нарисовать, вырезать, наклеить, сшить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 нас в школе был объявлен конкурс на лучшую эмблему и значок детской организации. Большинством голосов была принята эмблема с изображением радуги – семь цветов радуги в виде тонких ленточек помешается на галстук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508240" y="3260880"/>
            <a:ext cx="95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2233440" cy="32400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ая соединительная линия 8"/>
          <p:cNvSpPr/>
          <p:nvPr/>
        </p:nvSpPr>
        <p:spPr>
          <a:xfrm flipV="1">
            <a:off x="2987640" y="4076280"/>
            <a:ext cx="86364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3"/>
          <p:cNvSpPr/>
          <p:nvPr/>
        </p:nvSpPr>
        <p:spPr>
          <a:xfrm flipV="1">
            <a:off x="2987640" y="4149720"/>
            <a:ext cx="863640" cy="5745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4"/>
          <p:cNvSpPr/>
          <p:nvPr/>
        </p:nvSpPr>
        <p:spPr>
          <a:xfrm flipV="1">
            <a:off x="2987640" y="4220640"/>
            <a:ext cx="863640" cy="576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5"/>
          <p:cNvSpPr/>
          <p:nvPr/>
        </p:nvSpPr>
        <p:spPr>
          <a:xfrm flipV="1">
            <a:off x="2987640" y="4292280"/>
            <a:ext cx="863640" cy="577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6"/>
          <p:cNvSpPr/>
          <p:nvPr/>
        </p:nvSpPr>
        <p:spPr>
          <a:xfrm flipV="1">
            <a:off x="2987640" y="4365720"/>
            <a:ext cx="863640" cy="5760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9"/>
          <p:cNvSpPr/>
          <p:nvPr/>
        </p:nvSpPr>
        <p:spPr>
          <a:xfrm flipV="1">
            <a:off x="2987640" y="4436640"/>
            <a:ext cx="863640" cy="577800"/>
          </a:xfrm>
          <a:prstGeom prst="line">
            <a:avLst/>
          </a:prstGeom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7"/>
          <p:cNvSpPr/>
          <p:nvPr/>
        </p:nvSpPr>
        <p:spPr>
          <a:xfrm flipV="1">
            <a:off x="2987640" y="4508280"/>
            <a:ext cx="863640" cy="57780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пользуемая литерату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образительное искусство: предметная неделя в школе/ сост. О.В. Свиридова. Волгоград: Учитель,2007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лякина В.И. Методика организации уроков коллективного творчества.-М.:Владос,200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kraskizhizni.com/edu/verse/101-stihi-pro-cve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ookcolor.ru/teoriya-cveta/cveta-radug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ebesite.ru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нциклопедия русского быта XIX века. Ю. А. Федосюк. 1989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egoe Print"/>
              </a:rPr>
              <a:t>Цели работ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605800" cy="4681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тобы на уроках изобразительного искусства, обслуживающего труда было интересно знакомиться с основными и составными цветами возникла идея выполнить творческий проект на тему: «Все цвета радуги». При создании проекта пришлось решить следующие задач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зучение цветов и цветовых гармоний по цветовому кругу или спектр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учиться правильно подбирать цветовую гамму при оформлении художественного издел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звивать эстетический вку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спитывать терпеливость, аккуратность, потребность в стремлении принести пользу и радость окружающим людя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лагодаря творческому проекту другим ребятам будет интересно и главное несложно запоминать цвета радуги, и каждый больше узнает о том какой он наш разноцветный мир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5b2a"/>
                </a:solidFill>
                <a:latin typeface="Comic Sans MS"/>
              </a:rPr>
              <a:t>Радуга и её цве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465440" cy="3443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00720" y="1773360"/>
            <a:ext cx="403200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ждый из нас хотя бы раз видел радугу и может с легкостью назвать цвета радуги по порядку. Запоминать цвета радуги очень легко, надо знать одну простую фразу: Каждый Охотник Желает Знать Где Сидит Фазан. Первая буква каждого слова этой фразы соответствует первой букве в названии цвета. Цвета радуги по порядку звучат так: красный, оранжевый, желтый, зеленый, голубой, синий, фиолетовы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5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650"/>
                            </p:stCondLst>
                            <p:childTnLst>
                              <p:par>
                                <p:cTn id="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Основные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составные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цве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0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сновные: красный, желтый, синий. Они составляют основу цветового круг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торостепенные цвета — составные: зеленый, фиолетовый, оранжевый. Чтобы их получить нужно попарно смешивать три основные цвета: красный, желтый и синий. При смешении желтого и синего получается зеленый, если смешать желтый и красный — получим оранжевый, смешаем красный и синий — имеем фиолетовы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627280" y="3357720"/>
            <a:ext cx="3959280" cy="29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Символика цве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6360" y="1052280"/>
            <a:ext cx="7812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имволика каждого государственного флага несет в себе глубокий смысл. Потому что национальное прошлое народа, его история и культура нашли свое отражение в соответствующих цветах знамени. В настоящее время чаще всего используется следующая трактовка значений цветов флага России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елый означает мир, чистоту, непорочность, совершенство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иний — цвет веры, верности и правды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расный символизирует постоянство, энергию, силу, отвагу и кровь, пролитую за Отечеств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циональные костюмы всегда соответствуют цветам национальных флагов, и в этом нет ничего удивительно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08000" y="3933720"/>
            <a:ext cx="3313440" cy="2492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952720" cy="272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Comic Sans MS"/>
              </a:rPr>
              <a:t>Влияние цвета на челове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Цвет способен на всё: он может родить свет, успокоение или возбуждение. Он может создать гармонию или вызвать потрясение; от него можно ждать чудес, но он может вызвать и катастрофу». Ж. Вьен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гния Барто в своем стихотворении прямо пишет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мотрю сквозь стекляш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еленого цвет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сразу зи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вращается в лет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3832200"/>
            <a:ext cx="8424720" cy="27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5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5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5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5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5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5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55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115920"/>
            <a:ext cx="6120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Какого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b800"/>
                </a:solidFill>
                <a:latin typeface="Comic Sans MS"/>
              </a:rPr>
              <a:t>цвет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наш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жизнь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7640" y="1197000"/>
            <a:ext cx="82090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Цвет – незаменимая составная часть нашей жизни. Как часто жизнь сравнивают с зеброй, где чёрная и белая полоса чередуются друг с другом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ша жизнь с цветною лентой схожа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 радугой за облачным пределом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лосы меняются, но все ж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х цвета - не только черный с белым. (Е.Е.Остапов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озовый считается цветом девочек, голубой - мальчико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48360" y="4005360"/>
            <a:ext cx="3313080" cy="2519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4572000" cy="29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741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Королевский си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7640" y="980640"/>
            <a:ext cx="8280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адиционный королевский синий был открыт портными из Сомерсета, сшившими для королевы Великобритании Шарлотты Мекленбург-Стрелицкой платье именно такого цвета. Синий — цвет королевской власти и благородного происхожде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дужная королева –Елизавет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английская королева. За годы своего правления Елизавета II появлялась на людях в бесчисленном количестве разных платьев и костюмов. Ее Величество предпочитает синие и голубые оттенк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448000" cy="2592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03280" y="6237360"/>
            <a:ext cx="27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Шарлотта Мекленбург-Стрелицкая.19 мая 17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211640" y="3573360"/>
            <a:ext cx="4248000" cy="2665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148440" y="32608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6453360"/>
            <a:ext cx="42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ролевский стиль: радужные на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92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192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192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192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23640" y="115920"/>
            <a:ext cx="5472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 вкус и цвет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066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ыбор любимого цвета не зависит от пола человека! Синий цвет – самый популярный среди мужчин и женщин. Его признали любимым 35% женщин и более половины опрошенных мужчин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5472000" cy="44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92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92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8" dur="192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" dur="192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2:40:26Z</dcterms:created>
  <dc:creator>Admin</dc:creator>
  <dc:description/>
  <dc:language>en-US</dc:language>
  <cp:lastModifiedBy>Vlada</cp:lastModifiedBy>
  <dcterms:modified xsi:type="dcterms:W3CDTF">2015-08-21T09:36:33Z</dcterms:modified>
  <cp:revision>22</cp:revision>
  <dc:subject/>
  <dc:title>Муниципальное бюджетное общеобразовательное учреждение Кайдаковская средняя общеобразовательная школа</dc:title>
</cp:coreProperties>
</file>