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F5F-008D-4D63-9E22-DE219775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489-52ED-4135-AEC3-2A8CC503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28F-68E0-42D4-AED0-960D1CF1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A6A-E54C-4852-8637-44A49E94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3FA-7D7D-4A61-9AEB-8F69E197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E8B-06BE-4A8F-B7FA-B369C2F2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FD2-CE82-4AFF-9C2A-6BDE4DBA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F2E-12F9-4C03-B032-D42C6D35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828-413F-43AE-9333-DA497AD5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E2E-EC9F-4DFD-BC4A-FB036BC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53B-2168-42B1-A441-88B76224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EB2-8778-4C86-94DC-9726435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9BB8-426A-4F3D-B572-E6B9A16AC7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16000" y="2205000"/>
            <a:ext cx="698508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ПИСЕЦ-ИСТОРИК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.И. СУРИКОВ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332160" y="4228560"/>
            <a:ext cx="246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(1848-191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Утро стрелецкой каз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5400" indent="369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«Утро стрелецкой казни» — грандиозная картина, завершенная в 1881— производит фурор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Избрав сюжетом финальный эпизод последнего стрелецкого бунта 1698 года — казнь мятежников на Красной площади под личным присмотром Петра I — Суриков показывает народное противодействие царским реформам сверх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Утро стрелецкой каз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surikovutro"/>
          <p:cNvPicPr/>
          <p:nvPr/>
        </p:nvPicPr>
        <p:blipFill>
          <a:blip r:embed="rId1"/>
          <a:stretch/>
        </p:blipFill>
        <p:spPr>
          <a:xfrm>
            <a:off x="900000" y="1773360"/>
            <a:ext cx="7417080" cy="4265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eeece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Утро стрелецкой каз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343080" indent="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Утро стрелецкой казни" действительно потрясает. Но не ужасами смерти, а мощью характеров, трагедийностью одного из переломных этапов российской истории. "Торжественность последних минут мне хотелось передать, а совсем не казнь", - пишет Суриков об этом полотне. Стрельцы, идущие на смерть, полны достоинства. Они проиграли в этой схватке и не просят поща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9280" y="1600200"/>
            <a:ext cx="382752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87200" indent="-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массе народа, который "волнуется подобно "шуму вод многих"", Суриков выделяет впечатляющие характеры. Особенно выразителен рыжебородый стрелец, гневный взор которого, как бы прочерчивая всю композицию, сталкивается со взглядом П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7200" indent="-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surikovutro"/>
          <p:cNvPicPr/>
          <p:nvPr/>
        </p:nvPicPr>
        <p:blipFill>
          <a:blip r:embed="rId1"/>
          <a:srcRect l="8948" t="22507" r="72151" b="34439"/>
          <a:stretch/>
        </p:blipFill>
        <p:spPr>
          <a:xfrm>
            <a:off x="395280" y="2924280"/>
            <a:ext cx="2693880" cy="3529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8" name="Picture 5" descr="surikovutro"/>
          <p:cNvPicPr/>
          <p:nvPr/>
        </p:nvPicPr>
        <p:blipFill>
          <a:blip r:embed="rId2">
            <a:lum contrast="12000"/>
          </a:blip>
          <a:srcRect l="77855" t="15412" r="4235" b="44818"/>
          <a:stretch/>
        </p:blipFill>
        <p:spPr>
          <a:xfrm>
            <a:off x="2195640" y="549360"/>
            <a:ext cx="2481120" cy="3168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eece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Меншиков в Березов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599840"/>
            <a:ext cx="8002440" cy="41338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343080" indent="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Если в "Стрельцах" показана трагедия массы, складывающаяся из судеб отдельных людей, то в картине "Меншиков в Березове" (1883г.) Суриков сконцентрировал внимание на одном сильном характере, в личной драме которого был отзвук трагедии Росс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Меншиков в Березов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index2_clip_image00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63640" y="1341360"/>
            <a:ext cx="5343480" cy="5077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788000" y="1600200"/>
            <a:ext cx="389880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5400" indent="14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Огромной фигуре Меншикова тесно под этими низкими потолками, в этой избенке. Этому сильному и властному человеку привычны иные масштабы жизн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index2_clip_image006"/>
          <p:cNvPicPr/>
          <p:nvPr/>
        </p:nvPicPr>
        <p:blipFill>
          <a:blip r:embed="rId1">
            <a:lum contrast="12000"/>
          </a:blip>
          <a:srcRect l="6272" t="9899" r="59570" b="54631"/>
          <a:stretch/>
        </p:blipFill>
        <p:spPr>
          <a:xfrm>
            <a:off x="468360" y="692280"/>
            <a:ext cx="4103640" cy="4049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1700280"/>
            <a:ext cx="4043520" cy="302400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93600" indent="26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С Меншиковым трое его детей. Все они должны были стать вершителями честолюбивых замыслов отца. Должны были... Ситуация драматична. И талант Сурикова помог уловить в ней красоту и тонкость проявления человеческих чувств,</a:t>
            </a: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280" y="4723920"/>
            <a:ext cx="8218440" cy="180036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95400" indent="1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ередать их в облике героев картины и колористическом строе. ""Меншиков" из всех суриковских драм - наиболее "шекспировская" по вечным, неизъяснимым судьбам человеческим", - писал М. В. Несте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index2_clip_image006"/>
          <p:cNvPicPr/>
          <p:nvPr/>
        </p:nvPicPr>
        <p:blipFill>
          <a:blip r:embed="rId1">
            <a:lum contrast="6000"/>
          </a:blip>
          <a:srcRect l="21572" t="18777" r="24544" b="35009"/>
          <a:stretch/>
        </p:blipFill>
        <p:spPr>
          <a:xfrm>
            <a:off x="4643280" y="1052640"/>
            <a:ext cx="4248360" cy="3460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Times New Roman"/>
              </a:rPr>
              <a:t>«Боярыня Мороз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sur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341360"/>
            <a:ext cx="8713800" cy="4581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Times New Roman"/>
              </a:rPr>
              <a:t>«Боярыня Мороз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4797360"/>
            <a:ext cx="8229600" cy="16891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3600" indent="16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alibri"/>
              </a:rPr>
              <a:t>Момент, избранный им для  картины: толпа народа и сани с неистовой боярыней во время ее проезда  по Московским улицам – «позор следования боярыни Федосьи Прокопьевны  Морозовой для допроса в Кремль за приверженность  к  расколу  в  царствование  Алексея Михайлович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&quot;Боярыня Морозова&quot;. 1887"/>
          <p:cNvPicPr/>
          <p:nvPr/>
        </p:nvPicPr>
        <p:blipFill>
          <a:blip r:embed="rId1"/>
          <a:stretch/>
        </p:blipFill>
        <p:spPr>
          <a:xfrm>
            <a:off x="1547640" y="1413000"/>
            <a:ext cx="5977080" cy="304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В.И.Суриков –великий русский живописец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XIX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27280" y="1628640"/>
            <a:ext cx="4259160" cy="489600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440" indent="200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Calibri"/>
              </a:rPr>
              <a:t>Все без исключения исследователи считают его произведения вершиной реализма в исторической живописи русского и мирового искусства XIX века. Его полотна, посвященные поворотным моментам в судьбе России, всегда затрагивали в зрителях самые глубинные струны их души, заставляя задуматься о нашем прошлом, о тех дорогах, по которым шла история нашего Оте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20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r_pic1"/>
          <p:cNvPicPr/>
          <p:nvPr/>
        </p:nvPicPr>
        <p:blipFill>
          <a:blip r:embed="rId1"/>
          <a:stretch/>
        </p:blipFill>
        <p:spPr>
          <a:xfrm>
            <a:off x="539640" y="1700280"/>
            <a:ext cx="3753000" cy="441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Эск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4581360"/>
            <a:ext cx="8229600" cy="19051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3600" indent="26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Наиболее ранний из эскизов к «Боярыне Морозовой» относится к 1881 году. Замысел  картины  еще  окончательно  не   созрел,   однако   В.Суриков   уже представлял всю сцену довольно конкрет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no13_0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1413000"/>
            <a:ext cx="806472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716000" y="980640"/>
            <a:ext cx="4038840" cy="4535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 marL="93600" indent="449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Лицо "Морозовой" возникало чрезвычайно трудно. Суриков искал его без конца, находил, писал. Сначала, по памяти, написал он тетку свою Анастасию Торгошину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3600" indent="449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И вновь судьба дала ему шанс. Неожиданно в Преображенское заехала староверка-начетчица с Урала, некая Анастас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4869000"/>
            <a:ext cx="8218440" cy="1689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"Я ее тут же, в садике, написал в два часа. И как вставил в картину - она всех победила, - вспоминает Суриков. - "Персты рук твоих тонкостны, а очи молниеносны. Кидаешься ты на врагов, как лев". Это протопоп Аввакум сказал про Морозову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boyarmoroz"/>
          <p:cNvPicPr/>
          <p:nvPr/>
        </p:nvPicPr>
        <p:blipFill>
          <a:blip r:embed="rId1"/>
          <a:srcRect l="29167" t="9318" r="31925" b="51306"/>
          <a:stretch/>
        </p:blipFill>
        <p:spPr>
          <a:xfrm>
            <a:off x="826920" y="692280"/>
            <a:ext cx="34275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4920" y="4149360"/>
            <a:ext cx="8218440" cy="23367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 marL="93600" indent="52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Но тут перед картиной встала другая проблема: как передать движение, уходящее в глубину, дать ощущение, что Морозову "везут"?.. В поисках этой глубины, этого движения художник трижды пришивал холст к холсту. "Не идет лошадь, да и только!" - горько жаловался Третьякову, который с нетерпением ждал и эту карти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r_pic"/>
          <p:cNvPicPr/>
          <p:nvPr/>
        </p:nvPicPr>
        <p:blipFill>
          <a:blip r:embed="rId1"/>
          <a:stretch/>
        </p:blipFill>
        <p:spPr>
          <a:xfrm>
            <a:off x="2411280" y="620640"/>
            <a:ext cx="4537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68360" y="475920"/>
            <a:ext cx="4186080" cy="500076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85760" indent="52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4f81bd"/>
                </a:solidFill>
                <a:latin typeface="Calibri"/>
              </a:rPr>
              <a:t>В.И.Суриков  изобразил Юродивого на переднем плане картины, сидящим прямо на снегу  в  лохмотьях  с огромным  крестом  с  толстой  цепью  на  шее,  разутым.  Видя  в  Морозовой защитницу правого дела, он как эхо повторяет  ее  жест.  Его  глаза  «горят»светом веры, провожая взглядом  сани  с  боярыней.  В.И.Суриков  рисует  всю фигуру Юродивого в светлых тонах, он как будто  светится  внутренним  светом веры. В рыхлом снегу скрюченные от холода пальцы ног, пар от дых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sur1"/>
          <p:cNvPicPr/>
          <p:nvPr/>
        </p:nvPicPr>
        <p:blipFill>
          <a:blip r:embed="rId1">
            <a:lum contrast="12000"/>
          </a:blip>
          <a:srcRect l="75004" t="35651" r="1343" b="2584"/>
          <a:stretch/>
        </p:blipFill>
        <p:spPr>
          <a:xfrm>
            <a:off x="4932360" y="1125360"/>
            <a:ext cx="3726000" cy="511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00720" y="620280"/>
            <a:ext cx="4186080" cy="55054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5400" indent="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А юродивого, этого народного прорицателя, художник нашел на  одном  из московских рынков.  Он  был  в  восторге  от  этого  пьяницы,  торговавшего огурцами.  Этого  забулдыгу  и  озорника,   которых   в   народе   называют «бесшабашной головой», В. Суриков приводит  к  себе  домой,  растирает  ему босые ноги водкой и торопится запечатлеть его на снегу, наблюдая розовую  или лиловую игру пят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юродив на коленях"/>
          <p:cNvPicPr/>
          <p:nvPr/>
        </p:nvPicPr>
        <p:blipFill>
          <a:blip r:embed="rId1"/>
          <a:stretch/>
        </p:blipFill>
        <p:spPr>
          <a:xfrm>
            <a:off x="538200" y="1052640"/>
            <a:ext cx="3654360" cy="4176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765000"/>
            <a:ext cx="4186080" cy="56167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5400" indent="36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Не успел  художник справиться с юродивым, как уже понадобилась новая натура.  И  он  смешно  и трогательно  гонится  за  старушкой-богомолкой,  невольно  пугая  ее,  и  с беспредельной  жадностью  хватает  брошенной  ею  посох,  чтобы  тотчас  же«вставить» его в руки странника, который уже написан на карт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ur1"/>
          <p:cNvPicPr/>
          <p:nvPr/>
        </p:nvPicPr>
        <p:blipFill>
          <a:blip r:embed="rId1">
            <a:lum contrast="12000"/>
          </a:blip>
          <a:srcRect l="84210" t="1476" r="1068" b="47216"/>
          <a:stretch/>
        </p:blipFill>
        <p:spPr>
          <a:xfrm>
            <a:off x="5651640" y="1052640"/>
            <a:ext cx="2739960" cy="5014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581360"/>
            <a:ext cx="8229600" cy="17272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Три года писал В. Суриков свою картину. Эскиз следовал за  эскизом,  в поисках натуры художник был неутомим. Где  только  ни  побывал  он  за  это время, выискивая наиболее характерные персонажи, в гуще самой жизни  черпая будущих героев своей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Боярышня со скрещенными на груди руками"/>
          <p:cNvPicPr/>
          <p:nvPr/>
        </p:nvPicPr>
        <p:blipFill>
          <a:blip r:embed="rId1"/>
          <a:stretch/>
        </p:blipFill>
        <p:spPr>
          <a:xfrm>
            <a:off x="366840" y="26028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Голова монашенки"/>
          <p:cNvPicPr/>
          <p:nvPr/>
        </p:nvPicPr>
        <p:blipFill>
          <a:blip r:embed="rId2"/>
          <a:stretch/>
        </p:blipFill>
        <p:spPr>
          <a:xfrm>
            <a:off x="2556000" y="1557360"/>
            <a:ext cx="245268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r_pic(8)"/>
          <p:cNvPicPr/>
          <p:nvPr/>
        </p:nvPicPr>
        <p:blipFill>
          <a:blip r:embed="rId3"/>
          <a:stretch/>
        </p:blipFill>
        <p:spPr>
          <a:xfrm>
            <a:off x="4859280" y="2133720"/>
            <a:ext cx="1901880" cy="23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Склонившаяся боярышня в синей шубке и желтом платке. Этюд. 1887"/>
          <p:cNvPicPr/>
          <p:nvPr/>
        </p:nvPicPr>
        <p:blipFill>
          <a:blip r:embed="rId4"/>
          <a:stretch/>
        </p:blipFill>
        <p:spPr>
          <a:xfrm>
            <a:off x="6524640" y="476280"/>
            <a:ext cx="21654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Times New Roman"/>
              </a:rPr>
              <a:t>«Боярыня Морозова»</a:t>
            </a:r>
            <a:br>
              <a:rPr sz="3600"/>
            </a:br>
            <a:r>
              <a:rPr b="0" lang="ru-RU" sz="3600" spc="-1" strike="noStrike">
                <a:solidFill>
                  <a:srgbClr val="c0504d"/>
                </a:solidFill>
                <a:latin typeface="Times New Roman"/>
              </a:rPr>
              <a:t>1887г.</a:t>
            </a:r>
            <a:r>
              <a:rPr b="0" lang="ru-RU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sur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1930320"/>
            <a:ext cx="7058160" cy="3711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Times New Roman"/>
              </a:rPr>
              <a:t>«Покорение Сибири Ермак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4797360"/>
            <a:ext cx="8229600" cy="1656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В третьей своей большой картине - «Покорение Сибири Ермаком» (1895) - Суриков поднялся на необычайную даже для него высоту исторического проз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get_photo_py"/>
          <p:cNvPicPr/>
          <p:nvPr/>
        </p:nvPicPr>
        <p:blipFill>
          <a:blip r:embed="rId1"/>
          <a:stretch/>
        </p:blipFill>
        <p:spPr>
          <a:xfrm>
            <a:off x="1116000" y="1341360"/>
            <a:ext cx="7050240" cy="3463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Times New Roman"/>
              </a:rPr>
              <a:t>«Переход Суворова через Альп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16000" y="1557360"/>
            <a:ext cx="4140360" cy="485784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Еще одно историческое полотно Сурикова – «Переход Суворова через Альпы» (1899),  продолжает тему героизма русских  людей, начатую 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«Покорении Сибири»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04"/>
          <p:cNvPicPr/>
          <p:nvPr/>
        </p:nvPicPr>
        <p:blipFill>
          <a:blip r:embed="rId1"/>
          <a:stretch/>
        </p:blipFill>
        <p:spPr>
          <a:xfrm>
            <a:off x="468360" y="1125360"/>
            <a:ext cx="3852720" cy="527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628640"/>
            <a:ext cx="418608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Василий Иванович Суриков родился 12 января (24 по новому стилю) 1848 года в городе Красноярске в семье губернского регистратор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surikov_big"/>
          <p:cNvPicPr/>
          <p:nvPr/>
        </p:nvPicPr>
        <p:blipFill>
          <a:blip r:embed="rId1"/>
          <a:stretch/>
        </p:blipFill>
        <p:spPr>
          <a:xfrm>
            <a:off x="5364000" y="2133720"/>
            <a:ext cx="2867040" cy="4000320"/>
          </a:xfrm>
          <a:prstGeom prst="rect">
            <a:avLst/>
          </a:prstGeom>
          <a:ln w="9360">
            <a:solidFill>
              <a:srgbClr val="eeece1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Times New Roman"/>
              </a:rPr>
              <a:t>«Степан Разин»</a:t>
            </a:r>
            <a:r>
              <a:rPr b="0" lang="ru-RU" sz="44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4581360"/>
            <a:ext cx="8229600" cy="187200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440" indent="277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Несколько лет Суриков работа над картиной «Степан Разин» (1906) , которая давалась ему довольно трудно. Картина поражает ощущением приволья,переливом красок,наполненность  воздухом. Целью художника было передать и мятежный дух Рази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05"/>
          <p:cNvPicPr/>
          <p:nvPr/>
        </p:nvPicPr>
        <p:blipFill>
          <a:blip r:embed="rId1"/>
          <a:stretch/>
        </p:blipFill>
        <p:spPr>
          <a:xfrm>
            <a:off x="1547640" y="1197000"/>
            <a:ext cx="6048720" cy="3201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9840" y="1890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Times New Roman"/>
              </a:rPr>
              <a:t>«Взятие снежного городка в Сибир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4723920"/>
            <a:ext cx="8002440" cy="17290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93600" indent="16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Живя зимой 1889/90 года в Красноярске, наблюдая тамошние зимние развлечения, Суриков увлекся мыслью написать Взятие снежного городка, изобразив излюбленную сибирскую игру, в которой художник с азартом участвовал в ю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02"/>
          <p:cNvPicPr/>
          <p:nvPr/>
        </p:nvPicPr>
        <p:blipFill>
          <a:blip r:embed="rId1"/>
          <a:stretch/>
        </p:blipFill>
        <p:spPr>
          <a:xfrm>
            <a:off x="1258920" y="1133640"/>
            <a:ext cx="6265800" cy="3471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68360" y="620280"/>
            <a:ext cx="8229600" cy="560556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"</a:t>
            </a:r>
            <a:r>
              <a:rPr b="0" i="1" lang="ru-RU" sz="3600" spc="-1" strike="noStrike">
                <a:solidFill>
                  <a:srgbClr val="4f81bd"/>
                </a:solidFill>
                <a:latin typeface="Calibri"/>
              </a:rPr>
              <a:t>Суриков поведал страшные были минувшего, представил человечеству в своих образах героическую душу своего народа</a:t>
            </a: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 ",- писал  художник М.В. Нестеров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Патриотическое, правдивое творчество В.И. Сурикова, впервые с такой силой показавшее народ как движущую силу истории, стало новым этапом в мировой истории живопис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000" y="1628640"/>
            <a:ext cx="417492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85760" indent="54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В середине XVI века с Дона, с казачьим войском Ермака, предки Сурикова пошли на завоевание Сибири; они сражались с полчищами Кучума, а потом осели на новых землях на постоянное жительст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голова молодого казака"/>
          <p:cNvPicPr/>
          <p:nvPr/>
        </p:nvPicPr>
        <p:blipFill>
          <a:blip r:embed="rId1"/>
          <a:stretch/>
        </p:blipFill>
        <p:spPr>
          <a:xfrm>
            <a:off x="5292720" y="1413000"/>
            <a:ext cx="3284640" cy="4949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341360"/>
            <a:ext cx="8748720" cy="51832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480" indent="35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1856 году Сур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оступил в приход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ское училище вКрасн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ярске. Там способ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мальчика к рисова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" indent="35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были замечены препо-давателем Н.В. Гребневым, который стал специально заниматься с ним отдельно, рассказывал о произведениях классического искусства, водил рисовать с натуры акварельными красками виды Красноярска. Вот когда Суриков уже узнал о пленэре. Благодаря Гребневу он овладел техникой акварельной живописи, в которой впоследствии достиг высокого совершен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вид на красноярск с сопки"/>
          <p:cNvPicPr/>
          <p:nvPr/>
        </p:nvPicPr>
        <p:blipFill>
          <a:blip r:embed="rId1"/>
          <a:stretch/>
        </p:blipFill>
        <p:spPr>
          <a:xfrm>
            <a:off x="468360" y="1413000"/>
            <a:ext cx="3956040" cy="26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280" y="3068280"/>
            <a:ext cx="7931160" cy="30574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t">
            <a:normAutofit/>
          </a:bodyPr>
          <a:p>
            <a:pPr marL="185760" indent="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Золотопромышленник П.И. Кузнецов предоставил Василию Сурикову стипендию на обучение в Академии художеств в Петербурге. Учился Суриков в Академии (1869-1875) с увлечением, успешно переходя из класса в класс, получая награды как за рисунок с натуры, так и за живописные компози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Академия Художеств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987640" y="1268280"/>
            <a:ext cx="5672160" cy="2787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3280" y="1600200"/>
            <a:ext cx="404352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187200" indent="277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В 1874 г.Суриков получил заказ на выполнение четырех росписей для строящегося тогда в Москве храма Христа Спаси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Главный фасад храма Христа Спасителя"/>
          <p:cNvPicPr/>
          <p:nvPr/>
        </p:nvPicPr>
        <p:blipFill>
          <a:blip r:embed="rId1"/>
          <a:stretch/>
        </p:blipFill>
        <p:spPr>
          <a:xfrm>
            <a:off x="539640" y="1341360"/>
            <a:ext cx="3733920" cy="4762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Страницы биогра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000" y="1557000"/>
            <a:ext cx="4691160" cy="504036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53753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Переезд в Москву сыграл в творческой судьбе художника решающую роль. «…больше всего захватил меня Кремль с его стенами и башнями ,»-- писал  Суриков— «Сам не знаю почему, но почувствовал я в них что-то удивительно мне близкое, точно давно и хорошо знакомое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05052005141956_T43771"/>
          <p:cNvPicPr/>
          <p:nvPr/>
        </p:nvPicPr>
        <p:blipFill>
          <a:blip r:embed="rId1"/>
          <a:stretch/>
        </p:blipFill>
        <p:spPr>
          <a:xfrm>
            <a:off x="5219640" y="1413000"/>
            <a:ext cx="3492720" cy="3630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eece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Рождение карт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03280" y="2060280"/>
            <a:ext cx="3683160" cy="453708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txBody>
          <a:bodyPr anchor="t">
            <a:normAutofit/>
          </a:bodyPr>
          <a:p>
            <a:pPr marL="1440" indent="370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«И вот однажды иду я по Красной площади, кругом ни души...-пишет Суриков,- И вдруг в воображении вспыхнула сцена стрелецкой казни, да так ясно, что даже сердце забилось. Почувствовал, что если напишу то, что мне представилось, то выйдет потрясающая картина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151"/>
          <p:cNvPicPr/>
          <p:nvPr/>
        </p:nvPicPr>
        <p:blipFill>
          <a:blip r:embed="rId1"/>
          <a:stretch/>
        </p:blipFill>
        <p:spPr>
          <a:xfrm>
            <a:off x="395280" y="1628640"/>
            <a:ext cx="4578480" cy="3434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eeece1"/>
            </a:outerShdw>
          </a:effectLst>
        </p:spPr>
      </p:pic>
      <p:pic>
        <p:nvPicPr>
          <p:cNvPr id="69" name="Picture 6" descr="index2_clip_image002"/>
          <p:cNvPicPr/>
          <p:nvPr/>
        </p:nvPicPr>
        <p:blipFill>
          <a:blip r:embed="rId2"/>
          <a:stretch/>
        </p:blipFill>
        <p:spPr>
          <a:xfrm>
            <a:off x="1619280" y="4724280"/>
            <a:ext cx="31021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7:11:14Z</dcterms:created>
  <dc:creator>matriks</dc:creator>
  <dc:description/>
  <dc:language>en-US</dc:language>
  <cp:lastModifiedBy>User</cp:lastModifiedBy>
  <dcterms:modified xsi:type="dcterms:W3CDTF">2015-08-22T17:09:03Z</dcterms:modified>
  <cp:revision>17</cp:revision>
  <dc:subject/>
  <dc:title>Слайд 1</dc:title>
</cp:coreProperties>
</file>