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1F7-D30B-4065-84F0-C4FA2BF4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F3D-9945-495F-A70E-BC559E1D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3D7-2B62-46E6-B0B3-0219F045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0A1-7EB0-4EBF-97FB-BE5D4228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E081-9A7B-4E56-9A9B-16670717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2C33-2D31-48C0-80D6-C1C8F582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5C95-1CD0-4533-9255-882AD58C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E18A-51AF-4BBF-9F50-F8F2090E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0CB9-7A24-46C4-A24A-6C8D7950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F93A-5D36-435D-A86D-043E64E0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29A6-8E3B-40B5-9671-8E444D4E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193-2300-4A21-B019-F9081F73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6B15-A16D-4B34-8330-BD7C932E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E3D0-17C4-46A8-BAD8-28754F94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BE72-80D2-48E5-9C0B-0C54315B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1D6D-1C81-498F-BB92-664A964C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13F3-5A2D-421B-9523-572F58B4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2BE-34C2-4D33-94F2-BD059B58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EF4-D496-45E5-939D-65B63717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9FB-C222-4984-9FF2-B50E3C16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BE3-3360-42D4-92B0-C2395F1B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950-4F4F-4573-BB3A-CEC2F2D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DA2-F6F2-4B2C-871E-C3EBAE95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7CD-00B2-4B54-9D26-C16CF123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09B8-C0E3-4A1E-80F7-8B2155D9AA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BF0D-E8B3-4CCF-BACD-22C7EFA644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Биогенетические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теории личности</a:t>
            </a:r>
            <a:br>
              <a:rPr sz="44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( Э. Кречмер, У. Шелдон, Э. Шпрангер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8840" y="43434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дуа́р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Шпра́нг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27 июня 1882, Берлин — 1 сентября 1963, Тюбинген) — немецкий философ-идеалист, психолог, педагог; в разные годы — профессор университетов Берлина, Лейпцига, Тюбингена.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220px-Эдуард_Шпрангер" descr="Эдуард Шпрангер.jpg"/>
          <p:cNvPicPr/>
          <p:nvPr/>
        </p:nvPicPr>
        <p:blipFill>
          <a:blip r:embed="rId1"/>
          <a:stretch/>
        </p:blipFill>
        <p:spPr>
          <a:xfrm>
            <a:off x="2895480" y="320040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Ценностная типология Э.Шпрангер 1928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основе этой типологии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жит допущение о том, что возмож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лассификация по признаку доминирующей жизненной цен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которая формирует и определяет в целом личность человека. Им была предложена типология, которая состоит из 6 идеальных ценностных типов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*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Теоретический челов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*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Экономический человек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Эстетический человек</a:t>
            </a:r>
            <a:br>
              <a:rPr sz="2400"/>
            </a:b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*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оциальный челов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олитический челов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Религиозный челов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90560" y="91440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рнст Кречм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8 октября 1888 — 9 февраля 1964 ) —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немецкий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иат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и псих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создател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ипологии темпераментов на основ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собенностей телосложения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839080" y="23619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220px-Ernst_Kretschmer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bs0000390812" descr="Строение тела и характер / Книга"/>
          <p:cNvPicPr/>
          <p:nvPr/>
        </p:nvPicPr>
        <p:blipFill>
          <a:blip r:embed="rId2"/>
          <a:stretch/>
        </p:blipFill>
        <p:spPr>
          <a:xfrm>
            <a:off x="6951600" y="2819520"/>
            <a:ext cx="219240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9785040066353" descr="Э.Кречмер - Строение тела и характер"/>
          <p:cNvPicPr/>
          <p:nvPr/>
        </p:nvPicPr>
        <p:blipFill>
          <a:blip r:embed="rId3"/>
          <a:stretch/>
        </p:blipFill>
        <p:spPr>
          <a:xfrm>
            <a:off x="4038480" y="3570120"/>
            <a:ext cx="2237040" cy="3287880"/>
          </a:xfrm>
          <a:prstGeom prst="rect">
            <a:avLst/>
          </a:prstGeom>
          <a:ln w="0">
            <a:noFill/>
          </a:ln>
        </p:spPr>
      </p:pic>
      <p:pic>
        <p:nvPicPr>
          <p:cNvPr id="95" name="9785878520782-b" descr="Медицинская психология &quot; книги cкачать бесплатно"/>
          <p:cNvPicPr/>
          <p:nvPr/>
        </p:nvPicPr>
        <p:blipFill>
          <a:blip r:embed="rId4"/>
          <a:stretch/>
        </p:blipFill>
        <p:spPr>
          <a:xfrm>
            <a:off x="1219320" y="3962520"/>
            <a:ext cx="1820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14" descr=""/>
          <p:cNvPicPr/>
          <p:nvPr/>
        </p:nvPicPr>
        <p:blipFill>
          <a:blip r:embed="rId1"/>
          <a:stretch/>
        </p:blipFill>
        <p:spPr>
          <a:xfrm>
            <a:off x="228600" y="357120"/>
            <a:ext cx="861048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4_clip_image002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934320" cy="4972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292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d353d"/>
                </a:solidFill>
                <a:latin typeface="Arial"/>
                <a:ea typeface="Arial"/>
              </a:rPr>
              <a:t>)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2040" y="5715000"/>
            <a:ext cx="30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лептосоматик=астени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следование 260 психотиков позволило Кречмеру сделать вывод о том, что существует явная связь между склонностью к маниакально-депрессивному психозу и пикническим типом строения тела, а также между склонностью к шизофрении астеников, атлетиков и некоторых диспластиков. 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02_clip_image002" descr=""/>
          <p:cNvPicPr/>
          <p:nvPr/>
        </p:nvPicPr>
        <p:blipFill>
          <a:blip r:embed="rId1"/>
          <a:stretch/>
        </p:blipFill>
        <p:spPr>
          <a:xfrm>
            <a:off x="914400" y="0"/>
            <a:ext cx="6477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Уильям Герберт Шелдо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19 ноября 1898 — 17 сентября 1977) — американский психолог и нумизмат, автор конституциональной теории темперамента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sheldon_william1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4095946241_4737f6f2f71-350x456" descr="Somatotype Body Type: What Your Unique Body Type?"/>
          <p:cNvPicPr/>
          <p:nvPr/>
        </p:nvPicPr>
        <p:blipFill>
          <a:blip r:embed="rId2"/>
          <a:stretch/>
        </p:blipFill>
        <p:spPr>
          <a:xfrm>
            <a:off x="4952880" y="2895480"/>
            <a:ext cx="288936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Linux Libertine"/>
              </a:rPr>
              <a:t>Конституциональная теория</a:t>
            </a: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Шелдон в 1940е годы выделил три типа телосложений: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stangor-fig11_003_small" descr="Personality"/>
          <p:cNvPicPr/>
          <p:nvPr/>
        </p:nvPicPr>
        <p:blipFill>
          <a:blip r:embed="rId1"/>
          <a:stretch/>
        </p:blipFill>
        <p:spPr>
          <a:xfrm>
            <a:off x="228600" y="1676520"/>
            <a:ext cx="430380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4572000" y="1600200"/>
          <a:ext cx="4343400" cy="502920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) Эндоморфный тип (пикник), висцеротония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) Мезоморфный тип (атлетик), соматотония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) Эктоморфный тип (астеник), церебротония (голова, ум)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i_00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709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s640x4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9:38Z</dcterms:created>
  <dc:creator>Саша</dc:creator>
  <dc:description/>
  <dc:language>en-US</dc:language>
  <cp:lastModifiedBy>Саша</cp:lastModifiedBy>
  <dcterms:modified xsi:type="dcterms:W3CDTF">2015-08-23T19:03:45Z</dcterms:modified>
  <cp:revision>3</cp:revision>
  <dc:subject/>
  <dc:title>Биогенетические теории личности ( Э. Кречмер, У. Шелдон, Э. Шпрангер)</dc:title>
</cp:coreProperties>
</file>