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59EC-7ECF-42D5-8727-DC69E0B4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D04-B2C5-4BDF-9061-C0A44974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F95A-0D79-404F-8922-63FD9D75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F9F-41D3-4FF6-BCF9-B25D8727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98A-A0CD-4CBD-A848-74A4201F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108-D422-464C-98F9-DD971D8B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0D44-4680-4A50-B284-82236559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909C-3A1F-4592-9A6C-0DD1AC85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CB45-0472-4C42-B438-1AE0196A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9C3D-2EEF-42FD-95FC-31C528D5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9CDD-F5BD-4988-8924-1B81BB94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B87-CB97-4378-B987-005FD555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3499-FEC9-44BB-9195-C287718B81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IMG_1597.PNG"/>
          <p:cNvPicPr/>
          <p:nvPr/>
        </p:nvPicPr>
        <p:blipFill>
          <a:blip r:embed="rId1"/>
          <a:stretch/>
        </p:blipFill>
        <p:spPr>
          <a:xfrm>
            <a:off x="380880" y="533520"/>
            <a:ext cx="8415360" cy="5856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590920" y="19051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1066680" y="2743200"/>
            <a:ext cx="754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800000"/>
                </a:solidFill>
                <a:latin typeface="Arial"/>
              </a:rPr>
              <a:t>ОСЕ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Выполнил ученик 3Е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МБОУ СОШ №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Махбузов Мухаммадюсу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Учитель: Шевченко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066680" y="1523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ЕК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СКАЗ О СЛО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getImage2.jpg"/>
          <p:cNvPicPr/>
          <p:nvPr/>
        </p:nvPicPr>
        <p:blipFill>
          <a:blip r:embed="rId1"/>
          <a:stretch/>
        </p:blipFill>
        <p:spPr>
          <a:xfrm>
            <a:off x="4724280" y="914400"/>
            <a:ext cx="3971880" cy="4343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380880" y="838080"/>
            <a:ext cx="388620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тихотвор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Лес, точно терем распис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Лиловый, золотой, багря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Стоит над солнечной поля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Завороженный тишин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артины русских художников об осен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62160" y="5257800"/>
            <a:ext cx="472428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Поленов «Золотая осен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Администратор\Desktop\images (1).jpg"/>
          <p:cNvPicPr/>
          <p:nvPr/>
        </p:nvPicPr>
        <p:blipFill>
          <a:blip r:embed="rId1"/>
          <a:stretch/>
        </p:blipFill>
        <p:spPr>
          <a:xfrm>
            <a:off x="1828800" y="1600200"/>
            <a:ext cx="5877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048120" y="533376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.Левитан «Золотая осен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C:\Users\Администратор\Desktop\images (2).jpg"/>
          <p:cNvPicPr/>
          <p:nvPr/>
        </p:nvPicPr>
        <p:blipFill>
          <a:blip r:embed="rId1"/>
          <a:stretch/>
        </p:blipFill>
        <p:spPr>
          <a:xfrm>
            <a:off x="1447920" y="762120"/>
            <a:ext cx="64008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IMG_1603.PNG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457200" y="368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IMG_1601.JPG"/>
          <p:cNvPicPr/>
          <p:nvPr/>
        </p:nvPicPr>
        <p:blipFill>
          <a:blip r:embed="rId1"/>
          <a:stretch/>
        </p:blipFill>
        <p:spPr>
          <a:xfrm>
            <a:off x="380880" y="3962520"/>
            <a:ext cx="8458200" cy="25272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533520" y="457200"/>
            <a:ext cx="807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609480" y="1219320"/>
            <a:ext cx="8077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533520"/>
          <a:ext cx="8153280" cy="3200400"/>
        </p:xfrm>
        <a:graphic>
          <a:graphicData uri="http://schemas.openxmlformats.org/drawingml/2006/table">
            <a:tbl>
              <a:tblPr/>
              <a:tblGrid>
                <a:gridCol w="2038320"/>
                <a:gridCol w="3252960"/>
                <a:gridCol w="2862000"/>
              </a:tblGrid>
              <a:tr h="1106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осен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произноси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ос</a:t>
                      </a:r>
                      <a:r>
                        <a:rPr b="0" lang="en-US" sz="66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’</a:t>
                      </a:r>
                      <a:r>
                        <a:rPr b="0" lang="ru-RU" sz="66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ин</a:t>
                      </a:r>
                      <a:r>
                        <a:rPr b="0" lang="en-US" sz="66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’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записывае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осень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IMG_1601.JPG"/>
          <p:cNvPicPr/>
          <p:nvPr/>
        </p:nvPicPr>
        <p:blipFill>
          <a:blip r:embed="rId1"/>
          <a:stretch/>
        </p:blipFill>
        <p:spPr>
          <a:xfrm>
            <a:off x="380880" y="3962520"/>
            <a:ext cx="8458200" cy="2527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533520" y="45720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Лексическое знач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09480" y="1752480"/>
            <a:ext cx="807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Время года, следующее за летом и предшествующее зим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IMG_1601.JPG"/>
          <p:cNvPicPr/>
          <p:nvPr/>
        </p:nvPicPr>
        <p:blipFill>
          <a:blip r:embed="rId1"/>
          <a:stretch/>
        </p:blipFill>
        <p:spPr>
          <a:xfrm>
            <a:off x="380880" y="3962520"/>
            <a:ext cx="8458200" cy="2527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533520" y="45720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днокоренные сл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609480" y="20574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Осень, осенн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(осенняя, осен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IMG_1601.JPG"/>
          <p:cNvPicPr/>
          <p:nvPr/>
        </p:nvPicPr>
        <p:blipFill>
          <a:blip r:embed="rId1"/>
          <a:stretch/>
        </p:blipFill>
        <p:spPr>
          <a:xfrm>
            <a:off x="380880" y="3962520"/>
            <a:ext cx="8458200" cy="25272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533520" y="45720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Антони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609480" y="137160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вес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Фразеолог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осень на но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IMG_1601.JPG"/>
          <p:cNvPicPr/>
          <p:nvPr/>
        </p:nvPicPr>
        <p:blipFill>
          <a:blip r:embed="rId1"/>
          <a:stretch/>
        </p:blipFill>
        <p:spPr>
          <a:xfrm>
            <a:off x="380880" y="3962520"/>
            <a:ext cx="8458200" cy="2527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533520" y="45720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Сочетаемость сл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609480" y="20574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Листик, ветер, ковёр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день (осенни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IMG_1601.JPG"/>
          <p:cNvPicPr/>
          <p:nvPr/>
        </p:nvPicPr>
        <p:blipFill>
          <a:blip r:embed="rId1"/>
          <a:stretch/>
        </p:blipFill>
        <p:spPr>
          <a:xfrm>
            <a:off x="380880" y="3962520"/>
            <a:ext cx="8458200" cy="2527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533520" y="45720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слови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609480" y="1752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Как лето со снопами, так и осень с пирог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Весна и осень - всё на дню погод восем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IMG_1601.JPG"/>
          <p:cNvPicPr/>
          <p:nvPr/>
        </p:nvPicPr>
        <p:blipFill>
          <a:blip r:embed="rId1"/>
          <a:stretch/>
        </p:blipFill>
        <p:spPr>
          <a:xfrm>
            <a:off x="380880" y="3962520"/>
            <a:ext cx="8458200" cy="25272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533520" y="45720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риме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609480" y="1752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Сырое лето да тёплая осень – к долгой зи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Гром в сентябре предвещает тёплую ос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IMG_1601.JPG"/>
          <p:cNvPicPr/>
          <p:nvPr/>
        </p:nvPicPr>
        <p:blipFill>
          <a:blip r:embed="rId1"/>
          <a:stretch/>
        </p:blipFill>
        <p:spPr>
          <a:xfrm>
            <a:off x="380880" y="3962520"/>
            <a:ext cx="8458200" cy="2527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533520" y="45720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агад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609480" y="1752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Пусты пол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Мокнет земл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Дождь полив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Когда это быв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итрий Каленюк</cp:lastModifiedBy>
  <dcterms:modified xsi:type="dcterms:W3CDTF">2015-08-24T14:21:18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