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7E9-4799-462E-B9AC-9EF238D6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99A-FBFC-4029-BD7B-07D38C6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AE0-AA5F-4347-8888-D69382BE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7B4-B8E6-40F5-9B7E-6F9A1A0F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11ED-592E-4BE2-8F53-1B20660D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765-54DA-44AA-BC7B-4B424341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184A-3037-48B7-864B-F5301F6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EF6-754F-4720-9537-1BD0B58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6E32-FD1C-4162-995C-522D9C5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512-1E4D-4357-93C4-EEEACA2D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5FD3-DA85-4BAB-BFA1-6853FED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16F-5291-4766-A746-3FB52310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A94-37BD-4AB1-9EE8-63961C7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B805-1F5F-4DC3-B85B-E6F502F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932-4002-4C19-A69E-B4FD545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8217-3C27-4017-A604-11624E7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20A2-5F90-4E9B-8F6F-D21037B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428-1FA8-4DC6-8015-D7AFD34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F69-D0CD-46FE-9917-6F7AE7B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1C8-29FC-45C8-8A31-0EF06D93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ED0-66A5-484B-BB1C-A13FC7B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208-E9CE-424A-92F2-E2AA1E3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A0B-0887-4433-B2A4-59FD2F0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858-CB99-4B8F-87FF-598B86E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481-AD64-466B-901C-4BCD7E31799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41D-583B-4AC5-B616-EDA9CF30057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88;&#1077;&#1079;&#1077;&#1085;&#1090;&#1072;&#1094;&#1080;&#1103;%20&#1084;&#1091;&#1079;.&#1086;&#1088;&#1082;&#1077;&#1089;&#1090;&#1088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едагогическая технология организации детского оркестра как средства развития взаимоотношений детей старшего дошкольного возрас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3434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итие взаимоотношений детей старшего дошкольного возраста в процессе музицирования в оркестр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Детский оркестр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3 этап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тский оркестр создается следующим образом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-    детям предлагается выбрать произвед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ыбираются инструменты, для данной пьес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ставление партитуры пьес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бъединение в ансамбл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учивание партии по ансамбля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вместное музицирова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артитур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6897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Разновидности детского оркест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шумово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нсамбл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мешанны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05280" cy="3146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Ожидаемые результаты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ет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ложительная динамика в развитии взаимоотно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копление опыта совместной деятельн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витие умений музицирован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лучшение атмосферы в групп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явление чувства ансамблев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одител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явление интереса и желания играть в оркестр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вышение интереса к детскому музицировани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нтерес к проблеме отношений ребенка со сверстниками в групп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гнозирование «музыкального будущего» ребен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льный руководител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ешение задач организации детского оркестр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ланирование и реализация работы с детьми с учетом особенностей детских взаимоотно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533160"/>
            <a:ext cx="82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Теоретическое обоснование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собенности развития взаимоотношений детей  определяются спецификой умения общения, владением культуры взаимодействий, характером эмпатических переживаний, социальным статусом ребенка в групп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заимодействие ребенка с равноправными партнерами развивает у него свои действия, мысли и чувств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заимодействие между детьми способствуют снижения когнитивного эгоцентризма в социальных отношениях, развитию рефлексии, способствует формированию эмоционального отношения детей друг к друг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пецифика общения тесно связана с особенностями взаимного восприят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оспитание в дошкольниках гуманных чувств способствует возникновению положительных взаимоотношений между детьм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гра на детских музыкальных инструментах- один из видов музыкального исполнительств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тский оркестр служит для развития положительных взаимоотношений дете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словия реализации технолог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ходе совместной деятельности воспитателя и музыкального руководител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есто и время реализации: совместная свободная деятельность детей, музыкальные занятия, игровые ситуац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53352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Диагностик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учаем особенности взаимоотношений детей в совместной деятельн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ыявляем особенности умения детей музицироват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апы педагогической техноло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Знакомим детей с музыкальными инструментами и приемами игры на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могаем накапливать опыт положительных взаимоотношений и развиваем умения детей взаимодействовать в процессе совместного музицирован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здаем детский музыкальный оркестр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1 этап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 Занятия загад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держание занятия: показать музыкальный инструмент на картинке, показать как на нем играю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ариант усложнения задания: сыграть на инструменте свою мелодия, узнать инструмент по содержания загадки и звучани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 Занятие музицирова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Озвучить сказку «Теремок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рочитать партиту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Украсить мелодию П.И.Чайковского «Камаринская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 Занятие бесед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нятие ансамбл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вместное музицировани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Чувство ансамбл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440" y="-9734400"/>
            <a:ext cx="16668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733920" cy="3409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733920"/>
            <a:ext cx="2971800" cy="296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914400" y="533520"/>
            <a:ext cx="2438280" cy="338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2880" y="127620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Сказка теремок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2992320" cy="2138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505320" y="4400640"/>
            <a:ext cx="2089080" cy="205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675400" y="4005360"/>
            <a:ext cx="3240000" cy="2608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1566720" cy="281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85800" y="4343400"/>
            <a:ext cx="235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Ансамбл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Детские  музыкальные инструмен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98760" y="3903840"/>
            <a:ext cx="1755720" cy="2152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97440" y="3903840"/>
            <a:ext cx="3540240" cy="2152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10200" y="1600200"/>
            <a:ext cx="3112920" cy="2151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400040" y="1600200"/>
            <a:ext cx="2151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2 этап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гры упражнения проводятся в определенной последовательности, каждое упражнение направлено на ту или иную сторону развития положительных взаимоотношени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 коллективное музицирование «Наш оркест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развивать умение договариваться и соотносить свои замыслы с замыслами других дете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 «Оркест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взаимодействовать, уступать друг другу, договариваться о совместном музицировани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 «Дириже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самостоятельно объединяться в ансамбль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4 «Андрей-воробей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добиваться слаженности исполнения в ансамбл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 «Гномики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детей анализировать свое поведение, адекватно вести себя, развивать у них сочувствие к сверстник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sarev</cp:lastModifiedBy>
  <dcterms:modified xsi:type="dcterms:W3CDTF">2015-08-24T16:18:1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