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B36-E870-4B77-96BF-3BE06283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B9B-FC5A-44C4-90E8-C547142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68A-1D2B-4B68-8D4D-0CB3906B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747-5FE7-4990-8FC5-95B59B15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320-C7E0-4A9B-BCF6-87932ED3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4A8-C4A0-4E0F-9745-FD8C8D2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7E5-0B1B-4069-BCDF-9F044904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D606-2385-4F24-9264-EE6EFAB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697-140F-4768-A5C4-497EBFF6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BF2C-A27B-4DC0-BBFF-9CBAF87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0DA-3D69-4F7F-B45F-F0629E1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7B0-7DE2-48AE-A279-D34C388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9997-A203-4E7C-82EC-31D0F664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922-4769-4FD2-BDFE-87C66EB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9FF-E79C-4250-BC6B-E4E64B0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03B-BBD7-4754-B765-B2241376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DC77-8AA3-4109-8159-B7298C24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EE8-1393-4C22-A9F1-08D9D06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CC4-4F3D-4DC0-A710-D477A2C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16D-F088-4F6A-9F57-C87B4B07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D09-1F85-4322-BA8F-61F03D50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CF1-98FF-4032-96AC-DE26399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68F-4D11-4B5C-BDAC-D979F01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530-26A5-4437-A5A9-AA08E09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35CB-BAA4-4B37-ADA5-8FF88B7E0E2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589-5BD7-44B8-8651-2D69957E720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88;&#1077;&#1079;&#1077;&#1085;&#1090;&#1072;&#1094;&#1080;&#1103;%20&#1084;&#1091;&#1079;.&#1086;&#1088;&#1082;&#1077;&#1089;&#1090;&#1088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едагогическая технология организации детского оркестра как средства развития взаимоотношений детей старшего дошкольного возрас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3434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итие взаимоотношений детей старшего дошкольного возраста в процессе музицирования в оркестр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Детский оркестр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3 этап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тский оркестр создается следующим образом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-    детям предлагается выбрать произвед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ыбираются инструменты, для данной пьес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ставление партитуры пьес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бъединение в ансамбл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учивание партии по ансамбля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вместное музицирова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артитур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6897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Разновидности детского оркест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шумово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нсамбл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мешанны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05280" cy="3146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Ожидаемые результаты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ет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ложительная динамика в развитии взаимоотно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копление опыта совместной деятельн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витие умений музицирован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лучшение атмосферы в групп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явление чувства ансамблев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одител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явление интереса и желания играть в оркестр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вышение интереса к детскому музицировани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нтерес к проблеме отношений ребенка со сверстниками в групп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гнозирование «музыкального будущего» ребен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льный руководител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ешение задач организации детского оркестр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ланирование и реализация работы с детьми с учетом особенностей детских взаимоотно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533160"/>
            <a:ext cx="82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Теоретическое обоснование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собенности развития взаимоотношений детей  определяются спецификой умения общения, владением культуры взаимодействий, характером эмпатических переживаний, социальным статусом ребенка в групп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заимодействие ребенка с равноправными партнерами развивает у него свои действия, мысли и чувств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заимодействие между детьми способствуют снижения когнитивного эгоцентризма в социальных отношениях, развитию рефлексии, способствует формированию эмоционального отношения детей друг к друг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пецифика общения тесно связана с особенностями взаимного восприят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оспитание в дошкольниках гуманных чувств способствует возникновению положительных взаимоотношений между детьм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гра на детских музыкальных инструментах- один из видов музыкального исполнительств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етский оркестр служит для развития положительных взаимоотношений дете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словия реализации технолог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ходе совместной деятельности воспитателя и музыкального руководител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есто и время реализации: совместная свободная деятельность детей, музыкальные занятия, игровые ситуац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53352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Диагностик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учаем особенности взаимоотношений детей в совместной деятельност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ыявляем особенности умения детей музицироват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апы педагогической техноло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Знакомим детей с музыкальными инструментами и приемами игры на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могаем накапливать опыт положительных взаимоотношений и развиваем умения детей взаимодействовать в процессе совместного музицирован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здаем детский музыкальный оркестр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1 этап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 Занятия загад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держание занятия: показать музыкальный инструмент на картинке, показать как на нем играю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ариант усложнения задания: сыграть на инструменте свою мелодия, узнать инструмент по содержания загадки и звучани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 Занятие музицирова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Озвучить сказку «Теремок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рочитать партиту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Украсить мелодию П.И.Чайковского «Камаринская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 Занятие бесед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Понятие ансамбл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овместное музицировани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Чувство ансамбл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440" y="-9734400"/>
            <a:ext cx="16668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733920" cy="3409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733920"/>
            <a:ext cx="2971800" cy="296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914400" y="533520"/>
            <a:ext cx="2438280" cy="338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2880" y="127620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Сказка теремок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2992320" cy="2138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505320" y="4400640"/>
            <a:ext cx="2089080" cy="205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675400" y="4005360"/>
            <a:ext cx="3240000" cy="2608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1566720" cy="281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85800" y="4343400"/>
            <a:ext cx="235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Ансамбл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Детские  музыкальные инструмен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98760" y="3903840"/>
            <a:ext cx="1755720" cy="2152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97440" y="3903840"/>
            <a:ext cx="3540240" cy="2152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10200" y="1600200"/>
            <a:ext cx="3112920" cy="2151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400040" y="1600200"/>
            <a:ext cx="2151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2 этап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гры упражнения проводятся в определенной последовательности, каждое упражнение направлено на ту или иную сторону развития положительных взаимоотношени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 коллективное музицирование «Наш оркест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развивать умение договариваться и соотносить свои замыслы с замыслами других дете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 «Оркест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взаимодействовать, уступать друг другу, договариваться о совместном музицировани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 «Дирижер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самостоятельно объединяться в ансамбль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4 «Андрей-воробей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добиваться слаженности исполнения в ансамбл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 «Гномики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Цель: учить детей анализировать свое поведение, адекватно вести себя, развивать у них сочувствие к сверстник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sarev</cp:lastModifiedBy>
  <dcterms:modified xsi:type="dcterms:W3CDTF">2015-08-24T16:18:1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