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731E-F948-40C4-B07D-AFEF6991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3200-301E-44D5-A041-DF0E559A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2E5-AF14-44EA-BED8-3F4721A7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6384-1BC8-4F3B-9861-2A5E23F9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0EA0-26E1-4D08-BA4E-F413EE03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638E-CC9D-4CB4-91B3-BD0FDF2D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322A-FF91-4F4A-B7CB-4D264121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3D08-9F3D-48D2-B9CF-EAA43D79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1510-7B14-42D8-AD90-7B865A70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E36F-E433-4E49-81CD-04F7FF2A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B511-7550-44B9-B062-29D21EBE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CF6-C7FF-4F78-8230-F610596E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003B-6D55-484F-BDD2-2AE5CD55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B601-F457-45F6-B4FA-60BE4455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88D6-7C9E-4D6D-AF9F-08A67FB9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1B31-BC2E-4BD2-82F1-223C9392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8150-AB6A-48D8-B8D3-4C453C50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EF8-B3D6-45D4-BD6F-FC6AF21B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5BF-826C-4B54-B1B3-F4B6DF2D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56C-6A7A-4F7E-A16F-CFE05CEF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2087-6A2D-4B93-B7B8-E06A86D7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FEF-C0D3-4503-9005-B0DDBA60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BD7-0392-4E99-9A66-E4A84D48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D46-25DC-4180-9E37-786B3024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F7B7-B6CD-4426-B369-6953861E67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BCEE-90BF-4B2F-9C26-0F89B08673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2920" y="1557000"/>
            <a:ext cx="72169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eec94"/>
                </a:solidFill>
                <a:latin typeface="Constantia"/>
              </a:rPr>
              <a:t>Краткая презентация основной общеобразовательной программы МКДОУ «Детский сад общеразвивающего вида № 29 </a:t>
            </a:r>
            <a:br>
              <a:rPr sz="3600"/>
            </a:br>
            <a:r>
              <a:rPr b="0" i="1" lang="ru-RU" sz="3600" spc="-1" strike="noStrike">
                <a:solidFill>
                  <a:srgbClr val="feec94"/>
                </a:solidFill>
                <a:latin typeface="Constantia"/>
              </a:rPr>
              <a:t>г. Элиста</a:t>
            </a:r>
            <a:br>
              <a:rPr sz="3600"/>
            </a:br>
            <a:r>
              <a:rPr b="0" i="1" lang="ru-RU" sz="3600" spc="-1" strike="noStrike">
                <a:solidFill>
                  <a:srgbClr val="feec94"/>
                </a:solidFill>
                <a:latin typeface="Constantia"/>
              </a:rPr>
              <a:t>«Иньгллт»</a:t>
            </a:r>
            <a:endParaRPr b="1" lang="en-US" sz="3600" spc="-1" strike="noStrike">
              <a:solidFill>
                <a:srgbClr val="feec94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786456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Constantia"/>
              </a:rPr>
              <a:t>Взаимодействие с семьями воспитанников</a:t>
            </a:r>
            <a:endParaRPr b="1" lang="en-US" sz="32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5640" y="1700280"/>
            <a:ext cx="78390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Родительские собрания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Беседы, дискуссии, круглые столы, семинар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Смотры, конкурсы, выставки, выпуск газет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Участие в НОД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Консультац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Дни открытых двере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Встречи с интересными людьм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Тренинг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Анкетировани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Праздники и развлеч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Constantia"/>
              </a:rPr>
              <a:t>Распространение лучшего семейного опы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Constantia"/>
              </a:rPr>
              <a:t>Спасибо за внимание!</a:t>
            </a: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solidFill>
            <a:srgbClr val="c7a60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Адрес: 358014 Республика Калмыкия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г. Элиста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8 микр-н, д.28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тел: 3-46-45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Эл. адрес: </a:t>
            </a:r>
            <a:r>
              <a:rPr b="1" lang="en-US" sz="2800" spc="-1" strike="noStrike">
                <a:solidFill>
                  <a:srgbClr val="feec94"/>
                </a:solidFill>
                <a:latin typeface="Constantia"/>
              </a:rPr>
              <a:t>ingllt-29</a:t>
            </a: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@mail.ru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Время работы д/с 7.</a:t>
            </a:r>
            <a:r>
              <a:rPr b="1" lang="en-US" sz="2800" spc="-1" strike="noStrike">
                <a:solidFill>
                  <a:srgbClr val="feec94"/>
                </a:solidFill>
                <a:latin typeface="Constantia"/>
              </a:rPr>
              <a:t>00</a:t>
            </a: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 до 1</a:t>
            </a:r>
            <a:r>
              <a:rPr b="1" lang="en-US" sz="2800" spc="-1" strike="noStrike">
                <a:solidFill>
                  <a:srgbClr val="feec94"/>
                </a:solidFill>
                <a:latin typeface="Constantia"/>
              </a:rPr>
              <a:t>9</a:t>
            </a: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.00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043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eec94"/>
                </a:solidFill>
                <a:latin typeface="Constantia"/>
              </a:rPr>
              <a:t>Характеристика ДОУ</a:t>
            </a:r>
            <a:endParaRPr b="1" lang="en-US" sz="36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95280" y="1916280"/>
            <a:ext cx="4969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Constantia"/>
              </a:rPr>
              <a:t>МКДОУ «Детский сад общеразвивающего вида № 29 г. Элисты «Иньгллт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Constantia"/>
              </a:rPr>
              <a:t>Основан 28.04 1990 г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Constantia"/>
              </a:rPr>
              <a:t>Приоритетные направления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Constantia"/>
              </a:rPr>
              <a:t>Эколого-валеологическое развити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Constantia"/>
              </a:rPr>
              <a:t>Ближайшее окружение ДОУ: детская городская библиотека им.Балакаева, СОШ № 18, ЭМГ СОШ № 19, МКДОУ № 26, № 28, № 25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1" name="Рисунок 5" descr="C:\Users\admin\Desktop\на стенд\IMG_5780.JPG"/>
          <p:cNvPicPr/>
          <p:nvPr/>
        </p:nvPicPr>
        <p:blipFill>
          <a:blip r:embed="rId1"/>
          <a:stretch/>
        </p:blipFill>
        <p:spPr>
          <a:xfrm>
            <a:off x="1143000" y="2071800"/>
            <a:ext cx="3000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213840"/>
            <a:ext cx="782784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eec94"/>
                </a:solidFill>
                <a:latin typeface="Constantia"/>
              </a:rPr>
              <a:t>Возрастные особенности воспитанников ДОУ</a:t>
            </a:r>
            <a:endParaRPr b="1" lang="en-US" sz="36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Constantia"/>
              </a:rPr>
              <a:t>В ДОУ 349 воспитанников из них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Constantia"/>
              </a:rPr>
              <a:t>12 групп общеразивающего типа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Constantia"/>
              </a:rPr>
              <a:t>из них 1 группа национальная (старшая – 29 детей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Constantia"/>
              </a:rPr>
              <a:t>1 группа  - </a:t>
            </a:r>
            <a:r>
              <a:rPr b="1" i="1" lang="en-US" sz="2400" spc="-1" strike="noStrike">
                <a:solidFill>
                  <a:srgbClr val="feec94"/>
                </a:solidFill>
                <a:latin typeface="Constantia"/>
              </a:rPr>
              <a:t>II</a:t>
            </a:r>
            <a:r>
              <a:rPr b="1" i="1" lang="ru-RU" sz="2400" spc="-1" strike="noStrike">
                <a:solidFill>
                  <a:srgbClr val="feec94"/>
                </a:solidFill>
                <a:latin typeface="Constantia"/>
              </a:rPr>
              <a:t> группа раннего возраста (30 детей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Constantia"/>
              </a:rPr>
              <a:t>3 группы – младший дошкольный возрас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Constantia"/>
              </a:rPr>
              <a:t>2 группы – средний дошкольный возрас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Constantia"/>
              </a:rPr>
              <a:t>3 группы – старший дошкольный возрас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Constantia"/>
              </a:rPr>
              <a:t>3 группы- подготовительный к школе возрас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ec94"/>
                </a:solidFill>
                <a:latin typeface="Constantia"/>
              </a:rPr>
              <a:t>Структура основной оббщеобразовательной программы ДОУ</a:t>
            </a:r>
            <a:endParaRPr b="1" lang="en-US" sz="36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05" name="Oval 4"/>
          <p:cNvSpPr/>
          <p:nvPr/>
        </p:nvSpPr>
        <p:spPr>
          <a:xfrm>
            <a:off x="395280" y="1989000"/>
            <a:ext cx="3527280" cy="1440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Целевой разд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2843280" y="3284640"/>
            <a:ext cx="3672000" cy="1726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Содержа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разд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5076720" y="4869000"/>
            <a:ext cx="3672000" cy="158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Организацио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разд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eec94"/>
                </a:solidFill>
                <a:latin typeface="Constantia"/>
              </a:rPr>
              <a:t>Содержание программы включает следующие аспекты:</a:t>
            </a:r>
            <a:endParaRPr b="1" lang="en-US" sz="36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Предметно-пространственная развивающая образовательная сред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Характер взаимодействия со взрослым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Характер взаимодействия с другими детьм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Constantia"/>
              </a:rPr>
              <a:t>Система отношений ребёнка к миру, другим людям, самому себ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Constantia"/>
              </a:rPr>
              <a:t>Основные области ООП</a:t>
            </a: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95280" y="2060640"/>
            <a:ext cx="3095640" cy="13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Социально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коммуникати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разви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003640" y="2060640"/>
            <a:ext cx="3168720" cy="13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Познаватель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разви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771640" y="3716280"/>
            <a:ext cx="3097440" cy="1152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Речевое разви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95280" y="5084640"/>
            <a:ext cx="3311640" cy="1366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Художественно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эстетическ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разви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076720" y="5084640"/>
            <a:ext cx="3419640" cy="1368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Физ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ahoma"/>
              </a:rPr>
              <a:t>разви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Constantia"/>
              </a:rPr>
              <a:t>Целевые ориентиры ООП</a:t>
            </a:r>
            <a:endParaRPr b="1" lang="en-US" sz="44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Constantia"/>
              </a:rPr>
              <a:t>Развитие социоадаптированной личности, способной к саморазвитию, самосовершенствованию и жизни в обществ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Constantia"/>
              </a:rPr>
              <a:t>Формирование у детей дошкольного возраста предпосылок к успешной учебной деятельност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2440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ec94"/>
                </a:solidFill>
                <a:latin typeface="Constantia"/>
              </a:rPr>
              <a:t>Нормативно- правовая база ООП</a:t>
            </a:r>
            <a:endParaRPr b="1" lang="en-US" sz="36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ФЗ 273 от 29.12.2012г. «Об образовании в Российской Федерации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Приказ Минобрнауки России № 1155 от 17.10.2013 «Об утверждении федерального государственного образовательного стандарта дошкольного образования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Устав МКДОУ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СанПиН 2.4.1.3049-1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Локальные акты МКДОУ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13840"/>
            <a:ext cx="81169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ec94"/>
                </a:solidFill>
                <a:latin typeface="Constantia"/>
              </a:rPr>
              <a:t>Программы, реализуемые в ДОУ</a:t>
            </a:r>
            <a:endParaRPr b="1" lang="en-US" sz="3600" spc="-1" strike="noStrike">
              <a:solidFill>
                <a:srgbClr val="feec94"/>
              </a:solidFill>
              <a:latin typeface="Constanti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«От рождения до школы» под ред Н.Е.Вераксы, М.А. Васильевой,  Т.С. Комаровой, 2015г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«Юный эколог» Николаева С.Н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«Музыкальные шедевры» Радынова О.П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«Основы   безопасности   детей   дошкольного   возраста»   О.Л.  Князева,  Р.Б. Стерки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nstantia"/>
              </a:rPr>
              <a:t>«Воспитание и обучение детей дошкольного возраста с фонетико-фонематическим недоразвитием речи»/ </a:t>
            </a:r>
            <a:r>
              <a:rPr b="1" lang="ru-RU" sz="2000" spc="-1" strike="noStrike">
                <a:solidFill>
                  <a:srgbClr val="feec94"/>
                </a:solidFill>
                <a:latin typeface="Constantia"/>
              </a:rPr>
              <a:t>Т.В. Филичева, Г.В. Чиркина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Constantia"/>
              </a:rPr>
              <a:t>«Я – элистинец» , творческая группа педагогов г.Элисты, 2013 г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0:10:51Z</dcterms:created>
  <dc:creator>Искорка</dc:creator>
  <dc:description/>
  <dc:language>en-US</dc:language>
  <cp:lastModifiedBy>admin</cp:lastModifiedBy>
  <dcterms:modified xsi:type="dcterms:W3CDTF">2015-08-24T08:49:44Z</dcterms:modified>
  <cp:revision>9</cp:revision>
  <dc:subject/>
  <dc:title>Краткая презентация основной общеобразовательной программы МБДОУ детского сада № 92 общеразвивающего вида «Искорка»  г. Йошкар-Олы</dc:title>
</cp:coreProperties>
</file>