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C8C-B4B1-4ABC-96B9-F9061EBB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CE6-96A8-4EA8-AB5A-DA84532E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8F8-6A14-4BCF-9734-7F7BABAD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C94-58BF-4AB6-8EE4-55AE8F5D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436B-152F-4150-A00E-E72EF027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78A5-F022-4E06-8226-46BF829B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4BDA-3DB0-4E77-92C1-AC80F108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1D60-45A0-4B95-B0FE-F52A792A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9DD7-A193-4773-AA14-8258B979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2B6D-AAF9-42CF-B255-02E1FD94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3409-2E33-4563-B7DB-F7448A95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CC69-D30C-4D13-998B-693FD60B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6D14-5A6B-4972-95E4-B2B4EC01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102D-2822-4BF1-AEFF-1AB9BFFC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0ACE-4000-4B7B-94C6-69014596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35E9-7EE3-4EE1-9CB4-E075DF01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DF79-1053-4D2A-AD21-483A5113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FDD9-CCD8-4CA1-9968-19C5168C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0C3-AAE7-44F9-9AEF-B9138E1B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655-0806-48F3-95B9-33C74A70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31B1-CE1E-46B2-AFA1-DCD58EDF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B50-8BF4-474D-B933-E88BE55D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A40B-044C-4ABC-9E1B-38773F4E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032-D591-44BB-A1EA-57137DE6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DF52-9F68-4B93-895B-FE31D008B4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C905-2505-443E-9AD1-34671B69AE9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2920" y="1557000"/>
            <a:ext cx="72169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eec94"/>
                </a:solidFill>
                <a:latin typeface="Constantia"/>
              </a:rPr>
              <a:t>Краткая презентация основной общеобразовательной программы МКДОУ «Детский сад общеразвивающего вида № 29 </a:t>
            </a:r>
            <a:br>
              <a:rPr sz="3600"/>
            </a:br>
            <a:r>
              <a:rPr b="0" i="1" lang="ru-RU" sz="3600" spc="-1" strike="noStrike">
                <a:solidFill>
                  <a:srgbClr val="feec94"/>
                </a:solidFill>
                <a:latin typeface="Constantia"/>
              </a:rPr>
              <a:t>г. Элиста</a:t>
            </a:r>
            <a:br>
              <a:rPr sz="3600"/>
            </a:br>
            <a:r>
              <a:rPr b="0" i="1" lang="ru-RU" sz="3600" spc="-1" strike="noStrike">
                <a:solidFill>
                  <a:srgbClr val="feec94"/>
                </a:solidFill>
                <a:latin typeface="Constantia"/>
              </a:rPr>
              <a:t>«Иньгллт»</a:t>
            </a:r>
            <a:endParaRPr b="1" lang="en-US" sz="3600" spc="-1" strike="noStrike">
              <a:solidFill>
                <a:srgbClr val="feec94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786456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Constantia"/>
              </a:rPr>
              <a:t>Взаимодействие с семьями воспитанников</a:t>
            </a:r>
            <a:endParaRPr b="1" lang="en-US" sz="32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5640" y="1700280"/>
            <a:ext cx="78390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Constantia"/>
              </a:rPr>
              <a:t>Родительские собрания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Constantia"/>
              </a:rPr>
              <a:t>Беседы, дискуссии, круглые столы, семинар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Constantia"/>
              </a:rPr>
              <a:t>Смотры, конкурсы, выставки, выпуск газеты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Constantia"/>
              </a:rPr>
              <a:t>Участие в НОД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Constantia"/>
              </a:rPr>
              <a:t>Консультац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Constantia"/>
              </a:rPr>
              <a:t>Дни открытых двере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Constantia"/>
              </a:rPr>
              <a:t>Встречи с интересными людьм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Constantia"/>
              </a:rPr>
              <a:t>Тренинг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Constantia"/>
              </a:rPr>
              <a:t>Анкетировани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Constantia"/>
              </a:rPr>
              <a:t>Праздники и развлеч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Constantia"/>
              </a:rPr>
              <a:t>Распространение лучшего семейного опы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Constantia"/>
              </a:rPr>
              <a:t>Спасибо за внимание!</a:t>
            </a: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solidFill>
            <a:srgbClr val="c7a60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Адрес: 358014 Республика Калмыкия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г. Элиста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8 микр-н, д.28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тел: 3-46-45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Эл. адрес: </a:t>
            </a:r>
            <a:r>
              <a:rPr b="1" lang="en-US" sz="2800" spc="-1" strike="noStrike">
                <a:solidFill>
                  <a:srgbClr val="feec94"/>
                </a:solidFill>
                <a:latin typeface="Constantia"/>
              </a:rPr>
              <a:t>ingllt-29</a:t>
            </a: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@mail.ru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Время работы д/с 7.</a:t>
            </a:r>
            <a:r>
              <a:rPr b="1" lang="en-US" sz="2800" spc="-1" strike="noStrike">
                <a:solidFill>
                  <a:srgbClr val="feec94"/>
                </a:solidFill>
                <a:latin typeface="Constantia"/>
              </a:rPr>
              <a:t>00</a:t>
            </a: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 до 1</a:t>
            </a:r>
            <a:r>
              <a:rPr b="1" lang="en-US" sz="2800" spc="-1" strike="noStrike">
                <a:solidFill>
                  <a:srgbClr val="feec94"/>
                </a:solidFill>
                <a:latin typeface="Constantia"/>
              </a:rPr>
              <a:t>9</a:t>
            </a: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.00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213840"/>
            <a:ext cx="8043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eec94"/>
                </a:solidFill>
                <a:latin typeface="Constantia"/>
              </a:rPr>
              <a:t>Характеристика ДОУ</a:t>
            </a:r>
            <a:endParaRPr b="1" lang="en-US" sz="36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95280" y="1916280"/>
            <a:ext cx="49690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Constantia"/>
              </a:rPr>
              <a:t>МКДОУ «Детский сад общеразвивающего вида № 29 г. Элисты «Иньгллт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Constantia"/>
              </a:rPr>
              <a:t>Основан 28.04 1990 г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Constantia"/>
              </a:rPr>
              <a:t>Приоритетные направления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Constantia"/>
              </a:rPr>
              <a:t>Эколого-валеологическое развити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Constantia"/>
              </a:rPr>
              <a:t>Ближайшее окружение ДОУ: детская городская библиотека им.Балакаева, СОШ № 18, ЭМГ СОШ № 19, МКДОУ № 26, № 28, № 25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1" name="Рисунок 5" descr="C:\Users\admin\Desktop\на стенд\IMG_5780.JPG"/>
          <p:cNvPicPr/>
          <p:nvPr/>
        </p:nvPicPr>
        <p:blipFill>
          <a:blip r:embed="rId1"/>
          <a:stretch/>
        </p:blipFill>
        <p:spPr>
          <a:xfrm>
            <a:off x="1143000" y="2071800"/>
            <a:ext cx="3000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213840"/>
            <a:ext cx="782784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eec94"/>
                </a:solidFill>
                <a:latin typeface="Constantia"/>
              </a:rPr>
              <a:t>Возрастные особенности воспитанников ДОУ</a:t>
            </a:r>
            <a:endParaRPr b="1" lang="en-US" sz="36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ec94"/>
                </a:solidFill>
                <a:latin typeface="Constantia"/>
              </a:rPr>
              <a:t>В ДОУ 349 воспитанников из них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ec94"/>
                </a:solidFill>
                <a:latin typeface="Constantia"/>
              </a:rPr>
              <a:t>12 групп общеразивающего типа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ec94"/>
                </a:solidFill>
                <a:latin typeface="Constantia"/>
              </a:rPr>
              <a:t>из них 1 группа национальная (старшая – 29 детей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ec94"/>
                </a:solidFill>
                <a:latin typeface="Constantia"/>
              </a:rPr>
              <a:t>1 группа  - </a:t>
            </a:r>
            <a:r>
              <a:rPr b="1" i="1" lang="en-US" sz="2400" spc="-1" strike="noStrike">
                <a:solidFill>
                  <a:srgbClr val="feec94"/>
                </a:solidFill>
                <a:latin typeface="Constantia"/>
              </a:rPr>
              <a:t>II</a:t>
            </a:r>
            <a:r>
              <a:rPr b="1" i="1" lang="ru-RU" sz="2400" spc="-1" strike="noStrike">
                <a:solidFill>
                  <a:srgbClr val="feec94"/>
                </a:solidFill>
                <a:latin typeface="Constantia"/>
              </a:rPr>
              <a:t> группа раннего возраста (30 детей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ec94"/>
                </a:solidFill>
                <a:latin typeface="Constantia"/>
              </a:rPr>
              <a:t>3 группы – младший дошкольный возрас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ec94"/>
                </a:solidFill>
                <a:latin typeface="Constantia"/>
              </a:rPr>
              <a:t>2 группы – средний дошкольный возрас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ec94"/>
                </a:solidFill>
                <a:latin typeface="Constantia"/>
              </a:rPr>
              <a:t>3 группы – старший дошкольный возрас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ec94"/>
                </a:solidFill>
                <a:latin typeface="Constantia"/>
              </a:rPr>
              <a:t>3 группы- подготовительный к школе возрас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ec94"/>
                </a:solidFill>
                <a:latin typeface="Constantia"/>
              </a:rPr>
              <a:t>Структура основной оббщеобразовательной программы ДОУ</a:t>
            </a:r>
            <a:endParaRPr b="1" lang="en-US" sz="36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05" name="Oval 4"/>
          <p:cNvSpPr/>
          <p:nvPr/>
        </p:nvSpPr>
        <p:spPr>
          <a:xfrm>
            <a:off x="395280" y="1989000"/>
            <a:ext cx="3527280" cy="1440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Целевой разд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2843280" y="3284640"/>
            <a:ext cx="3672000" cy="1726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Содержате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разд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5076720" y="4869000"/>
            <a:ext cx="3672000" cy="158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Организацио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разд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eec94"/>
                </a:solidFill>
                <a:latin typeface="Constantia"/>
              </a:rPr>
              <a:t>Содержание программы включает следующие аспекты:</a:t>
            </a:r>
            <a:endParaRPr b="1" lang="en-US" sz="36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Предметно-пространственная развивающая образовательная сред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Характер взаимодействия со взрослым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Характер взаимодействия с другими детьм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Система отношений ребёнка к миру, другим людям, самому себ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Constantia"/>
              </a:rPr>
              <a:t>Основные области ООП</a:t>
            </a: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95280" y="2060640"/>
            <a:ext cx="3095640" cy="13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Социально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коммуникатив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разви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003640" y="2060640"/>
            <a:ext cx="3168720" cy="13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Познаватель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разви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771640" y="3716280"/>
            <a:ext cx="3097440" cy="1152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Речевое разви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95280" y="5084640"/>
            <a:ext cx="3311640" cy="1366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Художественно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эстетическ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разви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076720" y="5084640"/>
            <a:ext cx="3419640" cy="1368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Физиче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разви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Constantia"/>
              </a:rPr>
              <a:t>Целевые ориентиры ООП</a:t>
            </a: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Constantia"/>
              </a:rPr>
              <a:t>Развитие социоадаптированной личности, способной к саморазвитию, самосовершенствованию и жизни в обществе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Constantia"/>
              </a:rPr>
              <a:t>Формирование у детей дошкольного возраста предпосылок к успешной учебной деятельност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2440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ec94"/>
                </a:solidFill>
                <a:latin typeface="Constantia"/>
              </a:rPr>
              <a:t>Нормативно- правовая база ООП</a:t>
            </a:r>
            <a:endParaRPr b="1" lang="en-US" sz="36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Constantia"/>
              </a:rPr>
              <a:t>ФЗ 273 от 29.12.2012г. «Об образовании в Российской Федерации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Constantia"/>
              </a:rPr>
              <a:t>Приказ Минобрнауки России № 1155 от 17.10.2013 «Об утверждении федерального государственного образовательного стандарта дошкольного образования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Constantia"/>
              </a:rPr>
              <a:t>Устав МКДОУ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Constantia"/>
              </a:rPr>
              <a:t>СанПиН 2.4.1.3049-1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Constantia"/>
              </a:rPr>
              <a:t>Локальные акты МКДОУ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13840"/>
            <a:ext cx="81169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ec94"/>
                </a:solidFill>
                <a:latin typeface="Constantia"/>
              </a:rPr>
              <a:t>Программы, реализуемые в ДОУ</a:t>
            </a:r>
            <a:endParaRPr b="1" lang="en-US" sz="36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Constantia"/>
              </a:rPr>
              <a:t>«От рождения до школы» под ред Н.Е.Вераксы, М.А. Васильевой,  Т.С. Комаровой, 2015г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Constantia"/>
              </a:rPr>
              <a:t>«Юный эколог» Николаева С.Н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Constantia"/>
              </a:rPr>
              <a:t>«Музыкальные шедевры» Радынова О.П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Constantia"/>
              </a:rPr>
              <a:t>«Основы   безопасности   детей   дошкольного   возраста»   О.Л.  Князева,  Р.Б. Стерки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Constantia"/>
              </a:rPr>
              <a:t>«Воспитание и обучение детей дошкольного возраста с фонетико-фонематическим недоразвитием речи»/ </a:t>
            </a:r>
            <a:r>
              <a:rPr b="1" lang="ru-RU" sz="2000" spc="-1" strike="noStrike">
                <a:solidFill>
                  <a:srgbClr val="feec94"/>
                </a:solidFill>
                <a:latin typeface="Constantia"/>
              </a:rPr>
              <a:t>Т.В. Филичева, Г.В. Чиркина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Constantia"/>
              </a:rPr>
              <a:t>«Я – элистинец» , творческая группа педагогов г.Элисты, 2013 г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0:10:51Z</dcterms:created>
  <dc:creator>Искорка</dc:creator>
  <dc:description/>
  <dc:language>en-US</dc:language>
  <cp:lastModifiedBy>admin</cp:lastModifiedBy>
  <dcterms:modified xsi:type="dcterms:W3CDTF">2015-08-24T08:49:44Z</dcterms:modified>
  <cp:revision>9</cp:revision>
  <dc:subject/>
  <dc:title>Краткая презентация основной общеобразовательной программы МБДОУ детского сада № 92 общеразвивающего вида «Искорка»  г. Йошкар-Олы</dc:title>
</cp:coreProperties>
</file>