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62D0-4FB0-4A1A-929D-D8D90004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AA0-6AF6-4C87-AF71-ED32589A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0E59-C5C1-4D92-BFC0-9BE8E56F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2A17-4254-4AD8-ABC9-723896B2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814B-7471-4744-B046-607B352D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5569-AC1D-4B52-A103-C65DD86D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43E1-2E00-4E2B-8081-00FB8472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664F-606F-4E05-896D-1004C073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E590-9C2C-4750-AF0F-492F613A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DD31-F02E-4C5C-861F-59FEA6BD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4082-F1B7-4FED-8F08-9AEF46AF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32A8-AB6C-4F6D-8A3E-3D387292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A186-ADEC-4060-9F96-0B9EAA17A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1.xml"/><Relationship Id="rId3" Type="http://schemas.openxmlformats.org/officeDocument/2006/relationships/slide" Target="slide15.xml"/><Relationship Id="rId4" Type="http://schemas.openxmlformats.org/officeDocument/2006/relationships/slide" Target="slide17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2.xml"/><Relationship Id="rId8" Type="http://schemas.openxmlformats.org/officeDocument/2006/relationships/slide" Target="slide24.xml"/><Relationship Id="rId9" Type="http://schemas.openxmlformats.org/officeDocument/2006/relationships/slide" Target="slide26.xml"/><Relationship Id="rId10" Type="http://schemas.openxmlformats.org/officeDocument/2006/relationships/slide" Target="slide29.xml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Подготовка учащихся к сдаче ЕГЭ по информатике. Решение заданий демо-версии ЕГЭ-201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опыта работы учителя информатики ГОУ СОШ№276 Ипатовой Н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К=а</a:t>
            </a:r>
            <a:r>
              <a:rPr b="0" lang="en-US" sz="5900" spc="-1" strike="noStrike" baseline="50000">
                <a:solidFill>
                  <a:srgbClr val="000000"/>
                </a:solidFill>
                <a:latin typeface="Arial"/>
              </a:rPr>
              <a:t>х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 может бы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лина цепочки (флагов или лампоче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личество б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личество двоичных разря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личество состояний лампочек или видов флаг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1916280"/>
            <a:ext cx="100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11640" y="3068640"/>
            <a:ext cx="1501920" cy="576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3645000"/>
            <a:ext cx="1439640" cy="647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&gt;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458136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:= a −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58920" y="458136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33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360" y="33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800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16720" y="3357720"/>
            <a:ext cx="0" cy="13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692000" y="4005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95640" y="40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4005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4005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9236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328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373720"/>
            <a:ext cx="29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03640" y="537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899640" y="5589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900000" y="292428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292428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39840" y="450864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:=b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51480" y="1989000"/>
            <a:ext cx="81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:=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:=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пишите значение переменно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осле выполнения фрагмента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Ре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4360" y="981000"/>
          <a:ext cx="7920000" cy="5184360"/>
        </p:xfrm>
        <a:graphic>
          <a:graphicData uri="http://schemas.openxmlformats.org/drawingml/2006/table">
            <a:tbl>
              <a:tblPr/>
              <a:tblGrid>
                <a:gridCol w="3816360"/>
                <a:gridCol w="2016000"/>
                <a:gridCol w="20876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=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:=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a=b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b (56&gt;77)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:=77-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a=b (56=21)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b (56&gt;21)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:=56-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a=b (35=21)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57200" y="476280"/>
          <a:ext cx="8229600" cy="5832360"/>
        </p:xfrm>
        <a:graphic>
          <a:graphicData uri="http://schemas.openxmlformats.org/drawingml/2006/table">
            <a:tbl>
              <a:tblPr/>
              <a:tblGrid>
                <a:gridCol w="3827520"/>
                <a:gridCol w="2232000"/>
                <a:gridCol w="2170080"/>
              </a:tblGrid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b (35&gt;21)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:=35-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a=b (14=21)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b (14&gt;21)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:=21-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a=b (14=7)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b (14&gt;7)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:=14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a=b (7=7)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ОТВЕТ: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исполнителя Калькулятор две команды, которым присвоены ном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прибав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умножь н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яя первую из них, Калькулятор прибавляет к числу на экране 1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яя вторую, утраивает его. Запишите порядок команд в програм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учения из 2 числа 26, содержащей не более 6 команд, указывая ли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мера кома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Например, программ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21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это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множь н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бав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множь н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бав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бав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торая преобразует число 1 в 14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820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кие задачи решаются с конц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341360"/>
          <a:ext cx="8218440" cy="4319280"/>
        </p:xfrm>
        <a:graphic>
          <a:graphicData uri="http://schemas.openxmlformats.org/drawingml/2006/table">
            <a:tbl>
              <a:tblPr/>
              <a:tblGrid>
                <a:gridCol w="2739240"/>
                <a:gridCol w="2739600"/>
                <a:gridCol w="273960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коман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)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)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654120" y="5681520"/>
            <a:ext cx="78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ОТВЕТ: 211211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месте преступления были обнаружены четыре обрывка бумаги. Следствие  установило, что на них записаны фрагменты одного IP-адреса. Криминалисты обозначили эти фрагменты буквами А, Б, В и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становите IP-адр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твете укажите последовательность букв, обозначающих фрагменты, в порядке, соответствующем IP-адре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              Б                  В                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4292640"/>
            <a:ext cx="1440000" cy="914400"/>
          </a:xfrm>
          <a:custGeom>
            <a:avLst/>
            <a:gdLst>
              <a:gd name="textAreaLeft" fmla="*/ 0 w 1440000"/>
              <a:gd name="textAreaRight" fmla="*/ 1440000 w 14400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87640" y="4292640"/>
            <a:ext cx="1440000" cy="914400"/>
          </a:xfrm>
          <a:custGeom>
            <a:avLst/>
            <a:gdLst>
              <a:gd name="textAreaLeft" fmla="*/ 0 w 1440000"/>
              <a:gd name="textAreaRight" fmla="*/ 1440000 w 14400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88000" y="4221000"/>
            <a:ext cx="1439640" cy="914400"/>
          </a:xfrm>
          <a:custGeom>
            <a:avLst/>
            <a:gdLst>
              <a:gd name="textAreaLeft" fmla="*/ 0 w 1439640"/>
              <a:gd name="textAreaRight" fmla="*/ 1440000 w 143964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48360" y="4221000"/>
            <a:ext cx="1440000" cy="914400"/>
          </a:xfrm>
          <a:custGeom>
            <a:avLst/>
            <a:gdLst>
              <a:gd name="textAreaLeft" fmla="*/ 0 w 1440000"/>
              <a:gd name="textAreaRight" fmla="*/ 1440000 w 14400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должны помнить 3 прав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рес состоит из 4-х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Это число не превышает 2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Количество цифр в числе от 1 до 3-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уя этим правилам получим единственно верный ответ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2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22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2.22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ТВЕТ:  ВГАБ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истеме счисления с некоторым основанием десятичное число 18 записывается в виде 30. Укажите это осн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 как у числа 30 последняя цифра 0, значит число 18 делится без остатка на это основание. Делители числа 18 – 2,3,6,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довательно переводим число 18 в каждую из этих систем счисления и смотрим, в какой из них получится в результате числ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0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20" indent="18720">
              <a:spcBef>
                <a:spcPts val="451"/>
              </a:spcBef>
              <a:buClr>
                <a:srgbClr val="000000"/>
              </a:buClr>
              <a:buFont typeface="Arial"/>
              <a:buAutoNum type="arabicPlain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ОТВЕТ: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4149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4437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4724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437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а А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а А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а А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Задача В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адача В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дача В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адача В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Задача В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Задача В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Задача В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Задача В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Задача В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Задача В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а С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 Толи есть доступ к сети Интернет по высокоскоростному односторонне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диоканалу, обеспечивающему скорость получения информации 219 б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секунду. У Миши нет скоростного доступа в Интернет, но 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зможность получать информацию от Толи по низкоскоростн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лефонному каналу со средней скоростью 215 бит в секунду. Миш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говорился с Толей, что тот будет скачивать для него данные объем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Мбайт по высокоскоростному каналу и ретранслировать их Мише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изкоскоростному канал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мпьютер Толи может начать ретрансляцию данных не раньше, чем 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удут получены первые 512 Кбайт этих данных. Каков минима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зможный промежуток времени (в секундах) с момента начала скачи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олей данных до полного их получения Мише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ответе укажите только число, слово «секунд» или букву «с» добавлять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уж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.Т=2</a:t>
            </a:r>
            <a:r>
              <a:rPr b="0" lang="ru-RU" sz="2000" spc="-1" strike="noStrike" baseline="50000">
                <a:solidFill>
                  <a:srgbClr val="000000"/>
                </a:solidFill>
                <a:latin typeface="Arial"/>
              </a:rPr>
              <a:t>1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/сек     Скор.М=2</a:t>
            </a:r>
            <a:r>
              <a:rPr b="0" lang="ru-RU" sz="2000" spc="-1" strike="noStrike" baseline="50000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/с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51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б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51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б=2</a:t>
            </a:r>
            <a:r>
              <a:rPr b="0" lang="ru-RU" sz="2000" spc="-1" strike="noStrike" baseline="50000">
                <a:solidFill>
                  <a:srgbClr val="000000"/>
                </a:solidFill>
                <a:latin typeface="Arial"/>
              </a:rPr>
              <a:t>2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 baseline="50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 baseline="50000">
                <a:solidFill>
                  <a:srgbClr val="000000"/>
                </a:solidFill>
                <a:latin typeface="Arial"/>
              </a:rPr>
              <a:t>1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(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б=5* 2</a:t>
            </a:r>
            <a:r>
              <a:rPr b="0" lang="ru-RU" sz="2000" spc="-1" strike="noStrike" baseline="50000">
                <a:solidFill>
                  <a:srgbClr val="000000"/>
                </a:solidFill>
                <a:latin typeface="Arial"/>
              </a:rPr>
              <a:t>2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*2</a:t>
            </a:r>
            <a:r>
              <a:rPr b="0" lang="ru-RU" sz="2000" spc="-1" strike="noStrike" baseline="5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 baseline="50000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ек)=5* 2</a:t>
            </a:r>
            <a:r>
              <a:rPr b="0" lang="ru-RU" sz="2000" spc="-1" strike="noStrike" baseline="50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ек)=1280 с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=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  t=1280+8;   t=1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ТВЕТ: 1288 секун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вять школьников, остававшихся в классе на перемене, были вызваны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ректору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ин из ни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бил окно в кабинете. На вопрос директора, к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сделал, были получены следующие отв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одя: «Это сделал Саш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я: «Володя лжет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гор: «Маша разбил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ша: «Аня говорит неправду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ма: «Разбила либо Маша, либо Нина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ша: «Это я разбил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на: «Маша не разбивал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я: «Ни Маша, ни Нина этого не делал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лег: «Нина не разбивал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то разбил окно, если известно, что из этих девяти высказываний истин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лько тр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 запишите в виде первой буквы и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9640" y="1557360"/>
          <a:ext cx="8229600" cy="4514760"/>
        </p:xfrm>
        <a:graphic>
          <a:graphicData uri="http://schemas.openxmlformats.org/drawingml/2006/table">
            <a:tbl>
              <a:tblPr/>
              <a:tblGrid>
                <a:gridCol w="2746440"/>
                <a:gridCol w="576360"/>
                <a:gridCol w="647640"/>
                <a:gridCol w="649440"/>
                <a:gridCol w="574560"/>
                <a:gridCol w="649080"/>
                <a:gridCol w="576360"/>
                <a:gridCol w="574920"/>
                <a:gridCol w="576000"/>
                <a:gridCol w="65880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сть  - Са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 – не Са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сть Ма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 – не Ма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сть Н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02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ТВЕТ: 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ервую страниц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роки (цепочки символов латинских букв) создаются по следующе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авил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вая строка состоит из одного символа – латинской буквы «А». Каждая 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следующих цепочек создается такими действиями: в очередную стро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начала записывается буква, чей порядковый номер в алфав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ответствует номеру строки (на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 шаге пишется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я буква алфавита), к 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лева дважды подряд приписывается предыдущая ст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т первые 4 строки, созданные по этому правил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)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 A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) AABAA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) AABAABCAABAAB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Латинский алфавит (для справки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CDEFGHIJKLMNOPQRSTUVWXY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меется зад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Определить символ, стоящий в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й строке на позици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 baseline="5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50000">
                <a:solidFill>
                  <a:srgbClr val="000000"/>
                </a:solidFill>
                <a:latin typeface="Arial"/>
              </a:rPr>
              <a:t>–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считая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вого края цепочк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полните это задание для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им количество символов в каждой строке по формуле: 2</a:t>
            </a:r>
            <a:r>
              <a:rPr b="0" lang="en-US" sz="2000" spc="-1" strike="noStrike" baseline="5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значим з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мволы 4-й стр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м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=‘AABAABC AABAAB</a:t>
            </a: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5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XXE XXEF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5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) XXE XXEF XXE XX</a:t>
            </a: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EF 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5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) XXE XXEF XXE XXEF G XXE XXEF XXE XXEF G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000" spc="-1" strike="noStrike" baseline="5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ТВЕТ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языке запросов поискового сервера для обозначения логической опера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ЛИ» используется символ «|», а для логической опера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» – символ «&amp;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аблице приведены запросы и количество найденных по ним страни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ого сегмента сети 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2781360"/>
          <a:ext cx="7283160" cy="1969920"/>
        </p:xfrm>
        <a:graphic>
          <a:graphicData uri="http://schemas.openxmlformats.org/drawingml/2006/table">
            <a:tbl>
              <a:tblPr/>
              <a:tblGrid>
                <a:gridCol w="3641400"/>
                <a:gridCol w="364176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р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дено страниц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 тысячах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йсер | Линк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йс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к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8229600" cy="5721480"/>
          </a:xfrm>
          <a:prstGeom prst="rect">
            <a:avLst/>
          </a:prstGeom>
          <a:gradFill rotWithShape="0">
            <a:gsLst>
              <a:gs pos="0">
                <a:srgbClr val="c0c0c0">
                  <a:alpha val="0"/>
                </a:srgbClr>
              </a:gs>
              <a:gs pos="100000">
                <a:srgbClr val="c3c3c3">
                  <a:alpha val="46274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е количество страниц (в тысячах) будет найдено по запрос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ейсер &amp; Линк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итается, что все запросы выполнялись практически одновременно, так ч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ор страниц, содержащих все искомые слова, не изменялся за врем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ия запросов.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еше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4800+4500-7000=23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ТВЕТ: 23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000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Следующий рисунок поясняет решени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95640" y="1628640"/>
            <a:ext cx="1079280" cy="1079640"/>
          </a:xfrm>
          <a:prstGeom prst="ellipse">
            <a:avLst/>
          </a:prstGeom>
          <a:solidFill>
            <a:srgbClr val="80808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16360" y="1628640"/>
            <a:ext cx="1079280" cy="1079640"/>
          </a:xfrm>
          <a:prstGeom prst="ellipse">
            <a:avLst/>
          </a:prstGeom>
          <a:gradFill rotWithShape="0">
            <a:gsLst>
              <a:gs pos="0">
                <a:srgbClr val="bbe0e3">
                  <a:alpha val="48235"/>
                </a:srgbClr>
              </a:gs>
              <a:gs pos="100000">
                <a:srgbClr val="566768">
                  <a:alpha val="4000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92360" y="2852640"/>
            <a:ext cx="115236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19640" y="2852640"/>
            <a:ext cx="10792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800" y="1557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86880" y="2852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8520" y="28526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-6618960" y="-2822760"/>
            <a:ext cx="6149880" cy="3587400"/>
          </a:xfrm>
          <a:prstGeom prst="rect">
            <a:avLst/>
          </a:prstGeom>
          <a:gradFill rotWithShape="0">
            <a:gsLst>
              <a:gs pos="0">
                <a:srgbClr val="c0c0c0">
                  <a:alpha val="0"/>
                </a:srgbClr>
              </a:gs>
              <a:gs pos="100000">
                <a:srgbClr val="c3c3c3">
                  <a:alpha val="4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е количество страниц (в тысячах) будет найдено по запросу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рейсер &amp; Линко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читается, что все запросы выполнялись практически одновременно, так ч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бор страниц, содержащих все искомые слова, не изменялся за врем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ения запрос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ешени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800+4500-7000=23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ТВЕТ: 230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000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рейсер | Линк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рейсер &amp; Линк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4508640"/>
            <a:ext cx="71280" cy="7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18440" cy="4032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344320" y="5589720"/>
            <a:ext cx="4345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различных решений имеет у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J → K) → (M /\ N /\ L)) /\ ((J /\ ¬K) → ¬(M /\ N /\ L)) /\ (M → J) = 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де J, K, L, M, N – логические переменн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ответ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нужн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числять все различные наборы значений J, K, L, M и N, при которых выполнено данное равенство. В качестве ответа нужно указать количество таких наб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ЧА А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ое устройство осуществило перекодировку информационного сообщения на русском языке длиной в 20 символов, первоначально записанного в 16-битном коде Unicode, в 8-битную кодировку КОИ-8. При этом информационное сообщение уменьшилось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320 бит 2) 20 бит 3) 160 байт 4) 20 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ем информационный объем сообщения в16-битном ко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un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20(бит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uni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20б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ем информационный объем сообщения в 8-битной кодиров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koi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*20(бит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koi=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б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=Vuni -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ko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=16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=20 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ВЕТ: 20 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2184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роизведение равно единице, значит и каждый сомножитель, обязательно равен единице. Таким образом получим систему уравн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J → K) → (M /\ N /\ L)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J /\ ¬K) → ¬(M /\ N /\ L)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 → J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остим два первых урав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\ ¬K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 /\ N /\ 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J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\ ¬K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¬(M /\ N /\ L)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слагаемое M /\ N /\ 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 слагаемо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\ ¬K=0, и наобор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составить таблиц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блица истинности для первых двух  урав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600200"/>
          <a:ext cx="8229600" cy="36100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пликация в третьем уравнении позволяет нам сделать вывод, что при М=1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0 результа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=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этому исключив эти строки, получим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ТВЕТ: 8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600200"/>
          <a:ext cx="8229600" cy="36100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3</a:t>
            </a:r>
            <a:br>
              <a:rPr sz="4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Определение выигрышной стратегии игры(Анализ и построение дерева игр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чень часто учителя жалуются на то, что не хватает учебных часов, для того, чтобы охватить весь материал для подготовки учеников к ЕГЭ. Программирование требует и знаний, и навыков. Некоторые педагоги не готовят учеников по задачам уровня С, объясняя это тем, что эти задачи имеют уровень ВУЗов, поэтому в их обязанности задачи уровня С не вход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 с этим не согласна. Задачи С1 и С2 соответствуют  школьному уровн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 хочу остановиться на решении задач С3. Эти задачи не требуют длительной подготовки учащихся, как, например, изучение программир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ученики умеют абстрактно мыслить, то задачу они наверняка реш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чит нам стоит показать ее 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чинать объяснение этих задач лучше с задач о камнях, так как в них меньше вычислений, чем в задачах с координатной плоскостью. Поэтому у нас есть шанс вдохновить учеников на то, что у них все получит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шение строится через таблицу путем несложных подсчетов. Ученики поначалу боятся запутаться в подсчетах, но перерешав пару задач, берутся за них с легкостью. Причем в задачах ФИПИ подсчетов меньше, и нет необходимости браться за калькуля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мотрим условие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словие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а игрока играют в следующую игру. Перед ними лежат две кучки камней, в первой из которых 3, а во второй 4 камня. У каждого игрока неограниченно много камней. Игроки ходят по очереди. Ход состоит в том, что игрок или удваивает число камней в какой-то кучке или добавляет 4 камня в какую-то кучку. Игрок, после хода которого общее число камней в двух кучках становится больше 2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грыва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Кто выигрывает при безошибочной игре обоих игроков – игрок, делающий первый ход, или игрок, делающий второй ход? Каким должен быть первый ход выигрывающего игрока? Ответ обосну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Решение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907920"/>
            <a:ext cx="8569080" cy="54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так, у нас есть 2 кучки камней. В одной из них 3, а в другой 4 камня. Обозначим эту ситуацию: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,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 как необходимо вычислять сумму этих камней, то мы ее будем указывать рядом со скобками: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,4)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лая ход, игрок может выполнить один из четырех вариантов действий:                               (3,4)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6,4) 10             (3,8) 11             (7,4) 11                  (3,8)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*2                      4*2                  3+4                         4+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к, как у нас получились два одинаковых хода, в результате мы запишем только три возможных хода иг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решения нужно приготовить такой лист бумаги, чтобы все решение, уместилось на нем целиком. Для первого раза надо взять развернутый двойной лист, или лист А4.  Таблица будет неширокая, но дли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19280" y="2997360"/>
            <a:ext cx="201600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276720" y="2997360"/>
            <a:ext cx="5745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56000" y="2997360"/>
            <a:ext cx="720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2924280"/>
            <a:ext cx="2376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684360" y="44280"/>
          <a:ext cx="8002440" cy="6242400"/>
        </p:xfrm>
        <a:graphic>
          <a:graphicData uri="http://schemas.openxmlformats.org/drawingml/2006/table">
            <a:tbl>
              <a:tblPr/>
              <a:tblGrid>
                <a:gridCol w="850680"/>
                <a:gridCol w="1049400"/>
                <a:gridCol w="1960560"/>
                <a:gridCol w="2241720"/>
                <a:gridCol w="190008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иг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г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иг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г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11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,4)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8)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,4)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8)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16)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,8)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12)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,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,4)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,8)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,4)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,8)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457200" y="274680"/>
          <a:ext cx="8229600" cy="62103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20560">
                <a:tc rowSpan="12"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4)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(12,4)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4,4)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,8)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,12)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6,4)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6,8)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,8)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,12)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6,8)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,8)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,12)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16)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,8)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,12)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12)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,12)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10,4)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,4)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,8)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,12)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,4)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,8)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,8)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,12)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79280" y="260280"/>
          <a:ext cx="8640720" cy="5692680"/>
        </p:xfrm>
        <a:graphic>
          <a:graphicData uri="http://schemas.openxmlformats.org/drawingml/2006/table">
            <a:tbl>
              <a:tblPr/>
              <a:tblGrid>
                <a:gridCol w="1224000"/>
                <a:gridCol w="1584360"/>
                <a:gridCol w="2724120"/>
                <a:gridCol w="1552680"/>
                <a:gridCol w="1555560"/>
              </a:tblGrid>
              <a:tr h="520560">
                <a:tc rowSpan="11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8)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6,8)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3,16)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16)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,16)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20)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7,8)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,8)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,16)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,8)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5,8)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,12)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,12)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(3,12)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12)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,12)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,12)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,12)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16)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20)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ЧА А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передачи по каналу связи сообщения, состоящего только из символов А, Б, В и Г, используется неравномерный (по длине) код: А-00, Б-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-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0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Г-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0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Через канал связи передается сообщение: ГБВАВГ. Закодируйте сообщение данным кодом. Полученную двоичную последовательность переведите в шестнадцатеричную систему счисления. Какой вид будет иметь это сообщ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71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DBCA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7A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31A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457200" y="274680"/>
          <a:ext cx="8229600" cy="56926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20560">
                <a:tc rowSpan="11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,4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14,4)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,8)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8,4)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,8)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7,8)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,8)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,16)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,8)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,12)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,12)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,12)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(11,4)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,8)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,12)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5,4)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5,8)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11,8)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5,8)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,12)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600200"/>
          <a:ext cx="8229600" cy="41958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х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х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товая пози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иг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г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иг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г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8                   12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                   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2    6,16      12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6                   11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6      3,20        6,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4                     1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                    11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игрывает второй иг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доказательства рассмотрим неполное дерево игры, оформленное в виде таблицы, где в каждой ячейке записаны пары чисел, разделенные запя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и числа соответствуют количеству камней на каждом этапе игры в первой и второй кучках соответств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ой  следующий ход первого игрока является непосредственно проигрышным.  Таблица содержит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се возмож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рианты ходов первого игрока. Из нее видно, что при любом ходе первого игрока у второго имеется ход, приводящий к поб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и с координатной плоскостью решаются точно также. Только в скобках указываются координаты фишки, а рядом со скобками сумма квадратов этих координат, по которой мы определяем расстояние от фишки до начала координат (используется теорема Пифаг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356000" y="342864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486900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92720" y="3860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356000" y="3860280"/>
            <a:ext cx="9367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92720" y="3860640"/>
            <a:ext cx="0" cy="1008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56000" y="4869000"/>
            <a:ext cx="936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3564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30760" y="5075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дачи с координатной плоскост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5473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езные ссыл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polyakov.narod.ru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том сайте очень хорошо разобрана задача с координатной плоско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Крылов, Д.Ушаков «ФИПИ. Тематические тестовые задания ЕГЭ». В этом журнале разобрано графическое решение эти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Решени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БВАВ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-00, Б-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-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0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Г-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ученный к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01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0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010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группируем по 4 цифры, для перевода двоичного кода в шестнадцатеричную систему счисления по таблиц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11  1010  0001  0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ТВЕТ: 7А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ЧА А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одирования цвета фона интернет-страницы используется атрибут bgcolor="#ХХХХХХ", где в кавычках задаются  шестнадцатеричные значения интенсивности цветовых компонент в 24-битной RGB-модели следующим образ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Х – красный, ХХ – зеленый, ХХ – си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какому цвету будет близок цвет страницы, заданный тэгом &lt;body bgcolor="#747474"&gt;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сер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фиолет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че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Решение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решения этих задач необходимо помнить таблицу цветов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9640" y="1628640"/>
          <a:ext cx="8147160" cy="438336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  <a:gridCol w="20368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крас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зеле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и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е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рюзо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т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как числа, обозначающие градацию яркости каждого из цветов, равны, т.е. 74=74=74, то это серый цвет. Если эти числа будут малы, например, 40  40  40,  то это будет темно-серый цвет, если , например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  F1  F1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тло-сер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ВЕТ: се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ередачи сигналов на флоте используются специальные сигнальные флаги, вывешиваемые в одну линию (последовательность важна). Какое количество различных сигналов может передать корабль при помощи четырех сигнальных флагов, если на корабле имеются флаги трех различных видов (флагов каждого вида неограниченное количество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значим виды флагов цифрами 0,1,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оложим, что у нас не 4 сигнальных флага, а один, тогда варианты сигналов следующие: 0  1  2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сигнало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3 или к=3</a:t>
            </a:r>
            <a:r>
              <a:rPr b="0" lang="ru-RU" sz="1800" spc="-1" strike="noStrike" baseline="5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у нас 2 сигнальных флага, то варианты сигналов следу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  01  02       10  11 12     21  22  23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→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3</a:t>
            </a:r>
            <a:r>
              <a:rPr b="0" lang="ru-RU" sz="1800" spc="-1" strike="noStrike" baseline="5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ля 4-х сигнальных флагов мы применим ту же формулу, то ес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=3</a:t>
            </a:r>
            <a:r>
              <a:rPr b="0" lang="ru-RU" sz="1800" spc="-1" strike="noStrike" baseline="5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ВЕТ: 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4:03:17Z</dcterms:created>
  <dc:creator>админ</dc:creator>
  <dc:description/>
  <dc:language>en-US</dc:language>
  <cp:lastModifiedBy>админ</cp:lastModifiedBy>
  <dcterms:modified xsi:type="dcterms:W3CDTF">2010-11-17T11:21:36Z</dcterms:modified>
  <cp:revision>17</cp:revision>
  <dc:subject/>
  <dc:title>Подготовка учащихся к сдаче ЕГЭ по информатике. Решение заданий демо-версии ЕГЭ-2011 </dc:title>
</cp:coreProperties>
</file>