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9.png" ContentType="image/png"/>
  <Override PartName="/ppt/media/image11.jpeg" ContentType="image/jpeg"/>
  <Override PartName="/ppt/media/image16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EA5E-A3BF-461F-960E-54EB1D19B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1B6E-AB19-4ABC-A211-3EC74DE9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285A-8831-4966-9F74-AB619AA4D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8BE6-2356-4B33-991E-926A89A17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C582-32CB-4DCF-A7B9-B285D6E43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602A-22B3-4A62-B9A5-24906D9A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7AF3-483F-4307-A870-6D31A923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6461-6787-424F-9FD6-12B45273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FC9B-DB8B-4645-93E6-B70A0D97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9311-BE59-4FC5-9AE6-F0CD0EF9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9191-127D-4E3A-9D27-05F6EF3F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6E7A-A9B7-4975-A5F6-8B670F69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1E63-BC0B-4338-8881-6EE7A04A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6840-C892-4632-9BAB-5B44385D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42D1A-94CC-47E7-A184-158C714D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62F6-FB8E-422A-A5D2-248085346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F351-AD48-4A0E-8115-FE901B3D9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A928F-823C-4DD0-9FCA-43F7F20DE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F9F74-F6B0-4B7B-8C7D-61FB82BF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8EB38-FD42-4DCA-B70E-5305CC7E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39AB3-34D8-45DC-85E7-E5EE331D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54F4C-E774-4DD3-B686-E73D86CA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E90B-E124-4B27-9968-927D9712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F1F75-2C54-4E10-9337-BDCA8C1F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63762-303C-4F18-932D-4E5549CB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8DA0E-9CD2-4E14-B476-71BD31A1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371A6-A16A-47EB-9A21-45816465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91527-168E-4344-8BA9-578E3888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AC737-3654-4C94-9417-DC61E5220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30DFC-CFD7-4DDA-A944-695BC303E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57013-61BE-4C9F-B83B-93E10A508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2F89B-AF73-4467-A848-5992AD51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4716E-7AE8-4341-80F1-FD6BA2E7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A0B5-DF44-494D-8CC8-08ED371C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04934-28EB-46CE-BDCE-6E782E0E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E3C6A-0FAD-4850-9522-55223283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BA23C-39AB-43EC-955E-B78F72CF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725E6-E410-4A72-AB7C-0BC46804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F92A0-58C4-4A87-A042-75C5A10A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B5409-28A4-482B-B132-23BF4FBB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A0770-7EA3-4271-AA26-D37BC6FB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81634-83D4-43C2-AD95-6264A26B6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B8F92-8241-4F67-B5BE-B5B7FCF48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AF34-95A0-482B-BB64-1F55D339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53C8-CF7C-4A15-B02E-73AB443C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5707-FA9A-4E05-BDF9-D7C9E3BE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13FC-55B1-4893-994C-37658C30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4989-B5AC-43C4-A9C3-E7EA10C4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2DFA-C6F0-4902-917E-A4208990ACB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FEFF-D8DB-446C-A450-5446FB71C2E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1BC6-DA9F-4E42-8D25-0EF45766CAD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DFA8-E24E-47DC-9446-27BF8E1743D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859280" y="5052960"/>
            <a:ext cx="38894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зьминова Л.Е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МБДОУ д/с №16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Североморс</a:t>
            </a:r>
            <a:r>
              <a:rPr b="0" lang="ru-RU" sz="1500" spc="-1" strike="noStrike">
                <a:solidFill>
                  <a:srgbClr val="212745"/>
                </a:solidFill>
                <a:latin typeface="Trebuchet MS"/>
              </a:rPr>
              <a:t>ка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468360" y="1557360"/>
            <a:ext cx="79912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методы взаимодействия с семьей  при формировании у старших дошкольников интереса к художественной литературе в контексте ФГОС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8920" y="317520"/>
            <a:ext cx="842508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ОС дошкольного образования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090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дни из основных принципов дошкольного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разова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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рудничество Организации с семьей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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щение детей к социокультурным нормам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ям семьи, общества и государств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1"/>
          <p:cNvSpPr/>
          <p:nvPr/>
        </p:nvSpPr>
        <p:spPr>
          <a:xfrm>
            <a:off x="1330200" y="476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о - аналитические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179280" y="425520"/>
            <a:ext cx="1150920" cy="8078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20" name="Прямоугольник 2"/>
          <p:cNvSpPr/>
          <p:nvPr/>
        </p:nvSpPr>
        <p:spPr>
          <a:xfrm>
            <a:off x="754200" y="1800360"/>
            <a:ext cx="770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 «Нужно ли читать детям книги»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вьюирование «Ваши любимые книги для чтения»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опросов, беседы «Почему ребенок не слушает, когда родители читают книги?»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кус – группа «Формирование у дошкольников интереса к художественной литературе»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1"/>
          <p:cNvSpPr/>
          <p:nvPr/>
        </p:nvSpPr>
        <p:spPr>
          <a:xfrm>
            <a:off x="1979640" y="204840"/>
            <a:ext cx="544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о информационные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Picture 2" descr="C:\Users\Samsung\Desktop\анимашки\4ffc88afa7b6.jpg"/>
          <p:cNvPicPr/>
          <p:nvPr/>
        </p:nvPicPr>
        <p:blipFill>
          <a:blip r:embed="rId1"/>
          <a:stretch/>
        </p:blipFill>
        <p:spPr>
          <a:xfrm>
            <a:off x="539640" y="160200"/>
            <a:ext cx="1187640" cy="89064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23" name="Прямоугольник 2"/>
          <p:cNvSpPr/>
          <p:nvPr/>
        </p:nvSpPr>
        <p:spPr>
          <a:xfrm>
            <a:off x="250920" y="941400"/>
            <a:ext cx="8659800" cy="80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ые занятия по чтению художественной литературы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ламные недели «Книга наш друг» и др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ен опытом семейного воспитания. «Я люблю читать»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оотчеты об экскурсиях и занятиях в библиотек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мотр роликов «Правила обращения с книгой»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ие собрани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оконференции в скайп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дительский клуб «Формирование у дошкольников интереса к художественной литературе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Picture 3" descr="C:\Users\Samsung\Desktop\анимашки\974243541.gif"/>
          <p:cNvPicPr/>
          <p:nvPr/>
        </p:nvPicPr>
        <p:blipFill>
          <a:blip r:embed="rId2"/>
          <a:stretch/>
        </p:blipFill>
        <p:spPr>
          <a:xfrm>
            <a:off x="7421400" y="4170240"/>
            <a:ext cx="13986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1"/>
          <p:cNvSpPr/>
          <p:nvPr/>
        </p:nvSpPr>
        <p:spPr>
          <a:xfrm>
            <a:off x="2124000" y="4046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ые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Picture 2" descr="C:\Users\Samsung\Desktop\анимашки\sova.jpg"/>
          <p:cNvPicPr/>
          <p:nvPr/>
        </p:nvPicPr>
        <p:blipFill>
          <a:blip r:embed="rId1"/>
          <a:stretch/>
        </p:blipFill>
        <p:spPr>
          <a:xfrm>
            <a:off x="266760" y="243000"/>
            <a:ext cx="1482840" cy="145728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27" name="Прямоугольник 2"/>
          <p:cNvSpPr/>
          <p:nvPr/>
        </p:nvSpPr>
        <p:spPr>
          <a:xfrm>
            <a:off x="485640" y="1700280"/>
            <a:ext cx="784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я, «Как читать детям книги с учетом возраста»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о презентации занятий, бесед с детьм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ичка с информацией в социальной сети В Контакте «Вопрос – ответ»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оотчет об экскурсиях в библиотек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ая картотека библиотек родителей и библиотеки детского сад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«Моя любимая сказка» и др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1"/>
          <p:cNvSpPr/>
          <p:nvPr/>
        </p:nvSpPr>
        <p:spPr>
          <a:xfrm>
            <a:off x="1619280" y="29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уговые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Прямоугольник 2"/>
          <p:cNvSpPr/>
          <p:nvPr/>
        </p:nvSpPr>
        <p:spPr>
          <a:xfrm>
            <a:off x="179280" y="1762200"/>
            <a:ext cx="4105440" cy="63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лечения и праздники;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торины, КВН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ы чтецов, рукописных книг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атральные гостиная «Сказки А.С.Пушкина» и др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7164360" y="297000"/>
            <a:ext cx="1562040" cy="2790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31" name="Picture 3" descr=""/>
          <p:cNvPicPr/>
          <p:nvPr/>
        </p:nvPicPr>
        <p:blipFill>
          <a:blip r:embed="rId2"/>
          <a:stretch/>
        </p:blipFill>
        <p:spPr>
          <a:xfrm>
            <a:off x="4387680" y="2452680"/>
            <a:ext cx="244188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1030320" y="566640"/>
            <a:ext cx="7802640" cy="20178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8360" y="2603520"/>
            <a:ext cx="799128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пользование компьютера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тернета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левизора, видео, DVD, CD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льтимедиа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удиовизуального оборудов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групповой сайт, странички в социальных сетях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Группа в скайпе для видеоконтактов, видеоконсультаци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4" name="Picture 2" descr="C:\Users\Samsung\Desktop\анимашки\974243541.gif"/>
          <p:cNvPicPr/>
          <p:nvPr/>
        </p:nvPicPr>
        <p:blipFill>
          <a:blip r:embed="rId2"/>
          <a:stretch/>
        </p:blipFill>
        <p:spPr>
          <a:xfrm>
            <a:off x="306360" y="907920"/>
            <a:ext cx="192096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Скругленный прямоугольник 1"/>
          <p:cNvSpPr/>
          <p:nvPr/>
        </p:nvSpPr>
        <p:spPr>
          <a:xfrm>
            <a:off x="1679400" y="318960"/>
            <a:ext cx="7069320" cy="1344600"/>
          </a:xfrm>
          <a:prstGeom prst="roundRect">
            <a:avLst>
              <a:gd name="adj" fmla="val 16667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ая картотека книг из библиотек семей воспитанников  и библиотечки группы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rcRect l="0" t="8677" r="0" b="0"/>
          <a:stretch/>
        </p:blipFill>
        <p:spPr>
          <a:xfrm>
            <a:off x="3851280" y="2523960"/>
            <a:ext cx="2319480" cy="3765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0T11:51:08Z</dcterms:created>
  <dc:creator>Детсад16-ПК008</dc:creator>
  <dc:description/>
  <dc:language>en-US</dc:language>
  <cp:lastModifiedBy>Samsung</cp:lastModifiedBy>
  <dcterms:modified xsi:type="dcterms:W3CDTF">2015-08-25T07:58:39Z</dcterms:modified>
  <cp:revision>51</cp:revision>
  <dc:subject/>
  <dc:title>Современные методы взаимодействия с семьей  при формировании у старших дошкольников интереса к художественной литературе в условиях ФГОС.</dc:title>
</cp:coreProperties>
</file>