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5.png" ContentType="image/png"/>
  <Override PartName="/ppt/media/image9.png" ContentType="image/png"/>
  <Override PartName="/ppt/media/image11.jpeg" ContentType="image/jpeg"/>
  <Override PartName="/ppt/media/image16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28B2-BD52-4AEA-81C9-AE55A163C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5838-8B26-4F11-AD5A-981B738BF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C62C-A40B-4EB9-BA39-FF9668515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3723-377B-454D-9BF1-0AEA832FA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FACB8-9F3F-4D1E-A1F9-F18E53CB5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900D1-A670-4543-871C-0ED74BCC9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A7572-C2A6-44DF-9007-A0670699C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D33B1-F3CC-41C5-9384-5D41A9B28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03737-C3DC-4F8D-88A5-835E0C946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E6DA9-99F9-425A-B0AE-399D80C46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6788D-DE64-4E92-822F-0434CE03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C3BD-82F1-4CDF-BCB3-1EEEE2202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3E3C8-6F33-4DC5-955F-47958D5F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394E5-30DC-44C1-958B-CE8C94B1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5F353-DEDC-4F5C-9203-852B3925D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54BC6-21BD-4509-9A6A-8A369CEAD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E6066-2A9C-41B3-88BF-DA6D72B95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6AE51-D14E-45E9-AF69-8CEDD4D15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F0C4C-A368-4AA5-86B3-5AC5C67CA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F0A78-3CE9-4CFA-A13E-2897B065D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0CA14-71BD-4A45-9F4E-938C794C0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77436-3512-43D7-9AC5-CCA794006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A4A0-C8F7-49C5-9BBF-2C1A33EB4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2ABBA-ECF0-4D6E-BB59-7864F9F6A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87CFA-3699-42F0-9F14-5F477A4E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08C5B-0786-46FF-BF39-DF6ACBAF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910AF-D2E2-4DE7-A7EC-46A8B3EA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B8E3D-C29F-4B0D-A932-E9415E812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AC97E-7DC9-41BF-B6BB-D7BBD7C45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AAB5B-2EE0-4A1C-9BFD-121B845DA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C1DF4-FB9F-4E14-B0FC-D359F2FAF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43CE5-0724-44FA-B3B0-93ECA8A71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92529-659B-4783-9E5F-EF8D6FE82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8401-AEDF-46F8-B9B2-8ED943F8F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03EED-1161-417C-A330-D7942B503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FF491-B2AC-445D-A4D8-98B65EF80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72FFC-A5F7-463C-9DD9-5F5EC1C10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B5CFA-8C61-4F7B-8CD4-E661CD96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9DC06-865F-4A74-8691-F64B2AB9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3F2BC-E24F-4DAF-BA82-BA4C7C3F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DA27F-FCA2-42E4-9BEA-2A6E1CCBA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21283-79D4-46C8-A316-A4B7EA459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7D281-30E2-43ED-AD89-DE4245A6D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B394-6690-4F04-9514-4367D32B5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E6C4-8C9E-4CDA-972E-943F58BAD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7BE7-EFE9-41EE-8B30-711645C1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2D3C-2BFE-4996-B8DE-F3BB7559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4934-2126-4BF6-A2BF-6E96A39F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E81CF-8EC8-40A1-8B18-05C49E70ECD1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3D8FD-B9F7-430D-8878-833FDBB270B9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C6C10-B77D-4A81-8E61-0F9390A8D0B9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C14FF-E3D7-46E1-83CF-FCDFBCF39FF3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859280" y="5052960"/>
            <a:ext cx="3889440" cy="8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37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зьминова Л.Е.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37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 МБДОУ д/с №16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37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Североморс</a:t>
            </a:r>
            <a:r>
              <a:rPr b="0" lang="ru-RU" sz="1500" spc="-1" strike="noStrike">
                <a:solidFill>
                  <a:srgbClr val="212745"/>
                </a:solidFill>
                <a:latin typeface="Trebuchet MS"/>
              </a:rPr>
              <a:t>ка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468360" y="1557360"/>
            <a:ext cx="799128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52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ые методы взаимодействия с семьей  при формировании у старших дошкольников интереса к художественной литературе в контексте ФГОС.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8920" y="317520"/>
            <a:ext cx="8425080" cy="80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ОС дошкольного образования</a:t>
            </a: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20908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дни из основных принципов дошкольного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разован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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трудничество Организации с семьей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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бщение детей к социокультурным нормам,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дициям семьи, общества и государств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1"/>
          <p:cNvSpPr/>
          <p:nvPr/>
        </p:nvSpPr>
        <p:spPr>
          <a:xfrm>
            <a:off x="1330200" y="47628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о - аналитические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9" name="Picture 3" descr=""/>
          <p:cNvPicPr/>
          <p:nvPr/>
        </p:nvPicPr>
        <p:blipFill>
          <a:blip r:embed="rId1"/>
          <a:stretch/>
        </p:blipFill>
        <p:spPr>
          <a:xfrm>
            <a:off x="179280" y="425520"/>
            <a:ext cx="1150920" cy="8078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20" name="Прямоугольник 2"/>
          <p:cNvSpPr/>
          <p:nvPr/>
        </p:nvSpPr>
        <p:spPr>
          <a:xfrm>
            <a:off x="754200" y="1800360"/>
            <a:ext cx="7705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кетирование «Нужно ли читать детям книги»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вьюирование «Ваши любимые книги для чтения»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опросов, беседы «Почему ребенок не слушает, когда родители читают книги?»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кус – группа «Формирование у дошкольников интереса к художественной литературе»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Прямоугольник 1"/>
          <p:cNvSpPr/>
          <p:nvPr/>
        </p:nvSpPr>
        <p:spPr>
          <a:xfrm>
            <a:off x="1979640" y="204840"/>
            <a:ext cx="544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лядно информационные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2" name="Picture 2" descr="C:\Users\Samsung\Desktop\анимашки\4ffc88afa7b6.jpg"/>
          <p:cNvPicPr/>
          <p:nvPr/>
        </p:nvPicPr>
        <p:blipFill>
          <a:blip r:embed="rId1"/>
          <a:stretch/>
        </p:blipFill>
        <p:spPr>
          <a:xfrm>
            <a:off x="539640" y="160200"/>
            <a:ext cx="1187640" cy="890640"/>
          </a:xfrm>
          <a:prstGeom prst="rect">
            <a:avLst/>
          </a:prstGeom>
          <a:ln w="9360">
            <a:solidFill>
              <a:srgbClr val="00206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23" name="Прямоугольник 2"/>
          <p:cNvSpPr/>
          <p:nvPr/>
        </p:nvSpPr>
        <p:spPr>
          <a:xfrm>
            <a:off x="250920" y="941400"/>
            <a:ext cx="8659800" cy="80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тые занятия по чтению художественной литературы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ламные недели «Книга наш друг» и др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мен опытом семейного воспитания. «Я люблю читать»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еоотчеты об экскурсиях и занятиях в библиотеке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мотр роликов «Правила обращения с книгой»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ьские собрания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еоконференции в скайпе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дительский клуб «Формирование у дошкольников интереса к художественной литературе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4" name="Picture 3" descr="C:\Users\Samsung\Desktop\анимашки\974243541.gif"/>
          <p:cNvPicPr/>
          <p:nvPr/>
        </p:nvPicPr>
        <p:blipFill>
          <a:blip r:embed="rId2"/>
          <a:stretch/>
        </p:blipFill>
        <p:spPr>
          <a:xfrm>
            <a:off x="7421400" y="4170240"/>
            <a:ext cx="139860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Прямоугольник 1"/>
          <p:cNvSpPr/>
          <p:nvPr/>
        </p:nvSpPr>
        <p:spPr>
          <a:xfrm>
            <a:off x="2124000" y="40464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вательные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6" name="Picture 2" descr="C:\Users\Samsung\Desktop\анимашки\sova.jpg"/>
          <p:cNvPicPr/>
          <p:nvPr/>
        </p:nvPicPr>
        <p:blipFill>
          <a:blip r:embed="rId1"/>
          <a:stretch/>
        </p:blipFill>
        <p:spPr>
          <a:xfrm>
            <a:off x="266760" y="243000"/>
            <a:ext cx="1482840" cy="1457280"/>
          </a:xfrm>
          <a:prstGeom prst="rect">
            <a:avLst/>
          </a:prstGeom>
          <a:ln w="9360">
            <a:solidFill>
              <a:srgbClr val="00206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27" name="Прямоугольник 2"/>
          <p:cNvSpPr/>
          <p:nvPr/>
        </p:nvSpPr>
        <p:spPr>
          <a:xfrm>
            <a:off x="485640" y="1700280"/>
            <a:ext cx="7848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ция, «Как читать детям книги с учетом возраста»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ео презентации занятий, бесед с детьм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ничка с информацией в социальной сети В Контакте «Вопрос – ответ»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еоотчет об экскурсиях в библиотеку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нная картотека библиотек родителей и библиотеки детского сада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«Моя любимая сказка» и др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1"/>
          <p:cNvSpPr/>
          <p:nvPr/>
        </p:nvSpPr>
        <p:spPr>
          <a:xfrm>
            <a:off x="1619280" y="297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уговые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Прямоугольник 2"/>
          <p:cNvSpPr/>
          <p:nvPr/>
        </p:nvSpPr>
        <p:spPr>
          <a:xfrm>
            <a:off x="179280" y="1762200"/>
            <a:ext cx="4105440" cy="63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лечения и праздники;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торины, КВН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ы чтецов, рукописных книг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атральные гостиная «Сказки А.С.Пушкина» и др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7164360" y="297000"/>
            <a:ext cx="1562040" cy="2790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31" name="Picture 3" descr=""/>
          <p:cNvPicPr/>
          <p:nvPr/>
        </p:nvPicPr>
        <p:blipFill>
          <a:blip r:embed="rId2"/>
          <a:stretch/>
        </p:blipFill>
        <p:spPr>
          <a:xfrm>
            <a:off x="4387680" y="2452680"/>
            <a:ext cx="2441880" cy="2514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1" descr=""/>
          <p:cNvPicPr/>
          <p:nvPr/>
        </p:nvPicPr>
        <p:blipFill>
          <a:blip r:embed="rId1"/>
          <a:stretch/>
        </p:blipFill>
        <p:spPr>
          <a:xfrm>
            <a:off x="1030320" y="566640"/>
            <a:ext cx="7802640" cy="201780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68360" y="2603520"/>
            <a:ext cx="7991280" cy="34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спользование компьютера,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нтернета,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левизора, видео, DVD, CD,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ультимедиа,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аудиовизуального оборудовани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групповой сайт, странички в социальных сетях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Группа в скайпе для видеоконтактов, видеоконсультаци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4" name="Picture 2" descr="C:\Users\Samsung\Desktop\анимашки\974243541.gif"/>
          <p:cNvPicPr/>
          <p:nvPr/>
        </p:nvPicPr>
        <p:blipFill>
          <a:blip r:embed="rId2"/>
          <a:stretch/>
        </p:blipFill>
        <p:spPr>
          <a:xfrm>
            <a:off x="306360" y="907920"/>
            <a:ext cx="192096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Скругленный прямоугольник 1"/>
          <p:cNvSpPr/>
          <p:nvPr/>
        </p:nvSpPr>
        <p:spPr>
          <a:xfrm>
            <a:off x="1679400" y="318960"/>
            <a:ext cx="7069320" cy="1344600"/>
          </a:xfrm>
          <a:prstGeom prst="roundRect">
            <a:avLst>
              <a:gd name="adj" fmla="val 16667"/>
            </a:avLst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нная картотека книг из библиотек семей воспитанников  и библиотечки группы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rcRect l="0" t="8677" r="0" b="0"/>
          <a:stretch/>
        </p:blipFill>
        <p:spPr>
          <a:xfrm>
            <a:off x="3851280" y="2523960"/>
            <a:ext cx="2319480" cy="3765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30T11:51:08Z</dcterms:created>
  <dc:creator>Детсад16-ПК008</dc:creator>
  <dc:description/>
  <dc:language>en-US</dc:language>
  <cp:lastModifiedBy>Samsung</cp:lastModifiedBy>
  <dcterms:modified xsi:type="dcterms:W3CDTF">2015-08-25T07:58:39Z</dcterms:modified>
  <cp:revision>51</cp:revision>
  <dc:subject/>
  <dc:title>Современные методы взаимодействия с семьей  при формировании у старших дошкольников интереса к художественной литературе в условиях ФГОС.</dc:title>
</cp:coreProperties>
</file>