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9.gif" ContentType="image/gif"/>
  <Override PartName="/ppt/media/image7.gif" ContentType="image/gif"/>
  <Override PartName="/ppt/media/image12.jpeg" ContentType="image/jpeg"/>
  <Override PartName="/ppt/media/image6.png" ContentType="image/png"/>
  <Override PartName="/ppt/media/image8.gif" ContentType="image/gif"/>
  <Override PartName="/ppt/media/image18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6.gif" ContentType="image/gif"/>
  <Override PartName="/ppt/media/image15.jpeg" ContentType="image/jpeg"/>
  <Override PartName="/ppt/media/image14.gif" ContentType="image/gif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E96-7871-4E3A-9FC0-927C82B9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08DD-886A-4EE9-AB47-50DDD341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1BF-7FEA-4EE6-B088-98EF19BD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E22-4377-4480-AFCD-DC9B10B0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CA12-A857-45E5-B34B-1225EF02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F032-4C12-48F4-934A-7DBAE27F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911-5608-4FE1-8C61-94DC90F6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3B0-895B-4994-A195-1C2A56F1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95C7-493D-45D7-B952-5BE1B70A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A14-FBE0-4706-9934-CD618C3F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DC73-4D18-485C-A97E-580A9ACA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3E8-E972-4483-B470-C7D73033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4857-333E-458A-95A5-060A3321B87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908000" y="404640"/>
            <a:ext cx="5040360" cy="1152720"/>
          </a:xfrm>
          <a:prstGeom prst="rect">
            <a:avLst/>
          </a:prstGeom>
          <a:solidFill>
            <a:srgbClr val="0099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плопередач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50920" y="2708280"/>
            <a:ext cx="3097080" cy="792000"/>
          </a:xfrm>
          <a:prstGeom prst="rect">
            <a:avLst/>
          </a:prstGeom>
          <a:solidFill>
            <a:srgbClr val="0099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плопровод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635280" y="2708280"/>
            <a:ext cx="2232000" cy="792000"/>
          </a:xfrm>
          <a:prstGeom prst="rect">
            <a:avLst/>
          </a:prstGeom>
          <a:solidFill>
            <a:srgbClr val="0099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век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084720" y="2708280"/>
            <a:ext cx="2159280" cy="792000"/>
          </a:xfrm>
          <a:prstGeom prst="rect">
            <a:avLst/>
          </a:prstGeom>
          <a:solidFill>
            <a:srgbClr val="0099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луч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Line 8"/>
          <p:cNvSpPr/>
          <p:nvPr/>
        </p:nvSpPr>
        <p:spPr>
          <a:xfrm flipH="1">
            <a:off x="1835280" y="1557360"/>
            <a:ext cx="252072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Line 9"/>
          <p:cNvSpPr/>
          <p:nvPr/>
        </p:nvSpPr>
        <p:spPr>
          <a:xfrm>
            <a:off x="4356000" y="1557360"/>
            <a:ext cx="36036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4356000" y="1557360"/>
            <a:ext cx="273708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2500200" y="3643200"/>
            <a:ext cx="40006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керосиновая лампа"/>
          <p:cNvPicPr/>
          <p:nvPr/>
        </p:nvPicPr>
        <p:blipFill>
          <a:blip r:embed="rId1"/>
          <a:stretch/>
        </p:blipFill>
        <p:spPr>
          <a:xfrm>
            <a:off x="468360" y="333360"/>
            <a:ext cx="2374920" cy="3600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492360" y="765000"/>
            <a:ext cx="3888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еросиновая лампа, масляная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ово назначение лампового стекл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6" descr="дерево"/>
          <p:cNvPicPr/>
          <p:nvPr/>
        </p:nvPicPr>
        <p:blipFill>
          <a:blip r:embed="rId2"/>
          <a:stretch/>
        </p:blipFill>
        <p:spPr>
          <a:xfrm>
            <a:off x="6084720" y="3284640"/>
            <a:ext cx="2735280" cy="3024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1619280" y="479736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чему листья осины колеблются даже в безветренную погод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1908000" y="549360"/>
            <a:ext cx="504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злуч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68360" y="249228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это процесс теплопередачи, осуществляемый вследствие излучения одним телом и поглощения другим невидимых тепловых луч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термометр"/>
          <p:cNvPicPr/>
          <p:nvPr/>
        </p:nvPicPr>
        <p:blipFill>
          <a:blip r:embed="rId1"/>
          <a:stretch/>
        </p:blipFill>
        <p:spPr>
          <a:xfrm>
            <a:off x="755640" y="1835280"/>
            <a:ext cx="1008000" cy="2981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шарик термометра закопчен"/>
          <p:cNvPicPr/>
          <p:nvPr/>
        </p:nvPicPr>
        <p:blipFill>
          <a:blip r:embed="rId2"/>
          <a:stretch/>
        </p:blipFill>
        <p:spPr>
          <a:xfrm>
            <a:off x="2124000" y="1835280"/>
            <a:ext cx="868320" cy="2952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3924360" y="1557360"/>
            <a:ext cx="468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ва одинаковых термометра выставлены на солнце. Шарик одного из них закопчен. Одинаковую ли температуру покажут термометр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veer"/>
          <p:cNvPicPr/>
          <p:nvPr/>
        </p:nvPicPr>
        <p:blipFill>
          <a:blip r:embed="rId1"/>
          <a:stretch/>
        </p:blipFill>
        <p:spPr>
          <a:xfrm>
            <a:off x="539640" y="333360"/>
            <a:ext cx="2880000" cy="2735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4211640" y="669960"/>
            <a:ext cx="432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чему при обмахивании веером мы ощущаем прохлад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излучение"/>
          <p:cNvPicPr/>
          <p:nvPr/>
        </p:nvPicPr>
        <p:blipFill>
          <a:blip r:embed="rId2"/>
          <a:stretch/>
        </p:blipFill>
        <p:spPr>
          <a:xfrm>
            <a:off x="5580000" y="3645000"/>
            <a:ext cx="2808360" cy="2520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826920" y="4365720"/>
            <a:ext cx="44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чему один человек смеется, а другой плач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287280" y="404640"/>
            <a:ext cx="8856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Вопрос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Человек греется у костра. Какой из трех видов теплопередачи играет главную роль в передаче тепла от костра к человеку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7" descr="07i-i1"/>
          <p:cNvPicPr/>
          <p:nvPr/>
        </p:nvPicPr>
        <p:blipFill>
          <a:blip r:embed="rId1"/>
          <a:stretch/>
        </p:blipFill>
        <p:spPr>
          <a:xfrm>
            <a:off x="1116000" y="3068640"/>
            <a:ext cx="68882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971640" y="83664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WordArt 10"/>
          <p:cNvSpPr txBox="1"/>
          <p:nvPr/>
        </p:nvSpPr>
        <p:spPr>
          <a:xfrm>
            <a:off x="1547640" y="765000"/>
            <a:ext cx="56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плопровод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1" name="Picture 11" descr="теплопроводность"/>
          <p:cNvPicPr/>
          <p:nvPr/>
        </p:nvPicPr>
        <p:blipFill>
          <a:blip r:embed="rId1"/>
          <a:stretch/>
        </p:blipFill>
        <p:spPr>
          <a:xfrm>
            <a:off x="539640" y="3357720"/>
            <a:ext cx="3218040" cy="2447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4356000" y="2924280"/>
            <a:ext cx="39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ойство тел передавать тепло от более нагретых своих частей менее нагретым называют теплопроводност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42960" y="614160"/>
            <a:ext cx="7929720" cy="120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Жидкости обладаю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меньше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плопроводностью, чем твердые тел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газы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меньш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чем жидкости.</a:t>
            </a:r>
            <a:br>
              <a:rPr sz="13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Рисунок 35" descr="11"/>
          <p:cNvPicPr/>
          <p:nvPr/>
        </p:nvPicPr>
        <p:blipFill>
          <a:blip r:embed="rId2"/>
          <a:stretch/>
        </p:blipFill>
        <p:spPr>
          <a:xfrm>
            <a:off x="2428920" y="2143080"/>
            <a:ext cx="4244760" cy="24526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571680" y="4721040"/>
            <a:ext cx="7929360" cy="1511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нагревании верхнего конца закрытой пальцем пробирки с воздухом внутри</a:t>
            </a: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можно не боятьс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жечь палец, т.к. теплопроводность газов очень низка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применение теплопроводности"/>
          <p:cNvPicPr/>
          <p:nvPr/>
        </p:nvPicPr>
        <p:blipFill>
          <a:blip r:embed="rId1"/>
          <a:stretch/>
        </p:blipFill>
        <p:spPr>
          <a:xfrm>
            <a:off x="539640" y="3933720"/>
            <a:ext cx="3025800" cy="2305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почему"/>
          <p:cNvPicPr/>
          <p:nvPr/>
        </p:nvPicPr>
        <p:blipFill>
          <a:blip r:embed="rId2"/>
          <a:stretch/>
        </p:blipFill>
        <p:spPr>
          <a:xfrm>
            <a:off x="1292400" y="549360"/>
            <a:ext cx="2304720" cy="2728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4275000" y="1017720"/>
            <a:ext cx="440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чему толстый человек в воде мерзнет меньше, чем худо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140360" y="4300560"/>
            <a:ext cx="451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инаковы ли ощущения для левой и правой ру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5"/>
          <p:cNvSpPr txBox="1"/>
          <p:nvPr/>
        </p:nvSpPr>
        <p:spPr>
          <a:xfrm>
            <a:off x="1835280" y="836640"/>
            <a:ext cx="4968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век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79280" y="339264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это процесс теплопередачи, осуществляемый вследствие движения потоков веществ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онвекция невозможна в твёрдых тела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принудительная конвекция"/>
          <p:cNvPicPr/>
          <p:nvPr/>
        </p:nvPicPr>
        <p:blipFill>
          <a:blip r:embed="rId1"/>
          <a:stretch/>
        </p:blipFill>
        <p:spPr>
          <a:xfrm>
            <a:off x="5796000" y="2852640"/>
            <a:ext cx="2521080" cy="331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конвекция"/>
          <p:cNvPicPr/>
          <p:nvPr/>
        </p:nvPicPr>
        <p:blipFill>
          <a:blip r:embed="rId2"/>
          <a:stretch/>
        </p:blipFill>
        <p:spPr>
          <a:xfrm>
            <a:off x="395280" y="549360"/>
            <a:ext cx="1512720" cy="2519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2340000" y="549360"/>
            <a:ext cx="48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векция может быть естественной – для ее возникновения требуется подогрев жидкости снизу или охлаждения сверху,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403280" y="393372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удительной – потоки охлажденной жидкости или газа переносятся под действием насосов или вентилят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428840" y="3429000"/>
            <a:ext cx="6038640" cy="25718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571680" y="500040"/>
            <a:ext cx="8143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онвекцией осуществляется обогрев квартир в домах от отопительных батарей. Теплый воздух поднимается к потолку и распределяется по комнате. После охлаждения воздух опускается вниз. Затем вновь нагревается и подним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оконное стекло"/>
          <p:cNvPicPr/>
          <p:nvPr/>
        </p:nvPicPr>
        <p:blipFill>
          <a:blip r:embed="rId1"/>
          <a:stretch/>
        </p:blipFill>
        <p:spPr>
          <a:xfrm>
            <a:off x="5867280" y="333360"/>
            <a:ext cx="2665440" cy="273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почему дует"/>
          <p:cNvPicPr/>
          <p:nvPr/>
        </p:nvPicPr>
        <p:blipFill>
          <a:blip r:embed="rId2"/>
          <a:stretch/>
        </p:blipFill>
        <p:spPr>
          <a:xfrm>
            <a:off x="1692360" y="3622680"/>
            <a:ext cx="2281320" cy="2808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755640" y="692280"/>
            <a:ext cx="482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чему оконные стекла начинают замерзать снизу раньше и в большей мере, чем сверх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643280" y="4130640"/>
            <a:ext cx="33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чему дует от закрытого ок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к конвекции"/>
          <p:cNvPicPr/>
          <p:nvPr/>
        </p:nvPicPr>
        <p:blipFill>
          <a:blip r:embed="rId1"/>
          <a:stretch/>
        </p:blipFill>
        <p:spPr>
          <a:xfrm>
            <a:off x="684360" y="476280"/>
            <a:ext cx="2950920" cy="3240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4284720" y="98100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чему вращается бумажная вертушка над свечо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8" descr="парусник"/>
          <p:cNvPicPr/>
          <p:nvPr/>
        </p:nvPicPr>
        <p:blipFill>
          <a:blip r:embed="rId2"/>
          <a:stretch/>
        </p:blipFill>
        <p:spPr>
          <a:xfrm>
            <a:off x="1042920" y="4149720"/>
            <a:ext cx="2233800" cy="18730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3978360" y="44528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парусным судам удобнее входить в гавань: днем или ночью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15:15:15Z</dcterms:created>
  <dc:creator>USER </dc:creator>
  <dc:description/>
  <dc:language>en-US</dc:language>
  <cp:lastModifiedBy>Крестик</cp:lastModifiedBy>
  <dcterms:modified xsi:type="dcterms:W3CDTF">2015-08-25T18:23:42Z</dcterms:modified>
  <cp:revision>49</cp:revision>
  <dc:subject/>
  <dc:title>Слайд 1</dc:title>
</cp:coreProperties>
</file>