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6.png" ContentType="image/png"/>
  <Override PartName="/ppt/media/image7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E95-7EE5-4094-A28B-A9AD83CC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C9A-2399-4E4D-AD52-62C62F2F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658-422F-4286-B2F7-6298047E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BF5-9491-4FB6-9170-2C47B6A4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BDC7-3B22-4294-82A7-FA4D0775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10EB-2D91-4B4E-8BFC-7EDB4D4D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1562-530B-47EC-BD8B-471C131C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09C2-DB52-4D6D-80CD-86FE9E77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36E8-E39B-421C-B834-FAEFFEFC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C2D5-431E-40DE-A07D-487E6B3D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E5D1-15BB-495B-AB7A-8A9BE303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2AA-AEA4-468B-BB28-368501B3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EFE2-6124-42D7-8A21-F98FAB25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60F6-289D-4C14-8C6F-76FFA342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4B94-7FA7-4FAE-B35F-BE2AECC8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9A7F-6D39-4500-9667-78D59BF2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2FE2-095A-4E17-AB21-4EE6A683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6EA-7B71-4908-AC8E-2D3DF363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EF3-DFC9-4D42-87C9-D7632C55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BE8-FADC-4F07-8F0E-30FFD360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27B-8BE2-4E99-B906-F95CB6CB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612-DAB3-4127-987C-15A35CB9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1FA-89CA-45E0-90AD-23F018BC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3DC-E913-4591-A732-6EA50580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4B3F-FAD2-4594-8EA8-45B7332EF5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2079-937A-478A-BD51-617537A58F1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ME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avorite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eorge Azaryan 7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IM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about my favorite book ERA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7" descr="eragon_1280x1024_01"/>
          <p:cNvPicPr/>
          <p:nvPr/>
        </p:nvPicPr>
        <p:blipFill>
          <a:blip r:embed="rId2"/>
          <a:stretch/>
        </p:blipFill>
        <p:spPr>
          <a:xfrm>
            <a:off x="4643280" y="1557360"/>
            <a:ext cx="410400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PLOT OF THE FIRST BOOK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31" descr="Eragon"/>
          <p:cNvPicPr/>
          <p:nvPr/>
        </p:nvPicPr>
        <p:blipFill>
          <a:blip r:embed="rId1"/>
          <a:stretch/>
        </p:blipFill>
        <p:spPr>
          <a:xfrm>
            <a:off x="965160" y="1600200"/>
            <a:ext cx="3021120" cy="4530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Eragon - a boy who lives in a village called Karvaholl. Going on a hunt, he accidentally becomes the owner of the mysterious stone. Eragon finds out only later that the stone is a dragon egg from a dragon to hatch that can influence the fate of the Empi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uth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ristopher Paolini has written three books about Eragon. May 27, 2011, Christopher was awarded the Guinness World Records as the youngest author who has sold a record number of bestsellers in the world - Eragon, Brisingr Return and dispersed in more than 25 million cop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loadJpg"/>
          <p:cNvPicPr/>
          <p:nvPr/>
        </p:nvPicPr>
        <p:blipFill>
          <a:blip r:embed="rId2"/>
          <a:stretch/>
        </p:blipFill>
        <p:spPr>
          <a:xfrm>
            <a:off x="4643280" y="1413000"/>
            <a:ext cx="403236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Here are some titles of book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9" descr="brisingr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518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eragon-4"/>
          <p:cNvPicPr/>
          <p:nvPr/>
        </p:nvPicPr>
        <p:blipFill>
          <a:blip r:embed="rId2"/>
          <a:stretch/>
        </p:blipFill>
        <p:spPr>
          <a:xfrm>
            <a:off x="4514760" y="1773360"/>
            <a:ext cx="462924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y it is my favorite bo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ike this book because it is interesting fascinating and enjoyable to r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 YOU FOR YOUR ATTENTION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4" descr="cheese-grin"/>
          <p:cNvPicPr/>
          <p:nvPr/>
        </p:nvPicPr>
        <p:blipFill>
          <a:blip r:embed="rId1"/>
          <a:stretch/>
        </p:blipFill>
        <p:spPr>
          <a:xfrm>
            <a:off x="4643280" y="1413000"/>
            <a:ext cx="450072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7:13:52Z</dcterms:created>
  <dc:creator>пользователь</dc:creator>
  <dc:description/>
  <dc:language>en-US</dc:language>
  <cp:lastModifiedBy>a80</cp:lastModifiedBy>
  <dcterms:modified xsi:type="dcterms:W3CDTF">2013-11-20T10:13:34Z</dcterms:modified>
  <cp:revision>3</cp:revision>
  <dc:subject/>
  <dc:title>THEME:</dc:title>
</cp:coreProperties>
</file>