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wind.wav" ContentType="audio/x-wav"/>
  <Override PartName="/ppt/media/image6.png" ContentType="image/png"/>
  <Override PartName="/ppt/media/image7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5796-62DC-470C-9B01-8B557AD65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236E-4DB8-4568-A82A-B8CFB96FF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9279-BBD2-450E-A246-4E13DE6FD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D1A7-B27B-4E43-BC70-F9F7D270C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34136-385F-42EF-B0D5-177B1F0C2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719B2-0E76-49DE-AD26-EB61C1CF8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2AD6E-9F3C-4B66-97A5-307A24AEC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4C67C-6E1E-40F1-B9E3-329147FAC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D27AD-E58A-4FC4-9586-1E6CB6D8F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D7341-F706-47F5-BE54-F1C7FEA2A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9D7B1-B916-4979-92A7-CB6E5F9A1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09EE-12E0-438D-9DAA-8B1E50A95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99AAB-2C0F-4805-929C-109AFF377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001EF-1300-47B5-B4B6-1A633A8A2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B1034-80FE-4383-A441-DB303C7F4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4037F-66CB-46A7-8433-40EE7D2BF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7E5B4-CAD5-4CE3-A9F1-B4EB91839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CCAC-AC73-4227-BA64-42A140ED1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F4EA-EFC6-496A-A27B-E26A9FB01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B05A-91F2-48DB-BF6C-C78792DA8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1F28-5713-4E30-BD66-2457C3FE4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F0B5-BC58-4C23-8614-3C2FC7D39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CDD9-A281-4123-A8D9-3CF966A7B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A7C2-0601-4750-B3DB-C4FAFB259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932E8-E7EC-47B3-9E33-17D911A022A2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6EAEA-07DD-4371-BBE9-D5660CBE9D6B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HEME</a:t>
            </a: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y favorite boo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George Azaryan 7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IM</a:t>
            </a: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403884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lk about my favorite book ERAG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648320" y="1599840"/>
            <a:ext cx="4038480" cy="45306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7" descr="eragon_1280x1024_01"/>
          <p:cNvPicPr/>
          <p:nvPr/>
        </p:nvPicPr>
        <p:blipFill>
          <a:blip r:embed="rId2"/>
          <a:stretch/>
        </p:blipFill>
        <p:spPr>
          <a:xfrm>
            <a:off x="4643280" y="1557360"/>
            <a:ext cx="4104000" cy="4653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THE PLOT OF THE FIRST BOOK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05" name="Picture 31" descr="Eragon"/>
          <p:cNvPicPr/>
          <p:nvPr/>
        </p:nvPicPr>
        <p:blipFill>
          <a:blip r:embed="rId1"/>
          <a:stretch/>
        </p:blipFill>
        <p:spPr>
          <a:xfrm>
            <a:off x="965160" y="1600200"/>
            <a:ext cx="3021120" cy="45306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Eragon - a boy who lives in a village called Karvaholl. Going on a hunt, he accidentally becomes the owner of the mysterious stone. Eragon finds out only later that the stone is a dragon egg from a dragon to hatch that can influence the fate of the Empir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uthor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Christopher Paolini has written three books about Eragon. May 27, 2011, Christopher was awarded the Guinness World Records as the youngest author who has sold a record number of bestsellers in the world - Eragon, Brisingr Return and dispersed in more than 25 million copie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648320" y="1599840"/>
            <a:ext cx="4038480" cy="45306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5" descr="loadJpg"/>
          <p:cNvPicPr/>
          <p:nvPr/>
        </p:nvPicPr>
        <p:blipFill>
          <a:blip r:embed="rId2"/>
          <a:stretch/>
        </p:blipFill>
        <p:spPr>
          <a:xfrm>
            <a:off x="4643280" y="1413000"/>
            <a:ext cx="4032360" cy="496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Here are some titles of books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9" descr="brisingr"/>
          <p:cNvPicPr/>
          <p:nvPr/>
        </p:nvPicPr>
        <p:blipFill>
          <a:blip r:embed="rId1"/>
          <a:stretch/>
        </p:blipFill>
        <p:spPr>
          <a:xfrm>
            <a:off x="395280" y="1413000"/>
            <a:ext cx="4032360" cy="51847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" descr="eragon-4"/>
          <p:cNvPicPr/>
          <p:nvPr/>
        </p:nvPicPr>
        <p:blipFill>
          <a:blip r:embed="rId2"/>
          <a:stretch/>
        </p:blipFill>
        <p:spPr>
          <a:xfrm>
            <a:off x="4514760" y="1773360"/>
            <a:ext cx="4629240" cy="475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Why it is my favorite book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like this book because it is interesting fascinating and enjoyable to rea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ANK YOU FOR YOUR ATTENTION!!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14" descr="cheese-grin"/>
          <p:cNvPicPr/>
          <p:nvPr/>
        </p:nvPicPr>
        <p:blipFill>
          <a:blip r:embed="rId1"/>
          <a:stretch/>
        </p:blipFill>
        <p:spPr>
          <a:xfrm>
            <a:off x="4643280" y="1413000"/>
            <a:ext cx="4500720" cy="5445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8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3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8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7T17:13:52Z</dcterms:created>
  <dc:creator>пользователь</dc:creator>
  <dc:description/>
  <dc:language>en-US</dc:language>
  <cp:lastModifiedBy>a80</cp:lastModifiedBy>
  <dcterms:modified xsi:type="dcterms:W3CDTF">2013-11-20T10:13:34Z</dcterms:modified>
  <cp:revision>3</cp:revision>
  <dc:subject/>
  <dc:title>THEME:</dc:title>
</cp:coreProperties>
</file>