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197-83B3-4E93-8F83-6C9A8B7E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8B9-3985-4963-9F4A-3CE8DFCF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81D-76A5-404D-806E-05371D8D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06D-B1E9-4AF7-BB91-329A9010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73A7-6327-4536-BF35-7A7BB319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EAEA-E67C-4C9F-A504-4F86F9C9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207E-16C6-4243-9D41-D21249FD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1C2A-1696-4524-812B-D9841CFC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D5D8-D0A2-4804-A130-720B5A6C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00B2-4FB9-4783-AF67-29C33092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F383-BF56-44D0-A31F-3649417E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A54-173E-4BB6-9E27-E36A209F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0F8D-54ED-4275-9000-B88ED78C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D280-7ABD-4CEB-B584-43ACBB50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0B8B-D698-4641-91F4-C99D1F49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3A27-4BCF-4929-9712-C32F531D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FA78-2FAC-47CD-AB7D-5CDE0591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049-B40D-44E2-9CFE-8BBE9437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7CB8-A777-4D2F-88CD-D4571B30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291-669F-487F-A64B-17C8BE23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6A7-C350-4F8A-B989-F65962A0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858-936B-4E48-9349-5F5F6A20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C3F-E5F9-4E6D-9509-931C2112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61B-04F7-4B37-AFFB-40803ADB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C784-C594-453E-AC15-D9BB8EFFAA9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4F96-282F-40B5-BD75-47ABCB1C808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318944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Контрольное тестирование по теме «Анализаторы. Значение анализаторов в жизни человека»</a:t>
            </a:r>
            <a:endParaRPr b="1" lang="en-US" sz="6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340000" y="4581000"/>
            <a:ext cx="66247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Учитель биологии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  МОУ Уваровская СОШ                 Пелевина И.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При качании на качелях хорошо тренируется анализатор: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Зрительны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Слухов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естибулярны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кусов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Для лучшего восприятия вкуса важно: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Тщательное пережевывание пищ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Использование горячей пищ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Смачивание пищи слю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Поглощение холодной пищ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Осязательный анализатор, в отличие от обонятельного: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Воспринимает холод, тепло, прикосновение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Является анализатором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Относится к контактным анализаторам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Имеет тактильные рецепторы в коже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Отметьте верные высказывания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Белочная оболочка глаза (склера) прозрачн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Носослезный проток отводит избыток слезной жидкости в носовую полость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Рецепторами сетчатки являются палочки и колбочк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Центральный зрительный анализатор находится в затылочной доле коры больших полушарий, а слуховой– в височной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4360" y="333000"/>
            <a:ext cx="770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Анализатор состоит из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Рецепторов и проводящих пу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Проводящих путей и зоны к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Зоны коры и рецеп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Рецепторов, проводящих путей и зоны коры больших полуша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Центральные звенья всех анализаторов располагаются в: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156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998360"/>
            <a:ext cx="6364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Кож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Органах чув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Спинном моз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Коре больших полуша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Человек получает наибольшее количество информации об окружающем мире благодаря: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2565000"/>
            <a:ext cx="82184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Слуху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Зрению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Обонянию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кусу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Кожно-мышечному восприятию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803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Впишите цифры, соответствующие частям глаза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23" name="Рисунок 1" descr="Вопрос к п"/>
          <p:cNvPicPr/>
          <p:nvPr/>
        </p:nvPicPr>
        <p:blipFill>
          <a:blip r:embed="rId2"/>
          <a:stretch/>
        </p:blipFill>
        <p:spPr>
          <a:xfrm>
            <a:off x="0" y="2046240"/>
            <a:ext cx="3746520" cy="3484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елочная оболочка –Мышцы глаза –Роговица –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506520" indent="-50652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адужная оболочка –Стекловидное тело –Сетчатка –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506520" indent="-50652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осудистая оболочка Хрусталик –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Причинами нарушения зрения могут быть: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Повреждение глаз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Созерцание картин природы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Несоблюдение правил гигиены зрения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Травма затылочной доли мозг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авершите высказывание.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ысокий уровень уличного шума снижает ___________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Причиной повреждения барабанной перепонки может быть: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оздействие твердого предмет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Громкий звук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оспаление среднего ух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осприятие реч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Полукружные каналы располагаются в трех взаимно перпендикулярных направлениях, что соответствует:</a:t>
            </a:r>
            <a:endParaRPr b="1" lang="en-US" sz="32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14716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Разной высоте звуков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Трем отделам ух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Трем измерениям пространств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Трем отделам анализатор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3T18:07:40Z</dcterms:created>
  <dc:creator>USER</dc:creator>
  <dc:description/>
  <dc:language>en-US</dc:language>
  <cp:lastModifiedBy>USER</cp:lastModifiedBy>
  <dcterms:modified xsi:type="dcterms:W3CDTF">2015-08-26T17:53:58Z</dcterms:modified>
  <cp:revision>4</cp:revision>
  <dc:subject/>
  <dc:title>Контрольное тестирование</dc:title>
</cp:coreProperties>
</file>