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472-DC71-4193-B0A3-DEDFC016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9CA-4770-42BA-BCAC-EA21EA57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D78-D4FC-41DE-A2F4-69958910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B4B-0320-4A5F-8A88-F59BDF75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53B-BF28-47AF-9D36-70081F26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11E8-0F34-4A83-A5F9-57A41E0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A2F1-86F6-4480-A722-C3469DB5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5154-B15B-4CB3-B977-A1D5EDB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E43E-B2E9-4CE0-BE6A-920763A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A43A-F73A-4D93-A105-65142C5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A94-8F14-47BF-9BFC-E483728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270-D0CE-413A-BAED-04AA19AE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73AC-9AE0-4CAB-8CE5-70836F9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2C9A-49D5-4CAB-A04F-AA13FAB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C5AF-8313-4389-833F-DBA4BB8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A5E1-D731-4774-AE73-33AF321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B06C-6B3B-4E47-B820-7B67DC42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4BF-D96C-4EB8-AE1D-5E514FC2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A45-EF53-42EC-828E-6E5AC754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1E9-49DF-4072-A0D3-10410457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18A-8ECD-42E0-8E8D-1542DD8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E92-CEDA-4C9E-B1D1-A9ACDCB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617-1080-475A-B4EA-621A683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3FE-AC42-4C0A-B9FF-DC749F52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31A-7956-4A0F-ACE9-F0E56D3DB3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681-1AA2-4FB5-989D-F18296FF1F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Контрольное тестирование по теме «Анализаторы. Значение анализаторов в жизни человека»</a:t>
            </a:r>
            <a:endParaRPr b="1" lang="en-US" sz="6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6247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Учитель биологи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МОУ Уваровская СОШ                 Пелевина И.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и качании на качелях хорошо тренируется анализатор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Зрительны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лухов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естибулярны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кусов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Для лучшего восприятия вкуса важно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щательное пережевывание пищ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Использование горячей пищ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мачивание пищи слю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оглощение холодной пищ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сязательный анализатор, в отличие от обонятельного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Воспринимает холод, тепло, прикосновени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Является анализатором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Относится к контактным анализаторам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Имеет тактильные рецепторы в кож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тметьте верные высказывания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Белочная оболочка глаза (склера) прозрачн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осослезный проток отводит избыток слезной жидкости в носовую полость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ецепторами сетчатки являются палочки и колбоч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Центральный зрительный анализатор находится в затылочной доле коры больших полушарий, а слуховой– в височно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333000"/>
            <a:ext cx="770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Анализатор состоит и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Рецепторов и проводящих пу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оводящих путей и зоны к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Зоны коры и рецеп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Рецепторов, проводящих путей и зоны коры больших полуш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Центральные звенья всех анализаторов располагаются в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56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998360"/>
            <a:ext cx="6364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рганах чув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пинном моз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ре больших полуш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Человек получает наибольшее количество информации об окружающем мире благодаря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18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лух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Зрен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бонян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кус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жно-мышечному восприят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пишите цифры, соответствующие частям глаза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23" name="Рисунок 1" descr="Вопрос к п"/>
          <p:cNvPicPr/>
          <p:nvPr/>
        </p:nvPicPr>
        <p:blipFill>
          <a:blip r:embed="rId2"/>
          <a:stretch/>
        </p:blipFill>
        <p:spPr>
          <a:xfrm>
            <a:off x="0" y="2046240"/>
            <a:ext cx="3746520" cy="3484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елочная оболочка –Мышцы глаза –Роговица –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506520" indent="-50652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дужная оболочка –Стекловидное тело –Сетчатка –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506520" indent="-50652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осудистая оболочка Хрусталик –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ичинами нарушения зрения могут быть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овреждение глаз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озерцание картин природ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Несоблюдение правил гигиены зрени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равма затылочной доли мозг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вершите высказывание.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ысокий уровень уличного шума снижает ___________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ичиной повреждения барабанной перепонки может быть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здействие твердого предмет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Громкий звук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спаление среднего ух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сприятие реч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олукружные каналы располагаются в трех взаимно перпендикулярных направлениях, что соответствует:</a:t>
            </a:r>
            <a:endParaRPr b="1" lang="en-US" sz="3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47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Разной высоте звуков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рем отделам ух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рем измерениям пространств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рем отделам анализатор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8:07:40Z</dcterms:created>
  <dc:creator>USER</dc:creator>
  <dc:description/>
  <dc:language>en-US</dc:language>
  <cp:lastModifiedBy>USER</cp:lastModifiedBy>
  <dcterms:modified xsi:type="dcterms:W3CDTF">2015-08-26T17:53:58Z</dcterms:modified>
  <cp:revision>4</cp:revision>
  <dc:subject/>
  <dc:title>Контрольное тестирование</dc:title>
</cp:coreProperties>
</file>