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C09-03DC-41B3-A90F-96C69553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D3C-7DC3-4A29-BFA5-B9059207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CB7-251E-48CD-84E3-56C5F6B5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F05-EAA5-48D8-8EF9-57F44FCE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B260-3860-4E6F-AFF2-AAE9D1E8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62AA-0FC3-403B-9DDA-B739C4AC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7DB-4E14-4A15-81FB-E1CB0FC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89D-7295-46A3-9463-F7FF5570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1E0-9B3B-4A0D-8B66-8D4BD8D7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DB7-7C1D-46F6-A6F7-05A68BB0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0A6D-21BC-4C6A-AAFD-B7893DC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FAA-0CC5-4443-933B-A9261BE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1C9-D596-407A-B2E4-7424041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833-E4E4-402D-9682-31A02EE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B628-2340-4132-8EE8-C5908CE0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695-FA77-440D-89F4-0B6A90FF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2E9-D0C6-4B61-BF4D-85335E1A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A4A5-E360-4289-85B7-98B86A0A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262D-6677-4BEA-BA0B-4ECEBEC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22D2-73CB-4D33-B3B1-EA93392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0DD0-A3C7-43DC-9526-0599C2DA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B8D8-5A9E-41C5-8F11-042DED1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0B7-0507-468E-B398-F76D5057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582E-0592-4651-BC7B-037F5A47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A53B-F8D1-4C2A-A6B7-BD4461A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4617-4BDD-4B10-8447-0B7FD60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2C2B-28C4-470A-BF20-9B98BCB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306F-7DF4-4FD9-A013-2A9A7AA1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0DDD-0E28-40D0-9504-73D59A08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A930-F9AC-4641-A498-1650B525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2847-32C2-4603-B9C1-B285E493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1F88-969F-4D3B-A8DB-B27B024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753A-7CEA-475C-83CA-809D8A2C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31D-CDEC-4757-97A3-44E00482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E7D0-DD60-4AF3-927C-184DC148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DB4F-4502-4EF1-B845-DEF65D96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A08D-07E2-4CA5-84C3-392B14F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2DAB-5B76-44DB-90EC-C7CD9C9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A8EC-476B-4D53-AE00-69296C9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94D7-1DF6-408B-B7F4-82BC3CF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FC9C-2E44-4FB9-AC67-0E9A78D6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C0FA-B036-4F94-9952-12899860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5C69-988E-429E-A32B-BC666C28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A686C-BD6F-4F94-A5FA-B81EEDE9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7B4-AF5B-40E5-9DE2-A2564968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379C-D29B-45EB-BBEA-640A8F3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D5CB-69E3-4844-924C-5E4DD16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C2A4-DCF6-4988-8A00-B779919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9A29-2F96-4283-A27B-FEBC77F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988D-A5FC-4A35-8594-518F189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D85D4-D96A-4280-B0AF-F597442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755A-668C-4B87-99A8-35AF90A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A9D1-C035-409D-B00A-91EF3CA7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12359-7D97-4699-BB93-ECF17A50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B535-960A-4885-ACFC-F143F04B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AE5-2263-4C07-B0D2-938D6B43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40AC-F931-4131-9192-FF9FBBBC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23BC-87A5-435C-AD51-2979C990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75BD-CA21-49FC-912B-BF97252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CBE3-2EF0-4903-A9BE-2FA59B0B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259D-31DC-44C4-B427-08B88A88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6A00-88CD-4B7F-A92A-2C16D403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6A3E-608C-4E88-A0AD-41DD13BE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E745-79C6-4BC1-8B98-7CACEF5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19381-7020-4AEE-8056-34F6A05E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52E1D-D7DE-4E2B-AD26-CCC363B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938-94FE-41A1-B720-7389675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114D-03F3-412B-BD8C-D0C5906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EBB1-E0AB-45F5-8918-A06A16FF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83CCE-D396-4838-AB95-070D35FC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40173-86BD-429B-AD67-FEFF7A3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946A-633C-43D5-BA34-8E2379B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4D19A-D714-4DDC-8184-549711E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40BA8-99FB-4764-AD0E-9D063A5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742F-CCC3-4E35-ADE2-8F98B375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CFCA6-F868-4D4F-AEF3-0FB2A29F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3920F-2489-4992-B88E-63CBCD1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15D-DA27-4D2A-A8B2-36E5B43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85D10-D9A5-401A-8FAE-A58A2C0C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CE11-8885-4A05-BB41-90EDC8E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C19DC-2562-4866-BE6B-61E01E5E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1A33-4EAB-4BB2-A71F-BC51EC49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833E-80EE-45F3-A194-8EF3DC74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A832-E1FE-4932-8C08-88A6C94C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D892-A766-4538-89F4-DBD6489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96BB0-1F23-4A49-A67D-BC8047B1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A908F-A20F-4A26-ABE7-2A5B37B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A696-F0FA-488A-A85F-732C494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CE8-7359-423E-9A97-A151879A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6C0A-0CB3-4680-8AAC-D675720E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A922E-578B-4F91-8589-3FC968A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8612-A273-4344-8D28-F4C0AF4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205BA-446F-4C7B-9776-824C23C3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D1731-8A6C-4A04-B663-F169015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8200-324F-4535-A1AA-710A0A17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17883-D721-4250-A0EB-50EB94DB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18A-4FC0-4B8D-B564-771BDDD99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B26-0ABA-483E-B939-6D57EBA14D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ED9-AF2E-4D8D-B939-7C8B7F16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C5A-B55B-496A-843C-E7D54E4A0D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B19C-846C-4449-BCE1-707ADCB8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86FE-F389-4F13-A78E-293B110A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90F-BC60-4F7C-BB1B-190FC7E1F9B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6E45-4B51-4342-A10D-94C01EF6325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51.radikal.ru/0806/4e/1137dc9d4f1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babruisk.com/wp-content/uploads/2008/01/21/mashino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velovision.ru/wp-content/uploads/2009/06/walking-bike-recycling-sho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deafgayua.narod.ru/265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files.ati.su/Forums/1050/-1919394725/2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snimok.info/razdel/animal/ani_03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www.offshore-technology.com/projects/mars/images/mars1.jp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i40.beon.ru/30/30/793030/49/29691549/f_7226447.jpe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prom-live.ru/uploads/posts/2009-08/1250761898_prom.jpg" TargetMode="External"/><Relationship Id="rId18" Type="http://schemas.openxmlformats.org/officeDocument/2006/relationships/image" Target="../media/image12.jpeg"/><Relationship Id="rId19" Type="http://schemas.openxmlformats.org/officeDocument/2006/relationships/hyperlink" Target="http://www.kvadroom.ru/i/foto/8941934-verybig.jpg" TargetMode="External"/><Relationship Id="rId20" Type="http://schemas.openxmlformats.org/officeDocument/2006/relationships/image" Target="../media/image13.jpeg"/><Relationship Id="rId21" Type="http://schemas.openxmlformats.org/officeDocument/2006/relationships/hyperlink" Target="http://www.oil-career.ru/_ph/43/375047047.jpg" TargetMode="External"/><Relationship Id="rId22" Type="http://schemas.openxmlformats.org/officeDocument/2006/relationships/image" Target="../media/image14.jpeg"/><Relationship Id="rId2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pth.com.ua/building/pages/204/hr-120~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03.olx.ru/ui/1/89/59/14178059_1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stat8.blog.ru/lr/092e92c641a800303e0bd5ac419ee1c0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estru.ru/images/thumb_big/080320_021756_726.jpg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static.diary.ru/userdir/4/0/5/5/405577/40893436.jpg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www.kupava.ru/img/big/4479.jpg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www.kupava.ru/img/big/4483.jp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www.zem.ru/upload/news/604.jpg" TargetMode="External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lgvardia.ru/files/u3/pipeline_contruction_vertical_resize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automal.ru/PORSCHE/porsche_carrera_gt/porsche_carrera_gt_01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hyperlink" Target="http://s53.radikal.ru/i140/0811/7c/ca6a45ec865a.jpg" TargetMode="External"/><Relationship Id="rId7" Type="http://schemas.openxmlformats.org/officeDocument/2006/relationships/image" Target="../media/image26.jpeg"/><Relationship Id="rId8" Type="http://schemas.openxmlformats.org/officeDocument/2006/relationships/hyperlink" Target="http://sob.ru/upimg/issue/2352" TargetMode="External"/><Relationship Id="rId9" Type="http://schemas.openxmlformats.org/officeDocument/2006/relationships/image" Target="../media/image27.jpeg"/><Relationship Id="rId10" Type="http://schemas.openxmlformats.org/officeDocument/2006/relationships/hyperlink" Target="http://monolit27.by.ru/kedr3.jpg" TargetMode="External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 rot="622800">
            <a:off x="426600" y="620640"/>
            <a:ext cx="8717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                   </a:t>
            </a:r>
            <a:r>
              <a:rPr b="1" lang="en-US" sz="5400" spc="-1" strike="noStrike">
                <a:solidFill>
                  <a:srgbClr val="ff5c9c"/>
                </a:solidFill>
                <a:latin typeface="Century Gothic"/>
              </a:rPr>
              <a:t>Задание</a:t>
            </a:r>
            <a:endParaRPr b="0" lang="en-US" sz="5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21, 22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Привести по 2 примера форм собственности(составить таблицу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Задание №7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Объясните, чем отличается ЧАСТНАЯ собственность от ЛИЧНО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08000" y="3429000"/>
          <a:ext cx="9036000" cy="3249720"/>
        </p:xfrm>
        <a:graphic>
          <a:graphicData uri="http://schemas.openxmlformats.org/drawingml/2006/table">
            <a:tbl>
              <a:tblPr/>
              <a:tblGrid>
                <a:gridCol w="2217600"/>
                <a:gridCol w="1706760"/>
                <a:gridCol w="2087640"/>
                <a:gridCol w="30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рма собств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то собствен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то имеет право делат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571920" y="0"/>
            <a:ext cx="557208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Наука, изучающая, каким образом общество с ограниченными ресурсами решает, сколько, для кого и как производить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WordArt 4"/>
          <p:cNvSpPr txBox="1"/>
          <p:nvPr/>
        </p:nvSpPr>
        <p:spPr>
          <a:xfrm>
            <a:off x="108000" y="1989000"/>
            <a:ext cx="3071880" cy="328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ном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/>
          <p:nvPr/>
        </p:nvSpPr>
        <p:spPr>
          <a:xfrm>
            <a:off x="3348000" y="1413000"/>
            <a:ext cx="432000" cy="417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5040" cy="1432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.   Какие товары и услуги должны будут произведены и в каком количестве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2.   Каким образом произвести эти товары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.  Кто будет потреблять эти товары и услуги для кого их нужно производить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5c9c"/>
                </a:solidFill>
                <a:latin typeface="Century Gothic"/>
              </a:rPr>
              <a:t>Что такое СОБСТВЕННОСТЬ?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4410000"/>
            <a:ext cx="896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отношение человека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к принадлежащей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ему  вещ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619280" y="620640"/>
            <a:ext cx="597528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бственнос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3573360"/>
            <a:ext cx="3672000" cy="976320"/>
          </a:xfrm>
          <a:prstGeom prst="downArrow">
            <a:avLst>
              <a:gd name="adj1" fmla="val 82019"/>
              <a:gd name="adj2" fmla="val 100000"/>
            </a:avLst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25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724000" y="6454440"/>
            <a:ext cx="29624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9280" y="1916280"/>
            <a:ext cx="3529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ственност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620640"/>
            <a:ext cx="3529080" cy="914400"/>
          </a:xfrm>
          <a:prstGeom prst="rect">
            <a:avLst/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ладе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64000" y="5229360"/>
            <a:ext cx="3456000" cy="1058760"/>
          </a:xfrm>
          <a:prstGeom prst="rect">
            <a:avLst/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ряж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2637000"/>
            <a:ext cx="3456000" cy="1058760"/>
          </a:xfrm>
          <a:prstGeom prst="rect">
            <a:avLst/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ьзо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848600">
            <a:off x="3357360" y="1727280"/>
            <a:ext cx="2047680" cy="485640"/>
          </a:xfrm>
          <a:prstGeom prst="rightArrow">
            <a:avLst>
              <a:gd name="adj1" fmla="val 50000"/>
              <a:gd name="adj2" fmla="val 105411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80000" y="2924280"/>
            <a:ext cx="1441440" cy="485640"/>
          </a:xfrm>
          <a:prstGeom prst="rightArrow">
            <a:avLst>
              <a:gd name="adj1" fmla="val 50000"/>
              <a:gd name="adj2" fmla="val 74203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702200">
            <a:off x="3708000" y="4581360"/>
            <a:ext cx="1873440" cy="486000"/>
          </a:xfrm>
          <a:prstGeom prst="rightArrow">
            <a:avLst>
              <a:gd name="adj1" fmla="val 50000"/>
              <a:gd name="adj2" fmla="val 96370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4321080" cy="11304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бник стр.129-1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187280" y="0"/>
            <a:ext cx="6696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ствен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3280" y="1557360"/>
            <a:ext cx="10080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43640" y="1557360"/>
            <a:ext cx="936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2205000"/>
            <a:ext cx="37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вижима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435640" y="1916280"/>
            <a:ext cx="3240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недвижима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pic>
        <p:nvPicPr>
          <p:cNvPr id="369" name="" descr="Картинка 1 из 900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Картинка 30 из 19474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2492280"/>
            <a:ext cx="1625760" cy="165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Картинка 312 из 2593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076640"/>
            <a:ext cx="1835280" cy="1266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Картинка 230 из 90803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505480"/>
            <a:ext cx="1690920" cy="1352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Картинка 301 из 90803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19280" y="3933720"/>
            <a:ext cx="2160720" cy="1656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Картинка 548 из 90803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5300640"/>
            <a:ext cx="1763640" cy="1324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Картинка 3 из 305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30920" y="2997360"/>
            <a:ext cx="2413080" cy="17524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Картинка 6 из 305209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284720" y="2781360"/>
            <a:ext cx="2557440" cy="1703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Картинка 39 из 58302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4360" y="4724280"/>
            <a:ext cx="1979640" cy="1474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Картинка 9 из 107195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92720" y="5392800"/>
            <a:ext cx="2198520" cy="1465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Картинка 280 из 81956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067280" y="4653000"/>
            <a:ext cx="13604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50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1" name="" descr="Картинка 187 из 27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4076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Картинка 33 из 202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Картинка 105 из 8409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9640" y="4365720"/>
            <a:ext cx="3024360" cy="2206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Картинка 30 из 26767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43640" y="1773360"/>
            <a:ext cx="2411280" cy="25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Картинка 44 из 26767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4972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Картинка 233 из 87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16360" y="189000"/>
            <a:ext cx="3097080" cy="2341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Картинка 238 из 87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43280" y="4311720"/>
            <a:ext cx="3394080" cy="2546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Картинка 95 из 8195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700360" y="2421000"/>
            <a:ext cx="3492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1557360"/>
            <a:ext cx="316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ff00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ьн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50000">
                    <a:srgbClr val="ff00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2200" y="1628640"/>
            <a:ext cx="4141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33cc33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ллектуальн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33cc33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1" name="" descr="Картинка 387 из 815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24280"/>
            <a:ext cx="1531800" cy="2303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Картинка 35 из 20879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2781360"/>
            <a:ext cx="2374920" cy="1782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7596360" y="2924280"/>
            <a:ext cx="15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Картинка 44 из 149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42592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Картинка 109 из 149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40000" y="515628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Картинка 355 из 8150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42920" y="4221000"/>
            <a:ext cx="1979640" cy="1484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Картинка 21 из 2323502"/>
          <p:cNvPicPr/>
          <p:nvPr/>
        </p:nvPicPr>
        <p:blipFill>
          <a:blip r:embed="rId12"/>
          <a:stretch/>
        </p:blipFill>
        <p:spPr>
          <a:xfrm>
            <a:off x="6443640" y="2852640"/>
            <a:ext cx="1241280" cy="1656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Картинка 2 из 3413690"/>
          <p:cNvPicPr/>
          <p:nvPr/>
        </p:nvPicPr>
        <p:blipFill>
          <a:blip r:embed="rId13"/>
          <a:stretch/>
        </p:blipFill>
        <p:spPr>
          <a:xfrm>
            <a:off x="6084720" y="4508640"/>
            <a:ext cx="1727280" cy="1693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Картинка 209 из 226770"/>
          <p:cNvPicPr/>
          <p:nvPr/>
        </p:nvPicPr>
        <p:blipFill>
          <a:blip r:embed="rId14"/>
          <a:stretch/>
        </p:blipFill>
        <p:spPr>
          <a:xfrm>
            <a:off x="4890960" y="4869000"/>
            <a:ext cx="1381320" cy="1989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Картинка 151 из 11285"/>
          <p:cNvPicPr/>
          <p:nvPr/>
        </p:nvPicPr>
        <p:blipFill>
          <a:blip r:embed="rId15"/>
          <a:stretch/>
        </p:blipFill>
        <p:spPr>
          <a:xfrm>
            <a:off x="7821720" y="4869000"/>
            <a:ext cx="1322280" cy="1989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Картинка 469 из 5950"/>
          <p:cNvPicPr/>
          <p:nvPr/>
        </p:nvPicPr>
        <p:blipFill>
          <a:blip r:embed="rId16"/>
          <a:stretch/>
        </p:blipFill>
        <p:spPr>
          <a:xfrm>
            <a:off x="4500720" y="2924280"/>
            <a:ext cx="1942920" cy="1457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2185200">
            <a:off x="334800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39200">
            <a:off x="4356000" y="148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c9c"/>
                </a:solidFill>
                <a:latin typeface="Century Gothic"/>
              </a:rPr>
              <a:t>     </a:t>
            </a:r>
            <a:r>
              <a:rPr b="1" lang="en-US" sz="4800" spc="-1" strike="noStrike">
                <a:solidFill>
                  <a:srgbClr val="ff5c9c"/>
                </a:solidFill>
                <a:latin typeface="Century Gothic"/>
              </a:rPr>
              <a:t>Формы собственности</a:t>
            </a:r>
            <a:endParaRPr b="0" lang="en-US" sz="4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общая собственность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частная собственность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смешанная собственность (1 + 2)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индивидуальная частная собственность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государственная 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кооперативная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коллективная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лична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8:31:49Z</dcterms:created>
  <dc:creator>uzer</dc:creator>
  <dc:description/>
  <dc:language>en-US</dc:language>
  <cp:lastModifiedBy>User</cp:lastModifiedBy>
  <dcterms:modified xsi:type="dcterms:W3CDTF">2010-02-28T07:34:27Z</dcterms:modified>
  <cp:revision>13</cp:revision>
  <dc:subject/>
  <dc:title>Задачи экономики</dc:title>
</cp:coreProperties>
</file>