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6B0B-7003-47B9-A85A-697273B7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1C69-1A41-41ED-83E6-BA89E36C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F956-1BEA-46F9-ACCF-9186575E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510E-9C78-44D9-882B-07A0FC05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17C6-0D6D-47C1-92FB-957DCE54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240B-FE0D-4698-9E12-662ACF3E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3282-0E7D-48A6-96EF-213C97F6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861B-3AF2-49D0-A4C2-188D19E2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C2F3-7C46-453F-85E5-A7C37701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16D9-3D3E-474A-8B7A-34D34073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8277-F354-494F-A73B-92F2AF76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7650-EFF5-46DA-AF2C-EA15CD17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E289-A846-48AB-9BD5-FD96DB95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D2E6-B12B-4844-A478-39FDC16F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2630-71D7-4E9B-8137-071986A5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F59D-FE3E-4491-B6F5-814C3DF2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B691-1001-4861-A586-2F7F3A2F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09BC0-0BDD-43CA-AEE1-87937BC4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CDEDC-F460-49FC-A8CD-412E0EB2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A9D86-8E3C-4170-B998-9ABEE897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5C4BF-A138-484C-ABBD-A5740B04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7D1EA-69EB-45E3-AF54-AF481733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AD7D-F063-4E87-B4DA-865DE11A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D296B-F75B-4749-A04A-207F4771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FFB97-279D-47C2-A06A-6BBF1CD1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31FA6-8A21-48AF-8F16-7AC754AB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194B3-81AC-4197-BCFB-84FE7374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601EE-1E69-4A78-A5F4-842551D1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2E0BA-26F1-44F8-BC76-9012DB55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865F1-E044-4DDE-B4E5-B923E3BA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A1B1F-FD82-4FB0-ABB1-296038C2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B122F-9BB3-4DA7-84AE-AFB280A6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B4F39-7D58-4701-829D-CB6CF353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2A9F-4036-47B4-8D0F-2621D1B5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0A2CC-9415-4DC6-9889-C05D9C7C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EF8EE-1FFD-4386-88BA-68BEAE35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EAB43-BF91-4DD6-8C77-9A9D4746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602C7-B20D-4B62-9A4C-3B981B71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170FB-AA48-4B1A-B2A2-8D9E6FA2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80E40-CFF0-468A-819B-4A6AC5BD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9DDF6-C9E3-48FB-9C3E-9E6A6544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96D01-CC83-495F-8FDA-36A05C2C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58668-6D0A-4C48-BB44-2CB8306D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FFE76-083A-4CD2-9C60-90C120C8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D74B-D663-44DF-B2BE-2288103E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50B2A-8CAF-4105-AF80-3B37D519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65945-2270-45F0-B844-4F82D1B2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AD5EA-DBA8-4BF5-9638-30C12D9D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BB0C7-489F-4745-867D-9F895CF7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B43CB-583D-4E40-87D0-EB0D9257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06C12-AB6C-4DF2-AD53-F7B0EB12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86C82-E181-4C1C-8C73-AF621DA2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E0D42-B60F-4618-86CE-89A22A24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1213B-C94E-4FB0-B017-06F04B07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002CA-C890-441E-B6BD-E7DC4C92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3148-253B-4250-A199-5475ED02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D8F44-5709-4245-B68F-688A19241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FE5DA-00E4-4A47-857D-68E241D2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5D72E-573D-4292-8468-0D7AAD96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BD2E3-B263-4C5A-9006-14EF73E5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D9332-3EF5-4D71-82BB-715AE758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AD4C2-9215-4DB8-89F4-F81CA2E2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6B721-BB28-4A62-B42A-F39B7D55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9E085-7B63-4D87-9B86-AD6E0CED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9121A-9C14-407F-92DA-9F078ED8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B21FE-CDA9-463A-B8C1-326562DA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1E0D-A1D9-4DE7-BD6C-45EF5A1B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F73E5-EF3E-415B-8FE8-B6241C49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A4CCE-5FB4-49AD-92BF-D9E9024A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27885-5949-4CD3-8A82-A66AC3F7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3A1CB-75A7-440A-A73A-00490C27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DDE9C-AEE4-4E6F-9146-6BF31725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0F56E-D597-436A-A022-BBE26FD9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B4A15-3B43-4220-89AD-7123FD4E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D0A45-59D0-4CE6-90DD-B5EAD6A6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CBA0F-2A8A-47BA-BC6B-0493B351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10AE0-A0E2-4B27-99D7-028AF045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9C93-CFED-45C1-B875-D720361D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AB9E5-847B-4499-8ED0-B7065E7D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5FDF0-5462-4079-9ECA-CCBFAFED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B6744-3ED9-4B5A-B1EF-57C0FAA5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12070-03EF-4566-8B7D-680B8BE1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F1EF4-172B-49A0-8641-1AC68A4C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FF184-9F20-452A-AC52-4577335B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D53B8-CC0B-4405-B34E-5386810E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62582-664C-46F8-AAF6-B97D5908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946AD-08F5-4CFC-A960-C4B7C76F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23787-E376-4043-A459-87EDB25B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094D-EC4A-4665-9F25-D7EC1FBB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4C008-7AF9-43ED-9B5C-62F73FD0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31638-D474-4F4A-B203-46865DC9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E4A6C-CC78-4DB2-B191-43A9F135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FEC29-7FB8-44F9-B459-5E92AD73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0BA9C-B3A8-45B8-88D1-5AC17B0F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05D15-C277-4B34-A82B-6F685126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BC19E-0927-4382-989E-D949C0DC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5E77-A076-44B2-87AC-1E867399A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D13C-F74F-4BE9-BD05-6FE6FA8D932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E379-CF3D-44A2-8C1F-B1A55E668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F6CE-94A8-4B9D-9EAC-5BA02182F1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25BC-FB03-4FC9-8E3C-B7309776E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21E3-AC2C-489E-988A-39D1423E4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0A94-5FB6-406B-95F4-67B78432267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1874-8D0F-4993-BF10-A56D731A35A3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051.radikal.ru/0806/4e/1137dc9d4f17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babruisk.com/wp-content/uploads/2008/01/21/mashino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velovision.ru/wp-content/uploads/2009/06/walking-bike-recycling-shoes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www.deafgayua.narod.ru/265.jpg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files.ati.su/Forums/1050/-1919394725/2.jpg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www.snimok.info/razdel/animal/ani_03.jpg" TargetMode="External"/><Relationship Id="rId12" Type="http://schemas.openxmlformats.org/officeDocument/2006/relationships/image" Target="../media/image9.jpeg"/><Relationship Id="rId13" Type="http://schemas.openxmlformats.org/officeDocument/2006/relationships/hyperlink" Target="http://www.offshore-technology.com/projects/mars/images/mars1.jpg" TargetMode="External"/><Relationship Id="rId14" Type="http://schemas.openxmlformats.org/officeDocument/2006/relationships/image" Target="../media/image10.jpeg"/><Relationship Id="rId15" Type="http://schemas.openxmlformats.org/officeDocument/2006/relationships/hyperlink" Target="http://i40.beon.ru/30/30/793030/49/29691549/f_7226447.jpeg" TargetMode="External"/><Relationship Id="rId16" Type="http://schemas.openxmlformats.org/officeDocument/2006/relationships/image" Target="../media/image11.jpeg"/><Relationship Id="rId17" Type="http://schemas.openxmlformats.org/officeDocument/2006/relationships/hyperlink" Target="http://prom-live.ru/uploads/posts/2009-08/1250761898_prom.jpg" TargetMode="External"/><Relationship Id="rId18" Type="http://schemas.openxmlformats.org/officeDocument/2006/relationships/image" Target="../media/image12.jpeg"/><Relationship Id="rId19" Type="http://schemas.openxmlformats.org/officeDocument/2006/relationships/hyperlink" Target="http://www.kvadroom.ru/i/foto/8941934-verybig.jpg" TargetMode="External"/><Relationship Id="rId20" Type="http://schemas.openxmlformats.org/officeDocument/2006/relationships/image" Target="../media/image13.jpeg"/><Relationship Id="rId21" Type="http://schemas.openxmlformats.org/officeDocument/2006/relationships/hyperlink" Target="http://www.oil-career.ru/_ph/43/375047047.jpg" TargetMode="External"/><Relationship Id="rId22" Type="http://schemas.openxmlformats.org/officeDocument/2006/relationships/image" Target="../media/image14.jpeg"/><Relationship Id="rId2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pth.com.ua/building/pages/204/hr-120~1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03.olx.ru/ui/1/89/59/14178059_1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stat8.blog.ru/lr/092e92c641a800303e0bd5ac419ee1c0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www.bestru.ru/images/thumb_big/080320_021756_726.jpg" TargetMode="External"/><Relationship Id="rId8" Type="http://schemas.openxmlformats.org/officeDocument/2006/relationships/image" Target="../media/image18.jpeg"/><Relationship Id="rId9" Type="http://schemas.openxmlformats.org/officeDocument/2006/relationships/hyperlink" Target="http://static.diary.ru/userdir/4/0/5/5/405577/40893436.jpg" TargetMode="External"/><Relationship Id="rId10" Type="http://schemas.openxmlformats.org/officeDocument/2006/relationships/image" Target="../media/image19.jpeg"/><Relationship Id="rId11" Type="http://schemas.openxmlformats.org/officeDocument/2006/relationships/hyperlink" Target="http://www.kupava.ru/img/big/4479.jpg" TargetMode="External"/><Relationship Id="rId12" Type="http://schemas.openxmlformats.org/officeDocument/2006/relationships/image" Target="../media/image20.jpeg"/><Relationship Id="rId13" Type="http://schemas.openxmlformats.org/officeDocument/2006/relationships/hyperlink" Target="http://www.kupava.ru/img/big/4483.jpg" TargetMode="External"/><Relationship Id="rId14" Type="http://schemas.openxmlformats.org/officeDocument/2006/relationships/image" Target="../media/image21.jpeg"/><Relationship Id="rId15" Type="http://schemas.openxmlformats.org/officeDocument/2006/relationships/hyperlink" Target="http://www.zem.ru/upload/news/604.jpg" TargetMode="External"/><Relationship Id="rId16" Type="http://schemas.openxmlformats.org/officeDocument/2006/relationships/image" Target="../media/image22.jpeg"/><Relationship Id="rId1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olgvardia.ru/files/u3/pipeline_contruction_vertical_resize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automal.ru/PORSCHE/porsche_carrera_gt/porsche_carrera_gt_01.jpg" TargetMode="External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hyperlink" Target="http://s53.radikal.ru/i140/0811/7c/ca6a45ec865a.jpg" TargetMode="External"/><Relationship Id="rId7" Type="http://schemas.openxmlformats.org/officeDocument/2006/relationships/image" Target="../media/image26.jpeg"/><Relationship Id="rId8" Type="http://schemas.openxmlformats.org/officeDocument/2006/relationships/hyperlink" Target="http://sob.ru/upimg/issue/2352" TargetMode="External"/><Relationship Id="rId9" Type="http://schemas.openxmlformats.org/officeDocument/2006/relationships/image" Target="../media/image27.jpeg"/><Relationship Id="rId10" Type="http://schemas.openxmlformats.org/officeDocument/2006/relationships/hyperlink" Target="http://monolit27.by.ru/kedr3.jpg" TargetMode="External"/><Relationship Id="rId11" Type="http://schemas.openxmlformats.org/officeDocument/2006/relationships/image" Target="../media/image28.jpeg"/><Relationship Id="rId12" Type="http://schemas.openxmlformats.org/officeDocument/2006/relationships/image" Target="../media/image29.jpeg"/><Relationship Id="rId13" Type="http://schemas.openxmlformats.org/officeDocument/2006/relationships/image" Target="../media/image30.jpeg"/><Relationship Id="rId14" Type="http://schemas.openxmlformats.org/officeDocument/2006/relationships/image" Target="../media/image31.jpeg"/><Relationship Id="rId15" Type="http://schemas.openxmlformats.org/officeDocument/2006/relationships/image" Target="../media/image32.jpeg"/><Relationship Id="rId16" Type="http://schemas.openxmlformats.org/officeDocument/2006/relationships/image" Target="../media/image33.jpeg"/><Relationship Id="rId17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 rot="622800">
            <a:off x="426600" y="620640"/>
            <a:ext cx="8717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5c9c"/>
                </a:solidFill>
                <a:latin typeface="Century Gothic"/>
              </a:rPr>
              <a:t>                   </a:t>
            </a:r>
            <a:r>
              <a:rPr b="1" lang="en-US" sz="5400" spc="-1" strike="noStrike">
                <a:solidFill>
                  <a:srgbClr val="ff5c9c"/>
                </a:solidFill>
                <a:latin typeface="Century Gothic"/>
              </a:rPr>
              <a:t>Задание</a:t>
            </a:r>
            <a:endParaRPr b="0" lang="en-US" sz="54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§</a:t>
            </a: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21, 22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1.Привести по 2 примера форм собственности(составить таблицу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2. Задание №7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3. Объясните, чем отличается ЧАСТНАЯ собственность от ЛИЧНОЙ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08000" y="3429000"/>
          <a:ext cx="9036000" cy="3249720"/>
        </p:xfrm>
        <a:graphic>
          <a:graphicData uri="http://schemas.openxmlformats.org/drawingml/2006/table">
            <a:tbl>
              <a:tblPr/>
              <a:tblGrid>
                <a:gridCol w="2217600"/>
                <a:gridCol w="1706760"/>
                <a:gridCol w="2087640"/>
                <a:gridCol w="3024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орма собств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им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то собствен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Что имеет право делат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3571920" y="0"/>
            <a:ext cx="5572080" cy="65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3747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Наука, изучающая, каким образом общество с ограниченными ресурсами решает, сколько, для кого и как производить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WordArt 4"/>
          <p:cNvSpPr txBox="1"/>
          <p:nvPr/>
        </p:nvSpPr>
        <p:spPr>
          <a:xfrm>
            <a:off x="108000" y="1989000"/>
            <a:ext cx="3071880" cy="328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кономи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8" name=""/>
          <p:cNvSpPr/>
          <p:nvPr/>
        </p:nvSpPr>
        <p:spPr>
          <a:xfrm>
            <a:off x="3348000" y="1413000"/>
            <a:ext cx="432000" cy="417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88c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85040" cy="14320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1.   Какие товары и услуги должны будут произведены и в каком количестве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2.   Каким образом произвести эти товары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3.  Кто будет потреблять эти товары и услуги для кого их нужно производить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5c9c"/>
                </a:solidFill>
                <a:latin typeface="Century Gothic"/>
              </a:rPr>
              <a:t>Что такое СОБСТВЕННОСТЬ?</a:t>
            </a:r>
            <a:endParaRPr b="0" lang="en-US" sz="38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4410000"/>
            <a:ext cx="8964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        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отношение человека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            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к принадлежащей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ему  вещи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619280" y="620640"/>
            <a:ext cx="5975280" cy="273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обственность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3573360"/>
            <a:ext cx="3672000" cy="976320"/>
          </a:xfrm>
          <a:prstGeom prst="downArrow">
            <a:avLst>
              <a:gd name="adj1" fmla="val 82019"/>
              <a:gd name="adj2" fmla="val 100000"/>
            </a:avLst>
          </a:prstGeom>
          <a:solidFill>
            <a:srgbClr val="ff388c"/>
          </a:solid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325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5724000" y="6454440"/>
            <a:ext cx="296244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9280" y="1916280"/>
            <a:ext cx="35290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в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бственности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620640"/>
            <a:ext cx="3529080" cy="914400"/>
          </a:xfrm>
          <a:prstGeom prst="rect">
            <a:avLst/>
          </a:prstGeom>
          <a:solidFill>
            <a:srgbClr val="ff388c"/>
          </a:solid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о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ладе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64000" y="5229360"/>
            <a:ext cx="3456000" cy="1058760"/>
          </a:xfrm>
          <a:prstGeom prst="rect">
            <a:avLst/>
          </a:prstGeom>
          <a:solidFill>
            <a:srgbClr val="ff388c"/>
          </a:solid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споряжа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92720" y="2637000"/>
            <a:ext cx="3456000" cy="1058760"/>
          </a:xfrm>
          <a:prstGeom prst="rect">
            <a:avLst/>
          </a:prstGeom>
          <a:solidFill>
            <a:srgbClr val="ff388c"/>
          </a:solid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льзова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9848600">
            <a:off x="3357360" y="1727280"/>
            <a:ext cx="2047680" cy="485640"/>
          </a:xfrm>
          <a:prstGeom prst="rightArrow">
            <a:avLst>
              <a:gd name="adj1" fmla="val 50000"/>
              <a:gd name="adj2" fmla="val 105411"/>
            </a:avLst>
          </a:prstGeom>
          <a:solidFill>
            <a:srgbClr val="ff388c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780000" y="2924280"/>
            <a:ext cx="1441440" cy="485640"/>
          </a:xfrm>
          <a:prstGeom prst="rightArrow">
            <a:avLst>
              <a:gd name="adj1" fmla="val 50000"/>
              <a:gd name="adj2" fmla="val 74203"/>
            </a:avLst>
          </a:prstGeom>
          <a:solidFill>
            <a:srgbClr val="ff388c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1702200">
            <a:off x="3708000" y="4581360"/>
            <a:ext cx="1873440" cy="486000"/>
          </a:xfrm>
          <a:prstGeom prst="rightArrow">
            <a:avLst>
              <a:gd name="adj1" fmla="val 50000"/>
              <a:gd name="adj2" fmla="val 96370"/>
            </a:avLst>
          </a:prstGeom>
          <a:solidFill>
            <a:srgbClr val="ff388c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4321080" cy="11304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чебник стр.129-13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1187280" y="0"/>
            <a:ext cx="6696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бственнос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03280" y="1557360"/>
            <a:ext cx="10080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443640" y="1557360"/>
            <a:ext cx="93672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2205000"/>
            <a:ext cx="37083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движимая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435640" y="1916280"/>
            <a:ext cx="324000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недвижимая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  <p:pic>
        <p:nvPicPr>
          <p:cNvPr id="369" name="" descr="Картинка 1 из 9007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37000"/>
            <a:ext cx="1547640" cy="15476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Картинка 30 из 194746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47640" y="2492280"/>
            <a:ext cx="1625760" cy="16560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Картинка 312 из 2593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076640"/>
            <a:ext cx="1835280" cy="12668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Картинка 230 из 90803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63640" y="5505480"/>
            <a:ext cx="1690920" cy="13525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Картинка 301 из 908038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619280" y="3933720"/>
            <a:ext cx="2160720" cy="16560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Картинка 548 из 908038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0" y="5300640"/>
            <a:ext cx="1763640" cy="13240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Картинка 3 из 3051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730920" y="2997360"/>
            <a:ext cx="2413080" cy="17524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Картинка 6 из 3052096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284720" y="2781360"/>
            <a:ext cx="2557440" cy="17031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Картинка 39 из 583029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164360" y="4724280"/>
            <a:ext cx="1979640" cy="14749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Картинка 9 из 1071955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292720" y="5392800"/>
            <a:ext cx="2198520" cy="1465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Картинка 280 из 81956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4067280" y="4653000"/>
            <a:ext cx="13604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500"/>
                            </p:stCondLst>
                            <p:childTnLst>
                              <p:par>
                                <p:cTn id="1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500"/>
                            </p:stCondLst>
                            <p:childTnLst>
                              <p:par>
                                <p:cTn id="1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500"/>
                            </p:stCondLst>
                            <p:childTnLst>
                              <p:par>
                                <p:cTn id="2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8500"/>
                            </p:stCondLst>
                            <p:childTnLst>
                              <p:par>
                                <p:cTn id="2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1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81" name="" descr="Картинка 187 из 27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068560" cy="407664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Картинка 33 из 2024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00720" y="0"/>
            <a:ext cx="2843280" cy="21337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Картинка 105 из 84093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19640" y="4365720"/>
            <a:ext cx="3024360" cy="22064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Картинка 30 из 26767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43640" y="1773360"/>
            <a:ext cx="2411280" cy="25858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Картинка 44 из 267677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49720"/>
            <a:ext cx="2916360" cy="21891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Картинка 233 из 879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916360" y="189000"/>
            <a:ext cx="3097080" cy="23414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Картинка 238 из 879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843280" y="4311720"/>
            <a:ext cx="3394080" cy="25462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Картинка 95 из 81956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700360" y="2421000"/>
            <a:ext cx="34923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0" y="1557360"/>
            <a:ext cx="3168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ff00ff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териальна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cc33"/>
                  </a:gs>
                  <a:gs pos="50000">
                    <a:srgbClr val="ff00ff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002200" y="1628640"/>
            <a:ext cx="4141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33cc33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теллектуальна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50000">
                    <a:srgbClr val="33cc33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1" name="" descr="Картинка 387 из 815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924280"/>
            <a:ext cx="1531800" cy="23032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Картинка 35 из 208797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19280" y="2781360"/>
            <a:ext cx="2374920" cy="17827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5"/>
          <a:stretch/>
        </p:blipFill>
        <p:spPr>
          <a:xfrm>
            <a:off x="7596360" y="2924280"/>
            <a:ext cx="1547640" cy="19447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Картинка 44 из 149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542592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Картинка 109 из 149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340000" y="5156280"/>
            <a:ext cx="2268360" cy="170172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Картинка 355 из 81506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042920" y="4221000"/>
            <a:ext cx="1979640" cy="14846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Картинка 21 из 2323502"/>
          <p:cNvPicPr/>
          <p:nvPr/>
        </p:nvPicPr>
        <p:blipFill>
          <a:blip r:embed="rId12"/>
          <a:stretch/>
        </p:blipFill>
        <p:spPr>
          <a:xfrm>
            <a:off x="6443640" y="2852640"/>
            <a:ext cx="1241280" cy="165600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Картинка 2 из 3413690"/>
          <p:cNvPicPr/>
          <p:nvPr/>
        </p:nvPicPr>
        <p:blipFill>
          <a:blip r:embed="rId13"/>
          <a:stretch/>
        </p:blipFill>
        <p:spPr>
          <a:xfrm>
            <a:off x="6084720" y="4508640"/>
            <a:ext cx="1727280" cy="16938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Картинка 209 из 226770"/>
          <p:cNvPicPr/>
          <p:nvPr/>
        </p:nvPicPr>
        <p:blipFill>
          <a:blip r:embed="rId14"/>
          <a:stretch/>
        </p:blipFill>
        <p:spPr>
          <a:xfrm>
            <a:off x="4890960" y="4869000"/>
            <a:ext cx="1381320" cy="19890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Картинка 151 из 11285"/>
          <p:cNvPicPr/>
          <p:nvPr/>
        </p:nvPicPr>
        <p:blipFill>
          <a:blip r:embed="rId15"/>
          <a:stretch/>
        </p:blipFill>
        <p:spPr>
          <a:xfrm>
            <a:off x="7821720" y="4869000"/>
            <a:ext cx="1322280" cy="19890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Картинка 469 из 5950"/>
          <p:cNvPicPr/>
          <p:nvPr/>
        </p:nvPicPr>
        <p:blipFill>
          <a:blip r:embed="rId16"/>
          <a:stretch/>
        </p:blipFill>
        <p:spPr>
          <a:xfrm>
            <a:off x="4500720" y="2924280"/>
            <a:ext cx="1942920" cy="14572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 rot="2185200">
            <a:off x="3348000" y="1484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19639200">
            <a:off x="4356000" y="14839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5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5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7000"/>
                            </p:stCondLst>
                            <p:childTnLst>
                              <p:par>
                                <p:cTn id="3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9000"/>
                            </p:stCondLst>
                            <p:childTnLst>
                              <p:par>
                                <p:cTn id="3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c9c"/>
                </a:solidFill>
                <a:latin typeface="Century Gothic"/>
              </a:rPr>
              <a:t>     </a:t>
            </a:r>
            <a:r>
              <a:rPr b="1" lang="en-US" sz="4800" spc="-1" strike="noStrike">
                <a:solidFill>
                  <a:srgbClr val="ff5c9c"/>
                </a:solidFill>
                <a:latin typeface="Century Gothic"/>
              </a:rPr>
              <a:t>Формы собственности</a:t>
            </a:r>
            <a:endParaRPr b="0" lang="en-US" sz="48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604440" indent="-54252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общая собственность;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04440" indent="-54252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частная собственность;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04440" indent="-54252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смешанная собственность (1 + 2);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04440" indent="-54252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индивидуальная частная собственность;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04440" indent="-54252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государственная ;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04440" indent="-54252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кооперативная;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04440" indent="-54252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коллективная;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04440" indent="-54252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личная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000"/>
                            </p:stCondLst>
                            <p:childTnLst>
                              <p:par>
                                <p:cTn id="3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7000"/>
                            </p:stCondLst>
                            <p:childTnLst>
                              <p:par>
                                <p:cTn id="3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3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30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30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9000"/>
                            </p:stCondLst>
                            <p:childTnLst>
                              <p:par>
                                <p:cTn id="3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30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2000"/>
                            </p:stCondLst>
                            <p:childTnLst>
                              <p:par>
                                <p:cTn id="3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08:31:49Z</dcterms:created>
  <dc:creator>uzer</dc:creator>
  <dc:description/>
  <dc:language>en-US</dc:language>
  <cp:lastModifiedBy>User</cp:lastModifiedBy>
  <dcterms:modified xsi:type="dcterms:W3CDTF">2010-02-28T07:34:27Z</dcterms:modified>
  <cp:revision>13</cp:revision>
  <dc:subject/>
  <dc:title>Задачи экономики</dc:title>
</cp:coreProperties>
</file>