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59A7-1E7D-4CFB-A0A3-98D03D23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0F39-D13B-47BD-AEA6-C284FDF9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90F9-7159-47EF-84A2-5A65BD88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F5A2-1EB8-473E-AE30-F9768D72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FCC0-B7C9-4099-8ADC-380A038F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4A6D-2DC6-4B00-B987-04D7BD34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51DF-6BF6-4198-9C77-C3B56E57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950D-C1DD-44A6-AE82-74F6BABD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CC60-BF1F-499E-913B-AA70D800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28AC-DA48-4C4B-A351-5C1083CD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6221-AEF2-4F1F-A8D9-0261AAC1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DC08-E9C6-4194-A1B1-70388B7F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DF3B-39B8-4B01-98CF-0708E005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6B04-D0F3-44DD-BF35-7BF2F456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0377-8F9C-4BA0-A329-54760AAD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9EDE-5407-4AC9-A6C9-ACCBE386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10A5-4959-44D6-98B8-3A7B8BC4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6595-8579-4A3E-9EB4-297A7B18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0257-B171-44D1-97C4-BEC97B7E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09EB-9442-4889-929D-AACE7AC0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5567-C8D5-492D-922D-7C226058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8094-1785-4240-97E9-B0140414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F81C-8314-49A1-B796-5337CAA5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9DBA-00E7-43A6-B51E-29CB286D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FF4A-2060-4326-A9A3-E9F6DC72E1E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209E-4EEE-4DFD-9FC2-D1E0955AABEA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Рисунок1"/>
          <p:cNvPicPr/>
          <p:nvPr/>
        </p:nvPicPr>
        <p:blipFill>
          <a:blip r:embed="rId1"/>
          <a:stretch/>
        </p:blipFill>
        <p:spPr>
          <a:xfrm>
            <a:off x="4572000" y="2565360"/>
            <a:ext cx="4221000" cy="35607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Детский дворик будущего</a:t>
            </a:r>
            <a:r>
              <a:rPr b="0" lang="ru-RU" sz="52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4356000" cy="21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аута Вероника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ургут, Россия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Ханты-Мансийский Автономный Округ - Югра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Школа № 46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Эксперимент площадки 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будущег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8" name="Picture 6" descr="S5021937"/>
          <p:cNvPicPr/>
          <p:nvPr/>
        </p:nvPicPr>
        <p:blipFill>
          <a:blip r:embed="rId1"/>
          <a:stretch/>
        </p:blipFill>
        <p:spPr>
          <a:xfrm>
            <a:off x="538200" y="1413000"/>
            <a:ext cx="8137440" cy="544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Площадка будущего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Picture 5" descr="S5021948"/>
          <p:cNvPicPr/>
          <p:nvPr/>
        </p:nvPicPr>
        <p:blipFill>
          <a:blip r:embed="rId1"/>
          <a:stretch/>
        </p:blipFill>
        <p:spPr>
          <a:xfrm>
            <a:off x="324000" y="1052640"/>
            <a:ext cx="8496000" cy="5805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98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98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езультаты тестирова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908000" y="6021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Д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148360" y="4724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6659640" y="602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Посл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96" name="Diagram 15"/>
          <p:cNvGrpSpPr/>
          <p:nvPr/>
        </p:nvGrpSpPr>
        <p:grpSpPr>
          <a:xfrm>
            <a:off x="5076720" y="1905120"/>
            <a:ext cx="3471840" cy="2992320"/>
            <a:chOff x="5076720" y="1905120"/>
            <a:chExt cx="3471840" cy="2992320"/>
          </a:xfrm>
        </p:grpSpPr>
        <p:sp>
          <p:nvSpPr>
            <p:cNvPr id="197" name="_s1028"/>
            <p:cNvSpPr/>
            <p:nvPr/>
          </p:nvSpPr>
          <p:spPr>
            <a:xfrm>
              <a:off x="5076720" y="2744640"/>
              <a:ext cx="2152800" cy="2152800"/>
            </a:xfrm>
            <a:prstGeom prst="donut">
              <a:avLst>
                <a:gd name="adj" fmla="val 16666"/>
              </a:avLst>
            </a:prstGeom>
            <a:solidFill>
              <a:srgbClr val="cc99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8" name="_s1029"/>
            <p:cNvSpPr/>
            <p:nvPr/>
          </p:nvSpPr>
          <p:spPr>
            <a:xfrm>
              <a:off x="7972560" y="2860560"/>
              <a:ext cx="576000" cy="478080"/>
            </a:xfrm>
            <a:noFill/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6699"/>
                  </a:solidFill>
                  <a:latin typeface="Arial"/>
                </a:rPr>
                <a:t>пойдут</a:t>
              </a: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9" name="_s1030"/>
            <p:cNvSpPr/>
            <p:nvPr/>
          </p:nvSpPr>
          <p:spPr>
            <a:xfrm>
              <a:off x="5435640" y="3103560"/>
              <a:ext cx="1434960" cy="1434960"/>
            </a:xfrm>
            <a:prstGeom prst="donut">
              <a:avLst>
                <a:gd name="adj" fmla="val 25000"/>
              </a:avLst>
            </a:prstGeom>
            <a:solidFill>
              <a:srgbClr val="ff00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0" name="_s1031"/>
            <p:cNvSpPr/>
            <p:nvPr/>
          </p:nvSpPr>
          <p:spPr>
            <a:xfrm>
              <a:off x="7972560" y="2382840"/>
              <a:ext cx="576000" cy="477720"/>
            </a:xfrm>
            <a:noFill/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6699"/>
                  </a:solidFill>
                  <a:latin typeface="Arial"/>
                </a:rPr>
                <a:t>подумают</a:t>
              </a: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1" name="_s1032"/>
            <p:cNvSpPr/>
            <p:nvPr/>
          </p:nvSpPr>
          <p:spPr>
            <a:xfrm>
              <a:off x="5794200" y="3462480"/>
              <a:ext cx="717840" cy="717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2" name="_s1033"/>
            <p:cNvSpPr/>
            <p:nvPr/>
          </p:nvSpPr>
          <p:spPr>
            <a:xfrm>
              <a:off x="7972560" y="1905120"/>
              <a:ext cx="576000" cy="477720"/>
            </a:xfrm>
            <a:noFill/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6699"/>
                  </a:solidFill>
                  <a:latin typeface="Arial"/>
                </a:rPr>
                <a:t>Не пойдут</a:t>
              </a: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03" name="Diagram 24"/>
          <p:cNvGrpSpPr/>
          <p:nvPr/>
        </p:nvGrpSpPr>
        <p:grpSpPr>
          <a:xfrm>
            <a:off x="885960" y="1905120"/>
            <a:ext cx="3471840" cy="2992320"/>
            <a:chOff x="885960" y="1905120"/>
            <a:chExt cx="3471840" cy="2992320"/>
          </a:xfrm>
        </p:grpSpPr>
        <p:sp>
          <p:nvSpPr>
            <p:cNvPr id="204" name="_s1036"/>
            <p:cNvSpPr/>
            <p:nvPr/>
          </p:nvSpPr>
          <p:spPr>
            <a:xfrm>
              <a:off x="885960" y="2744640"/>
              <a:ext cx="2152440" cy="2152800"/>
            </a:xfrm>
            <a:prstGeom prst="donut">
              <a:avLst>
                <a:gd name="adj" fmla="val 16666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5" name="_s1037"/>
            <p:cNvSpPr/>
            <p:nvPr/>
          </p:nvSpPr>
          <p:spPr>
            <a:xfrm>
              <a:off x="3781440" y="2860560"/>
              <a:ext cx="576360" cy="478080"/>
            </a:xfrm>
            <a:noFill/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6699"/>
                  </a:solidFill>
                  <a:latin typeface="Arial"/>
                </a:rPr>
                <a:t>Не пойдут</a:t>
              </a: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6" name="_s1038"/>
            <p:cNvSpPr/>
            <p:nvPr/>
          </p:nvSpPr>
          <p:spPr>
            <a:xfrm>
              <a:off x="1244520" y="3103560"/>
              <a:ext cx="1435320" cy="1434960"/>
            </a:xfrm>
            <a:prstGeom prst="donut">
              <a:avLst>
                <a:gd name="adj" fmla="val 25000"/>
              </a:avLst>
            </a:prstGeom>
            <a:solidFill>
              <a:srgbClr val="ff00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7" name="_s1039"/>
            <p:cNvSpPr/>
            <p:nvPr/>
          </p:nvSpPr>
          <p:spPr>
            <a:xfrm>
              <a:off x="3781440" y="2382840"/>
              <a:ext cx="576360" cy="477720"/>
            </a:xfrm>
            <a:noFill/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6699"/>
                  </a:solidFill>
                  <a:latin typeface="Arial"/>
                </a:rPr>
                <a:t>подумают</a:t>
              </a: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8" name="_s1040"/>
            <p:cNvSpPr/>
            <p:nvPr/>
          </p:nvSpPr>
          <p:spPr>
            <a:xfrm>
              <a:off x="1603440" y="3462480"/>
              <a:ext cx="717480" cy="7174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9" name="_s1041"/>
            <p:cNvSpPr/>
            <p:nvPr/>
          </p:nvSpPr>
          <p:spPr>
            <a:xfrm>
              <a:off x="3781440" y="1905120"/>
              <a:ext cx="576360" cy="477720"/>
            </a:xfrm>
            <a:noFill/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6699"/>
                  </a:solidFill>
                  <a:latin typeface="Arial"/>
                </a:rPr>
                <a:t>пойдут</a:t>
              </a: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p:transition spd="slow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Заключе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зучив проблему организации детского досуга в городе, мы предложили архитектурный дизайн детских площадок будущего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где учтены потребности в физическом и социальном развитии большинства детей и их безопасное нахождение на территории данных игровых площадок.</a:t>
            </a: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ктуальность выбранной темы заключается в том, что в нашем любимом городе есть проблема с организацией детского досуг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Цел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Изучить проблему организации детского досуга в городе и предлагать дизайн детских площадок будущего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10" descr="Желтый смайлик"/>
          <p:cNvPicPr/>
          <p:nvPr/>
        </p:nvPicPr>
        <p:blipFill>
          <a:blip r:embed="rId1"/>
          <a:stretch/>
        </p:blipFill>
        <p:spPr>
          <a:xfrm>
            <a:off x="6516720" y="4581360"/>
            <a:ext cx="1371600" cy="1246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Задач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оиск и сбор сведений о  детских площадках города, изучение литературы о  безопасных детских площадках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зучение статистики детской смертности и организации детского досуг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архитектурный дизайн безопасных детских площадок будущег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Гипотеза исследова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троилась на предположении, если люди будут знать как правильно сконструировать детскую площадку и станут заниматься их строительством , то это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118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онизит детский травматизм и смертность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118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овысит общение детей под присмотром родителе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118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овысит общее состояние здоровья дете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едмет и объект исследовательской работ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Предметом исследования является детский дворик будущего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бъектом исследования служит процесс конструирования модели детского дворика будущего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Методы исследова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Теоретические – анализ специальной литературы по исследуемой проблеме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Диагностические – интервьюирование, анкетирование, тестировани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Экспериментальные – статистическая обработка и анализ экспериментальных данных по исследуемой теме, фиксирование полученных результато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8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8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лощадка в наше время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3" name="Picture 8" descr="IMG_1495"/>
          <p:cNvPicPr/>
          <p:nvPr/>
        </p:nvPicPr>
        <p:blipFill>
          <a:blip r:embed="rId1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IMG_2297"/>
          <p:cNvPicPr/>
          <p:nvPr/>
        </p:nvPicPr>
        <p:blipFill>
          <a:blip r:embed="rId2"/>
          <a:stretch/>
        </p:blipFill>
        <p:spPr>
          <a:xfrm>
            <a:off x="4716360" y="1557360"/>
            <a:ext cx="4427640" cy="3321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Особенности конструирования город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лощадка должна быть нетравмоопасна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на должна быть интересная для всех возрастов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на должна быть красочная и привлекать к себе дете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qwe</dc:creator>
  <dc:description/>
  <dc:language>en-US</dc:language>
  <cp:lastModifiedBy>Рузиля</cp:lastModifiedBy>
  <dcterms:modified xsi:type="dcterms:W3CDTF">2015-08-27T05:20:05Z</dcterms:modified>
  <cp:revision>43</cp:revision>
  <dc:subject/>
  <dc:title>PowerPoint Presentation</dc:title>
</cp:coreProperties>
</file>