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EAD-1ACE-4D78-B62F-B649FB7B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5171-FC58-4056-BDCA-E0B3CF53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41E6-6117-4FED-BCE3-447E4B96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8A8C-7A61-42E2-B0EC-53B07FB5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6489-17B2-4667-A306-4FE5618D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6B97-7CAA-4038-AC30-7E5D711B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65D3-6E30-4603-8FF1-E179CDCF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8AF7-C40C-49B0-A1C0-2E5B0302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8EA7-2A64-4BA6-B1C3-D229EE4C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1449-C49B-4DF2-A34C-C31777BD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176E-37B0-4CD9-8E6F-50A53F02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DD62-EC4D-428F-8DF0-C631ED2C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22B4-1761-4FD1-9FBD-DB97ACC9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388F-BB3E-4F45-BA76-3DBD96F3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7D96-76AA-4589-AD11-97F5BE76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CD00-4815-4473-9937-ED5FC743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D467-550D-4575-9C5A-12892618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C58D-2930-43BD-9E00-581E7594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A54E-8227-4622-AC45-AC7C4449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9CEA-D426-4F68-BA13-6E6588FE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33B1-A276-430D-A84D-E05F0830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5F6A-7A56-47A2-892D-CE5D4E1F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3FA-B14A-4025-A66E-86C7D89F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1C2D-E55F-46AE-B4E5-49C00454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E60E-279B-4059-8365-8CA1ACC7735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942C-3EA8-4630-8115-956CA3F4283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Рисунок1"/>
          <p:cNvPicPr/>
          <p:nvPr/>
        </p:nvPicPr>
        <p:blipFill>
          <a:blip r:embed="rId1"/>
          <a:stretch/>
        </p:blipFill>
        <p:spPr>
          <a:xfrm>
            <a:off x="4572000" y="2565360"/>
            <a:ext cx="4221000" cy="35607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Детский дворик будущего</a:t>
            </a:r>
            <a:r>
              <a:rPr b="0" lang="ru-RU" sz="52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4356000" cy="21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аута Вероника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ургут, Россия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Ханты-Мансийский Автономный Округ - Югра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Школа № 46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Эксперимент площадки 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будущег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8" name="Picture 6" descr="S5021937"/>
          <p:cNvPicPr/>
          <p:nvPr/>
        </p:nvPicPr>
        <p:blipFill>
          <a:blip r:embed="rId1"/>
          <a:stretch/>
        </p:blipFill>
        <p:spPr>
          <a:xfrm>
            <a:off x="538200" y="1413000"/>
            <a:ext cx="8137440" cy="544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Площадка будущего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5" descr="S5021948"/>
          <p:cNvPicPr/>
          <p:nvPr/>
        </p:nvPicPr>
        <p:blipFill>
          <a:blip r:embed="rId1"/>
          <a:stretch/>
        </p:blipFill>
        <p:spPr>
          <a:xfrm>
            <a:off x="324000" y="1052640"/>
            <a:ext cx="8496000" cy="5805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98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зультаты тестир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908000" y="6021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Д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148360" y="4724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6659640" y="602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Посл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96" name="Diagram 15"/>
          <p:cNvGrpSpPr/>
          <p:nvPr/>
        </p:nvGrpSpPr>
        <p:grpSpPr>
          <a:xfrm>
            <a:off x="5076720" y="1905120"/>
            <a:ext cx="3471840" cy="2992320"/>
            <a:chOff x="5076720" y="1905120"/>
            <a:chExt cx="3471840" cy="2992320"/>
          </a:xfrm>
        </p:grpSpPr>
        <p:sp>
          <p:nvSpPr>
            <p:cNvPr id="197" name="_s1028"/>
            <p:cNvSpPr/>
            <p:nvPr/>
          </p:nvSpPr>
          <p:spPr>
            <a:xfrm>
              <a:off x="5076720" y="2744640"/>
              <a:ext cx="2152800" cy="2152800"/>
            </a:xfrm>
            <a:prstGeom prst="donut">
              <a:avLst>
                <a:gd name="adj" fmla="val 16666"/>
              </a:avLst>
            </a:prstGeom>
            <a:solidFill>
              <a:srgbClr val="cc99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8" name="_s1029"/>
            <p:cNvSpPr/>
            <p:nvPr/>
          </p:nvSpPr>
          <p:spPr>
            <a:xfrm>
              <a:off x="7972560" y="2860560"/>
              <a:ext cx="576000" cy="478080"/>
            </a:xfr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6699"/>
                  </a:solidFill>
                  <a:latin typeface="Arial"/>
                </a:rPr>
                <a:t>пойдут</a:t>
              </a: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9" name="_s1030"/>
            <p:cNvSpPr/>
            <p:nvPr/>
          </p:nvSpPr>
          <p:spPr>
            <a:xfrm>
              <a:off x="5435640" y="3103560"/>
              <a:ext cx="1434960" cy="1434960"/>
            </a:xfrm>
            <a:prstGeom prst="donut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0" name="_s1031"/>
            <p:cNvSpPr/>
            <p:nvPr/>
          </p:nvSpPr>
          <p:spPr>
            <a:xfrm>
              <a:off x="7972560" y="2382840"/>
              <a:ext cx="576000" cy="477720"/>
            </a:xfr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6699"/>
                  </a:solidFill>
                  <a:latin typeface="Arial"/>
                </a:rPr>
                <a:t>подумают</a:t>
              </a: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1" name="_s1032"/>
            <p:cNvSpPr/>
            <p:nvPr/>
          </p:nvSpPr>
          <p:spPr>
            <a:xfrm>
              <a:off x="5794200" y="3462480"/>
              <a:ext cx="717840" cy="717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2" name="_s1033"/>
            <p:cNvSpPr/>
            <p:nvPr/>
          </p:nvSpPr>
          <p:spPr>
            <a:xfrm>
              <a:off x="7972560" y="1905120"/>
              <a:ext cx="576000" cy="477720"/>
            </a:xfr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6699"/>
                  </a:solidFill>
                  <a:latin typeface="Arial"/>
                </a:rPr>
                <a:t>Не пойдут</a:t>
              </a: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03" name="Diagram 24"/>
          <p:cNvGrpSpPr/>
          <p:nvPr/>
        </p:nvGrpSpPr>
        <p:grpSpPr>
          <a:xfrm>
            <a:off x="885960" y="1905120"/>
            <a:ext cx="3471840" cy="2992320"/>
            <a:chOff x="885960" y="1905120"/>
            <a:chExt cx="3471840" cy="2992320"/>
          </a:xfrm>
        </p:grpSpPr>
        <p:sp>
          <p:nvSpPr>
            <p:cNvPr id="204" name="_s1036"/>
            <p:cNvSpPr/>
            <p:nvPr/>
          </p:nvSpPr>
          <p:spPr>
            <a:xfrm>
              <a:off x="885960" y="2744640"/>
              <a:ext cx="2152440" cy="2152800"/>
            </a:xfrm>
            <a:prstGeom prst="donut">
              <a:avLst>
                <a:gd name="adj" fmla="val 16666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5" name="_s1037"/>
            <p:cNvSpPr/>
            <p:nvPr/>
          </p:nvSpPr>
          <p:spPr>
            <a:xfrm>
              <a:off x="3781440" y="2860560"/>
              <a:ext cx="576360" cy="478080"/>
            </a:xfr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6699"/>
                  </a:solidFill>
                  <a:latin typeface="Arial"/>
                </a:rPr>
                <a:t>Не пойдут</a:t>
              </a: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6" name="_s1038"/>
            <p:cNvSpPr/>
            <p:nvPr/>
          </p:nvSpPr>
          <p:spPr>
            <a:xfrm>
              <a:off x="1244520" y="3103560"/>
              <a:ext cx="1435320" cy="1434960"/>
            </a:xfrm>
            <a:prstGeom prst="donut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7" name="_s1039"/>
            <p:cNvSpPr/>
            <p:nvPr/>
          </p:nvSpPr>
          <p:spPr>
            <a:xfrm>
              <a:off x="3781440" y="2382840"/>
              <a:ext cx="576360" cy="477720"/>
            </a:xfr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6699"/>
                  </a:solidFill>
                  <a:latin typeface="Arial"/>
                </a:rPr>
                <a:t>подумают</a:t>
              </a: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603440" y="3462480"/>
              <a:ext cx="717480" cy="7174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9" name="_s1041"/>
            <p:cNvSpPr/>
            <p:nvPr/>
          </p:nvSpPr>
          <p:spPr>
            <a:xfrm>
              <a:off x="3781440" y="1905120"/>
              <a:ext cx="576360" cy="477720"/>
            </a:xfr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6699"/>
                  </a:solidFill>
                  <a:latin typeface="Arial"/>
                </a:rPr>
                <a:t>пойдут</a:t>
              </a: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Заключе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зучив проблему организации детского досуга в городе, мы предложили архитектурный дизайн детских площадок будущего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где учтены потребности в физическом и социальном развитии большинства детей и их безопасное нахождение на территории данных игровых площадок.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ктуальность выбранной темы заключается в том, что в нашем любимом городе есть проблема с организацией детского досуг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Це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Изучить проблему организации детского досуга в городе и предлагать дизайн детских площадок будущег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10" descr="Желтый смайлик"/>
          <p:cNvPicPr/>
          <p:nvPr/>
        </p:nvPicPr>
        <p:blipFill>
          <a:blip r:embed="rId1"/>
          <a:stretch/>
        </p:blipFill>
        <p:spPr>
          <a:xfrm>
            <a:off x="6516720" y="4581360"/>
            <a:ext cx="1371600" cy="1246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Задач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оиск и сбор сведений о  детских площадках города, изучение литературы о  безопасных детских площадках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зучение статистики детской смертности и организации детского досуг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архитектурный дизайн безопасных детских площадок будущег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Гипотеза исслед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троилась на предположении, если люди будут знать как правильно сконструировать детскую площадку и станут заниматься их строительством , то это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118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онизит детский травматизм и смертность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118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овысит общение детей под присмотром родителе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118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овысит общее состояние здоровья дете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едмет и объект исследовательской работ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редметом исследования является детский дворик будущег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бъектом исследования служит процесс конструирования модели детского дворика будущег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Методы исслед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Теоретические – анализ специальной литературы по исследуемой проблеме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Диагностические – интервьюирование, анкетирование, тестировани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Экспериментальные – статистическая обработка и анализ экспериментальных данных по исследуемой теме, фиксирование полученных результато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лощадка в наше время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3" name="Picture 8" descr="IMG_1495"/>
          <p:cNvPicPr/>
          <p:nvPr/>
        </p:nvPicPr>
        <p:blipFill>
          <a:blip r:embed="rId1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IMG_2297"/>
          <p:cNvPicPr/>
          <p:nvPr/>
        </p:nvPicPr>
        <p:blipFill>
          <a:blip r:embed="rId2"/>
          <a:stretch/>
        </p:blipFill>
        <p:spPr>
          <a:xfrm>
            <a:off x="4716360" y="1557360"/>
            <a:ext cx="4427640" cy="3321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Особенности конструирования город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лощадка должна быть нетравмоопасна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на должна быть интересная для всех возраст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на должна быть красочная и привлекать к себе дет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qwe</dc:creator>
  <dc:description/>
  <dc:language>en-US</dc:language>
  <cp:lastModifiedBy>Рузиля</cp:lastModifiedBy>
  <dcterms:modified xsi:type="dcterms:W3CDTF">2015-08-27T05:20:05Z</dcterms:modified>
  <cp:revision>43</cp:revision>
  <dc:subject/>
  <dc:title>PowerPoint Presentation</dc:title>
</cp:coreProperties>
</file>