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3205-256D-46B0-87F5-D47F70E4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1C5-D502-4F63-9406-1EEA4CD2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4AD-8CBB-40C6-B216-6176D8CF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8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2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8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2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B7EA-4C9D-402C-A399-1D8C88A8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583A-F102-4D7F-85FF-8FB64F11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921B-EB50-40B9-A349-238E7CEA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0913-9D95-4B10-AC51-11FC697F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0D13-8044-4AF6-A9D4-9D8FF09B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6704-02BF-4B71-A23E-A182DF72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9840" y="2743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88F0-E6B2-4DFA-AA00-EE92FFA0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828D-7A6D-4B3F-9898-C280BEC0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73CB-AC09-4171-A1CA-85CD9412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3950-7F12-40FF-88F3-10EEC943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AA9D-A808-4E48-AB52-D57478B8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D290-1F9B-4465-BAB7-C9625B1A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62A4-1FA5-4650-91F0-7D0B0D75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8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62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8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62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D5B1-AF0A-463B-B700-FA258B48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412B-6857-4F26-BA16-D7DE6887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78D-BF14-42CC-B98C-75426614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495-4E06-456A-8B8C-F0031451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2743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9DF8-12E7-4814-B389-DC99F223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1CA-2BC7-4E1C-86B0-C161CE01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71C-CBD4-4BAF-82EC-E3C71E64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C72-00F3-433F-980E-043F1849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4455-D20E-4BAD-85B0-7D32AD36D9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01DC-621A-42C1-9C03-F0CF0DD3FE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pedsovet.su/load/397-1-0-43203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0920" y="533520"/>
            <a:ext cx="4343400" cy="34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лижски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тр Иванович – Герой Советского Сою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352680" y="4800600"/>
            <a:ext cx="4724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: Дунаева Юл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«Выйская СО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Users\Пользователь\Desktop\кулижский\Кулижский П. И..jpg"/>
          <p:cNvPicPr/>
          <p:nvPr/>
        </p:nvPicPr>
        <p:blipFill>
          <a:blip r:embed="rId1"/>
          <a:stretch/>
        </p:blipFill>
        <p:spPr>
          <a:xfrm>
            <a:off x="914400" y="1828800"/>
            <a:ext cx="274320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огра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а рождения: 16 сентября 1899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 рождения: д. Белоусовская, Сольвычегодский уезд, Вологодская губерния, Российская импе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12 году окончил сельскую школу. Работал в хозяйстве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расной Армии — с декабря 1918 года. Участник Гражданской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:\Users\Пользователь\Desktop\110___02\IMG_2372.JPG"/>
          <p:cNvPicPr/>
          <p:nvPr/>
        </p:nvPicPr>
        <p:blipFill>
          <a:blip r:embed="rId5"/>
          <a:stretch/>
        </p:blipFill>
        <p:spPr>
          <a:xfrm>
            <a:off x="1143000" y="12193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440" y="685800"/>
            <a:ext cx="8001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ник Великой Отечественной войны с 1941 г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 войны и в начале войны – командир полка, а с мая 1942 года -командир 152-й стрелковой диви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мужество, проявленное в ходе Днепропетровской битвы и при взятии г. Днепропетровска 01.11.1943г. Присвоено присвоено звание Героя Советского Сою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C:\Users\Пользователь\Desktop\кулижский\indeииx.jpg"/>
          <p:cNvPicPr/>
          <p:nvPr/>
        </p:nvPicPr>
        <p:blipFill>
          <a:blip r:embed="rId4"/>
          <a:stretch/>
        </p:blipFill>
        <p:spPr>
          <a:xfrm>
            <a:off x="6324480" y="2224080"/>
            <a:ext cx="243684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440" y="837720"/>
            <a:ext cx="4800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1947 года генерал-майор Кулижский П. И. — в запасе. Жил в Таганроге Ростов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р 27 апреля 1959 года, похоронен в Таганро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C:\Users\Пользователь\Desktop\кулижский\Kuligskiy_P_I_np.jpg"/>
          <p:cNvPicPr/>
          <p:nvPr/>
        </p:nvPicPr>
        <p:blipFill>
          <a:blip r:embed="rId4"/>
          <a:stretch/>
        </p:blipFill>
        <p:spPr>
          <a:xfrm>
            <a:off x="5410080" y="990720"/>
            <a:ext cx="3219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5335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град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ордена Лени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ордена Красного Знам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ден Кутузова 2-й степ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ден Богдана Хмельницкого 2-й степ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:\Users\Пользователь\Desktop\кулижский\index.jpg"/>
          <p:cNvPicPr/>
          <p:nvPr/>
        </p:nvPicPr>
        <p:blipFill>
          <a:blip r:embed="rId7"/>
          <a:stretch/>
        </p:blipFill>
        <p:spPr>
          <a:xfrm>
            <a:off x="2209680" y="1600200"/>
            <a:ext cx="3791160" cy="4508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C:\Users\Пользователь\Desktop\кулижский\орден красного знамени.jpg"/>
          <p:cNvPicPr/>
          <p:nvPr/>
        </p:nvPicPr>
        <p:blipFill>
          <a:blip r:embed="rId8"/>
          <a:stretch/>
        </p:blipFill>
        <p:spPr>
          <a:xfrm>
            <a:off x="2438280" y="1828800"/>
            <a:ext cx="3552840" cy="413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C:\Users\Пользователь\Desktop\кулижский\орден кутузова 2 ст.jpg"/>
          <p:cNvPicPr/>
          <p:nvPr/>
        </p:nvPicPr>
        <p:blipFill>
          <a:blip r:embed="rId9"/>
          <a:stretch/>
        </p:blipFill>
        <p:spPr>
          <a:xfrm>
            <a:off x="2209680" y="1752480"/>
            <a:ext cx="3810240" cy="4110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C:\Users\Пользователь\Desktop\кулижский\орден хмельницкого 2 степени.jpg"/>
          <p:cNvPicPr/>
          <p:nvPr/>
        </p:nvPicPr>
        <p:blipFill>
          <a:blip r:embed="rId10"/>
          <a:stretch/>
        </p:blipFill>
        <p:spPr>
          <a:xfrm>
            <a:off x="2057400" y="16765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4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Кулижского увековечено в с. Верхняя Тойма — в памятнике-мемориале воинам, погибшим в годы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именем названа улица в селе Верхняя Той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. Верхняя Тойма проводились районные соревнования по хоккею на приз Кулиж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еревне Окуловская, на здании школы, установлена мемориальная до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его носила пионерская дружина в 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инам 152 стрелковой дивизии установлен памятник в Днепропетров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Users\Пользователь\Desktop\кулижский\152nd_Division_4_1.jpg"/>
          <p:cNvPicPr/>
          <p:nvPr/>
        </p:nvPicPr>
        <p:blipFill>
          <a:blip r:embed="rId8"/>
          <a:stretch/>
        </p:blipFill>
        <p:spPr>
          <a:xfrm>
            <a:off x="2819520" y="1219320"/>
            <a:ext cx="3871800" cy="5162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Users\Пользователь\Desktop\кулижский\152nd_Division_5_1.jpg"/>
          <p:cNvPicPr/>
          <p:nvPr/>
        </p:nvPicPr>
        <p:blipFill>
          <a:blip r:embed="rId9"/>
          <a:stretch/>
        </p:blipFill>
        <p:spPr>
          <a:xfrm>
            <a:off x="1066680" y="762120"/>
            <a:ext cx="7417080" cy="5562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D:\фото\Фото\2014\лето\IMG_1565.JPG"/>
          <p:cNvPicPr/>
          <p:nvPr/>
        </p:nvPicPr>
        <p:blipFill>
          <a:blip r:embed="rId10"/>
          <a:stretch/>
        </p:blipFill>
        <p:spPr>
          <a:xfrm>
            <a:off x="2895480" y="851040"/>
            <a:ext cx="3432240" cy="6006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C:\Users\Пользователь\Desktop\110___02\IMG_2379.JPG"/>
          <p:cNvPicPr/>
          <p:nvPr/>
        </p:nvPicPr>
        <p:blipFill>
          <a:blip r:embed="rId11"/>
          <a:stretch/>
        </p:blipFill>
        <p:spPr>
          <a:xfrm>
            <a:off x="685800" y="762120"/>
            <a:ext cx="7583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" nodeType="after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500"/>
                            </p:stCondLst>
                            <p:childTnLst>
                              <p:par>
                                <p:cTn id="193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имя Победы. Е. И. Овсянкин, Л. А. Беданова, В. В. Коваль, - Арх-ск: Администрация Архангельской области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нгусов А. А. Мой Верхнетоемский район. – Арх-ск: Поморский университет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блон презентации -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pedsovet.su/load/397-1-0-432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2-09T10:53:3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