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3D0-2354-44CF-AC66-38BB16F6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007-9B75-43AA-8CD3-C7758C86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FDA-359F-4D82-A494-3B63BBF5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8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2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8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2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7D4-FD67-4788-8B0F-991D91E6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1764-8392-4121-B101-0DEF40CC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DDBB-B376-483D-8761-ABEDA003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A8F0-DFB5-43A5-85A8-60D5C13A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A376-4F02-4D4E-99D7-F28A31A5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77A8-2920-498D-9023-F2984C84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9840" y="2743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5300-6ED3-4C8E-822F-D7F5DC0D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7D3F-3AEC-4D85-A403-021EF251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0702-A4F7-451B-9A12-346E2F3A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68F6-E144-4174-84C0-2F3D1FD6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3CE6-1331-484B-A6FF-C5D8B35B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D76A-362B-4BC0-8EF8-159A58D3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3C7F-B7CD-442E-9F76-A7C8E563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8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62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8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62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7F86-7BE4-4F50-9F8C-9D1729B5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60E-D2A3-401A-A3D5-2F3604F0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B17-4D3D-4B1E-8DDF-54898EE7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640-77D2-4DDD-8343-C81CCA41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2743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514-6F20-413C-8567-C8DCF936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047-B472-4978-AF8D-D9D160B2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2BE-F75F-433C-804C-870F9D3D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E327-0509-4494-8DE1-B6ECD11E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9173-3180-45BB-81B6-A7F5E02744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2731-721A-4D0A-B2B1-5071C27985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pedsovet.su/load/397-1-0-43203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0920" y="533520"/>
            <a:ext cx="4343400" cy="34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лижски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тр Иванович – Герой Советского Сою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352680" y="4800600"/>
            <a:ext cx="4724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: Дунаева Юл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«Выйская СО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Users\Пользователь\Desktop\кулижский\Кулижский П. И..jpg"/>
          <p:cNvPicPr/>
          <p:nvPr/>
        </p:nvPicPr>
        <p:blipFill>
          <a:blip r:embed="rId1"/>
          <a:stretch/>
        </p:blipFill>
        <p:spPr>
          <a:xfrm>
            <a:off x="914400" y="1828800"/>
            <a:ext cx="274320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огра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а рождения: 16 сентября 1899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 рождения: д. Белоусовская, Сольвычегодский уезд, Вологодская губерния, Российская импе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12 году окончил сельскую школу. Работал в хозяйстве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расной Армии — с декабря 1918 года. Участник Гражданской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:\Users\Пользователь\Desktop\110___02\IMG_2372.JPG"/>
          <p:cNvPicPr/>
          <p:nvPr/>
        </p:nvPicPr>
        <p:blipFill>
          <a:blip r:embed="rId5"/>
          <a:stretch/>
        </p:blipFill>
        <p:spPr>
          <a:xfrm>
            <a:off x="1143000" y="12193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440" y="685800"/>
            <a:ext cx="8001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ник Великой Отечественной войны с 1941 г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 войны и в начале войны – командир полка, а с мая 1942 года -командир 152-й стрелковой диви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мужество, проявленное в ходе Днепропетровской битвы и при взятии г. Днепропетровска 01.11.1943г. Присвоено присвоено звание Героя Советского Сою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C:\Users\Пользователь\Desktop\кулижский\indeииx.jpg"/>
          <p:cNvPicPr/>
          <p:nvPr/>
        </p:nvPicPr>
        <p:blipFill>
          <a:blip r:embed="rId4"/>
          <a:stretch/>
        </p:blipFill>
        <p:spPr>
          <a:xfrm>
            <a:off x="6324480" y="2224080"/>
            <a:ext cx="243684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440" y="837720"/>
            <a:ext cx="4800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1947 года генерал-майор Кулижский П. И. — в запасе. Жил в Таганроге Ростов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р 27 апреля 1959 года, похоронен в Таганро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C:\Users\Пользователь\Desktop\кулижский\Kuligskiy_P_I_np.jpg"/>
          <p:cNvPicPr/>
          <p:nvPr/>
        </p:nvPicPr>
        <p:blipFill>
          <a:blip r:embed="rId4"/>
          <a:stretch/>
        </p:blipFill>
        <p:spPr>
          <a:xfrm>
            <a:off x="5410080" y="990720"/>
            <a:ext cx="3219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5335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град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ордена Лени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ордена Красного Знам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ден Кутузова 2-й степ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ден Богдана Хмельницкого 2-й степ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:\Users\Пользователь\Desktop\кулижский\index.jpg"/>
          <p:cNvPicPr/>
          <p:nvPr/>
        </p:nvPicPr>
        <p:blipFill>
          <a:blip r:embed="rId7"/>
          <a:stretch/>
        </p:blipFill>
        <p:spPr>
          <a:xfrm>
            <a:off x="2209680" y="1600200"/>
            <a:ext cx="3791160" cy="4508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C:\Users\Пользователь\Desktop\кулижский\орден красного знамени.jpg"/>
          <p:cNvPicPr/>
          <p:nvPr/>
        </p:nvPicPr>
        <p:blipFill>
          <a:blip r:embed="rId8"/>
          <a:stretch/>
        </p:blipFill>
        <p:spPr>
          <a:xfrm>
            <a:off x="2438280" y="1828800"/>
            <a:ext cx="3552840" cy="413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C:\Users\Пользователь\Desktop\кулижский\орден кутузова 2 ст.jpg"/>
          <p:cNvPicPr/>
          <p:nvPr/>
        </p:nvPicPr>
        <p:blipFill>
          <a:blip r:embed="rId9"/>
          <a:stretch/>
        </p:blipFill>
        <p:spPr>
          <a:xfrm>
            <a:off x="2209680" y="1752480"/>
            <a:ext cx="3810240" cy="4110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C:\Users\Пользователь\Desktop\кулижский\орден хмельницкого 2 степени.jpg"/>
          <p:cNvPicPr/>
          <p:nvPr/>
        </p:nvPicPr>
        <p:blipFill>
          <a:blip r:embed="rId10"/>
          <a:stretch/>
        </p:blipFill>
        <p:spPr>
          <a:xfrm>
            <a:off x="2057400" y="16765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4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Кулижского увековечено в с. Верхняя Тойма — в памятнике-мемориале воинам, погибшим в годы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именем названа улица в селе Верхняя Той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. Верхняя Тойма проводились районные соревнования по хоккею на приз Кулиж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еревне Окуловская, на здании школы, установлена мемориальная до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его носила пионерская дружина в 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инам 152 стрелковой дивизии установлен памятник в Днепропетров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Users\Пользователь\Desktop\кулижский\152nd_Division_4_1.jpg"/>
          <p:cNvPicPr/>
          <p:nvPr/>
        </p:nvPicPr>
        <p:blipFill>
          <a:blip r:embed="rId8"/>
          <a:stretch/>
        </p:blipFill>
        <p:spPr>
          <a:xfrm>
            <a:off x="2819520" y="1219320"/>
            <a:ext cx="3871800" cy="5162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Users\Пользователь\Desktop\кулижский\152nd_Division_5_1.jpg"/>
          <p:cNvPicPr/>
          <p:nvPr/>
        </p:nvPicPr>
        <p:blipFill>
          <a:blip r:embed="rId9"/>
          <a:stretch/>
        </p:blipFill>
        <p:spPr>
          <a:xfrm>
            <a:off x="1066680" y="762120"/>
            <a:ext cx="7417080" cy="5562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D:\фото\Фото\2014\лето\IMG_1565.JPG"/>
          <p:cNvPicPr/>
          <p:nvPr/>
        </p:nvPicPr>
        <p:blipFill>
          <a:blip r:embed="rId10"/>
          <a:stretch/>
        </p:blipFill>
        <p:spPr>
          <a:xfrm>
            <a:off x="2895480" y="851040"/>
            <a:ext cx="3432240" cy="6006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C:\Users\Пользователь\Desktop\110___02\IMG_2379.JPG"/>
          <p:cNvPicPr/>
          <p:nvPr/>
        </p:nvPicPr>
        <p:blipFill>
          <a:blip r:embed="rId11"/>
          <a:stretch/>
        </p:blipFill>
        <p:spPr>
          <a:xfrm>
            <a:off x="685800" y="762120"/>
            <a:ext cx="7583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" nodeType="after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500"/>
                            </p:stCondLst>
                            <p:childTnLst>
                              <p:par>
                                <p:cTn id="193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имя Победы. Е. И. Овсянкин, Л. А. Беданова, В. В. Коваль, - Арх-ск: Администрация Архангельской области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нгусов А. А. Мой Верхнетоемский район. – Арх-ск: Поморский университет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блон презентации -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pedsovet.su/load/397-1-0-432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2-09T10:53:3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