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4F7-455A-4963-A30E-28B98A10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533-8AF8-4BB8-85A4-D495CE2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8F4-4E60-470C-BCA9-33A828CA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016-5F37-4089-B131-EFAF4AE9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5455-6998-4BCE-BA24-B64198E1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5F5C-1F38-421E-A18A-B09D7D09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83AE-55CD-4B33-BBA7-02D1452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75D6-0ECA-4216-B4B3-17A343F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C3F4-9EE1-4991-9DAF-2C3B002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4700-E12B-4432-8A82-A921D191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7E01-3552-415E-ABA3-6CB1B59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A98-8DB0-462A-83AA-AA8D68C8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AE9-5C6F-484A-840F-715302B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0FC7-FF7A-4BB5-845A-D0E3455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133E-7CE9-4FB9-949A-6A657A2F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086-5E0E-49E5-92B6-274B17D6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7F1-8FFA-497F-A32E-5EAF0EA7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D318-A538-43EC-8377-8B175942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6B06-35C8-441A-8711-B90F4D9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DD24-3163-429F-8CAF-F645948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7883-1AA1-44AC-8450-970C3DBE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431D-DF78-42AF-B9BD-0494E36D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669-411C-4D65-86F8-459CF87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4BE2-C7FC-4DD6-8576-4823E26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9F1D-07BE-4104-B021-D5203BD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78A5-2146-41A6-B56D-2BE89D0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0794-AAB0-4227-9308-16FE356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0D3E-7684-4C4F-AB77-D1575112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979D-EFFE-4E03-AD78-0C9463D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3E0D-7588-4D7B-B371-E2697D37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A5E2-E7A9-4A12-A32D-9113C030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86DC-634F-4546-80E6-3323FD38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0A8A-BB02-45B9-BF4B-04F09C53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D3E-28DF-4FF3-9CE1-F727BE8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DC32-C6FC-43A4-AC40-6D661B7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B957-D4D1-4162-BC90-5E3DB9C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54A9-FE8C-4702-BE90-64697676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0BC5-73E7-4A9A-9708-35A1350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D52E-A356-4BBF-A764-299DA63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759E-1063-47D3-AAED-EB47AE1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5124-53C6-40A3-B287-19DCA2F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96CC-2544-4FFF-84EC-7677D409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FC22-4DDB-4A93-AEB8-C991AD4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201C-0621-47E1-9D58-775523F5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ED7-B472-488E-9F2C-EABEBA7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2877-9017-43C5-94A9-49628454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48788-0DD7-47A1-919E-8FAF869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67D0-2DF4-4CD9-AEE9-1BAADA1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143A-F500-4842-A5B0-86D57B0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0DFE-9001-4AA4-857E-13094A85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E543-6634-496C-AA74-A70B190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9E48-A8A9-4D70-993F-CD99D1B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65EA-03CB-4FFE-A68F-8F720D59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C601-D1B8-419C-A369-5BF9A1D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236D-61E5-4664-9B10-E8D48434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A24-039E-42FF-8D4D-33493CC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C7A4A-C32E-4CAD-B825-AF02B5EF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887-3296-4BDB-862B-3F74D64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8D3-BE51-487C-9778-D2AB988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CF2-6766-4F8F-A7EF-D837477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487-CE7F-42B4-9D03-9BDC4F3ECAC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AB3-0D81-4D3A-8138-9FD13AC9B75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CFB-2B59-4060-8F76-86727E5734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74B2-24D4-44B3-B07D-846B4A6B932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C32-F38E-497C-9E8B-711DA0F1A3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Нина Михайловна Артюхова </a:t>
            </a: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— русская детская писательница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nina-artyuhova.jpg"/>
          <p:cNvPicPr/>
          <p:nvPr/>
        </p:nvPicPr>
        <p:blipFill>
          <a:blip r:embed="rId1"/>
          <a:stretch/>
        </p:blipFill>
        <p:spPr>
          <a:xfrm>
            <a:off x="573120" y="554040"/>
            <a:ext cx="36385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Родилась Нина Артюхова в Москве в семье известного книжного издателя М. В. Сабашнико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Verdana"/>
              </a:rPr>
              <a:t>Детская писательница Нина Артюхова с братом Сергеем Сабашниковым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Содержимое 3" descr="artuhova20.jpg"/>
          <p:cNvPicPr/>
          <p:nvPr/>
        </p:nvPicPr>
        <p:blipFill>
          <a:blip r:embed="rId1"/>
          <a:stretch/>
        </p:blipFill>
        <p:spPr>
          <a:xfrm>
            <a:off x="2146320" y="1298520"/>
            <a:ext cx="5205240" cy="80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508640"/>
            <a:ext cx="8183520" cy="13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В 1918 году Нина поступает в МГУ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а агрохимическое отделение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физико-математического факультета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Девушка всегда мечтала писать,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о также ее увлекали химия и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астрономия, именно с этим связан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такой странный для писателя выбор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Писать детские рассказы Нина Артюхова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ачала в 20х годах прошлого века,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продолжая работать химиком и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увлекаясь астрономией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В 1949 году стала членом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Союза писателей. 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5" descr="artuhova40_1.jpg"/>
          <p:cNvPicPr/>
          <p:nvPr/>
        </p:nvPicPr>
        <p:blipFill>
          <a:blip r:embed="rId1"/>
          <a:stretch/>
        </p:blipFill>
        <p:spPr>
          <a:xfrm>
            <a:off x="334800" y="560520"/>
            <a:ext cx="37069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84360" y="1341360"/>
            <a:ext cx="590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Русская писательница Нина Михайловна Артюхова, автор всеми любимых книг: "Светлана", "Мама", "Фарфоровые шаги" и многих других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artuhova40.jpg"/>
          <p:cNvPicPr/>
          <p:nvPr/>
        </p:nvPicPr>
        <p:blipFill>
          <a:blip r:embed="rId1"/>
          <a:stretch/>
        </p:blipFill>
        <p:spPr>
          <a:xfrm>
            <a:off x="353880" y="378000"/>
            <a:ext cx="1955880" cy="2395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435400" cy="228780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378000" y="5013360"/>
            <a:ext cx="59054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Самая известная повесть Н. Артюховой «Светлана» была напечатана в 1955 году и рассказывала об осиротевшей во время войны девочке, которой предстоит снова научиться быть ребенком, забыть ужасы военных лет, радоваться жизни, обрести счасть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На снимке изображена Н.М. Артюхова в возрасте 77 лет. Умерла писательница в 1990 году в Москве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artuhova76.jpg"/>
          <p:cNvPicPr/>
          <p:nvPr/>
        </p:nvPicPr>
        <p:blipFill>
          <a:blip r:embed="rId1"/>
          <a:stretch/>
        </p:blipFill>
        <p:spPr>
          <a:xfrm>
            <a:off x="3041640" y="523800"/>
            <a:ext cx="31035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50:11Z</dcterms:created>
  <dc:creator>Руслан</dc:creator>
  <dc:description/>
  <dc:language>en-US</dc:language>
  <cp:lastModifiedBy>Рузиля</cp:lastModifiedBy>
  <dcterms:modified xsi:type="dcterms:W3CDTF">2015-08-27T04:57:19Z</dcterms:modified>
  <cp:revision>9</cp:revision>
  <dc:subject/>
  <dc:title>Нина Михайловна Артюхова  — русская детская писательница.</dc:title>
</cp:coreProperties>
</file>