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CB7-2B41-47DF-B458-F3F46A7A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FF5-1873-437C-8AD9-5E52CF12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80F-CB55-435C-9AEA-545D72CD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C3C-5590-4DD4-9321-B5905311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3A2-7197-4945-B39E-B67D93E0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14B-8FDF-4416-91D2-C74C62AF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4E27-7AC9-49BD-ABEA-A55C965E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6E74-E4E3-481A-A8CE-B36B2201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7497-8950-400D-9025-1ED41573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3F1C-2847-4DBF-B429-E8F48CE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2D43-9A49-4108-99DE-CCFA4E6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832-5843-409B-A009-7B5FC8E1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071-8845-462C-B8BB-B31B9D9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793E-32E5-40A0-9BD9-0D6EC5E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03C-470E-4F05-9B5A-8E7A5690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ED0B-BAB0-4A8F-ACBE-BCB7C2F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F4F8-567D-4AD0-9931-87C332C4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27D1-186F-4FDA-AA6E-0CA38B2E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972C-2771-429C-B5B7-9E9091CA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7C51-2939-4E40-B808-5E166E6B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5B05-6DF6-42F6-82E1-3D2C3B60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97C4-31E5-43D2-84BD-0FFC10C4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887-BE27-43BD-A981-EFB45AB7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9C46-FF29-4A93-9EFC-FC24A27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493A-BF6C-4E67-9B73-0ECEFC05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FCBC-C51E-41C7-BE15-26359706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9332-F4E8-4F77-B1A5-0EC1D28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8380-27A5-4165-85A6-BA030711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F9FA-0E6D-4C9A-AEA8-EA85A49D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4E7F-E48B-452C-BC25-61467A39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DBF4-4AAE-4952-AF71-B4A61D90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AB67-0BCB-4C4E-A038-96FA11B4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3EF1-B827-4447-91B0-8F64CB8C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C4F-8F8A-46D5-AE3A-29C2DB9A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EDBF-BAE8-4BF3-9D6F-73CC23D5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8502-DBA6-4388-B675-A529E99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6339-A2F5-4EEC-80B2-ED692D79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307C-1E6B-4808-9ABB-25D8536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638C-470A-4E13-A039-6450D2F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1CCA-6747-415D-8196-67FB836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9FA4-5DB6-49BE-A406-29361B2C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DEE5-0E83-49EA-93F1-ED49A9DE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0D9F-258A-41D2-8000-3CCBA5BA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008C-C2E5-42C5-BE3A-0FF63357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F1E-32FC-4433-82B8-ED2527B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8395F-3FBE-446D-ABFC-5186455F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CA29-3E18-4BE0-B773-7EC1F835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9A99-9191-4D90-9A65-DF86431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6C19-1604-41C6-9B2C-0ABE2C9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0817-4F65-4C3B-91CB-73209085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336D-88B0-4F8E-91DE-392E05B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891A-39E4-4171-AB8D-DCD367B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B4A13-B599-4BFE-ADCA-1F5DEBF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7724-2585-4174-B24A-1492057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7483-5821-43D9-B0E6-908DC8BF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B46-ADC7-4F79-95B2-7185E5FB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15BA-CF02-4480-89E2-86B7ED6D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CA3-EB55-45F9-ACA9-3C5243E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524-C2F1-4F52-8939-64E3D29A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856-F174-423E-BBD6-D559F62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246-D276-4B0C-932C-05423CCF12F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0AF3-757D-4C50-B181-0F600BA1B4C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7C00-9930-4A49-B56F-D3D1C69859E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4EF5-5C82-47C6-BD93-C30CFC29C90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811-D940-42E1-9213-B0CD6770C11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Нина Михайловна Артюхова </a:t>
            </a:r>
            <a:br>
              <a:rPr sz="2000"/>
            </a:b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— русская детская писательница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Рисунок 3" descr="nina-artyuhova.jpg"/>
          <p:cNvPicPr/>
          <p:nvPr/>
        </p:nvPicPr>
        <p:blipFill>
          <a:blip r:embed="rId1"/>
          <a:stretch/>
        </p:blipFill>
        <p:spPr>
          <a:xfrm>
            <a:off x="573120" y="554040"/>
            <a:ext cx="36385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Родилась Нина Артюхова в Москве в семье известного книжного издателя М. В. Сабашнико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00"/>
                </a:solidFill>
                <a:latin typeface="Verdana"/>
              </a:rPr>
              <a:t>Детская писательница Нина Артюхова с братом Сергеем Сабашниковым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Содержимое 3" descr="artuhova20.jpg"/>
          <p:cNvPicPr/>
          <p:nvPr/>
        </p:nvPicPr>
        <p:blipFill>
          <a:blip r:embed="rId1"/>
          <a:stretch/>
        </p:blipFill>
        <p:spPr>
          <a:xfrm>
            <a:off x="2146320" y="1298520"/>
            <a:ext cx="5205240" cy="80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508640"/>
            <a:ext cx="8183520" cy="13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В 1918 году Нина поступает в МГУ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на агрохимическое отделение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физико-математического факультета.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Девушка всегда мечтала писать,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но также ее увлекали химия и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астрономия, именно с этим связан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такой странный для писателя выбор.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Писать детские рассказы Нина Артюхова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начала в 20х годах прошлого века,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продолжая работать химиком и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увлекаясь астрономией.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В 1949 году стала членом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Союза писателей. 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Содержимое 5" descr="artuhova40_1.jpg"/>
          <p:cNvPicPr/>
          <p:nvPr/>
        </p:nvPicPr>
        <p:blipFill>
          <a:blip r:embed="rId1"/>
          <a:stretch/>
        </p:blipFill>
        <p:spPr>
          <a:xfrm>
            <a:off x="334800" y="560520"/>
            <a:ext cx="37069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84360" y="1341360"/>
            <a:ext cx="590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Русская писательница Нина Михайловна Артюхова, автор всеми любимых книг: "Светлана", "Мама", "Фарфоровые шаги" и многих других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3" descr="artuhova40.jpg"/>
          <p:cNvPicPr/>
          <p:nvPr/>
        </p:nvPicPr>
        <p:blipFill>
          <a:blip r:embed="rId1"/>
          <a:stretch/>
        </p:blipFill>
        <p:spPr>
          <a:xfrm>
            <a:off x="353880" y="378000"/>
            <a:ext cx="1955880" cy="2395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6300720" y="3573360"/>
            <a:ext cx="2435400" cy="2287800"/>
          </a:xfrm>
          <a:prstGeom prst="rect">
            <a:avLst/>
          </a:prstGeom>
          <a:ln w="0">
            <a:noFill/>
          </a:ln>
        </p:spPr>
      </p:pic>
      <p:sp>
        <p:nvSpPr>
          <p:cNvPr id="229" name="Заголовок 1"/>
          <p:cNvSpPr/>
          <p:nvPr/>
        </p:nvSpPr>
        <p:spPr>
          <a:xfrm>
            <a:off x="378000" y="5013360"/>
            <a:ext cx="59054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Самая известная повесть Н. Артюховой «Светлана» была напечатана в 1955 году и рассказывала об осиротевшей во время войны девочке, которой предстоит снова научиться быть ребенком, забыть ужасы военных лет, радоваться жизни, обрести счасть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На снимке изображена Н.М. Артюхова в возрасте 77 лет. Умерла писательница в 1990 году в Москве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3" descr="artuhova76.jpg"/>
          <p:cNvPicPr/>
          <p:nvPr/>
        </p:nvPicPr>
        <p:blipFill>
          <a:blip r:embed="rId1"/>
          <a:stretch/>
        </p:blipFill>
        <p:spPr>
          <a:xfrm>
            <a:off x="3041640" y="523800"/>
            <a:ext cx="31035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50:11Z</dcterms:created>
  <dc:creator>Руслан</dc:creator>
  <dc:description/>
  <dc:language>en-US</dc:language>
  <cp:lastModifiedBy>Рузиля</cp:lastModifiedBy>
  <dcterms:modified xsi:type="dcterms:W3CDTF">2015-08-27T04:57:19Z</dcterms:modified>
  <cp:revision>9</cp:revision>
  <dc:subject/>
  <dc:title>Нина Михайловна Артюхова  — русская детская писательница.</dc:title>
</cp:coreProperties>
</file>