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9.jpeg" ContentType="image/jpeg"/>
  <Override PartName="/ppt/media/image11.jpeg" ContentType="image/jpeg"/>
  <Override PartName="/ppt/media/image23.wmf" ContentType="image/x-wmf"/>
  <Override PartName="/ppt/media/image8.jpeg" ContentType="image/jpeg"/>
  <Override PartName="/ppt/media/image10.jpeg" ContentType="image/jpeg"/>
  <Override PartName="/ppt/media/image7.jpeg" ContentType="image/jpeg"/>
  <Override PartName="/ppt/media/image20.png" ContentType="image/png"/>
  <Override PartName="/ppt/media/image13.png" ContentType="image/png"/>
  <Override PartName="/ppt/media/image6.jpeg" ContentType="image/jpeg"/>
  <Override PartName="/ppt/media/image5.jpeg" ContentType="image/jpeg"/>
  <Override PartName="/ppt/media/image18.wmf" ContentType="image/x-wmf"/>
  <Override PartName="/ppt/media/image4.jpeg" ContentType="image/jpeg"/>
  <Override PartName="/ppt/media/image26.png" ContentType="image/png"/>
  <Override PartName="/ppt/media/image14.png" ContentType="image/png"/>
  <Override PartName="/ppt/media/image24.wmf" ContentType="image/x-wmf"/>
  <Override PartName="/ppt/media/image22.wmf" ContentType="image/x-wmf"/>
  <Override PartName="/ppt/media/image21.png" ContentType="image/png"/>
  <Override PartName="/ppt/media/image19.png" ContentType="image/png"/>
  <Override PartName="/ppt/media/image1.png" ContentType="image/png"/>
  <Override PartName="/ppt/media/image3.jpeg" ContentType="image/jpeg"/>
  <Override PartName="/ppt/media/image17.wmf" ContentType="image/x-wmf"/>
  <Override PartName="/ppt/media/image16.wmf" ContentType="image/x-wmf"/>
  <Override PartName="/ppt/media/image15.wmf" ContentType="image/x-wmf"/>
  <Override PartName="/ppt/media/image25.wmf" ContentType="image/x-wmf"/>
  <Override PartName="/ppt/media/image2.jpeg" ContentType="image/jpeg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embeddings/oleObject4.xlsx" ContentType="application/vnd.openxmlformats-officedocument.spreadsheetml.shee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0D5F1-A4A3-424D-A709-DA88BE32A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024D3-2DB9-468D-91C6-B20F68B16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66644-A9E8-42E9-8712-CE3AEB31B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3C259-7FFF-4447-B24B-12EC99781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7BF93-7216-4C19-A78F-8504AA81E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1DCCC-8514-47C5-964C-69EAEC65E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F494D-E053-4E7B-A39B-903BAA071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AD321-6839-4F03-9423-99BE33948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33655-3623-442F-8D80-C3112C7CB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66AB8-D7A4-40B5-8539-915167107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B7A2F-45AF-43E9-9B86-B2409031C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B4BD5-78A5-436A-A297-3FEDF35EC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8EADB-13A9-4607-A0ED-B3FAABFD0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112E8-8F59-454F-B069-8CCAE84CA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4D59E-5047-48A3-BFE3-2FED48772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2FD1A-337F-409A-9A09-ED81669CE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7FF74-AD1D-43D0-BEDA-4A20EC2D8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69C37-7B4C-40B3-80F5-AE17F3C9F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AF6CE-9041-4353-960F-4E6F1CB06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CFB92-800B-4A77-82A5-2D56F75F1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26F53-D03B-4DA7-B82E-474048E5E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84FBF-5D61-45D5-8DC0-07EA34183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DA795-6232-486C-8271-C6AFCA801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5F6EB-CC5E-4708-A40E-02EB82B02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0FD8D-95DC-44F9-9A2F-E400214835A5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27AFC-F53A-4302-B845-3714C6272F1C}" type="slidenum">
              <a:rPr b="0" lang="ru-RU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6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17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18.wmf"/><Relationship Id="rId9" Type="http://schemas.openxmlformats.org/officeDocument/2006/relationships/slideLayout" Target="../slideLayouts/slideLayout1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2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3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24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25.wmf"/><Relationship Id="rId9" Type="http://schemas.openxmlformats.org/officeDocument/2006/relationships/image" Target="../media/image26.png"/><Relationship Id="rId10" Type="http://schemas.openxmlformats.org/officeDocument/2006/relationships/slideLayout" Target="../slideLayouts/slideLayout1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39280" y="1125000"/>
            <a:ext cx="822636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c000"/>
                </a:solidFill>
                <a:latin typeface="Arial"/>
              </a:rPr>
              <a:t>Особенности работы с</a:t>
            </a:r>
            <a:br>
              <a:rPr sz="4800"/>
            </a:br>
            <a:r>
              <a:rPr b="0" lang="ru-RU" sz="4800" spc="-1" strike="noStrike">
                <a:solidFill>
                  <a:srgbClr val="ffc000"/>
                </a:solidFill>
                <a:latin typeface="Arial"/>
              </a:rPr>
              <a:t>семьями воспитанников, в</a:t>
            </a:r>
            <a:br>
              <a:rPr sz="4800"/>
            </a:br>
            <a:r>
              <a:rPr b="0" lang="ru-RU" sz="4800" spc="-1" strike="noStrike">
                <a:solidFill>
                  <a:srgbClr val="ffc000"/>
                </a:solidFill>
                <a:latin typeface="Arial"/>
              </a:rPr>
              <a:t>условиях Лекотеки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7664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       </a:t>
            </a: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Выполнили: Юанаева А. В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                            </a:t>
            </a: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Степанова М. В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5400" y="-360"/>
            <a:ext cx="8226360" cy="1197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000"/>
                </a:solidFill>
                <a:latin typeface="Arial"/>
              </a:rPr>
              <a:t>Наши развлечения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179280" y="1052640"/>
            <a:ext cx="896472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«Новый год»;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«День матери»;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«Шоу мыльных пузырей»;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«День милосердия»;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«День дружбы» и др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36" name="Picture 4" descr="C:\Users\Настя\Desktop\IMG_2880.JPG"/>
          <p:cNvPicPr/>
          <p:nvPr/>
        </p:nvPicPr>
        <p:blipFill>
          <a:blip r:embed="rId1"/>
          <a:stretch/>
        </p:blipFill>
        <p:spPr>
          <a:xfrm>
            <a:off x="324000" y="4221000"/>
            <a:ext cx="2519280" cy="244800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5" descr="C:\Users\Настя\Desktop\L8ehjZ0DCn8.jpg"/>
          <p:cNvPicPr/>
          <p:nvPr/>
        </p:nvPicPr>
        <p:blipFill>
          <a:blip r:embed="rId2"/>
          <a:stretch/>
        </p:blipFill>
        <p:spPr>
          <a:xfrm>
            <a:off x="3125880" y="4221000"/>
            <a:ext cx="2448000" cy="244800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6" descr="C:\Users\Настя\Desktop\114___12\IMG_2650.JPG"/>
          <p:cNvPicPr/>
          <p:nvPr/>
        </p:nvPicPr>
        <p:blipFill>
          <a:blip r:embed="rId3"/>
          <a:stretch/>
        </p:blipFill>
        <p:spPr>
          <a:xfrm>
            <a:off x="5724360" y="4221000"/>
            <a:ext cx="3240360" cy="24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ecff"/>
                </a:solidFill>
                <a:latin typeface="Times New Roman"/>
              </a:rPr>
              <a:t>Результаты диагностирования детей с нарушением интеллекта</a:t>
            </a:r>
            <a:br>
              <a:rPr sz="2000"/>
            </a:br>
            <a:r>
              <a:rPr b="1" lang="ru-RU" sz="2000" spc="-1" strike="noStrike">
                <a:solidFill>
                  <a:srgbClr val="ccecff"/>
                </a:solidFill>
                <a:latin typeface="Times New Roman"/>
              </a:rPr>
              <a:t>  Лекотека</a:t>
            </a:r>
            <a:br>
              <a:rPr sz="2000"/>
            </a:br>
            <a:r>
              <a:rPr b="1" lang="ru-RU" sz="2000" spc="-1" strike="noStrike">
                <a:solidFill>
                  <a:srgbClr val="ccecff"/>
                </a:solidFill>
                <a:latin typeface="Times New Roman"/>
              </a:rPr>
              <a:t> сентябрь 2013 года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40" name="Rectangle 71" descr=""/>
          <p:cNvPicPr/>
          <p:nvPr/>
        </p:nvPicPr>
        <p:blipFill>
          <a:blip r:embed="rId1"/>
          <a:stretch/>
        </p:blipFill>
        <p:spPr>
          <a:xfrm>
            <a:off x="250920" y="1341360"/>
            <a:ext cx="3859200" cy="245124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2"/>
          <a:stretch/>
        </p:blipFill>
        <p:spPr>
          <a:xfrm>
            <a:off x="4643280" y="1341360"/>
            <a:ext cx="4067280" cy="25542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3"/>
          <a:stretch/>
        </p:blipFill>
        <p:spPr>
          <a:xfrm>
            <a:off x="1476360" y="4005360"/>
            <a:ext cx="5383080" cy="21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44" name="Rectangle 71"/>
          <p:cNvGraphicFramePr/>
          <p:nvPr/>
        </p:nvGraphicFramePr>
        <p:xfrm>
          <a:off x="685800" y="1598760"/>
          <a:ext cx="3575160" cy="2171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5" name="Rectangle 7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598760"/>
                    <a:ext cx="3575160" cy="217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6" name="Rectangle 71"/>
          <p:cNvGraphicFramePr/>
          <p:nvPr/>
        </p:nvGraphicFramePr>
        <p:xfrm>
          <a:off x="4668840" y="1598760"/>
          <a:ext cx="3987720" cy="21715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47" name="Rectangle 7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68840" y="1598760"/>
                    <a:ext cx="3987720" cy="217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8" name="Rectangle 71"/>
          <p:cNvGraphicFramePr/>
          <p:nvPr/>
        </p:nvGraphicFramePr>
        <p:xfrm>
          <a:off x="666720" y="3922560"/>
          <a:ext cx="3614760" cy="217332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249" name="Rectangle 7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66720" y="3922560"/>
                    <a:ext cx="3614760" cy="217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0" name="Rectangle 71"/>
          <p:cNvGraphicFramePr/>
          <p:nvPr/>
        </p:nvGraphicFramePr>
        <p:xfrm>
          <a:off x="4856040" y="3922560"/>
          <a:ext cx="3614760" cy="217332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251" name="Rectangle 7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856040" y="3922560"/>
                    <a:ext cx="3614760" cy="217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ecff"/>
                </a:solidFill>
                <a:latin typeface="Times New Roman"/>
              </a:rPr>
              <a:t>Результаты диагностирования детей с нарушением интеллекта</a:t>
            </a:r>
            <a:br>
              <a:rPr sz="2000"/>
            </a:br>
            <a:r>
              <a:rPr b="1" lang="ru-RU" sz="2000" spc="-1" strike="noStrike">
                <a:solidFill>
                  <a:srgbClr val="ccecff"/>
                </a:solidFill>
                <a:latin typeface="Times New Roman"/>
              </a:rPr>
              <a:t>  Лекотека</a:t>
            </a:r>
            <a:br>
              <a:rPr sz="2000"/>
            </a:br>
            <a:r>
              <a:rPr b="1" lang="ru-RU" sz="2000" spc="-1" strike="noStrike">
                <a:solidFill>
                  <a:srgbClr val="ccecff"/>
                </a:solidFill>
                <a:latin typeface="Times New Roman"/>
              </a:rPr>
              <a:t>Май 2014года.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53" name="Rectangle 71" descr=""/>
          <p:cNvPicPr/>
          <p:nvPr/>
        </p:nvPicPr>
        <p:blipFill>
          <a:blip r:embed="rId1"/>
          <a:stretch/>
        </p:blipFill>
        <p:spPr>
          <a:xfrm>
            <a:off x="179280" y="1557360"/>
            <a:ext cx="4402080" cy="270684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2"/>
          <a:stretch/>
        </p:blipFill>
        <p:spPr>
          <a:xfrm>
            <a:off x="4716360" y="1484280"/>
            <a:ext cx="4103640" cy="268308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3"/>
          <a:stretch/>
        </p:blipFill>
        <p:spPr>
          <a:xfrm>
            <a:off x="2268360" y="4365720"/>
            <a:ext cx="440244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57" name="Rectangle 71"/>
          <p:cNvGraphicFramePr/>
          <p:nvPr/>
        </p:nvGraphicFramePr>
        <p:xfrm>
          <a:off x="858960" y="1598760"/>
          <a:ext cx="3230280" cy="2171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58" name="Rectangle 7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58960" y="1598760"/>
                    <a:ext cx="3230280" cy="217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9" name="Rectangle 71"/>
          <p:cNvGraphicFramePr/>
          <p:nvPr/>
        </p:nvGraphicFramePr>
        <p:xfrm>
          <a:off x="4857840" y="1598760"/>
          <a:ext cx="3611520" cy="21715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60" name="Rectangle 7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57840" y="1598760"/>
                    <a:ext cx="3611520" cy="217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1" name="Rectangle 71"/>
          <p:cNvGraphicFramePr/>
          <p:nvPr/>
        </p:nvGraphicFramePr>
        <p:xfrm>
          <a:off x="666720" y="3922560"/>
          <a:ext cx="3614760" cy="217332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262" name="Rectangle 7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66720" y="3922560"/>
                    <a:ext cx="3614760" cy="217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3" name=""/>
          <p:cNvGraphicFramePr/>
          <p:nvPr/>
        </p:nvGraphicFramePr>
        <p:xfrm>
          <a:off x="4859280" y="3860640"/>
          <a:ext cx="3888000" cy="233856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26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859280" y="3860640"/>
                    <a:ext cx="3888000" cy="233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65" name="" descr=""/>
          <p:cNvPicPr/>
          <p:nvPr/>
        </p:nvPicPr>
        <p:blipFill>
          <a:blip r:embed="rId9"/>
          <a:stretch/>
        </p:blipFill>
        <p:spPr>
          <a:xfrm>
            <a:off x="4645080" y="3922200"/>
            <a:ext cx="4037040" cy="217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7500960" cy="77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000"/>
                </a:solidFill>
                <a:latin typeface="Arial"/>
              </a:rPr>
              <a:t>Вывод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55400" y="1052280"/>
            <a:ext cx="8226360" cy="50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Разные формы работы, всегда проводящиеся с участием родителя, дают много возможностей для общения со специалистами и предоставление родителю информации о многих аспектах развития ребенка с ОВЗ. На этом этапе работы совместно со специалистами формируется и технологическая компетенция родителя - навыки формирования установления глазного, тактильного и речевого контактов с ребенком, способы поведения в различных ситуациях детско - родительского взаимодействия.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Эта работа формирует предпосылки для возникновения осознанного желания у родителей к реализации воспитательной функции своего "особенного" ребенка, способствует преодолению гиперопеки и инвалидизации, формированию установки на поощрение его активности.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323640" y="115920"/>
            <a:ext cx="822636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000"/>
                </a:solidFill>
                <a:latin typeface="Arial"/>
              </a:rPr>
              <a:t>Что такое Лекотека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Это служба психологического сопровождения и специальной педагогической помощи родителям, воспитывающим детей с выраженными нарушениями и проблемами развития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15" name="Picture 4" descr="1356186700_50d43512118c1154701085_600_400"/>
          <p:cNvPicPr/>
          <p:nvPr/>
        </p:nvPicPr>
        <p:blipFill>
          <a:blip r:embed="rId1"/>
          <a:stretch/>
        </p:blipFill>
        <p:spPr>
          <a:xfrm>
            <a:off x="4427640" y="3645000"/>
            <a:ext cx="4010040" cy="279216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5" descr="event_photo_big_ae199f54afbe4e479559ac87f81eda79"/>
          <p:cNvPicPr/>
          <p:nvPr/>
        </p:nvPicPr>
        <p:blipFill>
          <a:blip r:embed="rId2"/>
          <a:stretch/>
        </p:blipFill>
        <p:spPr>
          <a:xfrm>
            <a:off x="611280" y="3683160"/>
            <a:ext cx="3673440" cy="2755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000"/>
                </a:solidFill>
                <a:latin typeface="Arial"/>
              </a:rPr>
              <a:t>Основная цель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Социализация ребенка, развитие сенсорных навыков, развитие речи, психологическая помощь родителям с ОВЗ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000"/>
                </a:solidFill>
                <a:latin typeface="Arial"/>
              </a:rPr>
              <a:t>Задачи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Достижение максимальной возможности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социальной адаптации детей с ОВЗ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Оказание благотворного влияния на развитие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личности детей с ОВЗ, развитие у них игровой,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продуктивной и познавательной деятельности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Оказание психолого-педагогической и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консультативной помощи родителям детей с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ОВЗ в подборе адекватных средств общения с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ребенком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000"/>
                </a:solidFill>
                <a:latin typeface="Arial"/>
              </a:rPr>
              <a:t>Как родители реагируют на</a:t>
            </a:r>
            <a:br>
              <a:rPr sz="4000"/>
            </a:br>
            <a:r>
              <a:rPr b="0" lang="ru-RU" sz="4000" spc="-1" strike="noStrike">
                <a:solidFill>
                  <a:srgbClr val="ffc000"/>
                </a:solidFill>
                <a:latin typeface="Arial"/>
              </a:rPr>
              <a:t>поставленный диагноз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шок;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чувство гнева(недоверчивость, конфликтность);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адаптация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3" name="Picture 5" descr="Синдром дауна"/>
          <p:cNvPicPr/>
          <p:nvPr/>
        </p:nvPicPr>
        <p:blipFill>
          <a:blip r:embed="rId1"/>
          <a:stretch/>
        </p:blipFill>
        <p:spPr>
          <a:xfrm>
            <a:off x="611280" y="4076640"/>
            <a:ext cx="2857320" cy="228600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7" descr="8857_big"/>
          <p:cNvPicPr/>
          <p:nvPr/>
        </p:nvPicPr>
        <p:blipFill>
          <a:blip r:embed="rId2"/>
          <a:stretch/>
        </p:blipFill>
        <p:spPr>
          <a:xfrm>
            <a:off x="3419640" y="3429000"/>
            <a:ext cx="2879640" cy="223668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9" descr="V_SShA_rastet_chislo_detei_s_sindromom_Dauna"/>
          <p:cNvPicPr/>
          <p:nvPr/>
        </p:nvPicPr>
        <p:blipFill>
          <a:blip r:embed="rId3"/>
          <a:stretch/>
        </p:blipFill>
        <p:spPr>
          <a:xfrm>
            <a:off x="6300720" y="4076640"/>
            <a:ext cx="208764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179280" y="188640"/>
            <a:ext cx="856944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Arial"/>
              </a:rPr>
              <a:t>Формы работы с родителями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Познавательные формы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Семинары-практикумы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Тренинги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Проведение собраний, консультаций в нетрадиционной форме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Мини-собрания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Педагогический брифинг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Устные педагогические журналы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Игры с педагогическим содержанием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Педагогическая библиотека для родителей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Исследовательско-проектные,ролевые, имитационные и деловые игры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455400" y="260280"/>
            <a:ext cx="8226360" cy="583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Досуговые формы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 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Совместные досуги, праздники;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Выставки работ родителей и детей;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Кружки и секции;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Клубы отцов, бабушек, дедушек, семинары, практикумы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178920" y="115920"/>
            <a:ext cx="8713800" cy="662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Наглядно-информационные формы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Информационные проспекты для родителей;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Журналы и газеты, издаваемые ДОУ для родителей;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Дни (недели) открытых дверей;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Открытые просмотры занятий и других видов деятельности детей;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Журнал отзывов ( индивидуально);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Заполнение информационных стендов;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Организация мини-библиотек ( по темам)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000"/>
                </a:solidFill>
                <a:latin typeface="Arial"/>
              </a:rPr>
              <a:t>Участие родителей в выставках проводимых в ДОУ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«Дары осени»;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«Самая-самая елка»;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«550 талантов»;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«Лучики добра» и др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31" name="Picture 5" descr="C:\Users\Настя\Desktop\podelki_iz_ladoshek_21.jpg"/>
          <p:cNvPicPr/>
          <p:nvPr/>
        </p:nvPicPr>
        <p:blipFill>
          <a:blip r:embed="rId1"/>
          <a:stretch/>
        </p:blipFill>
        <p:spPr>
          <a:xfrm>
            <a:off x="179280" y="4076640"/>
            <a:ext cx="2016360" cy="237672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6" descr="C:\Users\Настя\Desktop\ANCdr3Qtyn4.jpg"/>
          <p:cNvPicPr/>
          <p:nvPr/>
        </p:nvPicPr>
        <p:blipFill>
          <a:blip r:embed="rId2"/>
          <a:stretch/>
        </p:blipFill>
        <p:spPr>
          <a:xfrm>
            <a:off x="2987640" y="4076640"/>
            <a:ext cx="2089080" cy="237672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7" descr="C:\Users\Настя\Desktop\EK-4BBinIC8.jpg"/>
          <p:cNvPicPr/>
          <p:nvPr/>
        </p:nvPicPr>
        <p:blipFill>
          <a:blip r:embed="rId3"/>
          <a:stretch/>
        </p:blipFill>
        <p:spPr>
          <a:xfrm>
            <a:off x="5724360" y="4076640"/>
            <a:ext cx="2448000" cy="23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17T14:36:47Z</dcterms:created>
  <dc:creator>Admin</dc:creator>
  <dc:description/>
  <dc:language>en-US</dc:language>
  <cp:lastModifiedBy>Admin</cp:lastModifiedBy>
  <dcterms:modified xsi:type="dcterms:W3CDTF">2014-05-19T14:27:43Z</dcterms:modified>
  <cp:revision>19</cp:revision>
  <dc:subject/>
  <dc:title>Особенности работы с семьями воспитанников, в условиях Лекотеки</dc:title>
</cp:coreProperties>
</file>