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6.png" ContentType="image/png"/>
  <Override PartName="/ppt/media/image14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82A-6302-4B82-9D1D-5B61395C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618-84DD-489D-AE2D-1C14F226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99F-AF9B-49D7-A73B-2ABF962C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F14-55F9-4949-BBB8-C81AB1E3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C682-DF8D-42A3-8B4F-37707DDE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FAA8-2813-412B-95BC-B9E68E34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40AA-AE3C-4FCA-9CDA-2B58C5F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53D4-2413-46E0-AA4E-053747C1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8E91-8E84-4111-98B5-89CBCE97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F2E2-4321-4CC0-9DE9-2C6CF950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6445-C103-45A6-A481-AE87CB7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0A9-F514-4B89-8651-AE91DCA1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A9B6-EEE7-4A83-A6E1-000E959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CDA-01DA-4328-A464-7B1708D1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1DDB-728F-41F4-AF17-5AAD775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FE84-8A67-4103-8EFC-E068D789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6D92-C055-4F2B-9BCD-B3F3556B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A5F-DFBF-4190-BB7B-425BBAAF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365-C393-4325-866A-D6A9F8DD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9AF-1088-4326-8C6B-ECAD5D4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934-3917-41FE-BE56-B2E00847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D50-578D-4AB8-BD1A-1E51DFD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3D1-52A9-4178-B18C-210F48A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1F9-182C-4FC4-BEBD-3C05C90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A12-85BC-4561-82D5-610ED6FDAA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905-9A19-4697-8F0A-11AB9809686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Особенности работы с</a:t>
            </a:r>
            <a:br>
              <a:rPr sz="4800"/>
            </a:b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семьями воспитанников, в</a:t>
            </a:r>
            <a:br>
              <a:rPr sz="4800"/>
            </a:b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условиях Лекотек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66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полнили: Юанаева А. 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епанова М. 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Наши развлеч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Новый год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ень матери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Шоу мыльных пузырей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ень милосердия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ень дружбы» и д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C:\Users\Настя\Desktop\IMG_2880.JPG"/>
          <p:cNvPicPr/>
          <p:nvPr/>
        </p:nvPicPr>
        <p:blipFill>
          <a:blip r:embed="rId1"/>
          <a:stretch/>
        </p:blipFill>
        <p:spPr>
          <a:xfrm>
            <a:off x="324000" y="422100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Настя\Desktop\L8ehjZ0DCn8.jpg"/>
          <p:cNvPicPr/>
          <p:nvPr/>
        </p:nvPicPr>
        <p:blipFill>
          <a:blip r:embed="rId2"/>
          <a:stretch/>
        </p:blipFill>
        <p:spPr>
          <a:xfrm>
            <a:off x="3125880" y="4221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Настя\Desktop\114___12\IMG_2650.JPG"/>
          <p:cNvPicPr/>
          <p:nvPr/>
        </p:nvPicPr>
        <p:blipFill>
          <a:blip r:embed="rId3"/>
          <a:stretch/>
        </p:blipFill>
        <p:spPr>
          <a:xfrm>
            <a:off x="5724360" y="4221000"/>
            <a:ext cx="3240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Результаты диагностирования детей с нарушением интеллект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Лекотек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сентябрь 2013 год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Rectangle 71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859200" cy="2451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067280" cy="2554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5383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Rectangle 71"/>
          <p:cNvGraphicFramePr/>
          <p:nvPr/>
        </p:nvGraphicFramePr>
        <p:xfrm>
          <a:off x="685800" y="1598760"/>
          <a:ext cx="3575160" cy="217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Rectangle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98760"/>
                    <a:ext cx="35751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Rectangle 71"/>
          <p:cNvGraphicFramePr/>
          <p:nvPr/>
        </p:nvGraphicFramePr>
        <p:xfrm>
          <a:off x="4668840" y="1598760"/>
          <a:ext cx="3987720" cy="217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Rectangle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1598760"/>
                    <a:ext cx="39877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Rectangle 71"/>
          <p:cNvGraphicFramePr/>
          <p:nvPr/>
        </p:nvGraphicFramePr>
        <p:xfrm>
          <a:off x="666720" y="3922560"/>
          <a:ext cx="3614760" cy="2173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Rectangle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720" y="3922560"/>
                    <a:ext cx="36147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Rectangle 71"/>
          <p:cNvGraphicFramePr/>
          <p:nvPr/>
        </p:nvGraphicFramePr>
        <p:xfrm>
          <a:off x="4856040" y="3922560"/>
          <a:ext cx="3614760" cy="2173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51" name="Rectangle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3922560"/>
                    <a:ext cx="36147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Результаты диагностирования детей с нарушением интеллект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Лекотек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Май 2014год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Rectangle 7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402080" cy="2706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03640" cy="2683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268360" y="4365720"/>
            <a:ext cx="4402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Rectangle 71"/>
          <p:cNvGraphicFramePr/>
          <p:nvPr/>
        </p:nvGraphicFramePr>
        <p:xfrm>
          <a:off x="858960" y="1598760"/>
          <a:ext cx="3230280" cy="217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Rectangle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98760"/>
                    <a:ext cx="32302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Rectangle 71"/>
          <p:cNvGraphicFramePr/>
          <p:nvPr/>
        </p:nvGraphicFramePr>
        <p:xfrm>
          <a:off x="4857840" y="1598760"/>
          <a:ext cx="3611520" cy="217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Rectangle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1598760"/>
                    <a:ext cx="36115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Rectangle 71"/>
          <p:cNvGraphicFramePr/>
          <p:nvPr/>
        </p:nvGraphicFramePr>
        <p:xfrm>
          <a:off x="666720" y="3922560"/>
          <a:ext cx="3614760" cy="2173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2" name="Rectangle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720" y="3922560"/>
                    <a:ext cx="36147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859280" y="3860640"/>
          <a:ext cx="3888000" cy="2338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3860640"/>
                    <a:ext cx="388800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4645080" y="3922200"/>
            <a:ext cx="4037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5009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ные формы работы, всегда проводящиеся с участием родителя, дают много возможностей для общения со специалистами и предоставление родителю информации о многих аспектах развития ребенка с ОВЗ. На этом этапе работы совместно со специалистами формируется и технологическая компетенция родителя - навыки формирования установления глазного, тактильного и речевого контактов с ребенком, способы поведения в различных ситуациях детско - родительского взаимодействия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та работа формирует предпосылки для возникновения осознанного желания у родителей к реализации воспитательной функции своего "особенного" ребенка, способствует преодолению гиперопеки и инвалидизации, формированию установки на поощрение его активност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15920"/>
            <a:ext cx="8226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Что такое Лекоте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служба психологического сопровождения и специальной педагогической помощи родителям, воспитывающим детей с выраженными нарушениями и проблемами развит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Picture 4" descr="1356186700_50d43512118c1154701085_600_400"/>
          <p:cNvPicPr/>
          <p:nvPr/>
        </p:nvPicPr>
        <p:blipFill>
          <a:blip r:embed="rId1"/>
          <a:stretch/>
        </p:blipFill>
        <p:spPr>
          <a:xfrm>
            <a:off x="4427640" y="3645000"/>
            <a:ext cx="4010040" cy="279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event_photo_big_ae199f54afbe4e479559ac87f81eda79"/>
          <p:cNvPicPr/>
          <p:nvPr/>
        </p:nvPicPr>
        <p:blipFill>
          <a:blip r:embed="rId2"/>
          <a:stretch/>
        </p:blipFill>
        <p:spPr>
          <a:xfrm>
            <a:off x="611280" y="368316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Основная 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циализация ребенка, развитие сенсорных навыков, развитие речи, психологическая помощь родителям с ОВЗ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остижение максимальной возмож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циальной адаптации детей с ОВЗ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казание благотворного влияния на развит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чности детей с ОВЗ, развитие у них игрово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дуктивной и познавательной деятельност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казание психолого-педагогической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сультативной помощи родителям детей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ВЗ в подборе адекватных средств общения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бенк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Как родители реагируют на</a:t>
            </a: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оставленный диагноз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шок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увство гнева(недоверчивость, конфликтность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даптац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5" descr="Синдром дауна"/>
          <p:cNvPicPr/>
          <p:nvPr/>
        </p:nvPicPr>
        <p:blipFill>
          <a:blip r:embed="rId1"/>
          <a:stretch/>
        </p:blipFill>
        <p:spPr>
          <a:xfrm>
            <a:off x="611280" y="407664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8857_big"/>
          <p:cNvPicPr/>
          <p:nvPr/>
        </p:nvPicPr>
        <p:blipFill>
          <a:blip r:embed="rId2"/>
          <a:stretch/>
        </p:blipFill>
        <p:spPr>
          <a:xfrm>
            <a:off x="3419640" y="3429000"/>
            <a:ext cx="2879640" cy="223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V_SShA_rastet_chislo_detei_s_sindromom_Dauna"/>
          <p:cNvPicPr/>
          <p:nvPr/>
        </p:nvPicPr>
        <p:blipFill>
          <a:blip r:embed="rId3"/>
          <a:stretch/>
        </p:blipFill>
        <p:spPr>
          <a:xfrm>
            <a:off x="6300720" y="4076640"/>
            <a:ext cx="208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ы работы с родителям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знавательные форм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еминары-практикум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енинг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собраний, консультаций в нетрадиционной форм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ини-собра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едагогический брифин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тные педагогические журнал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гры с педагогическим содержание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едагогическая библиотека для родителе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следовательско-проектные,ролевые, имитационные и деловые игр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260280"/>
            <a:ext cx="82263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суговые форм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вместные досуги, праздник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ставки работ родителей и де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ужки и секци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лубы отцов, бабушек, дедушек, семинары, практикум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78920" y="115920"/>
            <a:ext cx="87138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глядно-информационные формы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формационные проспекты для родител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ы и газеты, издаваемые ДОУ для родител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ни (недели) открытых двер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ткрытые просмотры занятий и других видов деятельности дет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 отзывов ( индивидуально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полнение информационных стендов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рганизация мини-библиотек ( по темам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Участие родителей в выставках проводимых в ДО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Дары осени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Самая-самая елка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550 талантов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«Лучики добра» и д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5" descr="C:\Users\Настя\Desktop\podelki_iz_ladoshek_21.jpg"/>
          <p:cNvPicPr/>
          <p:nvPr/>
        </p:nvPicPr>
        <p:blipFill>
          <a:blip r:embed="rId1"/>
          <a:stretch/>
        </p:blipFill>
        <p:spPr>
          <a:xfrm>
            <a:off x="179280" y="4076640"/>
            <a:ext cx="2016360" cy="237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Настя\Desktop\ANCdr3Qtyn4.jpg"/>
          <p:cNvPicPr/>
          <p:nvPr/>
        </p:nvPicPr>
        <p:blipFill>
          <a:blip r:embed="rId2"/>
          <a:stretch/>
        </p:blipFill>
        <p:spPr>
          <a:xfrm>
            <a:off x="2987640" y="4076640"/>
            <a:ext cx="2089080" cy="23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Настя\Desktop\EK-4BBinIC8.jpg"/>
          <p:cNvPicPr/>
          <p:nvPr/>
        </p:nvPicPr>
        <p:blipFill>
          <a:blip r:embed="rId3"/>
          <a:stretch/>
        </p:blipFill>
        <p:spPr>
          <a:xfrm>
            <a:off x="5724360" y="4076640"/>
            <a:ext cx="244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4:36:47Z</dcterms:created>
  <dc:creator>Admin</dc:creator>
  <dc:description/>
  <dc:language>en-US</dc:language>
  <cp:lastModifiedBy>Admin</cp:lastModifiedBy>
  <dcterms:modified xsi:type="dcterms:W3CDTF">2014-05-19T14:27:43Z</dcterms:modified>
  <cp:revision>19</cp:revision>
  <dc:subject/>
  <dc:title>Особенности работы с семьями воспитанников, в условиях Лекотеки</dc:title>
</cp:coreProperties>
</file>