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06B-8C16-4F38-A831-5EC0D53D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14E-6BA9-434C-BC36-08ED044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FB8-7039-4149-84CA-271A9ED8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F36-AB18-436A-A945-B4AF6AEA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A4F-1D08-4BAC-8B6A-101DDB6B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425-536D-4706-9B82-66E71036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7E6-CF04-4B06-B79C-C013EB00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C99-2870-4A84-A36A-FD707B78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1F0-5071-4847-8338-5CEFCA07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B34-EAEF-421E-945D-71DEC0B4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7F9-79FC-4FC4-85FC-22EE29AB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930-FBDC-4F8E-93D5-A5F26FD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5C73-7895-460A-990A-9F300EE934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Старшие офицер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293"/>
                </a:solidFill>
                <a:latin typeface="Bookman Old Style"/>
              </a:rPr>
              <a:t>Маршал Российской Федерации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2" name="Picture 6" descr="marshal_of_the_russian_federation_rank_insignia"/>
          <p:cNvPicPr/>
          <p:nvPr/>
        </p:nvPicPr>
        <p:blipFill>
          <a:blip r:embed="rId1"/>
          <a:stretch/>
        </p:blipFill>
        <p:spPr>
          <a:xfrm>
            <a:off x="3654360" y="1219320"/>
            <a:ext cx="1852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Приложение № к ст.5 УВ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Перед воинским званием в/с, проходящего службу в гвардейской в/ч, соединении, корабле, добавляется слово «гвард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2. К воинским званиям в/с, имеющих юридическую, медицинскую или ветеринарную военно-учетную специальности, добавляются соответственно слова «юстиции», «медицинской службы» или «ветеринарной служб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К воинскому званию  лица, пребывающего в запасе (резерве) или находящегося в отставке, добавляется соответственно слово «запаса» («резерва») или «в отставк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3.      К воинским званиям сержантов (старшин) и прапорщиков (мичманов) наименование рода войск или службы не добавля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99"/>
                </a:solidFill>
                <a:latin typeface="Bookman Old Style"/>
              </a:rPr>
              <a:t>Генералиссимусы Рос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Bookman Old Style"/>
              </a:rPr>
              <a:t>Высший чин, стоявший вне системы офицерских чинов. Официально был введен Воинским уставом 1716 года – отменён в 1917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Bookman Old Style"/>
              </a:rPr>
              <a:t>После ВОВ 26 июня 1945 года указом Президиума Верховного Совета СССР было введено высшее воинское звание «Генералиссимус Советского Сою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Bookman Old Style"/>
              </a:rPr>
              <a:t>В настоящее время в Российской Федерации это воинское звание законодательством не предусмотр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время второго Азовского похода, в 1696 году, был командующим сухопутными войсками. 28 июня 1696 года за военные успехи во втором Азовском походе, Пётр I присвоил звание Генералиссим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Алексей Семёнович Шеин 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662 — 1700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время второго Азовского похода, в 1696 году, Алексей Шеин был Командующим сухопутными войсками. 28 июня 1696 года за военные успехи во втором Азовском походе, Пётр I присвоил Шеину звание Генералиссим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D:\Documents and Settings\школа №102\Рабочий стол\0_62bc3_34755b15_XL.png"/>
          <p:cNvPicPr/>
          <p:nvPr/>
        </p:nvPicPr>
        <p:blipFill>
          <a:blip r:embed="rId1"/>
          <a:stretch/>
        </p:blipFill>
        <p:spPr>
          <a:xfrm>
            <a:off x="457200" y="2009880"/>
            <a:ext cx="27432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12189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ыграл большую роль в Полтавском сражении (27 июня (8 июля) 1709), где командовал сначала авангардом, а затем левым флангом русской армии. Ещё до ввода в сражение главных сил он разгромил отряд генерала Шлиппенбаха, пленив последнего. В момент столкновения армий обрушился на корпус генерала Росса, рассеяв его, что во многом предопределило победу русской армии. Преследуя бежавшую с поля сражения шведскую армию, настиг её у переправы через Днепр и принудил капитулиров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457200" y="3733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олтаву был удостоен чина генерал-фельдмарш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533520" y="42670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вступлением на престол Петра II (сына царевича Алексея Петровича) он был удостоен чина полного адмирала и звания генералиссиму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Александр Данилович Меншиков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673 — 1729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76720" y="1600200"/>
            <a:ext cx="5410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ыграл большую роль в Полтавском сражении (27 июня (8 июля) 1709), где командовал сначала авангардом, а затем левым флангом русской армии. Ещё до ввода в сражение главных сил он разгромил отряд генерала Шлиппенбаха, пленив последнего. В момент столкновения армий обрушился на корпус генерала Росса, рассеяв его, что во многом предопределило победу русской армии. Преследуя бежавшую с поля сражения шведскую армию, Меншиков настиг её у переправы через Днепр и принудил капитулиров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D:\Documents and Settings\школа №102\Рабочий стол\Мен.jpg"/>
          <p:cNvPicPr/>
          <p:nvPr/>
        </p:nvPicPr>
        <p:blipFill>
          <a:blip r:embed="rId1"/>
          <a:stretch/>
        </p:blipFill>
        <p:spPr>
          <a:xfrm>
            <a:off x="380880" y="1676520"/>
            <a:ext cx="2713320" cy="3268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457200" y="53341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олтаву был удостоен чина генерал-фельдмарш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533520" y="56577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вступлением на престол Петра II (сына царевича Алексея Петровича) он был удостоен чина полного адмирала и звания генералиссиму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94920" y="2514600"/>
            <a:ext cx="63248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ец российского императора Ивана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Антон Ульрих Брауншвейгский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714 — 1774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1280" y="4495320"/>
            <a:ext cx="472464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ец российского императора Ивана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D:\Documents and Settings\школа №102\Рабочий стол\брауншв.jpg"/>
          <p:cNvPicPr/>
          <p:nvPr/>
        </p:nvPicPr>
        <p:blipFill>
          <a:blip r:embed="rId1"/>
          <a:stretch/>
        </p:blipFill>
        <p:spPr>
          <a:xfrm>
            <a:off x="466560" y="1828800"/>
            <a:ext cx="26575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8080" y="2133720"/>
            <a:ext cx="7848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беспримерный по трудностям и героизму Швейцарский поход был удостоен высшего воинского звания генералиссим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майор                          капитан 3 ранга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3" name="Picture 5" descr="(3) к3р"/>
          <p:cNvPicPr/>
          <p:nvPr/>
        </p:nvPicPr>
        <p:blipFill>
          <a:blip r:embed="rId1"/>
          <a:stretch/>
        </p:blipFill>
        <p:spPr>
          <a:xfrm>
            <a:off x="4191120" y="914400"/>
            <a:ext cx="2423880" cy="563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(21) майор"/>
          <p:cNvPicPr/>
          <p:nvPr/>
        </p:nvPicPr>
        <p:blipFill>
          <a:blip r:embed="rId2"/>
          <a:stretch/>
        </p:blipFill>
        <p:spPr>
          <a:xfrm>
            <a:off x="380880" y="990720"/>
            <a:ext cx="2462400" cy="56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к3р нарук"/>
          <p:cNvPicPr/>
          <p:nvPr/>
        </p:nvPicPr>
        <p:blipFill>
          <a:blip r:embed="rId3"/>
          <a:stretch/>
        </p:blipFill>
        <p:spPr>
          <a:xfrm>
            <a:off x="6705720" y="914400"/>
            <a:ext cx="217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Александр Васильевич Суворов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730 — 1800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62160" y="3200040"/>
            <a:ext cx="47242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беспримерный по трудностям и героизму Швейцарский поход был удостоен высшего воинского звания генералиссим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D:\Documents and Settings\школа №102\Рабочий стол\сув.jpeg"/>
          <p:cNvPicPr/>
          <p:nvPr/>
        </p:nvPicPr>
        <p:blipFill>
          <a:blip r:embed="rId1"/>
          <a:stretch/>
        </p:blipFill>
        <p:spPr>
          <a:xfrm>
            <a:off x="457200" y="1752480"/>
            <a:ext cx="335268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520" y="1752120"/>
            <a:ext cx="8076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6 июня 1945 года за военные заслуги в руководстве борьбой с гитлеровской Германией был удостоен звания Героя Советского Сою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Иосиф Виссарионович Сталин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(1879 — 1953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85840" y="2819160"/>
            <a:ext cx="4724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6 июня 1945 года за военные заслуги в руководстве борьбой с гитлеровской Германией был удостоен звания Героя Советского Сою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D:\Documents and Settings\школа №102\Рабочий стол\bcqpgwfcsrgf.jpg"/>
          <p:cNvPicPr/>
          <p:nvPr/>
        </p:nvPicPr>
        <p:blipFill>
          <a:blip r:embed="rId1"/>
          <a:stretch/>
        </p:blipFill>
        <p:spPr>
          <a:xfrm>
            <a:off x="314280" y="1752480"/>
            <a:ext cx="3267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подполковник                 капитан 2 ранга</a:t>
            </a: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7" name="Picture 7" descr="(20) подполковник"/>
          <p:cNvPicPr/>
          <p:nvPr/>
        </p:nvPicPr>
        <p:blipFill>
          <a:blip r:embed="rId1"/>
          <a:stretch/>
        </p:blipFill>
        <p:spPr>
          <a:xfrm>
            <a:off x="380880" y="914400"/>
            <a:ext cx="2292480" cy="556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(2) к2р"/>
          <p:cNvPicPr/>
          <p:nvPr/>
        </p:nvPicPr>
        <p:blipFill>
          <a:blip r:embed="rId2"/>
          <a:stretch/>
        </p:blipFill>
        <p:spPr>
          <a:xfrm>
            <a:off x="4343400" y="914400"/>
            <a:ext cx="2263680" cy="556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к2р нарук"/>
          <p:cNvPicPr/>
          <p:nvPr/>
        </p:nvPicPr>
        <p:blipFill>
          <a:blip r:embed="rId3"/>
          <a:stretch/>
        </p:blipFill>
        <p:spPr>
          <a:xfrm>
            <a:off x="6705720" y="914400"/>
            <a:ext cx="2173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полковник                      капитан 1 ранга</a:t>
            </a: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Picture 9" descr="(1) к1р"/>
          <p:cNvPicPr/>
          <p:nvPr/>
        </p:nvPicPr>
        <p:blipFill>
          <a:blip r:embed="rId1"/>
          <a:stretch/>
        </p:blipFill>
        <p:spPr>
          <a:xfrm>
            <a:off x="4572000" y="990720"/>
            <a:ext cx="2138400" cy="551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(19) полковник"/>
          <p:cNvPicPr/>
          <p:nvPr/>
        </p:nvPicPr>
        <p:blipFill>
          <a:blip r:embed="rId2"/>
          <a:stretch/>
        </p:blipFill>
        <p:spPr>
          <a:xfrm>
            <a:off x="1066680" y="914400"/>
            <a:ext cx="2289240" cy="556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к1р нарук"/>
          <p:cNvPicPr/>
          <p:nvPr/>
        </p:nvPicPr>
        <p:blipFill>
          <a:blip r:embed="rId3"/>
          <a:stretch/>
        </p:blipFill>
        <p:spPr>
          <a:xfrm>
            <a:off x="6781680" y="990720"/>
            <a:ext cx="2175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Georgia"/>
              </a:rPr>
              <a:t>Высшие офицер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генерал-майор                 контр-адмирал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Picture 11" descr="Контр-адмирал"/>
          <p:cNvPicPr/>
          <p:nvPr/>
        </p:nvPicPr>
        <p:blipFill>
          <a:blip r:embed="rId1"/>
          <a:stretch/>
        </p:blipFill>
        <p:spPr>
          <a:xfrm>
            <a:off x="4343400" y="1143000"/>
            <a:ext cx="2230560" cy="49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контр-адмирал нарук"/>
          <p:cNvPicPr/>
          <p:nvPr/>
        </p:nvPicPr>
        <p:blipFill>
          <a:blip r:embed="rId2"/>
          <a:stretch/>
        </p:blipFill>
        <p:spPr>
          <a:xfrm>
            <a:off x="6629400" y="1143000"/>
            <a:ext cx="2241720" cy="36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Юрьев\МОЁ\мне\7d90afcc7c1c.jpg"/>
          <p:cNvPicPr/>
          <p:nvPr/>
        </p:nvPicPr>
        <p:blipFill>
          <a:blip r:embed="rId3"/>
          <a:stretch/>
        </p:blipFill>
        <p:spPr>
          <a:xfrm>
            <a:off x="728640" y="1066680"/>
            <a:ext cx="2193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генерал-лейтенант            вице-адмирал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Picture 5" descr="Russia-airforce-1994_17-1-"/>
          <p:cNvPicPr/>
          <p:nvPr/>
        </p:nvPicPr>
        <p:blipFill>
          <a:blip r:embed="rId1"/>
          <a:stretch/>
        </p:blipFill>
        <p:spPr>
          <a:xfrm>
            <a:off x="685800" y="1295280"/>
            <a:ext cx="2190600" cy="480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Russia-navy-shoulder-1994_17"/>
          <p:cNvPicPr/>
          <p:nvPr/>
        </p:nvPicPr>
        <p:blipFill>
          <a:blip r:embed="rId2"/>
          <a:stretch/>
        </p:blipFill>
        <p:spPr>
          <a:xfrm>
            <a:off x="4343400" y="1295280"/>
            <a:ext cx="219384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вице-адмирал нарук"/>
          <p:cNvPicPr/>
          <p:nvPr/>
        </p:nvPicPr>
        <p:blipFill>
          <a:blip r:embed="rId3"/>
          <a:stretch/>
        </p:blipFill>
        <p:spPr>
          <a:xfrm>
            <a:off x="6629400" y="1295280"/>
            <a:ext cx="2340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293"/>
                </a:solidFill>
                <a:latin typeface="Bookman Old Style"/>
              </a:rPr>
              <a:t>генерал-полковник                  адмирал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4" name="Picture 7" descr="General-polkownik"/>
          <p:cNvPicPr/>
          <p:nvPr/>
        </p:nvPicPr>
        <p:blipFill>
          <a:blip r:embed="rId1"/>
          <a:stretch/>
        </p:blipFill>
        <p:spPr>
          <a:xfrm>
            <a:off x="685800" y="1447920"/>
            <a:ext cx="2117880" cy="46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Адмирал"/>
          <p:cNvPicPr/>
          <p:nvPr/>
        </p:nvPicPr>
        <p:blipFill>
          <a:blip r:embed="rId2"/>
          <a:stretch/>
        </p:blipFill>
        <p:spPr>
          <a:xfrm>
            <a:off x="4572000" y="1371600"/>
            <a:ext cx="1924200" cy="47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адмирал нарук"/>
          <p:cNvPicPr/>
          <p:nvPr/>
        </p:nvPicPr>
        <p:blipFill>
          <a:blip r:embed="rId3"/>
          <a:stretch/>
        </p:blipFill>
        <p:spPr>
          <a:xfrm>
            <a:off x="6553080" y="1371600"/>
            <a:ext cx="2132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293"/>
                </a:solidFill>
                <a:latin typeface="Bookman Old Style"/>
              </a:rPr>
              <a:t>генерал армии                адмирал флота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222408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2014_09_09\погоны\4e2f3bca88bbe.jpg"/>
          <p:cNvPicPr/>
          <p:nvPr/>
        </p:nvPicPr>
        <p:blipFill>
          <a:blip r:embed="rId2"/>
          <a:stretch/>
        </p:blipFill>
        <p:spPr>
          <a:xfrm>
            <a:off x="762120" y="838080"/>
            <a:ext cx="2057400" cy="526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C:\2014_09_09\погоны\4e2f39c7a09a6.jpg"/>
          <p:cNvPicPr/>
          <p:nvPr/>
        </p:nvPicPr>
        <p:blipFill>
          <a:blip r:embed="rId3"/>
          <a:stretch/>
        </p:blipFill>
        <p:spPr>
          <a:xfrm>
            <a:off x="4343400" y="1057320"/>
            <a:ext cx="220968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ячеслав</cp:lastModifiedBy>
  <dcterms:modified xsi:type="dcterms:W3CDTF">2015-08-28T11:53:2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