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490-38E5-470B-8BB0-FC43F7A3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965-5431-484D-99DE-9A56F078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787-033C-483A-8AF1-AA86CE67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EB4-9404-46FA-B241-3D55CE1E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689-910F-445F-8B39-4866D9C8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B99-12B0-4457-9DDA-B5200E54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2C3-96AA-4175-9F1E-E176DFCD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A4A-57D5-4B9B-B35C-523D56C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2B5-F993-43DF-91C0-BA40B1C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ABC-9E0F-4B84-9A74-9D0B988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540-A4F5-4188-8FF8-2D2CBD9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162-5990-4752-8BA4-50A69635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731F-4042-43EC-81A7-A4D8F61710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znachkov.net/spaw2/uploads/images/Znachok_GTO_10_stupeni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znachkov.net/spaw2/uploads/images/Znachki_GTO_1_stupen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625427.vk.me/v625427660/32f8d/aNQa8G3DQMM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irtualrm.spb.ru/files/images/%20&#1071;.&#1041;.&#1043;&#1086;&#1090;&#1086;&#1074;%20&#1083;&#1080;%20&#1090;&#1099;%20&#1082;%20&#1089;&#1076;&#1072;&#1095;&#1077;%20&#1085;&#1086;&#1088;&#1084;%20&#1085;&#1072;%20&#1079;&#1085;&#1072;&#1095;&#1086;&#1082;%20&#1043;&#1086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r-reklama33.ru/images/Uslugi/stendy/1/stend_gto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%3A%2F%2Ftest.fmba.dev.armd.ru%2Fcommon%2Fupload%2Fnews%2Fcover%2F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%3A%2F%2Fimg.novoteka.ru%2F2013-03%2F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xinews.ru/up2/news/article/2015/06/11/big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rdovmedia.ru/media/contests/24/profiles/ea3b14345d2bbbad0e6c6e3021962d1b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znachkov.net/spaw2/uploads/images/Zoloto_GTO_8_stup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www.znachkov.net/spaw2/uploads/images/Znachki_GTO_1_stup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cs625427.vk.me/v625427660/32f8d/aNQa8G3DQM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42920" y="68040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и девочки от 6 до 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9 до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1 до 1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и и девушки от 13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6 до 1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и женщины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30 до 3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40 до 4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50 до 5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60 до 6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старше 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gor-reklama33.ru/images/Uslugi/stendy/1/stend_gto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165240" y="2257560"/>
            <a:ext cx="2835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 на изображения: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zaopressa.ru/sitefiles/rn/655/News/vystavka-gto-12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kuban.ru.images.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dn.static3.rtr-vesti.ru/vh/pictures/o/524/778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msport.ru/image/gto/207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zaopressa.ru/sitefiles/rn/655/News/gto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xinews.ru/up2/news/article/2015/06/11/bi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rdovmedia.ru/media/contests/24/profiles/ea3b14345d2bbbad0e6c6e3021962d1b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olzhaninovskievesti.ru/upload/resize_cache/iblock/421/300_0_1/42146ad73c07be0e33d687d8d19a24e0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nachkov.net/spaw2/uploads/images/Znachok_GTO_10_stupeni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625427.vk.me/v625427660/32f8d/aNQa8G3DQMM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r-reklama33.ru/images/Uslugi/stendy/1/stend_gto_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im2-tub-ru.yandex.net/i?id=531a605e0757bb4ecbefb28945d2a26b&amp;n=33&amp;h=17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421018.vk.me/v421018159/30f2/t6XuuLUj9B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homka.ru/images/Dec/06/de0076c64956ebbff0bc81f08c536dff/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pgzt.ru/photo/news/1_5619.jp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285920"/>
            <a:ext cx="3411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dixinews.ru/up2/news/article/2015/06/11/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mordovmedia.ru/media/contests/24/profiles/ea3b14345d2bbbad0e6c6e3021962d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Маша</cp:lastModifiedBy>
  <dcterms:modified xsi:type="dcterms:W3CDTF">2015-08-30T14:41:45Z</dcterms:modified>
  <cp:revision>277</cp:revision>
  <dc:subject/>
  <dc:title>Diapositiva 1</dc:title>
</cp:coreProperties>
</file>