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605-04F1-4212-8C42-8DB2196C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FC3-0B28-41FF-A116-D5762658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FB5-60BF-422C-9C12-3A701DBE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A2A-CF97-48F7-A570-78A70990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B39-6CE9-4D69-9A2D-3B3468DC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64B-E50D-41D7-8EAD-D66484F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810-25E6-4846-B81C-492DDE2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045-AEE2-4F01-AEE2-2B7BE430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FDE-F916-419B-9FF6-DC230BDB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5E5-FE61-4279-9B0D-8AC5D6B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019-F711-4E5F-8E46-C8E2F72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B51-1F13-4FC8-B1D1-C110AC6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2FBA-6AF5-4566-8804-B117FDC50A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Маша</cp:lastModifiedBy>
  <dcterms:modified xsi:type="dcterms:W3CDTF">2015-08-30T14:41:45Z</dcterms:modified>
  <cp:revision>277</cp:revision>
  <dc:subject/>
  <dc:title>Diapositiva 1</dc:title>
</cp:coreProperties>
</file>