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A9F4-34D9-4486-A406-5CA7862298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E168-6BDE-4461-A2B6-F810DB06F2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AC35-83BB-44CA-99A7-8E5ACA325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DC75-ACB0-44E1-AD11-55CB9B05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EC73-38A2-4B63-9396-7E36C888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92AE-E472-40A8-8FD7-F43E9A40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0CD6-781C-4BB4-9D4A-5B8E384D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ADC2-1317-4D7D-8F02-7A8B2E12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CF38-12F4-4D2F-B759-271F61A7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CF4D-A5A3-4982-B78C-C53CA922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D4E9-CF2B-462A-953B-A40682BC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3F8D-0500-4258-81C9-7FA274DC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510B-E229-4774-8DA8-D7B4A80B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1BE7-27D5-425F-916D-7445D1C9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1D31-FCE5-4F7B-B3BE-5C000A0DB1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28520" y="1356840"/>
            <a:ext cx="535788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ый конкурс« Экология речи»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ива ли русская пословица?</a:t>
            </a:r>
            <a:br>
              <a:rPr sz="2400"/>
            </a:br>
            <a:br>
              <a:rPr sz="2000"/>
            </a:b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Проект подготовила обучающаяс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8Б класса МБОУ «Лицей» р.п. Степно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Бобровская Юлия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Руководитель: Перова Н.В.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учитель русского языка и литера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Monotype Corsiva"/>
              </a:rPr>
              <a:t>Пословица жива и сегод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1) Память народа о самом себ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2)  Портрет народа, созданный им сами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3)Рассказ народа о своей жиз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4) Народная оценка жиз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5) Собрание народной мудр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8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3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3" dur="2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8" dur="2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Monotype Corsiva"/>
              </a:rPr>
              <a:t>Анкетирование обучающихся лице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IMG_2365"/>
          <p:cNvPicPr/>
          <p:nvPr/>
        </p:nvPicPr>
        <p:blipFill>
          <a:blip r:embed="rId1"/>
          <a:stretch/>
        </p:blipFill>
        <p:spPr>
          <a:xfrm>
            <a:off x="0" y="998640"/>
            <a:ext cx="9144000" cy="5859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IMG_2368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IMG_2371"/>
          <p:cNvPicPr/>
          <p:nvPr/>
        </p:nvPicPr>
        <p:blipFill>
          <a:blip r:embed="rId3"/>
          <a:stretch/>
        </p:blipFill>
        <p:spPr>
          <a:xfrm>
            <a:off x="0" y="944640"/>
            <a:ext cx="914400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Monotype Corsiva"/>
              </a:rPr>
              <a:t>Часто ли вы  употребляете пословицы в реч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8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5754600" cy="3465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9"/>
          <p:cNvSpPr/>
          <p:nvPr/>
        </p:nvSpPr>
        <p:spPr>
          <a:xfrm>
            <a:off x="2411280" y="551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4,5,8  клас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Monotype Corsiva"/>
              </a:rPr>
              <a:t>Где чаще всего употребляете пословиц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0" y="414972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4, 5 кла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435640" y="64008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8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4211640" cy="2666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4546440" y="3429000"/>
            <a:ext cx="459756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Monotype Corsiva"/>
              </a:rPr>
              <a:t>С какой целью употребляете пословицы в реч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763640" y="573408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4, 5, 8 кла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76908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Monotype Corsiva"/>
              </a:rPr>
              <a:t>Каких больше всего пословиц использует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268360" y="558972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4, 5, 8 кла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84036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словица – душа нар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4"/>
          <p:cNvSpPr/>
          <p:nvPr/>
        </p:nvSpPr>
        <p:spPr>
          <a:xfrm>
            <a:off x="3276720" y="2852640"/>
            <a:ext cx="2160360" cy="165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 rot="1560000">
            <a:off x="3058920" y="4292280"/>
            <a:ext cx="720720" cy="1368360"/>
          </a:xfrm>
          <a:prstGeom prst="downArrow">
            <a:avLst>
              <a:gd name="adj1" fmla="val 50000"/>
              <a:gd name="adj2" fmla="val 4746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1835280" y="3284640"/>
            <a:ext cx="1439640" cy="576000"/>
          </a:xfrm>
          <a:prstGeom prst="leftArrow">
            <a:avLst>
              <a:gd name="adj1" fmla="val 50000"/>
              <a:gd name="adj2" fmla="val 6248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3924360" y="1628640"/>
            <a:ext cx="720720" cy="1224000"/>
          </a:xfrm>
          <a:prstGeom prst="upArrow">
            <a:avLst>
              <a:gd name="adj1" fmla="val 50000"/>
              <a:gd name="adj2" fmla="val 424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0"/>
          <p:cNvSpPr/>
          <p:nvPr/>
        </p:nvSpPr>
        <p:spPr>
          <a:xfrm>
            <a:off x="5435640" y="3357720"/>
            <a:ext cx="1295280" cy="576000"/>
          </a:xfrm>
          <a:prstGeom prst="rightArrow">
            <a:avLst>
              <a:gd name="adj1" fmla="val 50000"/>
              <a:gd name="adj2" fmla="val 5621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1"/>
          <p:cNvSpPr/>
          <p:nvPr/>
        </p:nvSpPr>
        <p:spPr>
          <a:xfrm rot="20269800">
            <a:off x="4859280" y="4292280"/>
            <a:ext cx="719280" cy="1368360"/>
          </a:xfrm>
          <a:prstGeom prst="downArrow">
            <a:avLst>
              <a:gd name="adj1" fmla="val 50000"/>
              <a:gd name="adj2" fmla="val 475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2843280" y="1197000"/>
            <a:ext cx="33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Отражение жизни на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324000" y="3213000"/>
            <a:ext cx="15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Народная мудр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684360" y="573408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Правила жизни на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4932360" y="5734080"/>
            <a:ext cx="38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Народные представления о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6804000" y="328464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Обращена к кажд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0"/>
            <a:ext cx="751536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Устное народное творчеств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00040" y="1356840"/>
            <a:ext cx="78580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ет на земле человека, который бы не знал ни одной народной сказки или песни, ни одной пословицы или поговорки, а ведь это всё устное народное творчество, зародившееся в глубине веков и передававшееся из уст в уста, от одного поколения в друг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2871720" y="5430960"/>
            <a:ext cx="34686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858920" y="1773000"/>
            <a:ext cx="362124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Пословица- краткое изречение, поучение, более в виде притчи, иносказания, или в виде житейского пригово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2667056"/>
          <p:cNvPicPr/>
          <p:nvPr/>
        </p:nvPicPr>
        <p:blipFill>
          <a:blip r:embed="rId1"/>
          <a:stretch/>
        </p:blipFill>
        <p:spPr>
          <a:xfrm>
            <a:off x="755640" y="836640"/>
            <a:ext cx="3009960" cy="4968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539640" y="5950080"/>
            <a:ext cx="43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Толковый словарь « Живого великорусского  я зыка»  В.И.Да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1269693224_2"/>
          <p:cNvPicPr/>
          <p:nvPr/>
        </p:nvPicPr>
        <p:blipFill>
          <a:blip r:embed="rId1"/>
          <a:stretch/>
        </p:blipFill>
        <p:spPr>
          <a:xfrm>
            <a:off x="395280" y="404640"/>
            <a:ext cx="3029040" cy="41752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8"/>
          <p:cNvSpPr/>
          <p:nvPr/>
        </p:nvSpPr>
        <p:spPr>
          <a:xfrm>
            <a:off x="324000" y="5084640"/>
            <a:ext cx="40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«В них есть всё: издевка, насмешка, попрек, словом – всё шевелящее и задирающее за живое.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684360" y="4653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В.Гог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russkie_poslovicy_v_licakh_20_foto_7"/>
          <p:cNvPicPr/>
          <p:nvPr/>
        </p:nvPicPr>
        <p:blipFill>
          <a:blip r:embed="rId2"/>
          <a:stretch/>
        </p:blipFill>
        <p:spPr>
          <a:xfrm>
            <a:off x="4427640" y="404640"/>
            <a:ext cx="4176720" cy="2641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516dfc9684b19_normal_700"/>
          <p:cNvPicPr/>
          <p:nvPr/>
        </p:nvPicPr>
        <p:blipFill>
          <a:blip r:embed="rId3"/>
          <a:stretch/>
        </p:blipFill>
        <p:spPr>
          <a:xfrm>
            <a:off x="4427640" y="3284640"/>
            <a:ext cx="427356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928800"/>
            <a:ext cx="8321760" cy="21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Цель исследования: показать, почему пословицы, созданные много столетий назад, живут и сегодн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Monotype Corsiva"/>
              </a:rPr>
              <a:t>Бесценным наследием нашей необъятной Родины являются пословиц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68360" y="2708280"/>
            <a:ext cx="295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Пословица – краткое мудрое изречение, содержащее законченную мыс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Monotype Corsiva"/>
              </a:rPr>
              <a:t>Сборники русских пословиц и поговор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1_21"/>
          <p:cNvPicPr/>
          <p:nvPr/>
        </p:nvPicPr>
        <p:blipFill>
          <a:blip r:embed="rId1"/>
          <a:stretch/>
        </p:blipFill>
        <p:spPr>
          <a:xfrm>
            <a:off x="971640" y="4365720"/>
            <a:ext cx="2790720" cy="2232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00150289"/>
          <p:cNvPicPr/>
          <p:nvPr/>
        </p:nvPicPr>
        <p:blipFill>
          <a:blip r:embed="rId2"/>
          <a:stretch/>
        </p:blipFill>
        <p:spPr>
          <a:xfrm>
            <a:off x="6659640" y="1125360"/>
            <a:ext cx="1901880" cy="2951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2403780"/>
          <p:cNvPicPr/>
          <p:nvPr/>
        </p:nvPicPr>
        <p:blipFill>
          <a:blip r:embed="rId3"/>
          <a:stretch/>
        </p:blipFill>
        <p:spPr>
          <a:xfrm>
            <a:off x="250920" y="1197000"/>
            <a:ext cx="1960560" cy="3024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1341035200_ucdbzfq8w5o0esa"/>
          <p:cNvPicPr/>
          <p:nvPr/>
        </p:nvPicPr>
        <p:blipFill>
          <a:blip r:embed="rId4"/>
          <a:stretch/>
        </p:blipFill>
        <p:spPr>
          <a:xfrm>
            <a:off x="5867280" y="4221000"/>
            <a:ext cx="1764000" cy="2519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1382856259_4fycuuqayovkxdp"/>
          <p:cNvPicPr/>
          <p:nvPr/>
        </p:nvPicPr>
        <p:blipFill>
          <a:blip r:embed="rId5"/>
          <a:stretch/>
        </p:blipFill>
        <p:spPr>
          <a:xfrm>
            <a:off x="3564000" y="1197000"/>
            <a:ext cx="2079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Своеобразие малых жанров фолькл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000" y="1341360"/>
            <a:ext cx="49784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Темы русских пословиц и поговорок по истине неисчерпаем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Имеют прямой и переносный смыс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ля многих характерны ритмичность,        мерность, метафоричнос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Многие пословицы  построены на антитез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1331043991586113309"/>
          <p:cNvPicPr/>
          <p:nvPr/>
        </p:nvPicPr>
        <p:blipFill>
          <a:blip r:embed="rId1"/>
          <a:stretch/>
        </p:blipFill>
        <p:spPr>
          <a:xfrm>
            <a:off x="5219640" y="1916280"/>
            <a:ext cx="347976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24000" y="2852640"/>
            <a:ext cx="34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Пословицы о Род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poslovitsi-o-rodine"/>
          <p:cNvPicPr/>
          <p:nvPr/>
        </p:nvPicPr>
        <p:blipFill>
          <a:blip r:embed="rId1"/>
          <a:stretch/>
        </p:blipFill>
        <p:spPr>
          <a:xfrm>
            <a:off x="395280" y="189000"/>
            <a:ext cx="3024360" cy="25956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5003640" y="278136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Пословицы о тру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98640631_4549854_301qBXY"/>
          <p:cNvPicPr/>
          <p:nvPr/>
        </p:nvPicPr>
        <p:blipFill>
          <a:blip r:embed="rId2"/>
          <a:stretch/>
        </p:blipFill>
        <p:spPr>
          <a:xfrm>
            <a:off x="5292720" y="189000"/>
            <a:ext cx="2881440" cy="2593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755640" y="6237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Пословицы о друж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1366560266_1355055763_poslovicy-i-pogovorki"/>
          <p:cNvPicPr/>
          <p:nvPr/>
        </p:nvPicPr>
        <p:blipFill>
          <a:blip r:embed="rId3"/>
          <a:stretch/>
        </p:blipFill>
        <p:spPr>
          <a:xfrm>
            <a:off x="900000" y="3284640"/>
            <a:ext cx="2640240" cy="2844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0"/>
          <p:cNvSpPr/>
          <p:nvPr/>
        </p:nvSpPr>
        <p:spPr>
          <a:xfrm>
            <a:off x="5364000" y="6237360"/>
            <a:ext cx="3167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Пословицы  о книг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1" descr="poslovicy"/>
          <p:cNvPicPr/>
          <p:nvPr/>
        </p:nvPicPr>
        <p:blipFill>
          <a:blip r:embed="rId4"/>
          <a:stretch/>
        </p:blipFill>
        <p:spPr>
          <a:xfrm>
            <a:off x="5076720" y="3429000"/>
            <a:ext cx="35798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20:05Z</dcterms:created>
  <dc:creator>марина</dc:creator>
  <dc:description/>
  <dc:language>en-US</dc:language>
  <cp:lastModifiedBy>Михаил</cp:lastModifiedBy>
  <dcterms:modified xsi:type="dcterms:W3CDTF">2015-08-30T12:51:10Z</dcterms:modified>
  <cp:revision>162</cp:revision>
  <dc:subject/>
  <dc:title>Заголовок слайда</dc:title>
</cp:coreProperties>
</file>