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E116-45EF-409E-9584-80369DC1BC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5E88-4530-4C35-B327-6BFB6D2F9B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F229-02FE-4C01-8EF8-92F1FDDAA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D63A-AB65-4F6E-813A-72DC90A2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C99E-0412-4CEF-803E-669C6F8CF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BEE8-EEB3-4AC7-A4ED-CA5E484AA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4C20-8F45-41E5-AEA8-34B10368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73CD-5F3A-4A07-92D6-D9F9480B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A0AD-184D-4C23-B17D-B2A48145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8627-A7C6-4699-82B1-94214C68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9CC3-B472-4449-94D2-2AE6B2D3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3EEF-BBFD-4AB7-9F90-2FC117C1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E16F-E4E7-429F-8498-A1B43091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D49E-ECA6-47E4-AAAC-C358A219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C64B-5BFD-4B55-A216-F74F135ED2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28520" y="1356840"/>
            <a:ext cx="535788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ниципальный конкурс« Экология речи»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Жива ли русская пословица?</a:t>
            </a:r>
            <a:br>
              <a:rPr sz="2400"/>
            </a:br>
            <a:br>
              <a:rPr sz="2000"/>
            </a:br>
            <a:br>
              <a:rPr sz="20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Проект подготовила обучающаяся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8Б класса МБОУ «Лицей» р.п. Степное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Бобровская Юлия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Руководитель: Перова Н.В.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учитель русского языка и литерату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Monotype Corsiva"/>
              </a:rPr>
              <a:t>Пословица жива и сегод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1) Память народа о самом себ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2)  Портрет народа, созданный им сами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3)Рассказ народа о своей жиз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4) Народная оценка жиз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5) Собрание народной мудр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8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3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8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3" dur="2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8" dur="2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Monotype Corsiva"/>
              </a:rPr>
              <a:t>Анкетирование обучающихся лице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IMG_2365"/>
          <p:cNvPicPr/>
          <p:nvPr/>
        </p:nvPicPr>
        <p:blipFill>
          <a:blip r:embed="rId1"/>
          <a:stretch/>
        </p:blipFill>
        <p:spPr>
          <a:xfrm>
            <a:off x="0" y="998640"/>
            <a:ext cx="9144000" cy="5859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IMG_2368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IMG_2371"/>
          <p:cNvPicPr/>
          <p:nvPr/>
        </p:nvPicPr>
        <p:blipFill>
          <a:blip r:embed="rId3"/>
          <a:stretch/>
        </p:blipFill>
        <p:spPr>
          <a:xfrm>
            <a:off x="0" y="944640"/>
            <a:ext cx="914400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Monotype Corsiva"/>
              </a:rPr>
              <a:t>Часто ли вы  употребляете пословицы в реч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8" descr=""/>
          <p:cNvPicPr/>
          <p:nvPr/>
        </p:nvPicPr>
        <p:blipFill>
          <a:blip r:embed="rId1"/>
          <a:stretch/>
        </p:blipFill>
        <p:spPr>
          <a:xfrm>
            <a:off x="1619280" y="1916280"/>
            <a:ext cx="5754600" cy="34653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9"/>
          <p:cNvSpPr/>
          <p:nvPr/>
        </p:nvSpPr>
        <p:spPr>
          <a:xfrm>
            <a:off x="2411280" y="5516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4,5,8  клас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Monotype Corsiva"/>
              </a:rPr>
              <a:t>Где чаще всего употребляете пословиц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0" y="414972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4, 5 клас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5435640" y="64008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8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4211640" cy="2666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4546440" y="3429000"/>
            <a:ext cx="459756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Monotype Corsiva"/>
              </a:rPr>
              <a:t>С какой целью употребляете пословицы в реч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763640" y="5734080"/>
            <a:ext cx="58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4, 5, 8 кла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676908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Monotype Corsiva"/>
              </a:rPr>
              <a:t>Каких больше всего пословиц использует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2268360" y="558972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4, 5, 8 кла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84036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словица – душа нар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val 4"/>
          <p:cNvSpPr/>
          <p:nvPr/>
        </p:nvSpPr>
        <p:spPr>
          <a:xfrm>
            <a:off x="3276720" y="2852640"/>
            <a:ext cx="2160360" cy="165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7"/>
          <p:cNvSpPr/>
          <p:nvPr/>
        </p:nvSpPr>
        <p:spPr>
          <a:xfrm rot="1560000">
            <a:off x="3058920" y="4292280"/>
            <a:ext cx="720720" cy="1368360"/>
          </a:xfrm>
          <a:prstGeom prst="downArrow">
            <a:avLst>
              <a:gd name="adj1" fmla="val 50000"/>
              <a:gd name="adj2" fmla="val 4746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8"/>
          <p:cNvSpPr/>
          <p:nvPr/>
        </p:nvSpPr>
        <p:spPr>
          <a:xfrm>
            <a:off x="1835280" y="3284640"/>
            <a:ext cx="1439640" cy="576000"/>
          </a:xfrm>
          <a:prstGeom prst="leftArrow">
            <a:avLst>
              <a:gd name="adj1" fmla="val 50000"/>
              <a:gd name="adj2" fmla="val 6248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9"/>
          <p:cNvSpPr/>
          <p:nvPr/>
        </p:nvSpPr>
        <p:spPr>
          <a:xfrm>
            <a:off x="3924360" y="1628640"/>
            <a:ext cx="720720" cy="1224000"/>
          </a:xfrm>
          <a:prstGeom prst="upArrow">
            <a:avLst>
              <a:gd name="adj1" fmla="val 50000"/>
              <a:gd name="adj2" fmla="val 4245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0"/>
          <p:cNvSpPr/>
          <p:nvPr/>
        </p:nvSpPr>
        <p:spPr>
          <a:xfrm>
            <a:off x="5435640" y="3357720"/>
            <a:ext cx="1295280" cy="576000"/>
          </a:xfrm>
          <a:prstGeom prst="rightArrow">
            <a:avLst>
              <a:gd name="adj1" fmla="val 50000"/>
              <a:gd name="adj2" fmla="val 5621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1"/>
          <p:cNvSpPr/>
          <p:nvPr/>
        </p:nvSpPr>
        <p:spPr>
          <a:xfrm rot="20269800">
            <a:off x="4859280" y="4292280"/>
            <a:ext cx="719280" cy="1368360"/>
          </a:xfrm>
          <a:prstGeom prst="downArrow">
            <a:avLst>
              <a:gd name="adj1" fmla="val 50000"/>
              <a:gd name="adj2" fmla="val 4756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2843280" y="1197000"/>
            <a:ext cx="33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Отражение жизни на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324000" y="3213000"/>
            <a:ext cx="15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Народная мудр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684360" y="573408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Правила жизни на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4932360" y="5734080"/>
            <a:ext cx="38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Народные представления о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6804000" y="328464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Обращена к кажд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0"/>
            <a:ext cx="751536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Устное народное творчеств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00040" y="1356840"/>
            <a:ext cx="78580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ет на земле человека, который бы не знал ни одной народной сказки или песни, ни одной пословицы или поговорки, а ведь это всё устное народное творчество, зародившееся в глубине веков и передававшееся из уст в уста, от одного поколения в друго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2871720" y="5430960"/>
            <a:ext cx="34686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858920" y="1773000"/>
            <a:ext cx="362124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Пословица- краткое изречение, поучение, более в виде притчи, иносказания, или в виде житейского пригово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2667056"/>
          <p:cNvPicPr/>
          <p:nvPr/>
        </p:nvPicPr>
        <p:blipFill>
          <a:blip r:embed="rId1"/>
          <a:stretch/>
        </p:blipFill>
        <p:spPr>
          <a:xfrm>
            <a:off x="755640" y="836640"/>
            <a:ext cx="3009960" cy="4968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539640" y="5950080"/>
            <a:ext cx="43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Толковый словарь « Живого великорусского  я зыка»  В.И.Да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1269693224_2"/>
          <p:cNvPicPr/>
          <p:nvPr/>
        </p:nvPicPr>
        <p:blipFill>
          <a:blip r:embed="rId1"/>
          <a:stretch/>
        </p:blipFill>
        <p:spPr>
          <a:xfrm>
            <a:off x="395280" y="404640"/>
            <a:ext cx="3029040" cy="41752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8"/>
          <p:cNvSpPr/>
          <p:nvPr/>
        </p:nvSpPr>
        <p:spPr>
          <a:xfrm>
            <a:off x="324000" y="5084640"/>
            <a:ext cx="403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«В них есть всё: издевка, насмешка, попрек, словом – всё шевелящее и задирающее за живое.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684360" y="4653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.В.Гог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1" descr="russkie_poslovicy_v_licakh_20_foto_7"/>
          <p:cNvPicPr/>
          <p:nvPr/>
        </p:nvPicPr>
        <p:blipFill>
          <a:blip r:embed="rId2"/>
          <a:stretch/>
        </p:blipFill>
        <p:spPr>
          <a:xfrm>
            <a:off x="4427640" y="404640"/>
            <a:ext cx="4176720" cy="2641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516dfc9684b19_normal_700"/>
          <p:cNvPicPr/>
          <p:nvPr/>
        </p:nvPicPr>
        <p:blipFill>
          <a:blip r:embed="rId3"/>
          <a:stretch/>
        </p:blipFill>
        <p:spPr>
          <a:xfrm>
            <a:off x="4427640" y="3284640"/>
            <a:ext cx="427356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920" y="928800"/>
            <a:ext cx="8321760" cy="21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Цель исследования: показать, почему пословицы, созданные много столетий назад, живут и сегодня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Monotype Corsiva"/>
              </a:rPr>
              <a:t>Бесценным наследием нашей необъятной Родины являются пословицы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68360" y="2708280"/>
            <a:ext cx="295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Пословица – краткое мудрое изречение, содержащее законченную мыс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Monotype Corsiva"/>
              </a:rPr>
              <a:t>Сборники русских пословиц и поговор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1_21"/>
          <p:cNvPicPr/>
          <p:nvPr/>
        </p:nvPicPr>
        <p:blipFill>
          <a:blip r:embed="rId1"/>
          <a:stretch/>
        </p:blipFill>
        <p:spPr>
          <a:xfrm>
            <a:off x="971640" y="4365720"/>
            <a:ext cx="2790720" cy="2232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00150289"/>
          <p:cNvPicPr/>
          <p:nvPr/>
        </p:nvPicPr>
        <p:blipFill>
          <a:blip r:embed="rId2"/>
          <a:stretch/>
        </p:blipFill>
        <p:spPr>
          <a:xfrm>
            <a:off x="6659640" y="1125360"/>
            <a:ext cx="1901880" cy="2951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2403780"/>
          <p:cNvPicPr/>
          <p:nvPr/>
        </p:nvPicPr>
        <p:blipFill>
          <a:blip r:embed="rId3"/>
          <a:stretch/>
        </p:blipFill>
        <p:spPr>
          <a:xfrm>
            <a:off x="250920" y="1197000"/>
            <a:ext cx="1960560" cy="3024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1341035200_ucdbzfq8w5o0esa"/>
          <p:cNvPicPr/>
          <p:nvPr/>
        </p:nvPicPr>
        <p:blipFill>
          <a:blip r:embed="rId4"/>
          <a:stretch/>
        </p:blipFill>
        <p:spPr>
          <a:xfrm>
            <a:off x="5867280" y="4221000"/>
            <a:ext cx="1764000" cy="2519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1382856259_4fycuuqayovkxdp"/>
          <p:cNvPicPr/>
          <p:nvPr/>
        </p:nvPicPr>
        <p:blipFill>
          <a:blip r:embed="rId5"/>
          <a:stretch/>
        </p:blipFill>
        <p:spPr>
          <a:xfrm>
            <a:off x="3564000" y="1197000"/>
            <a:ext cx="20797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Своеобразие малых жанров фолькло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000" y="1341360"/>
            <a:ext cx="49784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Темы русских пословиц и поговорок по истине неисчерпаем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Имеют прямой и переносный смыс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Для многих характерны ритмичность,        мерность, метафоричнос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Многие пословицы  построены на антитез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1331043991586113309"/>
          <p:cNvPicPr/>
          <p:nvPr/>
        </p:nvPicPr>
        <p:blipFill>
          <a:blip r:embed="rId1"/>
          <a:stretch/>
        </p:blipFill>
        <p:spPr>
          <a:xfrm>
            <a:off x="5219640" y="1916280"/>
            <a:ext cx="3479760" cy="39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324000" y="2852640"/>
            <a:ext cx="34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Пословицы о Род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poslovitsi-o-rodine"/>
          <p:cNvPicPr/>
          <p:nvPr/>
        </p:nvPicPr>
        <p:blipFill>
          <a:blip r:embed="rId1"/>
          <a:stretch/>
        </p:blipFill>
        <p:spPr>
          <a:xfrm>
            <a:off x="395280" y="189000"/>
            <a:ext cx="3024360" cy="25956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5003640" y="2781360"/>
            <a:ext cx="36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Пословицы о тру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98640631_4549854_301qBXY"/>
          <p:cNvPicPr/>
          <p:nvPr/>
        </p:nvPicPr>
        <p:blipFill>
          <a:blip r:embed="rId2"/>
          <a:stretch/>
        </p:blipFill>
        <p:spPr>
          <a:xfrm>
            <a:off x="5292720" y="189000"/>
            <a:ext cx="2881440" cy="25938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8"/>
          <p:cNvSpPr/>
          <p:nvPr/>
        </p:nvSpPr>
        <p:spPr>
          <a:xfrm>
            <a:off x="755640" y="6237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Пословицы о друж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1366560266_1355055763_poslovicy-i-pogovorki"/>
          <p:cNvPicPr/>
          <p:nvPr/>
        </p:nvPicPr>
        <p:blipFill>
          <a:blip r:embed="rId3"/>
          <a:stretch/>
        </p:blipFill>
        <p:spPr>
          <a:xfrm>
            <a:off x="900000" y="3284640"/>
            <a:ext cx="2640240" cy="28447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0"/>
          <p:cNvSpPr/>
          <p:nvPr/>
        </p:nvSpPr>
        <p:spPr>
          <a:xfrm>
            <a:off x="5364000" y="6237360"/>
            <a:ext cx="3167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Пословицы  о книг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1" descr="poslovicy"/>
          <p:cNvPicPr/>
          <p:nvPr/>
        </p:nvPicPr>
        <p:blipFill>
          <a:blip r:embed="rId4"/>
          <a:stretch/>
        </p:blipFill>
        <p:spPr>
          <a:xfrm>
            <a:off x="5076720" y="3429000"/>
            <a:ext cx="357984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20:05Z</dcterms:created>
  <dc:creator>марина</dc:creator>
  <dc:description/>
  <dc:language>en-US</dc:language>
  <cp:lastModifiedBy>Михаил</cp:lastModifiedBy>
  <dcterms:modified xsi:type="dcterms:W3CDTF">2015-08-30T12:51:10Z</dcterms:modified>
  <cp:revision>162</cp:revision>
  <dc:subject/>
  <dc:title>Заголовок слайда</dc:title>
</cp:coreProperties>
</file>