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1DE-AF74-41B1-896B-AF1C2860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29B-B3EB-4C89-BE99-8E921F28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286-59FC-43BF-B35B-FC4184C3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7E8-42A9-4151-B339-8DC6A219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C45-0207-437A-9C87-BD9ACE9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B2A-931F-4AF3-BCA3-74CF87E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8D5-CF79-428E-9A35-657580C2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070-5A44-447A-B739-F7C1A9E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FB8-80CF-4E2C-9FBB-359DE6A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775-4AF8-49DD-BA24-F04B7E7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0BA-E5DB-4FD7-9052-63F82C9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81D-C7C3-44C9-A268-9409FD8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0E4-1AA7-4977-9D97-E5C64867D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500280"/>
            <a:ext cx="735804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утешествие в страну «Прав и обязанностей школьни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28548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Автор презентации: Жуликова Юлия Юр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учитель начальных классов МБОУ СОШ №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им. Г.С. Титова, 201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10092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alibri"/>
              </a:rPr>
              <a:t>23 октября наш отряд участвовал в игре, которая была посвящена правам и обязанностям 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бимака\Desktop\пол\IMG_3822.JPG"/>
          <p:cNvPicPr/>
          <p:nvPr/>
        </p:nvPicPr>
        <p:blipFill>
          <a:blip r:embed="rId2"/>
          <a:stretch/>
        </p:blipFill>
        <p:spPr>
          <a:xfrm>
            <a:off x="3413160" y="3852720"/>
            <a:ext cx="27748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от такие вопросы были в нашей иг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643120"/>
            <a:ext cx="8186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а принята  Декларация прав ребе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 слово «конвенция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а принята Конституция РФ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4880" y="2071800"/>
            <a:ext cx="4643280" cy="192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бята с удовольствием полистали конституцию РФ и конвенцию о правах ребен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Любимака\Desktop\пол\IMG_3812.JPG"/>
          <p:cNvPicPr/>
          <p:nvPr/>
        </p:nvPicPr>
        <p:blipFill>
          <a:blip r:embed="rId1"/>
          <a:stretch/>
        </p:blipFill>
        <p:spPr>
          <a:xfrm>
            <a:off x="3357720" y="407196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2040" y="1500120"/>
            <a:ext cx="3857760" cy="2571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ознакомились с терминами «право» и «обязанность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Любимака\Desktop\пол\IMG_3826.JPG"/>
          <p:cNvPicPr/>
          <p:nvPr/>
        </p:nvPicPr>
        <p:blipFill>
          <a:blip r:embed="rId2"/>
          <a:stretch/>
        </p:blipFill>
        <p:spPr>
          <a:xfrm>
            <a:off x="857160" y="21420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C:\Users\Любимака\Desktop\пол\IMG_3833.JPG"/>
          <p:cNvPicPr/>
          <p:nvPr/>
        </p:nvPicPr>
        <p:blipFill>
          <a:blip r:embed="rId3"/>
          <a:stretch/>
        </p:blipFill>
        <p:spPr>
          <a:xfrm>
            <a:off x="1428840" y="3857760"/>
            <a:ext cx="3429000" cy="25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знали, что такое лестница ответ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5072040" y="3571920"/>
          <a:ext cx="37861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3571920"/>
                    <a:ext cx="3786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C:\Users\Любимака\Desktop\пол\IMG_3808.JPG"/>
          <p:cNvPicPr/>
          <p:nvPr/>
        </p:nvPicPr>
        <p:blipFill>
          <a:blip r:embed="rId3"/>
          <a:stretch/>
        </p:blipFill>
        <p:spPr>
          <a:xfrm>
            <a:off x="500040" y="2071800"/>
            <a:ext cx="4143240" cy="31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6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1680" y="1928880"/>
            <a:ext cx="371484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или на вопросы викторины, побеседовали на тему «Могут права существовать без обязанностей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Любимака\Desktop\пол\IMG_3802.JPG"/>
          <p:cNvPicPr/>
          <p:nvPr/>
        </p:nvPicPr>
        <p:blipFill>
          <a:blip r:embed="rId1"/>
          <a:stretch/>
        </p:blipFill>
        <p:spPr>
          <a:xfrm>
            <a:off x="781200" y="3638520"/>
            <a:ext cx="4010040" cy="3011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Наше путешествие закончилось выводом: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Закон страны надо знать и уваж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Любимака\Desktop\пол\IMG_3800.JPG"/>
          <p:cNvPicPr/>
          <p:nvPr/>
        </p:nvPicPr>
        <p:blipFill>
          <a:blip r:embed="rId1"/>
          <a:stretch/>
        </p:blipFill>
        <p:spPr>
          <a:xfrm>
            <a:off x="3348000" y="3500280"/>
            <a:ext cx="283356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6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8:40:20Z</dcterms:created>
  <dc:creator>Любимака</dc:creator>
  <dc:description/>
  <dc:language>en-US</dc:language>
  <cp:lastModifiedBy>Каза</cp:lastModifiedBy>
  <dcterms:modified xsi:type="dcterms:W3CDTF">2015-08-30T20:56:38Z</dcterms:modified>
  <cp:revision>11</cp:revision>
  <dc:subject/>
  <dc:title>Путешествие в страну «Прав и обязанностей школьника».</dc:title>
</cp:coreProperties>
</file>