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E1B-A163-403D-A543-2598D9A1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60A-A51D-4794-B171-E48B07A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5F8-6A72-4480-8FEE-DC14CFB5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171-023F-499D-A95F-D4A6E257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D8F-C22A-4177-8180-6C8E004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98D-3A1B-4A54-AD51-1A7324C1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CD9-A61D-487A-8C4D-E06A1F0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284-EA95-45C4-A7BE-F124FBF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F5F-FC5E-45EB-873F-EFCE6036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B48-D2BD-45D9-9557-F817D64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320-8EC6-40B0-8AC1-CAC9282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5F7-A538-4591-9CAC-3F6D5D3A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517C-9804-4788-8255-DD957DA08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500280"/>
            <a:ext cx="735804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утешествие в страну «Прав и обязанностей школьни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28548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Автор презентации: Жуликова Юлия Юр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учитель начальных классов МБОУ СОШ №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им. Г.С. Титова, 201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10092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Calibri"/>
              </a:rPr>
              <a:t>23 октября наш отряд участвовал в игре, которая была посвящена правам и обязанностям 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бимака\Desktop\пол\IMG_3822.JPG"/>
          <p:cNvPicPr/>
          <p:nvPr/>
        </p:nvPicPr>
        <p:blipFill>
          <a:blip r:embed="rId2"/>
          <a:stretch/>
        </p:blipFill>
        <p:spPr>
          <a:xfrm>
            <a:off x="3413160" y="3852720"/>
            <a:ext cx="27748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от такие вопросы были в нашей иг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643120"/>
            <a:ext cx="8186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а принята  Декларация прав ребе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 слово «конвенция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а принята Конституция РФ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4880" y="2071800"/>
            <a:ext cx="4643280" cy="192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бята с удовольствием полистали конституцию РФ и конвенцию о правах ребен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Любимака\Desktop\пол\IMG_3812.JPG"/>
          <p:cNvPicPr/>
          <p:nvPr/>
        </p:nvPicPr>
        <p:blipFill>
          <a:blip r:embed="rId1"/>
          <a:stretch/>
        </p:blipFill>
        <p:spPr>
          <a:xfrm>
            <a:off x="3357720" y="407196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2040" y="1500120"/>
            <a:ext cx="3857760" cy="2571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ознакомились с терминами «право» и «обязанность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Любимака\Desktop\пол\IMG_3826.JPG"/>
          <p:cNvPicPr/>
          <p:nvPr/>
        </p:nvPicPr>
        <p:blipFill>
          <a:blip r:embed="rId2"/>
          <a:stretch/>
        </p:blipFill>
        <p:spPr>
          <a:xfrm>
            <a:off x="857160" y="21420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C:\Users\Любимака\Desktop\пол\IMG_3833.JPG"/>
          <p:cNvPicPr/>
          <p:nvPr/>
        </p:nvPicPr>
        <p:blipFill>
          <a:blip r:embed="rId3"/>
          <a:stretch/>
        </p:blipFill>
        <p:spPr>
          <a:xfrm>
            <a:off x="1428840" y="3857760"/>
            <a:ext cx="3429000" cy="25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знали, что такое лестница ответ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5072040" y="3571920"/>
          <a:ext cx="37861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3571920"/>
                    <a:ext cx="3786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3" descr="C:\Users\Любимака\Desktop\пол\IMG_3808.JPG"/>
          <p:cNvPicPr/>
          <p:nvPr/>
        </p:nvPicPr>
        <p:blipFill>
          <a:blip r:embed="rId3"/>
          <a:stretch/>
        </p:blipFill>
        <p:spPr>
          <a:xfrm>
            <a:off x="500040" y="2071800"/>
            <a:ext cx="4143240" cy="31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6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1680" y="1928880"/>
            <a:ext cx="371484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или на вопросы викторины, побеседовали на тему «Могут права существовать без обязанностей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Любимака\Desktop\пол\IMG_3802.JPG"/>
          <p:cNvPicPr/>
          <p:nvPr/>
        </p:nvPicPr>
        <p:blipFill>
          <a:blip r:embed="rId1"/>
          <a:stretch/>
        </p:blipFill>
        <p:spPr>
          <a:xfrm>
            <a:off x="781200" y="3638520"/>
            <a:ext cx="4010040" cy="3011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Наше путешествие закончилось выводом: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Закон страны надо знать и уваж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Любимака\Desktop\пол\IMG_3800.JPG"/>
          <p:cNvPicPr/>
          <p:nvPr/>
        </p:nvPicPr>
        <p:blipFill>
          <a:blip r:embed="rId1"/>
          <a:stretch/>
        </p:blipFill>
        <p:spPr>
          <a:xfrm>
            <a:off x="3348000" y="3500280"/>
            <a:ext cx="283356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6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8:40:20Z</dcterms:created>
  <dc:creator>Любимака</dc:creator>
  <dc:description/>
  <dc:language>en-US</dc:language>
  <cp:lastModifiedBy>Каза</cp:lastModifiedBy>
  <dcterms:modified xsi:type="dcterms:W3CDTF">2015-08-30T20:56:38Z</dcterms:modified>
  <cp:revision>11</cp:revision>
  <dc:subject/>
  <dc:title>Путешествие в страну «Прав и обязанностей школьника».</dc:title>
</cp:coreProperties>
</file>